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gif" ContentType="image/gif"/>
  <Override PartName="/ppt/media/image5.png" ContentType="image/png"/>
  <Override PartName="/ppt/media/image8.jpeg" ContentType="image/jpeg"/>
  <Override PartName="/ppt/media/image12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559-6268-48A6-BC5C-294C6F61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CCE-C83A-4000-8004-A5DABF8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50D-0F79-4C77-8F19-1F49ACD0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C67-B0E4-463A-BD42-BE96AC43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15D-FB1D-42B4-86C2-5BCCD0A1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36B-D439-44E7-A08B-46B2DFF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F35-C0E4-4AE2-9FB2-A9E41E49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841-1D40-4106-969B-BC7A1C2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2DE-A374-4732-A35A-A3A705D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703-27ED-4DFF-BCBC-A5BB86E6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E12-7B38-4E99-B45A-8379F92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2B5-DE7C-4854-8140-E6B7D34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1476-D7FA-404F-95DF-EE93FE23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2"/>
          <p:cNvGrpSpPr/>
          <p:nvPr/>
        </p:nvGrpSpPr>
        <p:grpSpPr>
          <a:xfrm>
            <a:off x="0" y="0"/>
            <a:ext cx="9143640" cy="5790960"/>
            <a:chOff x="0" y="0"/>
            <a:chExt cx="9143640" cy="5790960"/>
          </a:xfrm>
        </p:grpSpPr>
        <p:pic>
          <p:nvPicPr>
            <p:cNvPr id="43" name="Picture 15" descr="200671120440642"/>
            <p:cNvPicPr/>
            <p:nvPr/>
          </p:nvPicPr>
          <p:blipFill>
            <a:blip r:embed="rId17"/>
            <a:stretch/>
          </p:blipFill>
          <p:spPr>
            <a:xfrm>
              <a:off x="0" y="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AutoShape 20"/>
            <p:cNvSpPr/>
            <p:nvPr/>
          </p:nvSpPr>
          <p:spPr>
            <a:xfrm>
              <a:off x="6958800" y="3425400"/>
              <a:ext cx="2184840" cy="220212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8" descr="ma2_004"/>
            <p:cNvPicPr/>
            <p:nvPr/>
          </p:nvPicPr>
          <p:blipFill>
            <a:blip r:embed="rId18"/>
            <a:stretch/>
          </p:blipFill>
          <p:spPr>
            <a:xfrm>
              <a:off x="7282800" y="3833640"/>
              <a:ext cx="1456560" cy="13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WordArt 16" descr=""/>
          <p:cNvPicPr/>
          <p:nvPr/>
        </p:nvPicPr>
        <p:blipFill>
          <a:blip r:embed="rId19"/>
          <a:stretch/>
        </p:blipFill>
        <p:spPr>
          <a:xfrm>
            <a:off x="1990800" y="507960"/>
            <a:ext cx="5686200" cy="3213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23"/>
          <p:cNvSpPr txBox="1"/>
          <p:nvPr/>
        </p:nvSpPr>
        <p:spPr>
          <a:xfrm>
            <a:off x="1676520" y="5627520"/>
            <a:ext cx="59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485080" y="6307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打你不为别的事，都像你这样白看书，人家怎么过日子？搬运队的马车夫需要马草，你可以扯马草换钱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</a:t>
            </a:r>
            <a:r>
              <a:rPr b="1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3" name="AutoShape 9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</a:t>
            </a:r>
            <a:r>
              <a:rPr b="1" lang="en-US" sz="3600" spc="-1" strike="noStrike">
                <a:solidFill>
                  <a:srgbClr val="0066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9" name="AutoShape 7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4" name="Picture 5" descr="ma2_004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08" name="Picture 4" descr="01a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01a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01a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WordArt 8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既是课文的题目，也是推动故事发生的关键句。文章用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20067112044064202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ma2_004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推开了木板房的门，真相终于大白。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站在那一堆枯黄的马草前，脑海中也许会浮现出一幕幕往事；耳畔也许还会回响着守摊的残疾青年说过的每一句话；也许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1-4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E1BF-0429-4813-8D76-8FB97F3562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8654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0067112044064202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8654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在失去看书机会时，摆书摊的残疾青年谎称家中有马，买下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的马草，让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67112044064201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8654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Picture 8" descr="Gif0405_136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"/>
          <p:cNvSpPr/>
          <p:nvPr/>
        </p:nvSpPr>
        <p:spPr>
          <a:xfrm>
            <a:off x="849240" y="747720"/>
            <a:ext cx="66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坐下慢慢看吧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年轻人竭力想从轮椅上挣扎起来阻止我父亲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孩子看书不是坏事。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67112044064201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过来，让我看看你的马草。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认真地看过马草后，冲里屋叫道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，你出来一下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急了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！碧云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用双手拼命摇着轮椅，想挡住我的路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你放下！等碧云来拿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在身后喊道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那马会踢伤你的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67112044064202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0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82" name="AutoShape 11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769608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4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09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56Z</dcterms:modified>
  <cp:revision>2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