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135-E568-4C5F-8C05-D0420FBF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FC64-0B7E-440B-BF26-B3B51D53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A24-7731-4242-82CA-AE9196E2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947-9253-4B69-97F2-1A52B822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C2F-7432-4320-831E-B3B5CAA1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506-CF13-4D33-9645-9836F256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2B9-5FB8-4B03-9588-7AE1F996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DCE8-4A52-4956-81EE-2CA5EDDD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871-D877-4A57-8766-E05EEFD0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9B3-FF03-4681-B5C4-597CE771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356-3595-4FEC-AFB4-270CBCF6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8189-7043-4F74-B537-0014158E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3E97-9571-4D64-8BA1-C3579AF295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jpeg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.com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0024545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页脚占位符 4"/>
          <p:cNvSpPr/>
          <p:nvPr/>
        </p:nvSpPr>
        <p:spPr>
          <a:xfrm>
            <a:off x="942840" y="6248520"/>
            <a:ext cx="50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4360" y="549000"/>
            <a:ext cx="388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800" spc="-1" strike="noStrike">
                <a:solidFill>
                  <a:srgbClr val="ff9900"/>
                </a:solidFill>
                <a:latin typeface="华文行楷"/>
                <a:ea typeface="华文行楷"/>
              </a:rPr>
              <a:t>春   望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51280" y="1412640"/>
            <a:ext cx="165708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杜  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201200" y="2492280"/>
            <a:ext cx="515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国破山河在，城春草木深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感时花溅泪，恨别鸟惊心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烽火连三月，家书抵万金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白头搔更短，浑欲不胜簪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8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85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6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掌握下列字的正确读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763640" y="1557360"/>
            <a:ext cx="30243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花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溅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搔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更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烽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不胜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148360" y="177336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jià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148360" y="30686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ā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148360" y="446724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ē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148360" y="57625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Zā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184560" y="48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58600" y="714240"/>
            <a:ext cx="552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华文行楷"/>
              </a:rPr>
              <a:t>掌握下列词语的词类活用现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543480" y="285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403280" y="219240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  <a:ea typeface="方正舒体"/>
              </a:rPr>
              <a:t>恨别鸟</a:t>
            </a: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方正舒体"/>
              </a:rPr>
              <a:t>惊</a:t>
            </a:r>
            <a:r>
              <a:rPr b="1" lang="zh-CN" sz="9600" spc="-1" strike="noStrike">
                <a:solidFill>
                  <a:srgbClr val="0000ff"/>
                </a:solidFill>
                <a:latin typeface="Arial"/>
                <a:ea typeface="方正舒体"/>
              </a:rPr>
              <a:t>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77800" y="4508640"/>
            <a:ext cx="831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使动用法，使</a:t>
            </a:r>
            <a:r>
              <a:rPr b="1" lang="en-US" sz="6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......</a:t>
            </a:r>
            <a:r>
              <a:rPr b="1" lang="zh-CN" sz="6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99"/>
          <p:cNvSpPr/>
          <p:nvPr/>
        </p:nvSpPr>
        <p:spPr>
          <a:xfrm>
            <a:off x="317520" y="5973840"/>
            <a:ext cx="654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更多免费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模板下载：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宋体"/>
                <a:hlinkClick r:id="rId2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3" name="chimes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5D81-34CC-4FB5-9B8E-59E6B0E5DA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2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5T15:22:3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7:29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