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593-FB91-4302-ABA8-0293E8ED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C13-FB08-4BAE-9E58-DFDA08C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D5F-FA7C-4554-8D7E-C9635C5E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AA9-51C1-4D9A-BF38-9CEA998A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3B6-D6B7-4DED-9544-727502CF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972-AFE1-4A15-ACAF-F17A797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6FA-7970-4164-9C98-6282BB2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160-5ACA-436E-A861-0D5800E9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061-3D94-4458-837E-853133C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ADB-6D86-4954-AA2E-83A10AE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9AB-C99F-4825-9315-702EB9F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5DF-5DB9-4472-9EAD-5D17388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C99E-1853-4406-BB5B-2162B9C2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952560" y="591804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856960" y="58248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石 壕 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192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 flipH="1">
            <a:off x="678600" y="228600"/>
            <a:ext cx="8077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0EF-B25C-49C5-B296-33D70051E6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1614960" y="1143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4"/>
          <p:cNvSpPr/>
          <p:nvPr/>
        </p:nvSpPr>
        <p:spPr>
          <a:xfrm>
            <a:off x="1919160" y="304812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99"/>
          <p:cNvSpPr/>
          <p:nvPr/>
        </p:nvSpPr>
        <p:spPr>
          <a:xfrm>
            <a:off x="2031840" y="3292560"/>
            <a:ext cx="6167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34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