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D5A9-2588-4E03-B15C-09FFC21F7D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443A-2973-427D-A508-3517FF138B5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ADD4-01EF-430C-98F6-8D78E10A09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685-4F0D-41DE-B4C5-AA831C72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1EA-3276-49C9-899F-D9EA6D1B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DC0-CBB1-4875-BD49-BC7976F8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8F8-83CF-497B-9D44-22C58B9F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AC7-767E-4E0C-A3B5-93E2BF3B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C4F-0060-4B5D-B65C-82F8FDD8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578-8D1A-4191-8809-7EBC38E0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8BE-D8CB-4FBE-857B-0400B9ED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248-7EF4-4869-92DA-F8D97808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4DE-5E17-4629-9E99-C4778F40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B90-BC66-4FA1-BEBC-A87E2AA5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2AB-3323-4EB6-B2B7-8C81C49A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388E-B803-4AA7-A2DA-5B6A2066C6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baike.baidu.com/view/39197.htm" TargetMode="External"/><Relationship Id="rId3" Type="http://schemas.openxmlformats.org/officeDocument/2006/relationships/hyperlink" Target="http://baike.baidu.com/view/38563.ht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aike.baidu.com/image/a6c7d71731023e36c93d6dd8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baike.baidu.com/view/653140.htm" TargetMode="External"/><Relationship Id="rId4" Type="http://schemas.openxmlformats.org/officeDocument/2006/relationships/hyperlink" Target="http://baike.baidu.com/view/51610.htm" TargetMode="External"/><Relationship Id="rId5" Type="http://schemas.openxmlformats.org/officeDocument/2006/relationships/hyperlink" Target="http://baike.baidu.com/view/4576.htm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baike.baidu.com/view/413557.htm" TargetMode="External"/><Relationship Id="rId5" Type="http://schemas.openxmlformats.org/officeDocument/2006/relationships/hyperlink" Target="http://baike.baidu.com/view/77362.ht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ike.baidu.com/image/0b14ad19f1527a7042a9ad6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33400" y="1224000"/>
            <a:ext cx="7129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单元   生物的多样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54200" y="2852640"/>
            <a:ext cx="7424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种多样的植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103840" y="5724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绿木本植物 ，雌球花绿色或带紫色，桶状，具树脂，著生在短梗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0db52fad75f7d6394b36d6ee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5580000" y="3716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雪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别名：莲花 ，多年生水生草本花卉 ，藻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ae10edde8483c11794ee37f4"/>
          <p:cNvPicPr/>
          <p:nvPr/>
        </p:nvPicPr>
        <p:blipFill>
          <a:blip r:embed="rId1"/>
          <a:stretch/>
        </p:blipFill>
        <p:spPr>
          <a:xfrm>
            <a:off x="3166920" y="2637000"/>
            <a:ext cx="5977080" cy="4221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187280" y="422100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荷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4508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绿木本植物，耐干旱，球花雌雄异株或同株，单生短枝顶；雄球花长圆形或卵圆形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d041a4a108ae99cb46106425"/>
          <p:cNvPicPr/>
          <p:nvPr/>
        </p:nvPicPr>
        <p:blipFill>
          <a:blip r:embed="rId1"/>
          <a:stretch/>
        </p:blipFill>
        <p:spPr>
          <a:xfrm>
            <a:off x="0" y="0"/>
            <a:ext cx="5435640" cy="4292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6156360" y="112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圆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000" y="2852280"/>
            <a:ext cx="8459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包括根、茎、叶、花、果实和种子六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611280" y="191628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植物的身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965160" y="5753160"/>
            <a:ext cx="68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2852280"/>
            <a:ext cx="77058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蕨类：蕨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苔藓：青苔、葫芦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藻类：海带、裙带菜（海白菜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39640" y="1844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不开花植物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1300000092535120696202812543"/>
          <p:cNvPicPr/>
          <p:nvPr/>
        </p:nvPicPr>
        <p:blipFill>
          <a:blip r:embed="rId1"/>
          <a:stretch/>
        </p:blipFill>
        <p:spPr>
          <a:xfrm>
            <a:off x="3168720" y="1563840"/>
            <a:ext cx="5975280" cy="5294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572000" y="62064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苔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39640" y="2133720"/>
            <a:ext cx="2376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苔藓植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属于最低等的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高等植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植物无花，无种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0" y="206064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苔藓植物喜欢阴暗潮湿的环境，一般生长在裸露的石壁上，或潮湿的森林和沼泽地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a6c7d71731023e36c93d6dd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16360" y="1673280"/>
            <a:ext cx="5327640" cy="5184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51640" y="692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蕨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0" y="2133720"/>
            <a:ext cx="38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蕨菜又叫拳头菜、猫爪、龙头菜。其食用部分是未展开的幼嫩叶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0" y="1341360"/>
            <a:ext cx="388764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生在林间、山野、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松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内，是无任何污染的绿色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野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不但富含人体需要的多种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维生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还有清肠健胃，舒筋活络等功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91ae68c64dae435b9d163da7"/>
          <p:cNvPicPr/>
          <p:nvPr/>
        </p:nvPicPr>
        <p:blipFill>
          <a:blip r:embed="rId1"/>
          <a:stretch/>
        </p:blipFill>
        <p:spPr>
          <a:xfrm>
            <a:off x="4356000" y="260280"/>
            <a:ext cx="4608720" cy="3097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b29f82822c975a866d81192e"/>
          <p:cNvPicPr/>
          <p:nvPr/>
        </p:nvPicPr>
        <p:blipFill>
          <a:blip r:embed="rId2"/>
          <a:stretch/>
        </p:blipFill>
        <p:spPr>
          <a:xfrm>
            <a:off x="3132000" y="3429000"/>
            <a:ext cx="2984760" cy="2238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3851280" y="58755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alibri"/>
              </a:rPr>
              <a:t>海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9c57e3fafbdbd4cdb48f31ba"/>
          <p:cNvPicPr/>
          <p:nvPr/>
        </p:nvPicPr>
        <p:blipFill>
          <a:blip r:embed="rId3"/>
          <a:stretch/>
        </p:blipFill>
        <p:spPr>
          <a:xfrm>
            <a:off x="6408720" y="3429000"/>
            <a:ext cx="2735280" cy="2233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7020000" y="58755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alibri"/>
              </a:rPr>
              <a:t>紫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2484360" y="765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藻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0" y="1413000"/>
            <a:ext cx="2843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藻类是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原生生物界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类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真核生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主要水生，无维管束，能进行光合作用。体型大小各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2013-5914-469C-8129-8AECE03C24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荷花玉兰"/>
          <p:cNvPicPr/>
          <p:nvPr/>
        </p:nvPicPr>
        <p:blipFill>
          <a:blip r:embed="rId1"/>
          <a:stretch/>
        </p:blipFill>
        <p:spPr>
          <a:xfrm>
            <a:off x="3419640" y="189000"/>
            <a:ext cx="4321080" cy="3456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250920" y="4005360"/>
            <a:ext cx="86058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适宜地区：长江流域及其以南地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木本常绿植物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开花，陆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24000" y="1773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荷花玉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77920" y="475920"/>
            <a:ext cx="73440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也叫冬青，常绿灌木或小乔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季常青 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开花，陆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5202e5f2999db700b07ec584"/>
          <p:cNvPicPr/>
          <p:nvPr/>
        </p:nvPicPr>
        <p:blipFill>
          <a:blip r:embed="rId1"/>
          <a:stretch/>
        </p:blipFill>
        <p:spPr>
          <a:xfrm>
            <a:off x="3887640" y="2997360"/>
            <a:ext cx="5256360" cy="3860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684360" y="3860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大叶黄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5435640" y="3548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本双子叶植物，开花（花两性），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叶 ，陆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fengxianhua"/>
          <p:cNvPicPr/>
          <p:nvPr/>
        </p:nvPicPr>
        <p:blipFill>
          <a:blip r:embed="rId1"/>
          <a:stretch/>
        </p:blipFill>
        <p:spPr>
          <a:xfrm>
            <a:off x="4356000" y="2286000"/>
            <a:ext cx="478800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1258920" y="3789360"/>
            <a:ext cx="20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凤仙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501336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年生草本植物，开花，陆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3790312e91d3dd474ec22627"/>
          <p:cNvPicPr/>
          <p:nvPr/>
        </p:nvPicPr>
        <p:blipFill>
          <a:blip r:embed="rId1"/>
          <a:stretch/>
        </p:blipFill>
        <p:spPr>
          <a:xfrm>
            <a:off x="0" y="0"/>
            <a:ext cx="5580000" cy="4365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156360" y="1557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牛筋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00000" y="4508640"/>
            <a:ext cx="6804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叶灌木，开花 ，陆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b14ad19f1527a7042a9ad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65800" cy="3529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5364000" y="90792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小叶女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二年生草本，生于山坡路边荒野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d8b8c92a73aa0d3ed52af123"/>
          <p:cNvPicPr/>
          <p:nvPr/>
        </p:nvPicPr>
        <p:blipFill>
          <a:blip r:embed="rId1"/>
          <a:stretch/>
        </p:blipFill>
        <p:spPr>
          <a:xfrm>
            <a:off x="0" y="3048120"/>
            <a:ext cx="417528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4643280" y="350028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苦苣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年生常绿草本植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504ec7f9b206b563252df2cc"/>
          <p:cNvPicPr/>
          <p:nvPr/>
        </p:nvPicPr>
        <p:blipFill>
          <a:blip r:embed="rId1"/>
          <a:stretch/>
        </p:blipFill>
        <p:spPr>
          <a:xfrm>
            <a:off x="3176640" y="2565360"/>
            <a:ext cx="5967360" cy="4292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1187280" y="378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葱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360" y="3573360"/>
            <a:ext cx="8459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绿木本植物 ，花簇生叶腋或枝端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开放，花黄绿色。没有花瓣，有香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a583631e0742e7c11bd576b4"/>
          <p:cNvPicPr/>
          <p:nvPr/>
        </p:nvPicPr>
        <p:blipFill>
          <a:blip r:embed="rId1"/>
          <a:stretch/>
        </p:blipFill>
        <p:spPr>
          <a:xfrm>
            <a:off x="4568760" y="0"/>
            <a:ext cx="4575240" cy="343224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1547640" y="170028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小叶黄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36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00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f008000000000001024120</vt:lpwstr>
  </property>
</Properties>
</file>