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337-A1DF-4F03-AB7C-E677C684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73A-5763-4248-A7C1-A3E00D8E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05B-721F-486C-AF57-68343809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8BA-861D-40BE-9CE6-C4C1388A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A13-76C3-482A-99FE-A0C9B912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649-68FD-4865-99EC-91178C59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AF5-727E-4BF0-9B79-2903CCC3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8B7-250B-4E87-9985-935C4587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34C-97B5-49C5-86A0-35A2FC5D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61F-8046-42FA-8CA2-D6DDA3E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372-65DE-416C-AB9B-3DAC414A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411-462F-4B28-AB32-A6B9B828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EBA0-1BB7-4D80-A25D-0EA810BBA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228600" y="1143000"/>
            <a:ext cx="6400800" cy="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60948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义务教育课程标准实验教科书小学语文二年级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124080" y="3505320"/>
            <a:ext cx="360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（第一课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AG00370_"/>
          <p:cNvPicPr/>
          <p:nvPr/>
        </p:nvPicPr>
        <p:blipFill>
          <a:blip r:embed="rId1"/>
          <a:stretch/>
        </p:blipFill>
        <p:spPr>
          <a:xfrm>
            <a:off x="762120" y="5257800"/>
            <a:ext cx="1485720" cy="116532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3124080" y="1752480"/>
            <a:ext cx="3276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2380320" y="58453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71640" y="765000"/>
            <a:ext cx="66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皮的聪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聪聪很聪明，但有时候也很调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一天，聪聪来到张爷爷的鱼塘边，发现张爷爷回家吃饭了，他就捡起石头往鱼塘里扔，嘴里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呱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学青蛙叫。鱼塘太大了，水的波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一个个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圆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由小变大，可还没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，就消失了，看不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来的样子。他想：可能是石头太小，于是，他又找到一块大石头，准备往里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这时候，张爷爷回来了。聪聪很害怕，就对张爷爷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向青蛙妈妈学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爷爷明白是怎么回事以后，笑着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调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鱼塘，一不准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泳，二不准向里边扔石头，快回家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次再让我看见，可不会放过你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聪伸了伸舌头，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1332000" y="2565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26920" y="2349360"/>
            <a:ext cx="6985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河上有座石桥。半圆的桥洞和水里的倒影连起来，好像一个大月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17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5219640" y="3573360"/>
            <a:ext cx="2362320" cy="2727360"/>
            <a:chOff x="5219640" y="3573360"/>
            <a:chExt cx="2362320" cy="2727360"/>
          </a:xfrm>
        </p:grpSpPr>
        <p:pic>
          <p:nvPicPr>
            <p:cNvPr id="51" name="Picture 5" descr="tzg"/>
            <p:cNvPicPr/>
            <p:nvPr/>
          </p:nvPicPr>
          <p:blipFill>
            <a:blip r:embed="rId2"/>
            <a:stretch/>
          </p:blipFill>
          <p:spPr>
            <a:xfrm>
              <a:off x="5219640" y="357336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5712840" y="36338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纹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7"/>
          <p:cNvGrpSpPr/>
          <p:nvPr/>
        </p:nvGrpSpPr>
        <p:grpSpPr>
          <a:xfrm>
            <a:off x="3203640" y="692280"/>
            <a:ext cx="2361960" cy="2727360"/>
            <a:chOff x="3203640" y="692280"/>
            <a:chExt cx="2361960" cy="2727360"/>
          </a:xfrm>
        </p:grpSpPr>
        <p:pic>
          <p:nvPicPr>
            <p:cNvPr id="54" name="Picture 8" descr="tzg"/>
            <p:cNvPicPr/>
            <p:nvPr/>
          </p:nvPicPr>
          <p:blipFill>
            <a:blip r:embed="rId3"/>
            <a:stretch/>
          </p:blipFill>
          <p:spPr>
            <a:xfrm>
              <a:off x="3203640" y="692280"/>
              <a:ext cx="23619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9"/>
            <p:cNvSpPr/>
            <p:nvPr/>
          </p:nvSpPr>
          <p:spPr>
            <a:xfrm>
              <a:off x="3696120" y="75276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影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0"/>
          <p:cNvGrpSpPr/>
          <p:nvPr/>
        </p:nvGrpSpPr>
        <p:grpSpPr>
          <a:xfrm>
            <a:off x="1187280" y="3645000"/>
            <a:ext cx="2362320" cy="2727360"/>
            <a:chOff x="1187280" y="3645000"/>
            <a:chExt cx="2362320" cy="2727360"/>
          </a:xfrm>
        </p:grpSpPr>
        <p:pic>
          <p:nvPicPr>
            <p:cNvPr id="57" name="Picture 11" descr="tzg"/>
            <p:cNvPicPr/>
            <p:nvPr/>
          </p:nvPicPr>
          <p:blipFill>
            <a:blip r:embed="rId4"/>
            <a:stretch/>
          </p:blipFill>
          <p:spPr>
            <a:xfrm>
              <a:off x="1187280" y="3645000"/>
              <a:ext cx="236232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2"/>
            <p:cNvSpPr/>
            <p:nvPr/>
          </p:nvSpPr>
          <p:spPr>
            <a:xfrm>
              <a:off x="1680480" y="370548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洞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a.MP3" descr=""/>
          <p:cNvPicPr/>
          <p:nvPr/>
        </p:nvPicPr>
        <p:blipFill>
          <a:blip r:embed="rId5"/>
          <a:stretch/>
        </p:blipFill>
        <p:spPr>
          <a:xfrm>
            <a:off x="774072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1"/>
          <p:cNvSpPr/>
          <p:nvPr/>
        </p:nvSpPr>
        <p:spPr>
          <a:xfrm>
            <a:off x="217440" y="6372360"/>
            <a:ext cx="56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6" name="chimes.wav"/>
      </p:stSnd>
    </p:sndAc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8549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4572000" y="1916280"/>
            <a:ext cx="2362320" cy="2727000"/>
            <a:chOff x="4572000" y="1916280"/>
            <a:chExt cx="2362320" cy="2727000"/>
          </a:xfrm>
        </p:grpSpPr>
        <p:pic>
          <p:nvPicPr>
            <p:cNvPr id="62" name="Picture 3" descr="tzg"/>
            <p:cNvPicPr/>
            <p:nvPr/>
          </p:nvPicPr>
          <p:blipFill>
            <a:blip r:embed="rId2"/>
            <a:stretch/>
          </p:blipFill>
          <p:spPr>
            <a:xfrm>
              <a:off x="4572000" y="1916280"/>
              <a:ext cx="2362320" cy="27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4"/>
            <p:cNvSpPr/>
            <p:nvPr/>
          </p:nvSpPr>
          <p:spPr>
            <a:xfrm>
              <a:off x="5065200" y="197640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游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1403280" y="1916280"/>
            <a:ext cx="2362320" cy="2727000"/>
            <a:chOff x="1403280" y="1916280"/>
            <a:chExt cx="2362320" cy="2727000"/>
          </a:xfrm>
        </p:grpSpPr>
        <p:pic>
          <p:nvPicPr>
            <p:cNvPr id="65" name="Picture 9" descr="tzg"/>
            <p:cNvPicPr/>
            <p:nvPr/>
          </p:nvPicPr>
          <p:blipFill>
            <a:blip r:embed="rId3"/>
            <a:stretch/>
          </p:blipFill>
          <p:spPr>
            <a:xfrm>
              <a:off x="1403280" y="1916280"/>
              <a:ext cx="2362320" cy="27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0"/>
            <p:cNvSpPr/>
            <p:nvPr/>
          </p:nvSpPr>
          <p:spPr>
            <a:xfrm>
              <a:off x="1896480" y="197640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倒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a.MP3" descr=""/>
          <p:cNvPicPr/>
          <p:nvPr/>
        </p:nvPicPr>
        <p:blipFill>
          <a:blip r:embed="rId4"/>
          <a:stretch/>
        </p:blipFill>
        <p:spPr>
          <a:xfrm>
            <a:off x="774072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5" name="chimes.wav"/>
      </p:stSnd>
    </p:sndAc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8549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A141-2AE7-4C12-B0B9-BFBBDDEA6A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20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00:08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4:40Z</dcterms:modified>
  <cp:revision>11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