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0B2-1154-488E-AC72-DD677DCB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446-328B-4CF0-81A1-E2A3AA2D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F92-8EE1-47FB-96C2-14556D8B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6FC-44C3-472C-9246-ADF70527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500-77BC-47A9-A7C9-B0BF696C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F82-E604-4C27-A9B9-648EF0F4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4A6-CF90-4B73-8D0D-49FD9129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AE5-BED5-4626-B790-3AFD379B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87C-702D-4302-8574-152CC087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86C-5E4C-4E84-805F-6053926F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019-98C9-47D6-9E4F-060520BB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C1A-C3B0-4C3D-8611-12D94D6B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21C3-3A80-4E75-B4D1-127CEC7D4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file:///../../&#21407;&#22987;--&#31119;&#24030;&#23398;&#38498;&#35838;&#20363;/&#23567;&#23398;&#25968;&#23398;/&#23567;&#23398;&#25968;&#23398;&#31532;&#19977;&#23567;&#32452;/w" TargetMode="External"/><Relationship Id="rId5" Type="http://schemas.openxmlformats.org/officeDocument/2006/relationships/hyperlink" Target="file:///../../&#21407;&#22987;--&#31119;&#24030;&#23398;&#38498;&#35838;&#20363;/&#23567;&#23398;&#25968;&#23398;/&#23567;&#23398;&#25968;&#23398;&#31532;&#19977;&#23567;&#32452;/w" TargetMode="External"/><Relationship Id="rId6" Type="http://schemas.openxmlformats.org/officeDocument/2006/relationships/hyperlink" Target="file:///../../&#21407;&#22987;--&#31119;&#24030;&#23398;&#38498;&#35838;&#20363;/&#23567;&#23398;&#25968;&#23398;/&#23567;&#23398;&#25968;&#23398;&#31532;&#19977;&#23567;&#32452;/q" TargetMode="External"/><Relationship Id="rId7" Type="http://schemas.openxmlformats.org/officeDocument/2006/relationships/hyperlink" Target="file:///../../&#21407;&#22987;--&#31119;&#24030;&#23398;&#38498;&#35838;&#20363;/&#23567;&#23398;&#25968;&#23398;/&#23567;&#23398;&#25968;&#23398;&#31532;&#19977;&#23567;&#32452;/q" TargetMode="External"/><Relationship Id="rId8" Type="http://schemas.openxmlformats.org/officeDocument/2006/relationships/hyperlink" Target="file:///../../&#21407;&#22987;--&#31119;&#24030;&#23398;&#38498;&#35838;&#20363;/&#23567;&#23398;&#25968;&#23398;/&#23567;&#23398;&#25968;&#23398;&#31532;&#19977;&#23567;&#32452;/s" TargetMode="External"/><Relationship Id="rId9" Type="http://schemas.openxmlformats.org/officeDocument/2006/relationships/hyperlink" Target="file:///../../&#21407;&#22987;--&#31119;&#24030;&#23398;&#38498;&#35838;&#20363;/&#23567;&#23398;&#25968;&#23398;/&#23567;&#23398;&#25968;&#23398;&#31532;&#19977;&#23567;&#32452;/s" TargetMode="External"/><Relationship Id="rId10" Type="http://schemas.openxmlformats.org/officeDocument/2006/relationships/hyperlink" Target="file:///../../&#21407;&#22987;--&#31119;&#24030;&#23398;&#38498;&#35838;&#20363;/&#23567;&#23398;&#25968;&#23398;/&#23567;&#23398;&#25968;&#23398;&#31532;&#19977;&#23567;&#32452;/b" TargetMode="External"/><Relationship Id="rId11" Type="http://schemas.openxmlformats.org/officeDocument/2006/relationships/hyperlink" Target="file:///../../&#21407;&#22987;--&#31119;&#24030;&#23398;&#38498;&#35838;&#20363;/&#23567;&#23398;&#25968;&#23398;/&#23567;&#23398;&#25968;&#23398;&#31532;&#19977;&#23567;&#32452;/b" TargetMode="External"/><Relationship Id="rId12" Type="http://schemas.openxmlformats.org/officeDocument/2006/relationships/hyperlink" Target="file:///../../&#21407;&#22987;--&#31119;&#24030;&#23398;&#38498;&#35838;&#20363;/&#23567;&#23398;&#25968;&#23398;/&#23567;&#23398;&#25968;&#23398;&#31532;&#19977;&#23567;&#32452;/%20d" TargetMode="External"/><Relationship Id="rId13" Type="http://schemas.openxmlformats.org/officeDocument/2006/relationships/hyperlink" Target="file:///../../&#21407;&#22987;--&#31119;&#24030;&#23398;&#38498;&#35838;&#20363;/&#23567;&#23398;&#25968;&#23398;/&#23567;&#23398;&#25968;&#23398;&#31532;&#19977;&#23567;&#32452;/%20d" TargetMode="External"/><Relationship Id="rId14" Type="http://schemas.openxmlformats.org/officeDocument/2006/relationships/slide" Target="slide4.xml"/><Relationship Id="rId15" Type="http://schemas.openxmlformats.org/officeDocument/2006/relationships/slide" Target="slide6.xml"/><Relationship Id="rId16" Type="http://schemas.openxmlformats.org/officeDocument/2006/relationships/slide" Target="slide7.xml"/><Relationship Id="rId17" Type="http://schemas.openxmlformats.org/officeDocument/2006/relationships/slide" Target="slide8.xml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file:///../../&#21407;&#22987;--&#31119;&#24030;&#23398;&#38498;&#35838;&#20363;/&#23567;&#23398;&#25968;&#23398;/&#23567;&#23398;&#25968;&#23398;&#31532;&#19977;&#23567;&#32452;/1" TargetMode="External"/><Relationship Id="rId5" Type="http://schemas.openxmlformats.org/officeDocument/2006/relationships/hyperlink" Target="file:///../../&#21407;&#22987;--&#31119;&#24030;&#23398;&#38498;&#35838;&#20363;/&#23567;&#23398;&#25968;&#23398;/&#23567;&#23398;&#25968;&#23398;&#31532;&#19977;&#23567;&#32452;/1" TargetMode="External"/><Relationship Id="rId6" Type="http://schemas.openxmlformats.org/officeDocument/2006/relationships/hyperlink" Target="file:///../../&#21407;&#22987;--&#31119;&#24030;&#23398;&#38498;&#35838;&#20363;/&#23567;&#23398;&#25968;&#23398;/&#23567;&#23398;&#25968;&#23398;&#31532;&#19977;&#23567;&#32452;/1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13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914400" y="549360"/>
            <a:ext cx="7124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角  的  分  类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29608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ject 6" descr=""/>
          <p:cNvPicPr/>
          <p:nvPr/>
        </p:nvPicPr>
        <p:blipFill>
          <a:blip r:embed="rId4"/>
          <a:stretch/>
        </p:blipFill>
        <p:spPr>
          <a:xfrm>
            <a:off x="990720" y="1752480"/>
            <a:ext cx="6138720" cy="4321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838080" y="762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华文楷体"/>
              </a:rPr>
              <a:t>（从上一张图抽象出以下的六个角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143000" y="1295280"/>
            <a:ext cx="68580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二、引导分类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、每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人为一小组合作探究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—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学具袋中所提供的角进行分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学生可以进行个性化分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、小组汇报，说说为什么这样分    （只要合理都予以肯定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90720" y="838080"/>
            <a:ext cx="65530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在众多分类方法中，让学生自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选择一种分法，但要说明为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选择这种分法？教师则向学生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荐一种较常用的分法（比直角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，比直角小的，和直角一样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），也向学生解释这种分法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优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523880" y="1143000"/>
            <a:ext cx="609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47920" y="1143000"/>
            <a:ext cx="5943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引导学生自学课本中的相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知识，认识角的名称并在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组中互相说一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447920" y="373392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回到演示动画课件，让学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课件中的角进行分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914400" y="1143000"/>
            <a:ext cx="6858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三、练习提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折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让学生用纸折出一个直角并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说是怎么折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任意折出一个角，先估计是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么角，再用三角板量一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600200" y="13716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摸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把卡纸剪成带角的形状后放入布袋里，每个小组一份，以小组为单位，摸一摸，并猜一猜摸到的是什么角，帮助学生建立表象，激发学生的学习兴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90720" y="5335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四、交互式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14400" y="475776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219320" y="129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利用因特网网络资源，学生在计算机上自行进行角的判断练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600200" y="6019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bject 12" descr=""/>
          <p:cNvPicPr/>
          <p:nvPr/>
        </p:nvPicPr>
        <p:blipFill>
          <a:blip r:embed="rId4"/>
          <a:stretch/>
        </p:blipFill>
        <p:spPr>
          <a:xfrm>
            <a:off x="2133720" y="2514600"/>
            <a:ext cx="42670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3000" y="990720"/>
            <a:ext cx="7086600" cy="34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五、提高性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找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找一找生活中哪些地方分别有什么角。使学生意识到数学知识与生活的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76520" y="1219320"/>
            <a:ext cx="579096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总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你有哪些收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你觉得本节课哪些地方最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引你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52480" y="1981080"/>
            <a:ext cx="586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谢谢您的阅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希望能给予指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85800" y="533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523880" y="2057400"/>
            <a:ext cx="571500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4"/>
              </a:rPr>
              <a:t>1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5"/>
              </a:rPr>
              <a:t>、目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6"/>
              </a:rPr>
              <a:t>2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7"/>
              </a:rPr>
              <a:t>、课前需掌握的知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8"/>
              </a:rPr>
              <a:t>3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9"/>
              </a:rPr>
              <a:t>、资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0"/>
              </a:rPr>
              <a:t>4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1"/>
              </a:rPr>
              <a:t>、课前准备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2"/>
              </a:rPr>
              <a:t>5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3"/>
              </a:rPr>
              <a:t>、教学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90720" y="23623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447920" y="990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教案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>
            <a:hlinkClick r:id="" action="ppaction://hlinkshowjump?jump=nextslide"/>
          </p:cNvPr>
          <p:cNvSpPr/>
          <p:nvPr/>
        </p:nvSpPr>
        <p:spPr>
          <a:xfrm>
            <a:off x="1676520" y="2133720"/>
            <a:ext cx="1752480" cy="38088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7911" y="1400"/>
                </a:lnTo>
                <a:lnTo>
                  <a:pt x="1400" y="14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7911" y="20200"/>
                </a:lnTo>
                <a:lnTo>
                  <a:pt x="97911" y="14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11" y="202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311" h="21600">
                <a:moveTo>
                  <a:pt x="42649" y="3794"/>
                </a:moveTo>
                <a:lnTo>
                  <a:pt x="56662" y="10800"/>
                </a:lnTo>
                <a:lnTo>
                  <a:pt x="4264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6">
            <a:hlinkClick r:id="rId14" action="ppaction://hlinksldjump"/>
          </p:cNvPr>
          <p:cNvSpPr/>
          <p:nvPr/>
        </p:nvSpPr>
        <p:spPr>
          <a:xfrm>
            <a:off x="1752480" y="2819520"/>
            <a:ext cx="3733920" cy="533160"/>
          </a:xfrm>
          <a:custGeom>
            <a:avLst/>
            <a:gdLst>
              <a:gd name="textAreaLeft" fmla="*/ 34560 w 3733920"/>
              <a:gd name="textAreaRight" fmla="*/ 3699360 w 37339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51185" h="21600">
                <a:moveTo>
                  <a:pt x="0" y="0"/>
                </a:moveTo>
                <a:lnTo>
                  <a:pt x="151185" y="0"/>
                </a:lnTo>
                <a:lnTo>
                  <a:pt x="151185" y="21600"/>
                </a:lnTo>
                <a:lnTo>
                  <a:pt x="0" y="21600"/>
                </a:lnTo>
                <a:close/>
              </a:path>
              <a:path fill="lightenLess" w="151185" h="21600">
                <a:moveTo>
                  <a:pt x="0" y="0"/>
                </a:moveTo>
                <a:lnTo>
                  <a:pt x="151185" y="0"/>
                </a:lnTo>
                <a:lnTo>
                  <a:pt x="149785" y="1400"/>
                </a:lnTo>
                <a:lnTo>
                  <a:pt x="1400" y="1400"/>
                </a:lnTo>
                <a:close/>
              </a:path>
              <a:path fill="darken" w="151185" h="21600">
                <a:moveTo>
                  <a:pt x="151185" y="0"/>
                </a:moveTo>
                <a:lnTo>
                  <a:pt x="151185" y="21600"/>
                </a:lnTo>
                <a:lnTo>
                  <a:pt x="149785" y="20200"/>
                </a:lnTo>
                <a:lnTo>
                  <a:pt x="149785" y="1400"/>
                </a:lnTo>
                <a:close/>
              </a:path>
              <a:path fill="darkenLess" w="151185" h="21600">
                <a:moveTo>
                  <a:pt x="15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85" y="20200"/>
                </a:lnTo>
                <a:close/>
              </a:path>
              <a:path fill="lighten" w="15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1185" h="21600">
                <a:moveTo>
                  <a:pt x="68586" y="3794"/>
                </a:moveTo>
                <a:lnTo>
                  <a:pt x="82599" y="10800"/>
                </a:lnTo>
                <a:lnTo>
                  <a:pt x="6858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7">
            <a:hlinkClick r:id="rId15" action="ppaction://hlinksldjump"/>
          </p:cNvPr>
          <p:cNvSpPr/>
          <p:nvPr/>
        </p:nvSpPr>
        <p:spPr>
          <a:xfrm>
            <a:off x="1600200" y="3505320"/>
            <a:ext cx="1981080" cy="533160"/>
          </a:xfrm>
          <a:custGeom>
            <a:avLst/>
            <a:gdLst>
              <a:gd name="textAreaLeft" fmla="*/ 34560 w 1981080"/>
              <a:gd name="textAreaRight" fmla="*/ 1946520 w 1981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0220" h="21600">
                <a:moveTo>
                  <a:pt x="0" y="0"/>
                </a:moveTo>
                <a:lnTo>
                  <a:pt x="80220" y="0"/>
                </a:lnTo>
                <a:lnTo>
                  <a:pt x="80220" y="21600"/>
                </a:lnTo>
                <a:lnTo>
                  <a:pt x="0" y="21600"/>
                </a:lnTo>
                <a:close/>
              </a:path>
              <a:path fill="lightenLess" w="80220" h="21600">
                <a:moveTo>
                  <a:pt x="0" y="0"/>
                </a:moveTo>
                <a:lnTo>
                  <a:pt x="80220" y="0"/>
                </a:lnTo>
                <a:lnTo>
                  <a:pt x="78820" y="1400"/>
                </a:lnTo>
                <a:lnTo>
                  <a:pt x="1400" y="1400"/>
                </a:lnTo>
                <a:close/>
              </a:path>
              <a:path fill="darken" w="80220" h="21600">
                <a:moveTo>
                  <a:pt x="80220" y="0"/>
                </a:moveTo>
                <a:lnTo>
                  <a:pt x="80220" y="21600"/>
                </a:lnTo>
                <a:lnTo>
                  <a:pt x="78820" y="20200"/>
                </a:lnTo>
                <a:lnTo>
                  <a:pt x="78820" y="1400"/>
                </a:lnTo>
                <a:close/>
              </a:path>
              <a:path fill="darkenLess" w="80220" h="21600">
                <a:moveTo>
                  <a:pt x="8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20" y="20200"/>
                </a:lnTo>
                <a:close/>
              </a:path>
              <a:path fill="lighten" w="8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20" h="21600">
                <a:moveTo>
                  <a:pt x="33104" y="3794"/>
                </a:moveTo>
                <a:lnTo>
                  <a:pt x="47117" y="10800"/>
                </a:lnTo>
                <a:lnTo>
                  <a:pt x="331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8">
            <a:hlinkClick r:id="rId16" action="ppaction://hlinksldjump"/>
          </p:cNvPr>
          <p:cNvSpPr/>
          <p:nvPr/>
        </p:nvSpPr>
        <p:spPr>
          <a:xfrm>
            <a:off x="1600200" y="4343400"/>
            <a:ext cx="2438280" cy="380880"/>
          </a:xfrm>
          <a:custGeom>
            <a:avLst/>
            <a:gdLst>
              <a:gd name="textAreaLeft" fmla="*/ 24480 w 2438280"/>
              <a:gd name="textAreaRight" fmla="*/ 2413800 w 2438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38167" h="21600">
                <a:moveTo>
                  <a:pt x="0" y="0"/>
                </a:moveTo>
                <a:lnTo>
                  <a:pt x="138167" y="0"/>
                </a:lnTo>
                <a:lnTo>
                  <a:pt x="138167" y="21600"/>
                </a:lnTo>
                <a:lnTo>
                  <a:pt x="0" y="21600"/>
                </a:lnTo>
                <a:close/>
              </a:path>
              <a:path fill="lightenLess" w="138167" h="21600">
                <a:moveTo>
                  <a:pt x="0" y="0"/>
                </a:moveTo>
                <a:lnTo>
                  <a:pt x="138167" y="0"/>
                </a:lnTo>
                <a:lnTo>
                  <a:pt x="136767" y="1400"/>
                </a:lnTo>
                <a:lnTo>
                  <a:pt x="1400" y="1400"/>
                </a:lnTo>
                <a:close/>
              </a:path>
              <a:path fill="darken" w="138167" h="21600">
                <a:moveTo>
                  <a:pt x="138167" y="0"/>
                </a:moveTo>
                <a:lnTo>
                  <a:pt x="138167" y="21600"/>
                </a:lnTo>
                <a:lnTo>
                  <a:pt x="136767" y="20200"/>
                </a:lnTo>
                <a:lnTo>
                  <a:pt x="136767" y="1400"/>
                </a:lnTo>
                <a:close/>
              </a:path>
              <a:path fill="darkenLess" w="138167" h="21600">
                <a:moveTo>
                  <a:pt x="138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767" y="20200"/>
                </a:lnTo>
                <a:close/>
              </a:path>
              <a:path fill="lighten" w="138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8167" h="21600">
                <a:moveTo>
                  <a:pt x="62077" y="3794"/>
                </a:moveTo>
                <a:lnTo>
                  <a:pt x="76090" y="10800"/>
                </a:lnTo>
                <a:lnTo>
                  <a:pt x="620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9">
            <a:hlinkClick r:id="rId17" action="ppaction://hlinksldjump"/>
          </p:cNvPr>
          <p:cNvSpPr/>
          <p:nvPr/>
        </p:nvSpPr>
        <p:spPr>
          <a:xfrm>
            <a:off x="1600200" y="4952880"/>
            <a:ext cx="2514600" cy="609840"/>
          </a:xfrm>
          <a:custGeom>
            <a:avLst/>
            <a:gdLst>
              <a:gd name="textAreaLeft" fmla="*/ 39240 w 2514600"/>
              <a:gd name="textAreaRight" fmla="*/ 2475360 w 25146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9025" h="21600">
                <a:moveTo>
                  <a:pt x="0" y="0"/>
                </a:moveTo>
                <a:lnTo>
                  <a:pt x="89025" y="0"/>
                </a:lnTo>
                <a:lnTo>
                  <a:pt x="89025" y="21600"/>
                </a:lnTo>
                <a:lnTo>
                  <a:pt x="0" y="21600"/>
                </a:lnTo>
                <a:close/>
              </a:path>
              <a:path fill="lightenLess" w="89025" h="21600">
                <a:moveTo>
                  <a:pt x="0" y="0"/>
                </a:moveTo>
                <a:lnTo>
                  <a:pt x="89025" y="0"/>
                </a:lnTo>
                <a:lnTo>
                  <a:pt x="87625" y="1400"/>
                </a:lnTo>
                <a:lnTo>
                  <a:pt x="1400" y="1400"/>
                </a:lnTo>
                <a:close/>
              </a:path>
              <a:path fill="darken" w="89025" h="21600">
                <a:moveTo>
                  <a:pt x="89025" y="0"/>
                </a:moveTo>
                <a:lnTo>
                  <a:pt x="89025" y="21600"/>
                </a:lnTo>
                <a:lnTo>
                  <a:pt x="87625" y="20200"/>
                </a:lnTo>
                <a:lnTo>
                  <a:pt x="87625" y="1400"/>
                </a:lnTo>
                <a:close/>
              </a:path>
              <a:path fill="darkenLess" w="89025" h="21600">
                <a:moveTo>
                  <a:pt x="8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25" y="20200"/>
                </a:lnTo>
                <a:close/>
              </a:path>
              <a:path fill="lighten" w="8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025" h="21600">
                <a:moveTo>
                  <a:pt x="37506" y="3794"/>
                </a:moveTo>
                <a:lnTo>
                  <a:pt x="51519" y="10800"/>
                </a:lnTo>
                <a:lnTo>
                  <a:pt x="375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CD2F-3394-406E-8B41-84896931A4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7910640" y="4941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85800" y="609480"/>
            <a:ext cx="70866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知识技能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能直观认识直角、锐角、钝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能直观区分这些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情感态度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通过折、量、比等活动，培养学生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手操作的能力和科学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初步感受数学问题的探索性和挑战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发展学生的主动探索精神和解决实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问题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让学生在探究的过程中感受到学习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473040" y="228600"/>
            <a:ext cx="80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3">
            <a:hlinkClick r:id="rId2" action="ppaction://hlinksldjump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143000" y="990720"/>
            <a:ext cx="61722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课前需要掌握的知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初步认识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会比较角的大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学生对直角已有初步的认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3">
            <a:hlinkClick r:id="rId2" action="ppaction://hlinksldjump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838080" y="914400"/>
            <a:ext cx="716292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在上课之前，必须仔细阅读并会使用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  <a:hlinkClick r:id="rId4"/>
              </a:rPr>
              <a:t>www.shodor.org/interactivate/</a:t>
            </a: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  <a:hlinkClick r:id="rId5"/>
              </a:rPr>
              <a:t>activities/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angles/index.html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中登载的</a:t>
            </a: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JAVA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插件检查教室里的所有学生电脑，保证课上学生能正常上网操作，把活动的网址书签和练习纸复制给学生。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  <a:hlinkClick r:id="rId6"/>
              </a:rPr>
              <a:t>www.shodor.org/interactivate/activitie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angle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3">
            <a:hlinkClick r:id="rId2" action="ppaction://hlinksldjump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066680" y="990720"/>
            <a:ext cx="670572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资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学校具备多媒体网络教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角的演示课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角的互动课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">
            <a:hlinkClick r:id="rId2" action="ppaction://hlinksldjump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219320" y="1066680"/>
            <a:ext cx="693396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课前准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每个小组准备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个大小不同的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每个小组准备若干张形状不同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每个小组准备一盒用卡纸剪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各种带有角的不同图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>
            <a:hlinkClick r:id="rId2" action="ppaction://hlinksldjump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990720" y="1066680"/>
            <a:ext cx="685800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教学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、创设情境、谈话引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在上一课时学生已经初步认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了角的基础上，让学生说说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于角的知识已经有了哪些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Object 5" descr=""/>
          <p:cNvPicPr/>
          <p:nvPr/>
        </p:nvPicPr>
        <p:blipFill>
          <a:blip r:embed="rId4"/>
          <a:stretch/>
        </p:blipFill>
        <p:spPr>
          <a:xfrm>
            <a:off x="1371600" y="2816280"/>
            <a:ext cx="5867280" cy="31557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1066680" y="99072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播放课件创设情境，让学生找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课件画面中的角。（下图为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Fl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制作的演示动画软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2:47:16Z</dcterms:created>
  <dc:creator>第一PPT模板网-WWW.1PPT.COM </dc:creator>
  <dc:description>第一PPT模板网-WWW.1PPT.COM 
</dc:description>
  <cp:keywords>第一PPT模板网-WWW.1PPT.COM</cp:keywords>
  <dc:language>en-US</dc:language>
  <cp:lastModifiedBy>xinxing</cp:lastModifiedBy>
  <dcterms:modified xsi:type="dcterms:W3CDTF">2017-04-16T15:33:37Z</dcterms:modified>
  <cp:revision>34</cp:revision>
  <dc:subject>第一PPT模板网-WWW.1PPT.COM </dc:subject>
  <dc:title>第一PPT模板网-WWW.1PPT.CO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