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780F-EA53-43B6-97F2-9A13B97923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A475-9CCE-432C-85E3-BD52909589F6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A23-2F69-41ED-BBA5-4821634F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153-465B-4EF9-A64D-2AD39939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287-36C4-43EF-9EA3-C40A49ED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9EC-AE87-49C3-835B-7F797C15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050B-E7FE-4A66-B6B7-B1076454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1D99-2849-430A-A7E7-3D677805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BE89-540F-427A-8BDE-728C1F5D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30FD-D0FB-4F6C-AB75-D4FA1CE4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D7EB-C996-41D1-875B-D5DAC8EA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2842-774D-4232-9D9E-06360B78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E388-BE00-4EEF-BACE-3EADC19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E95-5B6D-4657-95E9-7708D64D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3B74-5443-4169-966C-4AF4E2D8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3F8A-17AC-4E12-8877-344F5156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4664-3F94-4601-9246-D8E74A4E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58DB-AF9C-45E1-9875-33464C86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0F13-423B-4E10-AED0-3390CB41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E03-B900-4B61-81EF-F4175A52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288-2934-42B1-8CCD-58DA16B7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391-54D2-47BC-9FD9-9B4AE238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15A-8C04-476F-A776-85EA2208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8B2-C97D-4A85-B3CC-4E6DF0E8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9EC-AB55-4333-9AC9-D0E77DC9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6E6-E68A-4757-84B6-BC39C6C5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A002-486E-423B-A0CE-8EA339482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DE90-EEFD-425D-AE21-C5F11EF0F67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untitled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90" name="WordArt 5"/>
          <p:cNvSpPr txBox="1"/>
          <p:nvPr/>
        </p:nvSpPr>
        <p:spPr>
          <a:xfrm>
            <a:off x="2286000" y="1295280"/>
            <a:ext cx="475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33cc"/>
                  </a:solidFill>
                  <a:round/>
                </a:ln>
                <a:solidFill>
                  <a:srgbClr val="007572">
                    <a:alpha val="7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热起来了</a:t>
            </a:r>
            <a:endParaRPr b="0" lang="en-US" sz="1800" spc="1" strike="noStrike">
              <a:ln w="12600">
                <a:solidFill>
                  <a:srgbClr val="0033cc"/>
                </a:solidFill>
                <a:round/>
              </a:ln>
              <a:solidFill>
                <a:srgbClr val="007572">
                  <a:alpha val="7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299680" y="60958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25905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衣服能给我们增加热量吗？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" name="Picture 5" descr="b_1247416258619"/>
          <p:cNvPicPr/>
          <p:nvPr/>
        </p:nvPicPr>
        <p:blipFill>
          <a:blip r:embed="rId1"/>
          <a:srcRect l="0" t="0" r="-57" b="-118"/>
          <a:stretch/>
        </p:blipFill>
        <p:spPr>
          <a:xfrm>
            <a:off x="0" y="0"/>
            <a:ext cx="19051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33520" y="3809880"/>
            <a:ext cx="74674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</a:rPr>
              <a:t>我们能设计一个实验来进行观测吗</a:t>
            </a:r>
            <a:r>
              <a:rPr b="1" lang="zh-CN" sz="4400" spc="-1" strike="noStrike">
                <a:solidFill>
                  <a:srgbClr val="0033cc"/>
                </a:solidFill>
                <a:latin typeface="Comic Sans MS"/>
              </a:rPr>
              <a:t>？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（书：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27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页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2209680" y="838080"/>
            <a:ext cx="1752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讨论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未命名"/>
          <p:cNvPicPr/>
          <p:nvPr/>
        </p:nvPicPr>
        <p:blipFill>
          <a:blip r:embed="rId1"/>
          <a:stretch/>
        </p:blipFill>
        <p:spPr>
          <a:xfrm>
            <a:off x="380880" y="909720"/>
            <a:ext cx="8001000" cy="5021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507760" y="144792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毛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770840" y="3236760"/>
            <a:ext cx="54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度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度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度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度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676520" y="4114800"/>
            <a:ext cx="57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温度计的温度没有变化，这说明了毛巾、衣服等物品不能产生热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900000" y="1484280"/>
            <a:ext cx="34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将毛巾叠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838080" y="48006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记录员、计时员和读数员要相互配合，实验完毕后整理好材料放在桌子中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8080" y="3854520"/>
            <a:ext cx="72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读数时，做到实事求是，同一个人在同一个角度平视温度计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14400" y="2895480"/>
            <a:ext cx="714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读数时，温度计玻璃泡要留在毛巾                          中，不能取出来读数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149000" y="2057400"/>
            <a:ext cx="71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、将温度计玻璃泡轻轻插入叠好的毛巾中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并尽量避免接触其他物体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00400" y="60948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实验方法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温馨提示：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待温度计示数稳定后再读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不能将手盖于毛巾上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文本框 1"/>
          <p:cNvSpPr/>
          <p:nvPr/>
        </p:nvSpPr>
        <p:spPr>
          <a:xfrm>
            <a:off x="1146240" y="5278320"/>
            <a:ext cx="62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2280" y="2666880"/>
            <a:ext cx="864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思考：多穿衣服身体怎么会觉得热起来了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?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我们能解释其中的原因吗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066680"/>
            <a:ext cx="812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Comic Sans MS"/>
              </a:rPr>
              <a:t>      </a:t>
            </a:r>
            <a:r>
              <a:rPr b="0" lang="zh-CN" sz="4400" spc="-1" strike="noStrike">
                <a:solidFill>
                  <a:srgbClr val="007572"/>
                </a:solidFill>
                <a:latin typeface="Comic Sans MS"/>
              </a:rPr>
              <a:t>通过实验：我们发现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衣服不能给我们身体提供热量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28600" y="441972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衣服不能产生热，衣服的作用是保温，阻止热量散发，同事阻挡冷空气进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6B54-DC01-4B34-A9BB-FDB38B3ADC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2361600"/>
            <a:ext cx="87631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冬天我们觉得很冷时，有什么方法能使我们的身体热起来？</a:t>
            </a:r>
            <a:r>
              <a:rPr b="1" lang="zh-CN" sz="5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685800" y="914400"/>
            <a:ext cx="1981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3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讨论</a:t>
            </a:r>
            <a:endParaRPr b="1" lang="en-US" sz="44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5de8ecee537f890c2cf53427"/>
          <p:cNvPicPr/>
          <p:nvPr/>
        </p:nvPicPr>
        <p:blipFill>
          <a:blip r:embed="rId1"/>
          <a:stretch/>
        </p:blipFill>
        <p:spPr>
          <a:xfrm>
            <a:off x="2743200" y="2362320"/>
            <a:ext cx="3657600" cy="4041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748520" y="762120"/>
            <a:ext cx="470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7572"/>
                </a:solidFill>
                <a:latin typeface="Comic Sans MS"/>
              </a:rPr>
              <a:t>看图片的同时，请思考它们是怎么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Comic Sans MS"/>
              </a:rPr>
              <a:t>我们的身体热起来的 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20090219_a27b7c0b20d481eeb724s3X6Q7vOyeW6"/>
          <p:cNvPicPr/>
          <p:nvPr/>
        </p:nvPicPr>
        <p:blipFill>
          <a:blip r:embed="rId1"/>
          <a:stretch/>
        </p:blipFill>
        <p:spPr>
          <a:xfrm>
            <a:off x="1447920" y="609480"/>
            <a:ext cx="60958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u=918905284,1837295746&amp;fm=0&amp;gp=-36"/>
          <p:cNvPicPr/>
          <p:nvPr/>
        </p:nvPicPr>
        <p:blipFill>
          <a:blip r:embed="rId1"/>
          <a:stretch/>
        </p:blipFill>
        <p:spPr>
          <a:xfrm>
            <a:off x="685800" y="914400"/>
            <a:ext cx="3200400" cy="2416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u=2868169870,421234886&amp;fm=0&amp;gp=46"/>
          <p:cNvPicPr/>
          <p:nvPr/>
        </p:nvPicPr>
        <p:blipFill>
          <a:blip r:embed="rId2"/>
          <a:stretch/>
        </p:blipFill>
        <p:spPr>
          <a:xfrm>
            <a:off x="6019920" y="373392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u=3968840774,48804155&amp;fm=0&amp;gp=30"/>
          <p:cNvPicPr/>
          <p:nvPr/>
        </p:nvPicPr>
        <p:blipFill>
          <a:blip r:embed="rId3"/>
          <a:stretch/>
        </p:blipFill>
        <p:spPr>
          <a:xfrm>
            <a:off x="4495680" y="914400"/>
            <a:ext cx="3353040" cy="2352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u=4161597199,3130687282&amp;fm=0&amp;gp=40"/>
          <p:cNvPicPr/>
          <p:nvPr/>
        </p:nvPicPr>
        <p:blipFill>
          <a:blip r:embed="rId4"/>
          <a:stretch/>
        </p:blipFill>
        <p:spPr>
          <a:xfrm>
            <a:off x="762120" y="3809880"/>
            <a:ext cx="2879640" cy="2192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u=849901399,932019470&amp;fm=0&amp;gp=22"/>
          <p:cNvPicPr/>
          <p:nvPr/>
        </p:nvPicPr>
        <p:blipFill>
          <a:blip r:embed="rId5"/>
          <a:stretch/>
        </p:blipFill>
        <p:spPr>
          <a:xfrm>
            <a:off x="3886200" y="4114800"/>
            <a:ext cx="19447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7e334b2bcbb2b4b1033bf6b5"/>
          <p:cNvPicPr/>
          <p:nvPr/>
        </p:nvPicPr>
        <p:blipFill>
          <a:blip r:embed="rId1"/>
          <a:stretch/>
        </p:blipFill>
        <p:spPr>
          <a:xfrm>
            <a:off x="5029200" y="609480"/>
            <a:ext cx="2568600" cy="4800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OOOPIC_vipvip_20080907030730b33fc200e643e89062"/>
          <p:cNvPicPr/>
          <p:nvPr/>
        </p:nvPicPr>
        <p:blipFill>
          <a:blip r:embed="rId2"/>
          <a:stretch/>
        </p:blipFill>
        <p:spPr>
          <a:xfrm>
            <a:off x="914400" y="609480"/>
            <a:ext cx="3405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20081209110708_27"/>
          <p:cNvPicPr/>
          <p:nvPr/>
        </p:nvPicPr>
        <p:blipFill>
          <a:blip r:embed="rId1"/>
          <a:stretch/>
        </p:blipFill>
        <p:spPr>
          <a:xfrm>
            <a:off x="380880" y="533520"/>
            <a:ext cx="396252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xin_47204051510314681195333"/>
          <p:cNvPicPr/>
          <p:nvPr/>
        </p:nvPicPr>
        <p:blipFill>
          <a:blip r:embed="rId2"/>
          <a:stretch/>
        </p:blipFill>
        <p:spPr>
          <a:xfrm>
            <a:off x="3581280" y="3429000"/>
            <a:ext cx="4419720" cy="326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347385"/>
          <p:cNvPicPr/>
          <p:nvPr/>
        </p:nvPicPr>
        <p:blipFill>
          <a:blip r:embed="rId3"/>
          <a:stretch/>
        </p:blipFill>
        <p:spPr>
          <a:xfrm>
            <a:off x="4191120" y="533520"/>
            <a:ext cx="3809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04920" y="19810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晒太阳、温泉、烤火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外界物质给予的热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20080" y="284328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吃食物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外界物质吃进身体产生热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513800" y="368136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跑步等运动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血液循环加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364760" y="4799880"/>
            <a:ext cx="38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加穿衣服 、盖被子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-----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？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u=2495496051,2974776477&amp;fm=0&amp;gp=24"/>
          <p:cNvPicPr/>
          <p:nvPr/>
        </p:nvPicPr>
        <p:blipFill>
          <a:blip r:embed="rId1"/>
          <a:stretch/>
        </p:blipFill>
        <p:spPr>
          <a:xfrm>
            <a:off x="4788000" y="476280"/>
            <a:ext cx="3384360" cy="280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u=3082954915,791052245&amp;fm=0&amp;gp=20"/>
          <p:cNvPicPr/>
          <p:nvPr/>
        </p:nvPicPr>
        <p:blipFill>
          <a:blip r:embed="rId2"/>
          <a:stretch/>
        </p:blipFill>
        <p:spPr>
          <a:xfrm>
            <a:off x="2411280" y="3716280"/>
            <a:ext cx="3913200" cy="268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u=3859160844,4039579964&amp;fm=0&amp;gp=40"/>
          <p:cNvPicPr/>
          <p:nvPr/>
        </p:nvPicPr>
        <p:blipFill>
          <a:blip r:embed="rId3"/>
          <a:stretch/>
        </p:blipFill>
        <p:spPr>
          <a:xfrm>
            <a:off x="468360" y="549360"/>
            <a:ext cx="3240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8:56:29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31:54Z</dcterms:modified>
  <cp:revision>6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8006000000000001024120</vt:lpwstr>
  </property>
  <property fmtid="{D5CDD505-2E9C-101B-9397-08002B2CF9AE}" pid="4" name="Version">
    <vt:r8>1</vt:r8>
  </property>
</Properties>
</file>