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C3D-004D-4D09-84E9-90F3D7D7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E48-BBA6-46FD-BC0E-58CFCDA2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9E1-DE50-4AB4-84E8-FA6E6E14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723-A56C-4B7A-9EA3-6EF9087F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151-6021-440F-AFE2-EAFB0D21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0A4-1FC0-4260-9D7D-5BED3303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D6C-43D4-405A-B194-A74ACBEA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E7A-A3E8-45E7-AB8D-5EA743B5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EE6-2A32-4995-9072-576CBDC5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7CC-FED6-40F1-B669-DE358F2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77C-B41F-4E50-A3BE-574385F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518-284D-4879-B573-4CD0868E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A044-D9B5-47ED-92E2-F3359A61C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1407960" y="14479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认识平行四边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5"/>
          <p:cNvSpPr/>
          <p:nvPr/>
        </p:nvSpPr>
        <p:spPr>
          <a:xfrm>
            <a:off x="2542320" y="60958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8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762120" y="1447920"/>
            <a:ext cx="8076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平行四边形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=8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长等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其余三条边的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447920" y="2971800"/>
            <a:ext cx="6095520" cy="2462400"/>
            <a:chOff x="1447920" y="2971800"/>
            <a:chExt cx="6095520" cy="2462400"/>
          </a:xfrm>
        </p:grpSpPr>
        <p:sp>
          <p:nvSpPr>
            <p:cNvPr id="163" name="AutoShape 5"/>
            <p:cNvSpPr/>
            <p:nvPr/>
          </p:nvSpPr>
          <p:spPr>
            <a:xfrm>
              <a:off x="1955880" y="3265200"/>
              <a:ext cx="4995360" cy="1833840"/>
            </a:xfrm>
            <a:prstGeom prst="parallelogram">
              <a:avLst>
                <a:gd name="adj" fmla="val 681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463840" y="2971800"/>
              <a:ext cx="59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850360" y="4657320"/>
              <a:ext cx="59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1447920" y="4730760"/>
              <a:ext cx="59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6951240" y="3045240"/>
              <a:ext cx="59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3352680" y="3048120"/>
            <a:ext cx="1828800" cy="2286000"/>
            <a:chOff x="3352680" y="3048120"/>
            <a:chExt cx="1828800" cy="2286000"/>
          </a:xfrm>
        </p:grpSpPr>
        <p:sp>
          <p:nvSpPr>
            <p:cNvPr id="169" name="Line 10"/>
            <p:cNvSpPr/>
            <p:nvPr/>
          </p:nvSpPr>
          <p:spPr>
            <a:xfrm>
              <a:off x="3352680" y="4952880"/>
              <a:ext cx="304920" cy="3812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1"/>
            <p:cNvSpPr/>
            <p:nvPr/>
          </p:nvSpPr>
          <p:spPr>
            <a:xfrm>
              <a:off x="3733920" y="4876920"/>
              <a:ext cx="304560" cy="3808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4495680" y="3124080"/>
              <a:ext cx="304920" cy="3812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4876920" y="3048120"/>
              <a:ext cx="304560" cy="3808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1"/>
          <p:cNvGrpSpPr/>
          <p:nvPr/>
        </p:nvGrpSpPr>
        <p:grpSpPr>
          <a:xfrm>
            <a:off x="1980720" y="3276720"/>
            <a:ext cx="4953240" cy="1752480"/>
            <a:chOff x="1980720" y="3276720"/>
            <a:chExt cx="4953240" cy="1752480"/>
          </a:xfrm>
        </p:grpSpPr>
        <p:sp>
          <p:nvSpPr>
            <p:cNvPr id="174" name="Line 14"/>
            <p:cNvSpPr/>
            <p:nvPr/>
          </p:nvSpPr>
          <p:spPr>
            <a:xfrm flipH="1">
              <a:off x="1980720" y="3276720"/>
              <a:ext cx="1219320" cy="175248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 flipH="1">
              <a:off x="5714640" y="3276720"/>
              <a:ext cx="1219320" cy="175248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16"/>
          <p:cNvSpPr/>
          <p:nvPr/>
        </p:nvSpPr>
        <p:spPr>
          <a:xfrm>
            <a:off x="3429000" y="5334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8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9"/>
          <p:cNvGrpSpPr/>
          <p:nvPr/>
        </p:nvGrpSpPr>
        <p:grpSpPr>
          <a:xfrm>
            <a:off x="990720" y="2666880"/>
            <a:ext cx="7086600" cy="4038840"/>
            <a:chOff x="990720" y="2666880"/>
            <a:chExt cx="7086600" cy="4038840"/>
          </a:xfrm>
        </p:grpSpPr>
        <p:sp>
          <p:nvSpPr>
            <p:cNvPr id="179" name="Oval 2"/>
            <p:cNvSpPr/>
            <p:nvPr/>
          </p:nvSpPr>
          <p:spPr>
            <a:xfrm>
              <a:off x="990720" y="2666880"/>
              <a:ext cx="7086600" cy="403884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"/>
            <p:cNvSpPr/>
            <p:nvPr/>
          </p:nvSpPr>
          <p:spPr>
            <a:xfrm>
              <a:off x="1371600" y="3500280"/>
              <a:ext cx="3505320" cy="2667240"/>
            </a:xfrm>
            <a:prstGeom prst="ellipse">
              <a:avLst/>
            </a:prstGeom>
            <a:solidFill>
              <a:srgbClr val="ffa62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5"/>
            <p:cNvSpPr/>
            <p:nvPr/>
          </p:nvSpPr>
          <p:spPr>
            <a:xfrm>
              <a:off x="1676520" y="4262400"/>
              <a:ext cx="2514600" cy="1676520"/>
            </a:xfrm>
            <a:prstGeom prst="ellipse">
              <a:avLst/>
            </a:prstGeom>
            <a:solidFill>
              <a:srgbClr val="ffbc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6"/>
            <p:cNvSpPr/>
            <p:nvPr/>
          </p:nvSpPr>
          <p:spPr>
            <a:xfrm>
              <a:off x="2133720" y="4948200"/>
              <a:ext cx="1600200" cy="914400"/>
            </a:xfrm>
            <a:prstGeom prst="ellipse">
              <a:avLst/>
            </a:prstGeom>
            <a:solidFill>
              <a:srgbClr val="ffdea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7"/>
          <p:cNvSpPr/>
          <p:nvPr/>
        </p:nvSpPr>
        <p:spPr>
          <a:xfrm>
            <a:off x="396252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133720" y="3691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362320" y="4414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362320" y="51768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604800" y="452520"/>
            <a:ext cx="129528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2357280" y="528480"/>
            <a:ext cx="1828800" cy="1067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4414680" y="452520"/>
            <a:ext cx="2106720" cy="1101600"/>
          </a:xfrm>
          <a:prstGeom prst="parallelogram">
            <a:avLst>
              <a:gd name="adj" fmla="val 478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9"/>
          <p:cNvGrpSpPr/>
          <p:nvPr/>
        </p:nvGrpSpPr>
        <p:grpSpPr>
          <a:xfrm>
            <a:off x="6781320" y="228600"/>
            <a:ext cx="1981440" cy="1752120"/>
            <a:chOff x="6781320" y="228600"/>
            <a:chExt cx="1981440" cy="1752120"/>
          </a:xfrm>
        </p:grpSpPr>
        <p:sp>
          <p:nvSpPr>
            <p:cNvPr id="191" name="Line 20"/>
            <p:cNvSpPr/>
            <p:nvPr/>
          </p:nvSpPr>
          <p:spPr>
            <a:xfrm flipH="1">
              <a:off x="6781320" y="228600"/>
              <a:ext cx="228600" cy="943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7010280" y="228600"/>
              <a:ext cx="1752480" cy="673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 flipH="1">
              <a:off x="7543800" y="902520"/>
              <a:ext cx="1218960" cy="1078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 flipH="1" flipV="1">
              <a:off x="6781320" y="1172160"/>
              <a:ext cx="762120" cy="808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24"/>
          <p:cNvSpPr/>
          <p:nvPr/>
        </p:nvSpPr>
        <p:spPr>
          <a:xfrm>
            <a:off x="604800" y="190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2890800" y="190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4680" y="1900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693432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5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"/>
          <p:cNvSpPr/>
          <p:nvPr/>
        </p:nvSpPr>
        <p:spPr>
          <a:xfrm>
            <a:off x="1981080" y="6094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5bc3"/>
                </a:solidFill>
                <a:latin typeface="Arial"/>
                <a:ea typeface="新宋体"/>
              </a:rPr>
              <a:t>判断下列图形哪些是平行四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533520" y="1523880"/>
            <a:ext cx="1904760" cy="1101960"/>
          </a:xfrm>
          <a:prstGeom prst="parallelogram">
            <a:avLst>
              <a:gd name="adj" fmla="val 4321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"/>
          <p:cNvGrpSpPr/>
          <p:nvPr/>
        </p:nvGrpSpPr>
        <p:grpSpPr>
          <a:xfrm>
            <a:off x="2895120" y="1295280"/>
            <a:ext cx="1219680" cy="1600200"/>
            <a:chOff x="2895120" y="1295280"/>
            <a:chExt cx="1219680" cy="1600200"/>
          </a:xfrm>
        </p:grpSpPr>
        <p:sp>
          <p:nvSpPr>
            <p:cNvPr id="203" name="Line 6"/>
            <p:cNvSpPr/>
            <p:nvPr/>
          </p:nvSpPr>
          <p:spPr>
            <a:xfrm>
              <a:off x="2895480" y="1295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2895480" y="129528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114800" y="19810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 flipH="1" flipV="1">
              <a:off x="2895120" y="2209320"/>
              <a:ext cx="1219320" cy="685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4647960" y="1523520"/>
            <a:ext cx="1981080" cy="990720"/>
            <a:chOff x="4647960" y="1523520"/>
            <a:chExt cx="1981080" cy="990720"/>
          </a:xfrm>
        </p:grpSpPr>
        <p:sp>
          <p:nvSpPr>
            <p:cNvPr id="208" name="Line 11"/>
            <p:cNvSpPr/>
            <p:nvPr/>
          </p:nvSpPr>
          <p:spPr>
            <a:xfrm>
              <a:off x="5410080" y="152388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6324480" y="1523880"/>
              <a:ext cx="304560" cy="99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 flipH="1">
              <a:off x="4647960" y="25142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V="1">
              <a:off x="4648320" y="1523520"/>
              <a:ext cx="761760" cy="99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15"/>
          <p:cNvSpPr/>
          <p:nvPr/>
        </p:nvSpPr>
        <p:spPr>
          <a:xfrm>
            <a:off x="7086600" y="1600200"/>
            <a:ext cx="15238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4419720" y="3429000"/>
            <a:ext cx="121896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7"/>
          <p:cNvGrpSpPr/>
          <p:nvPr/>
        </p:nvGrpSpPr>
        <p:grpSpPr>
          <a:xfrm>
            <a:off x="1371600" y="3428640"/>
            <a:ext cx="2133360" cy="1143360"/>
            <a:chOff x="1371600" y="3428640"/>
            <a:chExt cx="2133360" cy="1143360"/>
          </a:xfrm>
        </p:grpSpPr>
        <p:sp>
          <p:nvSpPr>
            <p:cNvPr id="215" name="Line 18"/>
            <p:cNvSpPr/>
            <p:nvPr/>
          </p:nvSpPr>
          <p:spPr>
            <a:xfrm>
              <a:off x="1371600" y="3429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9"/>
            <p:cNvSpPr/>
            <p:nvPr/>
          </p:nvSpPr>
          <p:spPr>
            <a:xfrm>
              <a:off x="1371600" y="3429000"/>
              <a:ext cx="380880" cy="1143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1752480" y="4572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 flipH="1" flipV="1">
              <a:off x="2286000" y="3428640"/>
              <a:ext cx="1218960" cy="1143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7"/>
          <p:cNvGrpSpPr/>
          <p:nvPr/>
        </p:nvGrpSpPr>
        <p:grpSpPr>
          <a:xfrm>
            <a:off x="6095520" y="3505320"/>
            <a:ext cx="2057760" cy="914400"/>
            <a:chOff x="6095520" y="3505320"/>
            <a:chExt cx="2057760" cy="914400"/>
          </a:xfrm>
        </p:grpSpPr>
        <p:sp>
          <p:nvSpPr>
            <p:cNvPr id="220" name="Line 28"/>
            <p:cNvSpPr/>
            <p:nvPr/>
          </p:nvSpPr>
          <p:spPr>
            <a:xfrm flipH="1">
              <a:off x="6095520" y="3505320"/>
              <a:ext cx="609480" cy="433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>
              <a:off x="6095880" y="3938400"/>
              <a:ext cx="914400" cy="48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7010280" y="3794040"/>
              <a:ext cx="1143000" cy="62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>
              <a:off x="6705360" y="3505320"/>
              <a:ext cx="1447920" cy="288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34"/>
          <p:cNvSpPr/>
          <p:nvPr/>
        </p:nvSpPr>
        <p:spPr>
          <a:xfrm>
            <a:off x="5410080" y="27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5"/>
          <p:cNvSpPr/>
          <p:nvPr/>
        </p:nvSpPr>
        <p:spPr>
          <a:xfrm>
            <a:off x="7620120" y="27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209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4800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7035840" y="4570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250920" y="5707080"/>
            <a:ext cx="729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3"/>
          <p:cNvSpPr/>
          <p:nvPr/>
        </p:nvSpPr>
        <p:spPr>
          <a:xfrm>
            <a:off x="8380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4"/>
          <p:cNvSpPr/>
          <p:nvPr/>
        </p:nvSpPr>
        <p:spPr>
          <a:xfrm>
            <a:off x="32767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55308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BD78-F92B-4C7A-8766-C91CDA56A1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0"/>
          <p:cNvSpPr/>
          <p:nvPr/>
        </p:nvSpPr>
        <p:spPr>
          <a:xfrm>
            <a:off x="457200" y="91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2514240" y="1218960"/>
            <a:ext cx="2514960" cy="1524240"/>
            <a:chOff x="2514240" y="1218960"/>
            <a:chExt cx="2514960" cy="1524240"/>
          </a:xfrm>
        </p:grpSpPr>
        <p:sp>
          <p:nvSpPr>
            <p:cNvPr id="46" name="Line 4"/>
            <p:cNvSpPr/>
            <p:nvPr/>
          </p:nvSpPr>
          <p:spPr>
            <a:xfrm>
              <a:off x="2514600" y="1219320"/>
              <a:ext cx="2514600" cy="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5"/>
            <p:cNvSpPr/>
            <p:nvPr/>
          </p:nvSpPr>
          <p:spPr>
            <a:xfrm>
              <a:off x="5029200" y="1219320"/>
              <a:ext cx="0" cy="152388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6"/>
            <p:cNvSpPr/>
            <p:nvPr/>
          </p:nvSpPr>
          <p:spPr>
            <a:xfrm flipH="1">
              <a:off x="2514240" y="2743200"/>
              <a:ext cx="2514600" cy="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7"/>
            <p:cNvSpPr/>
            <p:nvPr/>
          </p:nvSpPr>
          <p:spPr>
            <a:xfrm flipV="1">
              <a:off x="2514600" y="1218960"/>
              <a:ext cx="0" cy="152388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8"/>
          <p:cNvGrpSpPr/>
          <p:nvPr/>
        </p:nvGrpSpPr>
        <p:grpSpPr>
          <a:xfrm>
            <a:off x="7162560" y="2666880"/>
            <a:ext cx="609840" cy="533520"/>
            <a:chOff x="7162560" y="2666880"/>
            <a:chExt cx="609840" cy="533520"/>
          </a:xfrm>
        </p:grpSpPr>
        <p:sp>
          <p:nvSpPr>
            <p:cNvPr id="51" name="Line 9"/>
            <p:cNvSpPr/>
            <p:nvPr/>
          </p:nvSpPr>
          <p:spPr>
            <a:xfrm>
              <a:off x="7162920" y="2666880"/>
              <a:ext cx="609480" cy="53352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10"/>
            <p:cNvGrpSpPr/>
            <p:nvPr/>
          </p:nvGrpSpPr>
          <p:grpSpPr>
            <a:xfrm>
              <a:off x="7162560" y="2666880"/>
              <a:ext cx="609480" cy="533520"/>
              <a:chOff x="7162560" y="2666880"/>
              <a:chExt cx="609480" cy="533520"/>
            </a:xfrm>
          </p:grpSpPr>
          <p:sp>
            <p:nvSpPr>
              <p:cNvPr id="53" name="Line 11"/>
              <p:cNvSpPr/>
              <p:nvPr/>
            </p:nvSpPr>
            <p:spPr>
              <a:xfrm flipH="1">
                <a:off x="7162560" y="3200400"/>
                <a:ext cx="609480" cy="0"/>
              </a:xfrm>
              <a:prstGeom prst="line">
                <a:avLst/>
              </a:prstGeom>
              <a:ln w="38160">
                <a:solidFill>
                  <a:srgbClr val="fc2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2"/>
              <p:cNvSpPr/>
              <p:nvPr/>
            </p:nvSpPr>
            <p:spPr>
              <a:xfrm flipV="1">
                <a:off x="7162920" y="2666880"/>
                <a:ext cx="0" cy="533520"/>
              </a:xfrm>
              <a:prstGeom prst="line">
                <a:avLst/>
              </a:prstGeom>
              <a:ln w="38160">
                <a:solidFill>
                  <a:srgbClr val="fc2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Group 13"/>
          <p:cNvGrpSpPr/>
          <p:nvPr/>
        </p:nvGrpSpPr>
        <p:grpSpPr>
          <a:xfrm>
            <a:off x="7138800" y="1781280"/>
            <a:ext cx="681120" cy="1295280"/>
            <a:chOff x="7138800" y="1781280"/>
            <a:chExt cx="681120" cy="1295280"/>
          </a:xfrm>
        </p:grpSpPr>
        <p:sp>
          <p:nvSpPr>
            <p:cNvPr id="56" name="Line 14"/>
            <p:cNvSpPr/>
            <p:nvPr/>
          </p:nvSpPr>
          <p:spPr>
            <a:xfrm>
              <a:off x="7139160" y="1781280"/>
              <a:ext cx="680760" cy="64764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>
              <a:off x="7819920" y="2428920"/>
              <a:ext cx="0" cy="64764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H="1" flipV="1">
              <a:off x="7138800" y="2356200"/>
              <a:ext cx="680760" cy="71964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7139160" y="1781280"/>
              <a:ext cx="0" cy="57528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4960" y="4952880"/>
            <a:ext cx="228960" cy="228240"/>
            <a:chOff x="3504960" y="4952880"/>
            <a:chExt cx="228960" cy="228240"/>
          </a:xfrm>
        </p:grpSpPr>
        <p:sp>
          <p:nvSpPr>
            <p:cNvPr id="61" name="Line 19"/>
            <p:cNvSpPr/>
            <p:nvPr/>
          </p:nvSpPr>
          <p:spPr>
            <a:xfrm>
              <a:off x="3505320" y="4952880"/>
              <a:ext cx="228600" cy="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3733920" y="4952880"/>
              <a:ext cx="0" cy="22824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>
              <a:off x="3504960" y="5181120"/>
              <a:ext cx="228600" cy="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2"/>
            <p:cNvSpPr/>
            <p:nvPr/>
          </p:nvSpPr>
          <p:spPr>
            <a:xfrm flipV="1">
              <a:off x="3505320" y="4952880"/>
              <a:ext cx="0" cy="22824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8"/>
          <p:cNvGrpSpPr/>
          <p:nvPr/>
        </p:nvGrpSpPr>
        <p:grpSpPr>
          <a:xfrm>
            <a:off x="5638680" y="4038120"/>
            <a:ext cx="304920" cy="533880"/>
            <a:chOff x="5638680" y="4038120"/>
            <a:chExt cx="304920" cy="533880"/>
          </a:xfrm>
        </p:grpSpPr>
        <p:sp>
          <p:nvSpPr>
            <p:cNvPr id="66" name="Line 29"/>
            <p:cNvSpPr/>
            <p:nvPr/>
          </p:nvSpPr>
          <p:spPr>
            <a:xfrm>
              <a:off x="5791320" y="4038480"/>
              <a:ext cx="152280" cy="30492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 flipH="1">
              <a:off x="5790960" y="4343400"/>
              <a:ext cx="152280" cy="22860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 flipH="1" flipV="1">
              <a:off x="5638680" y="4266720"/>
              <a:ext cx="152640" cy="30492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2"/>
            <p:cNvSpPr/>
            <p:nvPr/>
          </p:nvSpPr>
          <p:spPr>
            <a:xfrm flipV="1">
              <a:off x="5638680" y="4038120"/>
              <a:ext cx="152640" cy="228600"/>
            </a:xfrm>
            <a:prstGeom prst="line">
              <a:avLst/>
            </a:prstGeom>
            <a:ln w="38160">
              <a:solidFill>
                <a:srgbClr val="fc2a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6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"/>
          <p:cNvSpPr/>
          <p:nvPr/>
        </p:nvSpPr>
        <p:spPr>
          <a:xfrm>
            <a:off x="1623960" y="1905120"/>
            <a:ext cx="5562720" cy="2133360"/>
          </a:xfrm>
          <a:prstGeom prst="parallelogram">
            <a:avLst>
              <a:gd name="adj" fmla="val 65610"/>
            </a:avLst>
          </a:pr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124080" y="3962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116520" y="2803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2819520" y="1905120"/>
            <a:ext cx="252360" cy="2133360"/>
            <a:chOff x="2819520" y="1905120"/>
            <a:chExt cx="252360" cy="2133360"/>
          </a:xfrm>
        </p:grpSpPr>
        <p:sp>
          <p:nvSpPr>
            <p:cNvPr id="75" name="Line 3"/>
            <p:cNvSpPr/>
            <p:nvPr/>
          </p:nvSpPr>
          <p:spPr>
            <a:xfrm flipH="1">
              <a:off x="3048120" y="1905120"/>
              <a:ext cx="23760" cy="2133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13"/>
            <p:cNvGrpSpPr/>
            <p:nvPr/>
          </p:nvGrpSpPr>
          <p:grpSpPr>
            <a:xfrm>
              <a:off x="2819520" y="3809880"/>
              <a:ext cx="228600" cy="228600"/>
              <a:chOff x="2819520" y="3809880"/>
              <a:chExt cx="228600" cy="228600"/>
            </a:xfrm>
          </p:grpSpPr>
          <p:sp>
            <p:nvSpPr>
              <p:cNvPr id="77" name="Line 11"/>
              <p:cNvSpPr/>
              <p:nvPr/>
            </p:nvSpPr>
            <p:spPr>
              <a:xfrm>
                <a:off x="2819520" y="382428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2"/>
              <p:cNvSpPr/>
              <p:nvPr/>
            </p:nvSpPr>
            <p:spPr>
              <a:xfrm>
                <a:off x="2819520" y="3809880"/>
                <a:ext cx="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Rectangle 17"/>
          <p:cNvSpPr/>
          <p:nvPr/>
        </p:nvSpPr>
        <p:spPr>
          <a:xfrm>
            <a:off x="762120" y="45720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平行四边形的一条边上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点到对边的垂直线段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是平行四边形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是平行四边形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底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471600" y="501480"/>
            <a:ext cx="62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-2.36994E-006 L 0.30417 -2.36994E-006 E">
                                      <p:cBhvr>
                                        <p:cTn id="43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56069E-006 L 0.246 -0.00208 E">
                                      <p:cBhvr>
                                        <p:cTn id="45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1623960" y="1905120"/>
            <a:ext cx="5562720" cy="2133360"/>
          </a:xfrm>
          <a:prstGeom prst="parallelogram">
            <a:avLst>
              <a:gd name="adj" fmla="val 65610"/>
            </a:avLst>
          </a:pr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124080" y="4081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7255800" y="2743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60320" y="1219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1464840" y="243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4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611280" y="692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下面的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蓝色线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平行四边形的底和高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的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条是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条是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4356000" y="2421000"/>
            <a:ext cx="2303640" cy="720720"/>
          </a:xfrm>
          <a:prstGeom prst="parallelogram">
            <a:avLst>
              <a:gd name="adj" fmla="val 799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 flipH="1" rot="5400000">
            <a:off x="2556000" y="2492280"/>
            <a:ext cx="1800000" cy="648000"/>
          </a:xfrm>
          <a:prstGeom prst="parallelogram">
            <a:avLst>
              <a:gd name="adj" fmla="val 69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6516720" y="2349360"/>
            <a:ext cx="2124000" cy="863640"/>
          </a:xfrm>
          <a:prstGeom prst="parallelogram">
            <a:avLst>
              <a:gd name="adj" fmla="val 614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24000" y="4437000"/>
            <a:ext cx="2592360" cy="1224000"/>
          </a:xfrm>
          <a:prstGeom prst="parallelogram">
            <a:avLst>
              <a:gd name="adj" fmla="val 52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3132000" y="4437000"/>
            <a:ext cx="2592360" cy="1224000"/>
          </a:xfrm>
          <a:prstGeom prst="parallelogram">
            <a:avLst>
              <a:gd name="adj" fmla="val 52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6012000" y="4437000"/>
            <a:ext cx="2592360" cy="1224000"/>
          </a:xfrm>
          <a:prstGeom prst="parallelogram">
            <a:avLst>
              <a:gd name="adj" fmla="val 52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95280" y="2421000"/>
            <a:ext cx="2305080" cy="863640"/>
          </a:xfrm>
          <a:prstGeom prst="parallelogram">
            <a:avLst>
              <a:gd name="adj" fmla="val 66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395280" y="3284640"/>
            <a:ext cx="1728720" cy="0"/>
          </a:xfrm>
          <a:prstGeom prst="line">
            <a:avLst/>
          </a:prstGeom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971640" y="2421000"/>
            <a:ext cx="0" cy="863640"/>
          </a:xfrm>
          <a:prstGeom prst="line">
            <a:avLst/>
          </a:prstGeom>
          <a:ln w="3816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971640" y="3141720"/>
            <a:ext cx="144360" cy="0"/>
          </a:xfrm>
          <a:prstGeom prst="line">
            <a:avLst/>
          </a:prstGeom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1116000" y="3141720"/>
            <a:ext cx="0" cy="142920"/>
          </a:xfrm>
          <a:prstGeom prst="line">
            <a:avLst/>
          </a:prstGeom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6055920" y="2421000"/>
            <a:ext cx="631080" cy="749880"/>
          </a:xfrm>
          <a:prstGeom prst="line">
            <a:avLst/>
          </a:prstGeom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42280" y="2419560"/>
            <a:ext cx="671040" cy="4233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6"/>
          <p:cNvGrpSpPr/>
          <p:nvPr/>
        </p:nvGrpSpPr>
        <p:grpSpPr>
          <a:xfrm>
            <a:off x="6178320" y="2639160"/>
            <a:ext cx="226080" cy="110880"/>
            <a:chOff x="6178320" y="2639160"/>
            <a:chExt cx="226080" cy="110880"/>
          </a:xfrm>
        </p:grpSpPr>
        <p:sp>
          <p:nvSpPr>
            <p:cNvPr id="103" name="Line 17"/>
            <p:cNvSpPr/>
            <p:nvPr/>
          </p:nvSpPr>
          <p:spPr>
            <a:xfrm flipV="1">
              <a:off x="6178320" y="2639160"/>
              <a:ext cx="113760" cy="110880"/>
            </a:xfrm>
            <a:prstGeom prst="line">
              <a:avLst/>
            </a:prstGeom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6292440" y="2641680"/>
              <a:ext cx="111960" cy="88560"/>
            </a:xfrm>
            <a:prstGeom prst="line">
              <a:avLst/>
            </a:prstGeom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Line 19"/>
          <p:cNvSpPr/>
          <p:nvPr/>
        </p:nvSpPr>
        <p:spPr>
          <a:xfrm flipV="1">
            <a:off x="6516720" y="2349000"/>
            <a:ext cx="2087640" cy="863640"/>
          </a:xfrm>
          <a:prstGeom prst="line">
            <a:avLst/>
          </a:prstGeom>
          <a:ln w="3816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 flipH="1">
            <a:off x="1258560" y="4437000"/>
            <a:ext cx="576360" cy="1224000"/>
          </a:xfrm>
          <a:prstGeom prst="line">
            <a:avLst/>
          </a:prstGeom>
          <a:ln w="3816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702000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3492000" y="5013000"/>
            <a:ext cx="574920" cy="647640"/>
          </a:xfrm>
          <a:prstGeom prst="line">
            <a:avLst/>
          </a:prstGeom>
          <a:ln w="3816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3132000" y="5661000"/>
            <a:ext cx="1944720" cy="0"/>
          </a:xfrm>
          <a:prstGeom prst="line">
            <a:avLst/>
          </a:prstGeom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6659640" y="4437000"/>
            <a:ext cx="0" cy="1224000"/>
          </a:xfrm>
          <a:prstGeom prst="line">
            <a:avLst/>
          </a:prstGeom>
          <a:ln w="3816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 flipV="1">
            <a:off x="7956720" y="4437000"/>
            <a:ext cx="0" cy="1224000"/>
          </a:xfrm>
          <a:prstGeom prst="line">
            <a:avLst/>
          </a:prstGeom>
          <a:ln w="3816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6659640" y="4437000"/>
            <a:ext cx="1944720" cy="0"/>
          </a:xfrm>
          <a:prstGeom prst="line">
            <a:avLst/>
          </a:prstGeom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6012000" y="5661000"/>
            <a:ext cx="1944720" cy="0"/>
          </a:xfrm>
          <a:prstGeom prst="line">
            <a:avLst/>
          </a:prstGeom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8"/>
          <p:cNvGrpSpPr/>
          <p:nvPr/>
        </p:nvGrpSpPr>
        <p:grpSpPr>
          <a:xfrm>
            <a:off x="6659280" y="5516280"/>
            <a:ext cx="144360" cy="144360"/>
            <a:chOff x="6659280" y="5516280"/>
            <a:chExt cx="144360" cy="144360"/>
          </a:xfrm>
        </p:grpSpPr>
        <p:sp>
          <p:nvSpPr>
            <p:cNvPr id="115" name="Line 29"/>
            <p:cNvSpPr/>
            <p:nvPr/>
          </p:nvSpPr>
          <p:spPr>
            <a:xfrm flipV="1">
              <a:off x="6803640" y="5516280"/>
              <a:ext cx="0" cy="14436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 flipH="1">
              <a:off x="6659280" y="5516280"/>
              <a:ext cx="14436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31"/>
          <p:cNvSpPr/>
          <p:nvPr/>
        </p:nvSpPr>
        <p:spPr>
          <a:xfrm>
            <a:off x="3132000" y="2349360"/>
            <a:ext cx="0" cy="1366920"/>
          </a:xfrm>
          <a:prstGeom prst="line">
            <a:avLst/>
          </a:prstGeom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3132000" y="2852640"/>
            <a:ext cx="648000" cy="0"/>
          </a:xfrm>
          <a:prstGeom prst="line">
            <a:avLst/>
          </a:prstGeom>
          <a:ln w="3816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3"/>
          <p:cNvGrpSpPr/>
          <p:nvPr/>
        </p:nvGrpSpPr>
        <p:grpSpPr>
          <a:xfrm>
            <a:off x="3132000" y="2852640"/>
            <a:ext cx="144720" cy="144720"/>
            <a:chOff x="3132000" y="2852640"/>
            <a:chExt cx="144720" cy="144720"/>
          </a:xfrm>
        </p:grpSpPr>
        <p:sp>
          <p:nvSpPr>
            <p:cNvPr id="120" name="Line 34"/>
            <p:cNvSpPr/>
            <p:nvPr/>
          </p:nvSpPr>
          <p:spPr>
            <a:xfrm>
              <a:off x="3132000" y="2997360"/>
              <a:ext cx="14472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 flipV="1">
              <a:off x="3276720" y="2852640"/>
              <a:ext cx="0" cy="14472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6"/>
          <p:cNvGrpSpPr/>
          <p:nvPr/>
        </p:nvGrpSpPr>
        <p:grpSpPr>
          <a:xfrm>
            <a:off x="7812000" y="4437000"/>
            <a:ext cx="142920" cy="216000"/>
            <a:chOff x="7812000" y="4437000"/>
            <a:chExt cx="142920" cy="216000"/>
          </a:xfrm>
        </p:grpSpPr>
        <p:sp>
          <p:nvSpPr>
            <p:cNvPr id="123" name="Line 37"/>
            <p:cNvSpPr/>
            <p:nvPr/>
          </p:nvSpPr>
          <p:spPr>
            <a:xfrm>
              <a:off x="7812000" y="4437000"/>
              <a:ext cx="0" cy="21600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7812000" y="4653000"/>
              <a:ext cx="142920" cy="0"/>
            </a:xfrm>
            <a:prstGeom prst="line">
              <a:avLst/>
            </a:prstGeom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39"/>
          <p:cNvSpPr/>
          <p:nvPr/>
        </p:nvSpPr>
        <p:spPr>
          <a:xfrm>
            <a:off x="482760" y="3994200"/>
            <a:ext cx="79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0"/>
          <p:cNvSpPr/>
          <p:nvPr/>
        </p:nvSpPr>
        <p:spPr>
          <a:xfrm>
            <a:off x="395280" y="3645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                                    (2)                  (3)                            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250920" y="616572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                                            (6)                                             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1000080" y="32716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底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3"/>
          <p:cNvSpPr/>
          <p:nvPr/>
        </p:nvSpPr>
        <p:spPr>
          <a:xfrm>
            <a:off x="942840" y="2608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270036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底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124080" y="243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7381800" y="47973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618240" y="47973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6516720" y="5634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底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9"/>
          <p:cNvSpPr/>
          <p:nvPr/>
        </p:nvSpPr>
        <p:spPr>
          <a:xfrm>
            <a:off x="7451640" y="39909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底 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0"/>
          <p:cNvSpPr/>
          <p:nvPr/>
        </p:nvSpPr>
        <p:spPr>
          <a:xfrm>
            <a:off x="500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1"/>
          <p:cNvSpPr/>
          <p:nvPr/>
        </p:nvSpPr>
        <p:spPr>
          <a:xfrm>
            <a:off x="7020000" y="3357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2"/>
          <p:cNvSpPr/>
          <p:nvPr/>
        </p:nvSpPr>
        <p:spPr>
          <a:xfrm>
            <a:off x="1042920" y="58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3"/>
          <p:cNvSpPr/>
          <p:nvPr/>
        </p:nvSpPr>
        <p:spPr>
          <a:xfrm>
            <a:off x="3924360" y="5734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8001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4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一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下面的图中你能找出几个平行四边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327672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580920" y="1904760"/>
            <a:ext cx="1676880" cy="2667240"/>
            <a:chOff x="3580920" y="1904760"/>
            <a:chExt cx="1676880" cy="2667240"/>
          </a:xfrm>
        </p:grpSpPr>
        <p:sp>
          <p:nvSpPr>
            <p:cNvPr id="146" name="Line 5"/>
            <p:cNvSpPr/>
            <p:nvPr/>
          </p:nvSpPr>
          <p:spPr>
            <a:xfrm>
              <a:off x="3581280" y="1905120"/>
              <a:ext cx="1676520" cy="60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5257800" y="251460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 flipH="1" flipV="1">
              <a:off x="3580920" y="3962160"/>
              <a:ext cx="1676520" cy="60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 flipV="1">
              <a:off x="3581280" y="190476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 flipH="1">
              <a:off x="3580920" y="2514600"/>
              <a:ext cx="1676520" cy="381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3581280" y="2895840"/>
              <a:ext cx="1676520" cy="60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 flipH="1">
              <a:off x="3580920" y="3581640"/>
              <a:ext cx="1676520" cy="380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4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"/>
          <p:cNvSpPr/>
          <p:nvPr/>
        </p:nvSpPr>
        <p:spPr>
          <a:xfrm>
            <a:off x="746280" y="1676520"/>
            <a:ext cx="76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平行四边形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=4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其他各个内角的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905120" y="3276720"/>
            <a:ext cx="5182920" cy="1411200"/>
          </a:xfrm>
          <a:prstGeom prst="parallelogram">
            <a:avLst>
              <a:gd name="adj" fmla="val 9181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2133720" y="44197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0"/>
                </a:moveTo>
                <a:cubicBezTo>
                  <a:pt x="36" y="8"/>
                  <a:pt x="72" y="16"/>
                  <a:pt x="96" y="48"/>
                </a:cubicBezTo>
                <a:cubicBezTo>
                  <a:pt x="120" y="80"/>
                  <a:pt x="136" y="168"/>
                  <a:pt x="144" y="19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324160" y="421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507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838080" y="1752480"/>
            <a:ext cx="763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平行四边形的两条邻边分别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，做一个这样的平行四边形需要多长的铁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2:14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54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