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CB8-113A-420D-B86F-FF327E7F01D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184-5546-4514-AFF5-168B7DB072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665360" y="990720"/>
            <a:ext cx="4419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时间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971640" y="2201760"/>
            <a:ext cx="3714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时间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-720" y="6426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6" descr="未标题-2"/>
          <p:cNvPicPr/>
          <p:nvPr/>
        </p:nvPicPr>
        <p:blipFill>
          <a:blip r:embed="rId1"/>
          <a:stretch/>
        </p:blipFill>
        <p:spPr>
          <a:xfrm>
            <a:off x="1332000" y="2320920"/>
            <a:ext cx="6480000" cy="3556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应用拓展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11280" y="1557360"/>
            <a:ext cx="7286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500120" y="5907240"/>
            <a:ext cx="6143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准确写出每个钟表所表示的时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352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954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65404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27672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: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496404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5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6521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:0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75896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: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417600"/>
            <a:ext cx="6900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11" descr="未标题-1"/>
          <p:cNvPicPr/>
          <p:nvPr/>
        </p:nvPicPr>
        <p:blipFill>
          <a:blip r:embed="rId1"/>
          <a:stretch/>
        </p:blipFill>
        <p:spPr>
          <a:xfrm>
            <a:off x="611280" y="2276640"/>
            <a:ext cx="7934400" cy="26827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"/>
          <p:cNvSpPr/>
          <p:nvPr/>
        </p:nvSpPr>
        <p:spPr>
          <a:xfrm>
            <a:off x="457200" y="57405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142-5DF0-494B-8D3F-F8375F885D8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2050920" y="27813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15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引出时间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73080" y="5563080"/>
            <a:ext cx="65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钟表上现在是什么时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1" name="Picture 10" descr="90-1"/>
          <p:cNvPicPr/>
          <p:nvPr/>
        </p:nvPicPr>
        <p:blipFill>
          <a:blip r:embed="rId1"/>
          <a:stretch/>
        </p:blipFill>
        <p:spPr>
          <a:xfrm>
            <a:off x="704880" y="1773360"/>
            <a:ext cx="76122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钟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54932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关于钟面你们都知道哪些知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57160" y="59234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有其他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12" descr="未标题-6"/>
          <p:cNvPicPr/>
          <p:nvPr/>
        </p:nvPicPr>
        <p:blipFill>
          <a:blip r:embed="rId1"/>
          <a:stretch/>
        </p:blipFill>
        <p:spPr>
          <a:xfrm>
            <a:off x="2212920" y="2492280"/>
            <a:ext cx="3222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17" descr="7"/>
          <p:cNvPicPr/>
          <p:nvPr/>
        </p:nvPicPr>
        <p:blipFill>
          <a:blip r:embed="rId1"/>
          <a:stretch/>
        </p:blipFill>
        <p:spPr>
          <a:xfrm>
            <a:off x="1494000" y="3127320"/>
            <a:ext cx="2501640" cy="217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未标题-6"/>
          <p:cNvPicPr/>
          <p:nvPr/>
        </p:nvPicPr>
        <p:blipFill>
          <a:blip r:embed="rId2"/>
          <a:stretch/>
        </p:blipFill>
        <p:spPr>
          <a:xfrm>
            <a:off x="3924360" y="3124080"/>
            <a:ext cx="2502000" cy="217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未标题-7"/>
          <p:cNvPicPr/>
          <p:nvPr/>
        </p:nvPicPr>
        <p:blipFill>
          <a:blip r:embed="rId3"/>
          <a:srcRect l="5535" t="0" r="12790" b="4283"/>
          <a:stretch/>
        </p:blipFill>
        <p:spPr>
          <a:xfrm>
            <a:off x="4092480" y="1125360"/>
            <a:ext cx="4524480" cy="412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5"/>
          <p:cNvPicPr/>
          <p:nvPr/>
        </p:nvPicPr>
        <p:blipFill>
          <a:blip r:embed="rId4"/>
          <a:srcRect l="0" t="0" r="2854" b="-1645"/>
          <a:stretch/>
        </p:blipFill>
        <p:spPr>
          <a:xfrm>
            <a:off x="5940360" y="4367160"/>
            <a:ext cx="2881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7"/>
          <p:cNvGrpSpPr/>
          <p:nvPr/>
        </p:nvGrpSpPr>
        <p:grpSpPr>
          <a:xfrm>
            <a:off x="1930320" y="2244600"/>
            <a:ext cx="4556160" cy="3581640"/>
            <a:chOff x="1930320" y="2244600"/>
            <a:chExt cx="4556160" cy="3581640"/>
          </a:xfrm>
        </p:grpSpPr>
        <p:pic>
          <p:nvPicPr>
            <p:cNvPr id="105" name="Picture 26" descr="未标题-4"/>
            <p:cNvPicPr/>
            <p:nvPr/>
          </p:nvPicPr>
          <p:blipFill>
            <a:blip r:embed="rId1"/>
            <a:stretch/>
          </p:blipFill>
          <p:spPr>
            <a:xfrm>
              <a:off x="1930320" y="2244600"/>
              <a:ext cx="45561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7"/>
            <p:cNvPicPr/>
            <p:nvPr/>
          </p:nvPicPr>
          <p:blipFill>
            <a:blip r:embed="rId2"/>
            <a:stretch/>
          </p:blipFill>
          <p:spPr>
            <a:xfrm>
              <a:off x="2687400" y="2795760"/>
              <a:ext cx="2924640" cy="25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6560" y="613944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能继续数下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356800" y="30765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372640" y="44164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766400" y="50338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950280" y="52322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2931120" y="50227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2354760" y="44323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148480" y="376560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364480" y="3070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2926440" y="24796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945600" y="2251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认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时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2" name="Picture 9" descr="未标题-3"/>
          <p:cNvPicPr/>
          <p:nvPr/>
        </p:nvPicPr>
        <p:blipFill>
          <a:blip r:embed="rId1"/>
          <a:stretch/>
        </p:blipFill>
        <p:spPr>
          <a:xfrm>
            <a:off x="2411280" y="2421000"/>
            <a:ext cx="3743280" cy="3384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417600"/>
            <a:ext cx="81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391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认识几时几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6" name="Picture 11" descr="未标题-5"/>
          <p:cNvPicPr/>
          <p:nvPr/>
        </p:nvPicPr>
        <p:blipFill>
          <a:blip r:embed="rId1"/>
          <a:stretch/>
        </p:blipFill>
        <p:spPr>
          <a:xfrm>
            <a:off x="2700360" y="2205000"/>
            <a:ext cx="3382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32Z</dcterms:modified>
  <cp:revision>40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