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32E-4C81-4B7D-BA33-611CD070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855-A029-44E7-A62E-198FBEE5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C22-25F4-4426-86CE-330EF9EA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5F0-7CC6-4A37-9DF5-8A1977FC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A2D-5A8D-4367-A695-476E9176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972-9B92-4C2C-B6D7-57397BF5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237-EF5C-4683-94FC-B993A91B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D7D-471F-4998-8205-A7674BDB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9D1-0705-43F3-9E67-A96ACB5E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8BD-6047-44B1-ADBA-46118BC7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5C0-6AC9-4B96-B662-34500623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51DC-28DD-4298-A56A-69F49AFE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A6CE-27F5-4964-8E56-FF49115303BA}" type="slidenum">
              <a:rPr b="0" lang="en-US" sz="1400" spc="-1" strike="noStrike">
                <a:solidFill>
                  <a:srgbClr val="007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5.jpeg"/><Relationship Id="rId18" Type="http://schemas.openxmlformats.org/officeDocument/2006/relationships/image" Target="../media/image6.jpeg"/><Relationship Id="rId19" Type="http://schemas.openxmlformats.org/officeDocument/2006/relationships/image" Target="../media/image7.jpeg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hyperlink" Target="shuwangou.exe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hyperlink" Target="qi.ex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jiu.exe" TargetMode="External"/><Relationship Id="rId6" Type="http://schemas.openxmlformats.org/officeDocument/2006/relationships/image" Target="../media/image12.jpeg"/><Relationship Id="rId7" Type="http://schemas.openxmlformats.org/officeDocument/2006/relationships/hyperlink" Target="er.exe" TargetMode="External"/><Relationship Id="rId8" Type="http://schemas.openxmlformats.org/officeDocument/2006/relationships/image" Target="../media/image13.jpeg"/><Relationship Id="rId9" Type="http://schemas.openxmlformats.org/officeDocument/2006/relationships/hyperlink" Target="wu.exe" TargetMode="External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hyperlink" Target="siji.exe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2409840" y="594828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幻灯片之家  </a:t>
            </a: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3"/>
          <p:cNvGrpSpPr/>
          <p:nvPr/>
        </p:nvGrpSpPr>
        <p:grpSpPr>
          <a:xfrm>
            <a:off x="609480" y="2101680"/>
            <a:ext cx="7794360" cy="2927160"/>
            <a:chOff x="609480" y="2101680"/>
            <a:chExt cx="7794360" cy="2927160"/>
          </a:xfrm>
        </p:grpSpPr>
        <p:grpSp>
          <p:nvGrpSpPr>
            <p:cNvPr id="84" name="Group 8"/>
            <p:cNvGrpSpPr/>
            <p:nvPr/>
          </p:nvGrpSpPr>
          <p:grpSpPr>
            <a:xfrm>
              <a:off x="5203440" y="2177640"/>
              <a:ext cx="3200400" cy="2684160"/>
              <a:chOff x="5203440" y="2177640"/>
              <a:chExt cx="3200400" cy="2684160"/>
            </a:xfrm>
          </p:grpSpPr>
          <p:sp>
            <p:nvSpPr>
              <p:cNvPr id="85" name="Text Box 4"/>
              <p:cNvSpPr/>
              <p:nvPr/>
            </p:nvSpPr>
            <p:spPr>
              <a:xfrm>
                <a:off x="5364000" y="2634840"/>
                <a:ext cx="303984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荷 叶 圆  圆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,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他 对  青  蛙 说 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: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“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我 是 夏 天。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”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86" name="Text Box 5"/>
              <p:cNvSpPr/>
              <p:nvPr/>
            </p:nvSpPr>
            <p:spPr>
              <a:xfrm>
                <a:off x="5203440" y="2177640"/>
                <a:ext cx="259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hé   yè  yu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á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n  yu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á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87" name="Text Box 6"/>
              <p:cNvSpPr/>
              <p:nvPr/>
            </p:nvSpPr>
            <p:spPr>
              <a:xfrm>
                <a:off x="5242680" y="3092040"/>
                <a:ext cx="311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tā  duì   qīn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g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  wā shuō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88" name="Text Box 7"/>
              <p:cNvSpPr/>
              <p:nvPr/>
            </p:nvSpPr>
            <p:spPr>
              <a:xfrm>
                <a:off x="5269680" y="3930480"/>
                <a:ext cx="236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wǒ   shì  xi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 tiā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pic>
          <p:nvPicPr>
            <p:cNvPr id="89" name="Object 10" descr=""/>
            <p:cNvPicPr/>
            <p:nvPr/>
          </p:nvPicPr>
          <p:blipFill>
            <a:blip r:embed="rId3"/>
            <a:stretch/>
          </p:blipFill>
          <p:spPr>
            <a:xfrm>
              <a:off x="609480" y="2101680"/>
              <a:ext cx="4496040" cy="292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4"/>
          <p:cNvGrpSpPr/>
          <p:nvPr/>
        </p:nvGrpSpPr>
        <p:grpSpPr>
          <a:xfrm>
            <a:off x="709560" y="2028960"/>
            <a:ext cx="8012880" cy="3076560"/>
            <a:chOff x="709560" y="2028960"/>
            <a:chExt cx="8012880" cy="3076560"/>
          </a:xfrm>
        </p:grpSpPr>
        <p:grpSp>
          <p:nvGrpSpPr>
            <p:cNvPr id="92" name="Group 4"/>
            <p:cNvGrpSpPr/>
            <p:nvPr/>
          </p:nvGrpSpPr>
          <p:grpSpPr>
            <a:xfrm>
              <a:off x="5512320" y="2104920"/>
              <a:ext cx="3210120" cy="2684160"/>
              <a:chOff x="5512320" y="2104920"/>
              <a:chExt cx="3210120" cy="2684160"/>
            </a:xfrm>
          </p:grpSpPr>
          <p:sp>
            <p:nvSpPr>
              <p:cNvPr id="93" name="Text Box 5"/>
              <p:cNvSpPr/>
              <p:nvPr/>
            </p:nvSpPr>
            <p:spPr>
              <a:xfrm>
                <a:off x="5682600" y="2562120"/>
                <a:ext cx="303984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谷 穗 弯  弯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,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他 鞠 着  躬  说 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: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“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我 是 秋 天。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”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94" name="Text Box 6"/>
              <p:cNvSpPr/>
              <p:nvPr/>
            </p:nvSpPr>
            <p:spPr>
              <a:xfrm>
                <a:off x="5512320" y="2104920"/>
                <a:ext cx="24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g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ǔ  suì  wān  wā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95" name="Text Box 7"/>
              <p:cNvSpPr/>
              <p:nvPr/>
            </p:nvSpPr>
            <p:spPr>
              <a:xfrm>
                <a:off x="5532480" y="3019320"/>
                <a:ext cx="316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tā    jū  zhe   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g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ōn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g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shuō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96" name="Text Box 8"/>
              <p:cNvSpPr/>
              <p:nvPr/>
            </p:nvSpPr>
            <p:spPr>
              <a:xfrm>
                <a:off x="5579640" y="3857760"/>
                <a:ext cx="239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wǒ   shì  qiū  tiā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Object 12" descr=""/>
            <p:cNvPicPr/>
            <p:nvPr/>
          </p:nvPicPr>
          <p:blipFill>
            <a:blip r:embed="rId3"/>
            <a:stretch/>
          </p:blipFill>
          <p:spPr>
            <a:xfrm>
              <a:off x="709560" y="2028960"/>
              <a:ext cx="4724640" cy="307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6"/>
          <p:cNvGrpSpPr/>
          <p:nvPr/>
        </p:nvGrpSpPr>
        <p:grpSpPr>
          <a:xfrm>
            <a:off x="457200" y="1981080"/>
            <a:ext cx="8262360" cy="3520080"/>
            <a:chOff x="457200" y="1981080"/>
            <a:chExt cx="8262360" cy="3520080"/>
          </a:xfrm>
        </p:grpSpPr>
        <p:grpSp>
          <p:nvGrpSpPr>
            <p:cNvPr id="100" name="Group 11"/>
            <p:cNvGrpSpPr/>
            <p:nvPr/>
          </p:nvGrpSpPr>
          <p:grpSpPr>
            <a:xfrm>
              <a:off x="4859640" y="1981080"/>
              <a:ext cx="3859920" cy="3520080"/>
              <a:chOff x="4859640" y="1981080"/>
              <a:chExt cx="3859920" cy="3520080"/>
            </a:xfrm>
          </p:grpSpPr>
          <p:sp>
            <p:nvSpPr>
              <p:cNvPr id="101" name="Text Box 6"/>
              <p:cNvSpPr/>
              <p:nvPr/>
            </p:nvSpPr>
            <p:spPr>
              <a:xfrm>
                <a:off x="5138280" y="2421000"/>
                <a:ext cx="3394800" cy="30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雪 人 大 肚 子 一 挺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,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他 顽 皮 地  说 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: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“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我 是  冬  天。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”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02" name="Text Box 7"/>
              <p:cNvSpPr/>
              <p:nvPr/>
            </p:nvSpPr>
            <p:spPr>
              <a:xfrm>
                <a:off x="4859640" y="1981080"/>
                <a:ext cx="385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xuě rén  d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 dù    zi    yì  tǐn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g</a:t>
                </a:r>
                <a:endParaRPr b="0" lang="en-US" sz="20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03" name="Text Box 8"/>
              <p:cNvSpPr/>
              <p:nvPr/>
            </p:nvSpPr>
            <p:spPr>
              <a:xfrm>
                <a:off x="4906800" y="3276720"/>
                <a:ext cx="290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tā  w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á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n  pí   de   shuō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04" name="Text Box 9"/>
              <p:cNvSpPr/>
              <p:nvPr/>
            </p:nvSpPr>
            <p:spPr>
              <a:xfrm>
                <a:off x="4962600" y="4572000"/>
                <a:ext cx="262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wǒ   shì  dōn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g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 tiā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Object 15" descr=""/>
            <p:cNvPicPr/>
            <p:nvPr/>
          </p:nvPicPr>
          <p:blipFill>
            <a:blip r:embed="rId3"/>
            <a:stretch/>
          </p:blipFill>
          <p:spPr>
            <a:xfrm>
              <a:off x="457200" y="2286000"/>
              <a:ext cx="4267080" cy="277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5"/>
          <p:cNvGrpSpPr/>
          <p:nvPr/>
        </p:nvGrpSpPr>
        <p:grpSpPr>
          <a:xfrm>
            <a:off x="1295280" y="1676520"/>
            <a:ext cx="6477120" cy="4610160"/>
            <a:chOff x="1295280" y="1676520"/>
            <a:chExt cx="6477120" cy="4610160"/>
          </a:xfrm>
        </p:grpSpPr>
        <p:pic>
          <p:nvPicPr>
            <p:cNvPr id="108" name="Picture 11" descr="冬"/>
            <p:cNvPicPr/>
            <p:nvPr/>
          </p:nvPicPr>
          <p:blipFill>
            <a:blip r:embed="rId3"/>
            <a:stretch/>
          </p:blipFill>
          <p:spPr>
            <a:xfrm>
              <a:off x="4800600" y="405792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2" descr="秋"/>
            <p:cNvPicPr/>
            <p:nvPr/>
          </p:nvPicPr>
          <p:blipFill>
            <a:blip r:embed="rId4"/>
            <a:stretch/>
          </p:blipFill>
          <p:spPr>
            <a:xfrm>
              <a:off x="1295280" y="403884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3" descr="春"/>
            <p:cNvPicPr/>
            <p:nvPr/>
          </p:nvPicPr>
          <p:blipFill>
            <a:blip r:embed="rId5"/>
            <a:stretch/>
          </p:blipFill>
          <p:spPr>
            <a:xfrm>
              <a:off x="1295280" y="167652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4" descr="夏"/>
            <p:cNvPicPr/>
            <p:nvPr/>
          </p:nvPicPr>
          <p:blipFill>
            <a:blip r:embed="rId6"/>
            <a:stretch/>
          </p:blipFill>
          <p:spPr>
            <a:xfrm>
              <a:off x="4800600" y="1676520"/>
              <a:ext cx="2971800" cy="22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AutoShape 5"/>
          <p:cNvSpPr/>
          <p:nvPr/>
        </p:nvSpPr>
        <p:spPr>
          <a:xfrm>
            <a:off x="5486400" y="-228600"/>
            <a:ext cx="3124080" cy="1905120"/>
          </a:xfrm>
          <a:prstGeom prst="cloudCallout">
            <a:avLst>
              <a:gd name="adj1" fmla="val -46138"/>
              <a:gd name="adj2" fmla="val 67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有感情的读一读课文并背诵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4" dur="1" fill="hold"/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2599200" y="2055960"/>
            <a:ext cx="398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400"/>
                </a:solidFill>
                <a:latin typeface="宋体"/>
              </a:rPr>
              <a:t>◆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说说自己最喜欢哪个季节，为什么？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然后，把自己最喜欢的季节画一画，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最后全班交流。</a:t>
            </a: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456720" y="3965400"/>
            <a:ext cx="21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400"/>
                </a:solidFill>
                <a:latin typeface="宋体"/>
              </a:rPr>
              <a:t>◆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收集有关描绘四季的画片、儿歌等，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全班交流。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118600" y="1852560"/>
            <a:ext cx="8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说一说： 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1981080" y="2604960"/>
            <a:ext cx="4876920" cy="520560"/>
            <a:chOff x="1981080" y="2604960"/>
            <a:chExt cx="4876920" cy="520560"/>
          </a:xfrm>
        </p:grpSpPr>
        <p:sp>
          <p:nvSpPr>
            <p:cNvPr id="119" name="Rectangle 5"/>
            <p:cNvSpPr/>
            <p:nvPr/>
          </p:nvSpPr>
          <p:spPr>
            <a:xfrm>
              <a:off x="4188240" y="2604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是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1981080" y="3062160"/>
              <a:ext cx="2057400" cy="0"/>
            </a:xfrm>
            <a:prstGeom prst="line">
              <a:avLst/>
            </a:prstGeom>
            <a:ln w="381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>
              <a:off x="4800600" y="3062160"/>
              <a:ext cx="2057400" cy="0"/>
            </a:xfrm>
            <a:prstGeom prst="line">
              <a:avLst/>
            </a:prstGeom>
            <a:ln w="381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22" name="Group 12"/>
          <p:cNvGrpSpPr/>
          <p:nvPr/>
        </p:nvGrpSpPr>
        <p:grpSpPr>
          <a:xfrm>
            <a:off x="1865520" y="3581280"/>
            <a:ext cx="3824280" cy="2030040"/>
            <a:chOff x="1865520" y="3581280"/>
            <a:chExt cx="3824280" cy="2030040"/>
          </a:xfrm>
        </p:grpSpPr>
        <p:sp>
          <p:nvSpPr>
            <p:cNvPr id="123" name="Text Box 9"/>
            <p:cNvSpPr/>
            <p:nvPr/>
          </p:nvSpPr>
          <p:spPr>
            <a:xfrm>
              <a:off x="1914120" y="3581280"/>
              <a:ext cx="298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400"/>
                  </a:solidFill>
                  <a:latin typeface="Times New Roman"/>
                </a:rPr>
                <a:t>(                             )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1865520" y="4329000"/>
              <a:ext cx="38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他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7400"/>
                  </a:solidFill>
                  <a:latin typeface="Times New Roman"/>
                </a:rPr>
                <a:t>(                         ) 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说 </a:t>
              </a:r>
              <a:r>
                <a:rPr b="1" lang="en-US" sz="28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: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2125800" y="5090760"/>
              <a:ext cx="197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“ 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我是秋天</a:t>
              </a: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。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”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126" name="Rectangle 13"/>
          <p:cNvSpPr/>
          <p:nvPr/>
        </p:nvSpPr>
        <p:spPr>
          <a:xfrm>
            <a:off x="3348000" y="11253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更多全套免费课件下载地址：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第一</a:t>
            </a:r>
            <a:r>
              <a:rPr b="0" lang="en-US" sz="2000" spc="-1" strike="noStrike">
                <a:solidFill>
                  <a:srgbClr val="0074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模板网：</a:t>
            </a:r>
            <a:r>
              <a:rPr b="0" lang="en-US" sz="2000" spc="-1" strike="noStrike">
                <a:solidFill>
                  <a:srgbClr val="007400"/>
                </a:solidFill>
                <a:latin typeface="Times New Roman"/>
              </a:rPr>
              <a:t>www.1ppt.com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752480" y="1905120"/>
            <a:ext cx="375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春天里呀桃花红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杨柳吐绿草儿青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农民伯伯忙播种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哥哥姐姐放风筝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876920" y="190512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秋天到来风儿凉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菊花黄呀桂花香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燕怕冷飞南方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苹果柿子摘满筐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4959360" y="4191120"/>
            <a:ext cx="357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冬天里，大雪飘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玩雪滑冰真正好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冰天雪地梅花开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堆个雪人大肚子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676520" y="4219560"/>
            <a:ext cx="440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夏天河水哗哗响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大家划船鱼儿忙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弟弟热得光脊梁，</a:t>
            </a:r>
            <a:br>
              <a:rPr sz="2800"/>
            </a:b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奶奶摇扇汗水淌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993240" y="269604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四季歌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3" descr="草芽-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4"/>
          <p:cNvSpPr/>
          <p:nvPr/>
        </p:nvSpPr>
        <p:spPr>
          <a:xfrm>
            <a:off x="611280" y="4427640"/>
            <a:ext cx="79214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2"/>
              </a:rPr>
              <a:t>www.1ppt.com/hangye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3"/>
              </a:rPr>
              <a:t>www.1ppt.com/jieri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www.1ppt.com/sucai/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5"/>
              </a:rPr>
              <a:t>www.1ppt.com/beijing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6"/>
              </a:rPr>
              <a:t>www.1ppt.com/tubiao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7"/>
              </a:rPr>
              <a:t>www.1ppt.com/xiazai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8"/>
              </a:rPr>
              <a:t>www.1ppt.com/powerpoint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9"/>
              </a:rPr>
              <a:t>www.1ppt.com/word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10"/>
              </a:rPr>
              <a:t>www.1ppt.com/excel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12"/>
              </a:rPr>
              <a:t>www.1ppt.com/ziliao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           PPT</a:t>
            </a: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13"/>
              </a:rPr>
              <a:t>www.1ppt.com/kejian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14"/>
              </a:rPr>
              <a:t>www.1ppt.com/fanwen/</a:t>
            </a:r>
            <a:r>
              <a:rPr b="0" lang="en-US" sz="1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2708280"/>
            <a:ext cx="9144000" cy="171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36" name="图片 9" descr=""/>
          <p:cNvPicPr/>
          <p:nvPr/>
        </p:nvPicPr>
        <p:blipFill>
          <a:blip r:embed="rId15"/>
          <a:stretch/>
        </p:blipFill>
        <p:spPr>
          <a:xfrm>
            <a:off x="1258920" y="128520"/>
            <a:ext cx="7200720" cy="25084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模板中的内容包括，图片，数据，文本的替换。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打包上传并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各种形式的付费下载。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39" name="Picture 10" descr="png-0644"/>
          <p:cNvPicPr/>
          <p:nvPr/>
        </p:nvPicPr>
        <p:blipFill>
          <a:blip r:embed="rId16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png-0652"/>
          <p:cNvPicPr/>
          <p:nvPr/>
        </p:nvPicPr>
        <p:blipFill>
          <a:blip r:embed="rId17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e035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4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C9EC-EBA7-49AC-B687-72FFC61D34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9"/>
          <p:cNvSpPr/>
          <p:nvPr/>
        </p:nvSpPr>
        <p:spPr>
          <a:xfrm>
            <a:off x="1400040" y="544680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1"/>
              </a:rPr>
              <a:t>www.1ppt.com/excel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3"/>
              </a:rPr>
              <a:t>www.1ppt.com/ziliao/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4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5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43" name="Picture 3" descr="小学语文（散文）02-1"/>
          <p:cNvPicPr/>
          <p:nvPr/>
        </p:nvPicPr>
        <p:blipFill>
          <a:blip r:embed="rId16"/>
          <a:stretch/>
        </p:blipFill>
        <p:spPr>
          <a:xfrm>
            <a:off x="1371600" y="770040"/>
            <a:ext cx="1714680" cy="4683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4"/>
          <p:cNvSpPr/>
          <p:nvPr/>
        </p:nvSpPr>
        <p:spPr>
          <a:xfrm>
            <a:off x="5638680" y="1600200"/>
            <a:ext cx="2667240" cy="1219320"/>
          </a:xfrm>
          <a:prstGeom prst="cloudCallout">
            <a:avLst>
              <a:gd name="adj1" fmla="val -27976"/>
              <a:gd name="adj2" fmla="val 85027"/>
            </a:avLst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四幅图上各画了什么</a:t>
            </a:r>
            <a:r>
              <a:rPr b="1" lang="en-US" sz="24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?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45" name="Picture 10" descr="春"/>
          <p:cNvPicPr/>
          <p:nvPr/>
        </p:nvPicPr>
        <p:blipFill>
          <a:blip r:embed="rId17"/>
          <a:stretch/>
        </p:blipFill>
        <p:spPr>
          <a:xfrm>
            <a:off x="1447920" y="1343160"/>
            <a:ext cx="6248160" cy="4686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夏"/>
          <p:cNvPicPr/>
          <p:nvPr/>
        </p:nvPicPr>
        <p:blipFill>
          <a:blip r:embed="rId18"/>
          <a:stretch/>
        </p:blipFill>
        <p:spPr>
          <a:xfrm>
            <a:off x="1371600" y="1200240"/>
            <a:ext cx="6324480" cy="4743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秋"/>
          <p:cNvPicPr/>
          <p:nvPr/>
        </p:nvPicPr>
        <p:blipFill>
          <a:blip r:embed="rId19"/>
          <a:stretch/>
        </p:blipFill>
        <p:spPr>
          <a:xfrm>
            <a:off x="1371600" y="1152360"/>
            <a:ext cx="6400800" cy="4800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冬"/>
          <p:cNvPicPr/>
          <p:nvPr/>
        </p:nvPicPr>
        <p:blipFill>
          <a:blip r:embed="rId20"/>
          <a:stretch/>
        </p:blipFill>
        <p:spPr>
          <a:xfrm>
            <a:off x="1371600" y="12384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"/>
          <p:cNvSpPr/>
          <p:nvPr/>
        </p:nvSpPr>
        <p:spPr>
          <a:xfrm>
            <a:off x="1650960" y="6039000"/>
            <a:ext cx="57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更多免费</a:t>
            </a: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模板尽在：</a:t>
            </a: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3698280" y="2178000"/>
            <a:ext cx="18298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自读课文：一边读一边画出生字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新词，借助拼音读准生字。自己喜欢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的部分可以多读几遍。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1" name="Picture 4" descr="小学语文（散文）02-2"/>
          <p:cNvPicPr/>
          <p:nvPr/>
        </p:nvPicPr>
        <p:blipFill>
          <a:blip r:embed="rId2"/>
          <a:stretch/>
        </p:blipFill>
        <p:spPr>
          <a:xfrm>
            <a:off x="1371600" y="1246320"/>
            <a:ext cx="1725480" cy="353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332000" y="5373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更多全套免费课件下载地址：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第一</a:t>
            </a:r>
            <a:r>
              <a:rPr b="0" lang="en-US" sz="2000" spc="-1" strike="noStrike">
                <a:solidFill>
                  <a:srgbClr val="0074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7400"/>
                </a:solidFill>
                <a:latin typeface="Times New Roman"/>
              </a:rPr>
              <a:t>模板网：</a:t>
            </a:r>
            <a:r>
              <a:rPr b="0" lang="en-US" sz="2000" spc="-1" strike="noStrike">
                <a:solidFill>
                  <a:srgbClr val="007400"/>
                </a:solidFill>
                <a:latin typeface="Times New Roman"/>
              </a:rPr>
              <a:t>www.1ppt.com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小学语文（散文）02-2"/>
          <p:cNvPicPr/>
          <p:nvPr/>
        </p:nvPicPr>
        <p:blipFill>
          <a:blip r:embed="rId2"/>
          <a:stretch/>
        </p:blipFill>
        <p:spPr>
          <a:xfrm>
            <a:off x="1371600" y="1219320"/>
            <a:ext cx="1725480" cy="35388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3"/>
          <p:cNvGrpSpPr/>
          <p:nvPr/>
        </p:nvGrpSpPr>
        <p:grpSpPr>
          <a:xfrm>
            <a:off x="1425240" y="2427120"/>
            <a:ext cx="6788520" cy="2753640"/>
            <a:chOff x="1425240" y="2427120"/>
            <a:chExt cx="6788520" cy="2753640"/>
          </a:xfrm>
        </p:grpSpPr>
        <p:sp>
          <p:nvSpPr>
            <p:cNvPr id="55" name="Text Box 2"/>
            <p:cNvSpPr/>
            <p:nvPr/>
          </p:nvSpPr>
          <p:spPr>
            <a:xfrm>
              <a:off x="1676520" y="2892240"/>
              <a:ext cx="6537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对   说  是  冬   叶  圆  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夏  秋   雪  肚  就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1425240" y="2427120"/>
              <a:ext cx="675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400"/>
                  </a:solidFill>
                  <a:latin typeface="Book Antiqua"/>
                </a:rPr>
                <a:t>duì   shuō   shì  dōn</a:t>
              </a:r>
              <a:r>
                <a:rPr b="0" lang="en-US" sz="3200" spc="-1" strike="noStrike">
                  <a:solidFill>
                    <a:srgbClr val="007400"/>
                  </a:solidFill>
                  <a:latin typeface="Arial"/>
                </a:rPr>
                <a:t>g</a:t>
              </a:r>
              <a:r>
                <a:rPr b="1" lang="en-US" sz="3200" spc="-1" strike="noStrike">
                  <a:solidFill>
                    <a:srgbClr val="007400"/>
                  </a:solidFill>
                  <a:latin typeface="Book Antiqua"/>
                </a:rPr>
                <a:t>    yè   yu</a:t>
              </a:r>
              <a:r>
                <a:rPr b="1" lang="en-US" sz="2800" spc="-1" strike="noStrike">
                  <a:solidFill>
                    <a:srgbClr val="007400"/>
                  </a:solidFill>
                  <a:latin typeface="Century Gothic"/>
                </a:rPr>
                <a:t>á</a:t>
              </a:r>
              <a:r>
                <a:rPr b="1" lang="en-US" sz="3200" spc="-1" strike="noStrike">
                  <a:solidFill>
                    <a:srgbClr val="007400"/>
                  </a:solidFill>
                  <a:latin typeface="Book Antiqua"/>
                </a:rPr>
                <a:t>n   </a:t>
              </a:r>
              <a:endParaRPr b="0" lang="en-US" sz="32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1489680" y="4037040"/>
              <a:ext cx="496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400"/>
                  </a:solidFill>
                  <a:latin typeface="Book Antiqua"/>
                </a:rPr>
                <a:t>xi</a:t>
              </a:r>
              <a:r>
                <a:rPr b="1" lang="en-US" sz="2800" spc="-1" strike="noStrike">
                  <a:solidFill>
                    <a:srgbClr val="007400"/>
                  </a:solidFill>
                  <a:latin typeface="Century Gothic"/>
                </a:rPr>
                <a:t>à</a:t>
              </a:r>
              <a:r>
                <a:rPr b="1" lang="en-US" sz="3200" spc="-1" strike="noStrike">
                  <a:solidFill>
                    <a:srgbClr val="007400"/>
                  </a:solidFill>
                  <a:latin typeface="Book Antiqua"/>
                </a:rPr>
                <a:t>    qiū    xuě    dù     jiù</a:t>
              </a:r>
              <a:endParaRPr b="0" lang="en-US" sz="32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58" name="AutoShape 12"/>
          <p:cNvSpPr/>
          <p:nvPr/>
        </p:nvSpPr>
        <p:spPr>
          <a:xfrm>
            <a:off x="5715000" y="838080"/>
            <a:ext cx="1523880" cy="1143000"/>
          </a:xfrm>
          <a:prstGeom prst="cloudCallout">
            <a:avLst>
              <a:gd name="adj1" fmla="val -118439"/>
              <a:gd name="adj2" fmla="val 86527"/>
            </a:avLst>
          </a:prstGeom>
          <a:solidFill>
            <a:srgbClr val="c1ffe0"/>
          </a:solidFill>
          <a:ln w="19080">
            <a:solidFill>
              <a:srgbClr val="007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我会     读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26" descr="小学语文（散文）02-2"/>
          <p:cNvPicPr/>
          <p:nvPr/>
        </p:nvPicPr>
        <p:blipFill>
          <a:blip r:embed="rId2"/>
          <a:stretch/>
        </p:blipFill>
        <p:spPr>
          <a:xfrm>
            <a:off x="1371600" y="1219320"/>
            <a:ext cx="1725480" cy="35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2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95440" y="1847880"/>
            <a:ext cx="6200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050" descr="小学语文（散文）02-2"/>
          <p:cNvPicPr/>
          <p:nvPr/>
        </p:nvPicPr>
        <p:blipFill>
          <a:blip r:embed="rId2"/>
          <a:stretch/>
        </p:blipFill>
        <p:spPr>
          <a:xfrm>
            <a:off x="1371600" y="1219320"/>
            <a:ext cx="1725480" cy="35388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2060"/>
          <p:cNvGrpSpPr/>
          <p:nvPr/>
        </p:nvGrpSpPr>
        <p:grpSpPr>
          <a:xfrm>
            <a:off x="1523880" y="1971720"/>
            <a:ext cx="6400800" cy="3971880"/>
            <a:chOff x="1523880" y="1971720"/>
            <a:chExt cx="6400800" cy="3971880"/>
          </a:xfrm>
        </p:grpSpPr>
        <p:pic>
          <p:nvPicPr>
            <p:cNvPr id="63" name="Picture 2054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523880" y="1971720"/>
              <a:ext cx="2895840" cy="18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056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029200" y="2003400"/>
              <a:ext cx="2895480" cy="18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057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1523880" y="4178160"/>
              <a:ext cx="2895840" cy="17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058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5029200" y="4148280"/>
              <a:ext cx="2895480" cy="17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18288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4"/>
          <p:cNvSpPr/>
          <p:nvPr/>
        </p:nvSpPr>
        <p:spPr>
          <a:xfrm>
            <a:off x="4191120" y="909720"/>
            <a:ext cx="3962160" cy="2062080"/>
          </a:xfrm>
          <a:prstGeom prst="cloudCallout">
            <a:avLst>
              <a:gd name="adj1" fmla="val -41546"/>
              <a:gd name="adj2" fmla="val 78328"/>
            </a:avLst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读读课文，说说自己发现了什么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" dur="1" fill="hold"/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8"/>
          <p:cNvGrpSpPr/>
          <p:nvPr/>
        </p:nvGrpSpPr>
        <p:grpSpPr>
          <a:xfrm>
            <a:off x="685800" y="2649600"/>
            <a:ext cx="7513200" cy="2665440"/>
            <a:chOff x="685800" y="2649600"/>
            <a:chExt cx="7513200" cy="2665440"/>
          </a:xfrm>
        </p:grpSpPr>
        <p:grpSp>
          <p:nvGrpSpPr>
            <p:cNvPr id="72" name="Group 9"/>
            <p:cNvGrpSpPr/>
            <p:nvPr/>
          </p:nvGrpSpPr>
          <p:grpSpPr>
            <a:xfrm>
              <a:off x="4988880" y="2649600"/>
              <a:ext cx="3210120" cy="2607840"/>
              <a:chOff x="4988880" y="2649600"/>
              <a:chExt cx="3210120" cy="2607840"/>
            </a:xfrm>
          </p:grpSpPr>
          <p:sp>
            <p:nvSpPr>
              <p:cNvPr id="73" name="Rectangle 5"/>
              <p:cNvSpPr/>
              <p:nvPr/>
            </p:nvSpPr>
            <p:spPr>
              <a:xfrm>
                <a:off x="5159160" y="3030480"/>
                <a:ext cx="303984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草 芽 尖 尖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,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他 对 小  鸟  说 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: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“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我 是  春  天。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”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74" name="Text Box 6"/>
              <p:cNvSpPr/>
              <p:nvPr/>
            </p:nvSpPr>
            <p:spPr>
              <a:xfrm>
                <a:off x="4988880" y="2649600"/>
                <a:ext cx="225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cāo  y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á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jiān jiā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75" name="Text Box 7"/>
              <p:cNvSpPr/>
              <p:nvPr/>
            </p:nvSpPr>
            <p:spPr>
              <a:xfrm>
                <a:off x="4998960" y="3487680"/>
                <a:ext cx="317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tā  duì  xiǎo  niǎo  shuō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76" name="Text Box 8"/>
              <p:cNvSpPr/>
              <p:nvPr/>
            </p:nvSpPr>
            <p:spPr>
              <a:xfrm>
                <a:off x="5048280" y="4326120"/>
                <a:ext cx="268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wǒ   shì  chūn   tiā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pic>
          <p:nvPicPr>
            <p:cNvPr id="77" name="Object 14" descr=""/>
            <p:cNvPicPr/>
            <p:nvPr/>
          </p:nvPicPr>
          <p:blipFill>
            <a:blip r:embed="rId3"/>
            <a:stretch/>
          </p:blipFill>
          <p:spPr>
            <a:xfrm>
              <a:off x="685800" y="2666880"/>
              <a:ext cx="4038480" cy="264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AutoShape 4"/>
          <p:cNvSpPr/>
          <p:nvPr/>
        </p:nvSpPr>
        <p:spPr>
          <a:xfrm>
            <a:off x="3809880" y="685800"/>
            <a:ext cx="4876920" cy="1817640"/>
          </a:xfrm>
          <a:prstGeom prst="cloudCallout">
            <a:avLst>
              <a:gd name="adj1" fmla="val -46453"/>
              <a:gd name="adj2" fmla="val 75240"/>
            </a:avLst>
          </a:prstGeom>
          <a:solidFill>
            <a:srgbClr val="c5ffe2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草芽为什么说他就是春天</a:t>
            </a:r>
            <a:r>
              <a:rPr b="1" lang="en-US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你还从哪些地方知道春天来了呢</a:t>
            </a:r>
            <a:r>
              <a:rPr b="1" lang="en-US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>
            <a:off x="1371600" y="1523880"/>
            <a:ext cx="5638680" cy="2514600"/>
          </a:xfrm>
          <a:prstGeom prst="cloudCallout">
            <a:avLst>
              <a:gd name="adj1" fmla="val 34995"/>
              <a:gd name="adj2" fmla="val 85416"/>
            </a:avLst>
          </a:prstGeom>
          <a:solidFill>
            <a:srgbClr val="c5ffe2"/>
          </a:solidFill>
          <a:ln w="19080">
            <a:solidFill>
              <a:srgbClr val="007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小组合作学习：按照学习第一句的步骤和方法自学二、三、四句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81" name="Picture 4" descr="teacher00"/>
          <p:cNvPicPr/>
          <p:nvPr/>
        </p:nvPicPr>
        <p:blipFill>
          <a:blip r:embed="rId3"/>
          <a:stretch/>
        </p:blipFill>
        <p:spPr>
          <a:xfrm>
            <a:off x="5638680" y="3446640"/>
            <a:ext cx="266724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7:22:17Z</dcterms:created>
  <dc:creator/>
  <dc:description/>
  <cp:keywords/>
  <dc:language>en-US</dc:language>
  <cp:lastModifiedBy>xinxing</cp:lastModifiedBy>
  <dcterms:modified xsi:type="dcterms:W3CDTF">2017-04-16T15:44:35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