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32F-DFC2-478B-8BCE-0984F36D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C8C-426D-45AE-B2BD-3C5E7577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A9C-DC7E-4549-92A5-630ECAD0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11A-1E48-4F02-B3F6-77082020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749-4A10-46D7-8983-39871BE9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343-FD3D-459B-869A-DBE97C09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5D4-1DA1-4927-BA0D-0B0C2695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1F3-408B-40B7-BD6D-5527BAB4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878-CFE5-484B-89C8-F0DB7F5F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CE2-B61D-4897-9C0E-F644F408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802-4190-4E6B-AEE0-7FBACE7B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FA0-3063-4632-AAF9-EC15BE87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5C9F-167D-4C82-92B1-B075CD61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820800" y="1844640"/>
            <a:ext cx="747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华文新魏"/>
              </a:rPr>
              <a:t>三位数乘两位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371040" y="35733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口算乘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>
            <a:hlinkClick r:id="rId2" action="ppaction://hlinksldjump"/>
          </p:cNvPr>
          <p:cNvSpPr/>
          <p:nvPr/>
        </p:nvSpPr>
        <p:spPr>
          <a:xfrm>
            <a:off x="826920" y="6237360"/>
            <a:ext cx="1297080" cy="431640"/>
          </a:xfrm>
          <a:custGeom>
            <a:avLst/>
            <a:gdLst>
              <a:gd name="textAreaLeft" fmla="*/ 27720 w 1297080"/>
              <a:gd name="textAreaRight" fmla="*/ 1269360 w 1297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72" h="21600">
                <a:moveTo>
                  <a:pt x="0" y="0"/>
                </a:moveTo>
                <a:lnTo>
                  <a:pt x="64872" y="0"/>
                </a:lnTo>
                <a:lnTo>
                  <a:pt x="64872" y="21600"/>
                </a:lnTo>
                <a:lnTo>
                  <a:pt x="0" y="21600"/>
                </a:lnTo>
                <a:close/>
              </a:path>
              <a:path fill="lightenLess" w="64872" h="21600">
                <a:moveTo>
                  <a:pt x="0" y="0"/>
                </a:moveTo>
                <a:lnTo>
                  <a:pt x="64872" y="0"/>
                </a:lnTo>
                <a:lnTo>
                  <a:pt x="63472" y="1400"/>
                </a:lnTo>
                <a:lnTo>
                  <a:pt x="1400" y="1400"/>
                </a:lnTo>
                <a:close/>
              </a:path>
              <a:path fill="darken" w="64872" h="21600">
                <a:moveTo>
                  <a:pt x="64872" y="0"/>
                </a:moveTo>
                <a:lnTo>
                  <a:pt x="64872" y="21600"/>
                </a:lnTo>
                <a:lnTo>
                  <a:pt x="63472" y="20200"/>
                </a:lnTo>
                <a:lnTo>
                  <a:pt x="63472" y="1400"/>
                </a:lnTo>
                <a:close/>
              </a:path>
              <a:path fill="darkenLess" w="64872" h="21600">
                <a:moveTo>
                  <a:pt x="6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72" y="20200"/>
                </a:lnTo>
                <a:close/>
              </a:path>
              <a:path fill="lighten" w="6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b2857"/>
              </a:gs>
              <a:gs pos="50000">
                <a:srgbClr val="7d4290"/>
              </a:gs>
              <a:gs pos="100000">
                <a:srgbClr val="4b285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b28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创设情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>
            <a:hlinkClick r:id="rId3" action="ppaction://hlinksldjump"/>
          </p:cNvPr>
          <p:cNvSpPr/>
          <p:nvPr/>
        </p:nvSpPr>
        <p:spPr>
          <a:xfrm>
            <a:off x="2698920" y="6237360"/>
            <a:ext cx="1296720" cy="431640"/>
          </a:xfrm>
          <a:custGeom>
            <a:avLst/>
            <a:gdLst>
              <a:gd name="textAreaLeft" fmla="*/ 27720 w 1296720"/>
              <a:gd name="textAreaRight" fmla="*/ 1269000 w 129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54" h="21600">
                <a:moveTo>
                  <a:pt x="0" y="0"/>
                </a:moveTo>
                <a:lnTo>
                  <a:pt x="64854" y="0"/>
                </a:lnTo>
                <a:lnTo>
                  <a:pt x="64854" y="21600"/>
                </a:lnTo>
                <a:lnTo>
                  <a:pt x="0" y="21600"/>
                </a:lnTo>
                <a:close/>
              </a:path>
              <a:path fill="lightenLess" w="64854" h="21600">
                <a:moveTo>
                  <a:pt x="0" y="0"/>
                </a:moveTo>
                <a:lnTo>
                  <a:pt x="64854" y="0"/>
                </a:lnTo>
                <a:lnTo>
                  <a:pt x="63454" y="1400"/>
                </a:lnTo>
                <a:lnTo>
                  <a:pt x="1400" y="1400"/>
                </a:lnTo>
                <a:close/>
              </a:path>
              <a:path fill="darken" w="64854" h="21600">
                <a:moveTo>
                  <a:pt x="64854" y="0"/>
                </a:moveTo>
                <a:lnTo>
                  <a:pt x="64854" y="21600"/>
                </a:lnTo>
                <a:lnTo>
                  <a:pt x="63454" y="20200"/>
                </a:lnTo>
                <a:lnTo>
                  <a:pt x="63454" y="1400"/>
                </a:lnTo>
                <a:close/>
              </a:path>
              <a:path fill="darkenLess" w="64854" h="21600">
                <a:moveTo>
                  <a:pt x="64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54" y="20200"/>
                </a:lnTo>
                <a:close/>
              </a:path>
              <a:path fill="lighten" w="64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b2857"/>
              </a:gs>
              <a:gs pos="50000">
                <a:srgbClr val="7d4290"/>
              </a:gs>
              <a:gs pos="100000">
                <a:srgbClr val="4b285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b28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探索新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>
            <a:hlinkClick r:id="rId4" action="ppaction://hlinksldjump"/>
          </p:cNvPr>
          <p:cNvSpPr/>
          <p:nvPr/>
        </p:nvSpPr>
        <p:spPr>
          <a:xfrm>
            <a:off x="4643280" y="6237360"/>
            <a:ext cx="1297080" cy="431640"/>
          </a:xfrm>
          <a:custGeom>
            <a:avLst/>
            <a:gdLst>
              <a:gd name="textAreaLeft" fmla="*/ 27720 w 1297080"/>
              <a:gd name="textAreaRight" fmla="*/ 1269360 w 1297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4872" h="21600">
                <a:moveTo>
                  <a:pt x="0" y="0"/>
                </a:moveTo>
                <a:lnTo>
                  <a:pt x="64872" y="0"/>
                </a:lnTo>
                <a:lnTo>
                  <a:pt x="64872" y="21600"/>
                </a:lnTo>
                <a:lnTo>
                  <a:pt x="0" y="21600"/>
                </a:lnTo>
                <a:close/>
              </a:path>
              <a:path fill="lightenLess" w="64872" h="21600">
                <a:moveTo>
                  <a:pt x="0" y="0"/>
                </a:moveTo>
                <a:lnTo>
                  <a:pt x="64872" y="0"/>
                </a:lnTo>
                <a:lnTo>
                  <a:pt x="63472" y="1400"/>
                </a:lnTo>
                <a:lnTo>
                  <a:pt x="1400" y="1400"/>
                </a:lnTo>
                <a:close/>
              </a:path>
              <a:path fill="darken" w="64872" h="21600">
                <a:moveTo>
                  <a:pt x="64872" y="0"/>
                </a:moveTo>
                <a:lnTo>
                  <a:pt x="64872" y="21600"/>
                </a:lnTo>
                <a:lnTo>
                  <a:pt x="63472" y="20200"/>
                </a:lnTo>
                <a:lnTo>
                  <a:pt x="63472" y="1400"/>
                </a:lnTo>
                <a:close/>
              </a:path>
              <a:path fill="darkenLess" w="64872" h="21600">
                <a:moveTo>
                  <a:pt x="64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72" y="20200"/>
                </a:lnTo>
                <a:close/>
              </a:path>
              <a:path fill="lighten" w="64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b2857"/>
              </a:gs>
              <a:gs pos="50000">
                <a:srgbClr val="7d4290"/>
              </a:gs>
              <a:gs pos="100000">
                <a:srgbClr val="4b285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b28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巩固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>
            <a:hlinkClick r:id="" action="ppaction://hlinkshowjump?jump=firstslide"/>
          </p:cNvPr>
          <p:cNvSpPr/>
          <p:nvPr/>
        </p:nvSpPr>
        <p:spPr>
          <a:xfrm>
            <a:off x="7380360" y="6237360"/>
            <a:ext cx="936720" cy="431640"/>
          </a:xfrm>
          <a:custGeom>
            <a:avLst/>
            <a:gdLst>
              <a:gd name="textAreaLeft" fmla="*/ 27720 w 936720"/>
              <a:gd name="textAreaRight" fmla="*/ 909000 w 936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854" h="21600">
                <a:moveTo>
                  <a:pt x="0" y="0"/>
                </a:moveTo>
                <a:lnTo>
                  <a:pt x="46854" y="0"/>
                </a:lnTo>
                <a:lnTo>
                  <a:pt x="46854" y="21600"/>
                </a:lnTo>
                <a:lnTo>
                  <a:pt x="0" y="21600"/>
                </a:lnTo>
                <a:close/>
              </a:path>
              <a:path fill="lightenLess" w="46854" h="21600">
                <a:moveTo>
                  <a:pt x="0" y="0"/>
                </a:moveTo>
                <a:lnTo>
                  <a:pt x="46854" y="0"/>
                </a:lnTo>
                <a:lnTo>
                  <a:pt x="45454" y="1400"/>
                </a:lnTo>
                <a:lnTo>
                  <a:pt x="1400" y="1400"/>
                </a:lnTo>
                <a:close/>
              </a:path>
              <a:path fill="darken" w="46854" h="21600">
                <a:moveTo>
                  <a:pt x="46854" y="0"/>
                </a:moveTo>
                <a:lnTo>
                  <a:pt x="46854" y="21600"/>
                </a:lnTo>
                <a:lnTo>
                  <a:pt x="45454" y="20200"/>
                </a:lnTo>
                <a:lnTo>
                  <a:pt x="45454" y="1400"/>
                </a:lnTo>
                <a:close/>
              </a:path>
              <a:path fill="darkenLess" w="46854" h="21600">
                <a:moveTo>
                  <a:pt x="46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54" y="20200"/>
                </a:lnTo>
                <a:close/>
              </a:path>
              <a:path fill="lighten" w="46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b2857"/>
              </a:gs>
              <a:gs pos="50000">
                <a:srgbClr val="7d4290"/>
              </a:gs>
              <a:gs pos="100000">
                <a:srgbClr val="4b285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b285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退  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WordArt 11" descr=""/>
          <p:cNvPicPr/>
          <p:nvPr/>
        </p:nvPicPr>
        <p:blipFill>
          <a:blip r:embed="rId5"/>
          <a:stretch/>
        </p:blipFill>
        <p:spPr>
          <a:xfrm>
            <a:off x="44280" y="444600"/>
            <a:ext cx="3859560" cy="753840"/>
          </a:xfrm>
          <a:prstGeom prst="rect">
            <a:avLst/>
          </a:prstGeom>
          <a:ln w="0">
            <a:noFill/>
          </a:ln>
        </p:spPr>
      </p:pic>
      <p:sp>
        <p:nvSpPr>
          <p:cNvPr id="48" name="矩形 12"/>
          <p:cNvSpPr/>
          <p:nvPr/>
        </p:nvSpPr>
        <p:spPr>
          <a:xfrm>
            <a:off x="237708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"/>
                            </p:stCondLst>
                            <p:childTnLst>
                              <p:par>
                                <p:cTn id="14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2"/>
          <p:cNvGrpSpPr/>
          <p:nvPr/>
        </p:nvGrpSpPr>
        <p:grpSpPr>
          <a:xfrm>
            <a:off x="-541440" y="-603360"/>
            <a:ext cx="9721800" cy="7561440"/>
            <a:chOff x="-541440" y="-603360"/>
            <a:chExt cx="9721800" cy="7561440"/>
          </a:xfrm>
        </p:grpSpPr>
        <p:pic>
          <p:nvPicPr>
            <p:cNvPr id="124" name="Picture 10" descr=""/>
            <p:cNvPicPr/>
            <p:nvPr/>
          </p:nvPicPr>
          <p:blipFill>
            <a:blip r:embed="rId1"/>
            <a:stretch/>
          </p:blipFill>
          <p:spPr>
            <a:xfrm>
              <a:off x="-541440" y="-603360"/>
              <a:ext cx="9721800" cy="75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11"/>
            <p:cNvSpPr/>
            <p:nvPr/>
          </p:nvSpPr>
          <p:spPr>
            <a:xfrm>
              <a:off x="7956720" y="6165720"/>
              <a:ext cx="431640" cy="6922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3"/>
          <p:cNvSpPr/>
          <p:nvPr/>
        </p:nvSpPr>
        <p:spPr>
          <a:xfrm>
            <a:off x="3532320" y="260280"/>
            <a:ext cx="2009520" cy="8251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Arial"/>
                <a:ea typeface="华文新魏"/>
              </a:rPr>
              <a:t>小兔子回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4"/>
          <p:cNvGrpSpPr/>
          <p:nvPr/>
        </p:nvGrpSpPr>
        <p:grpSpPr>
          <a:xfrm>
            <a:off x="332280" y="5616720"/>
            <a:ext cx="1003680" cy="1341000"/>
            <a:chOff x="332280" y="5616720"/>
            <a:chExt cx="1003680" cy="1341000"/>
          </a:xfrm>
        </p:grpSpPr>
        <p:sp>
          <p:nvSpPr>
            <p:cNvPr id="128" name="Rectangle 15"/>
            <p:cNvSpPr/>
            <p:nvPr/>
          </p:nvSpPr>
          <p:spPr>
            <a:xfrm>
              <a:off x="332280" y="5616720"/>
              <a:ext cx="100368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四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6"/>
            <p:cNvSpPr/>
            <p:nvPr/>
          </p:nvSpPr>
          <p:spPr>
            <a:xfrm>
              <a:off x="770040" y="6180480"/>
              <a:ext cx="142920" cy="77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4"/>
          <p:cNvGrpSpPr/>
          <p:nvPr/>
        </p:nvGrpSpPr>
        <p:grpSpPr>
          <a:xfrm>
            <a:off x="504360" y="2707560"/>
            <a:ext cx="2445480" cy="1720800"/>
            <a:chOff x="504360" y="2707560"/>
            <a:chExt cx="2445480" cy="1720800"/>
          </a:xfrm>
        </p:grpSpPr>
        <p:sp>
          <p:nvSpPr>
            <p:cNvPr id="131" name="Freeform 19"/>
            <p:cNvSpPr/>
            <p:nvPr/>
          </p:nvSpPr>
          <p:spPr>
            <a:xfrm rot="20397600">
              <a:off x="610920" y="3059280"/>
              <a:ext cx="2232000" cy="1017360"/>
            </a:xfrm>
            <a:custGeom>
              <a:avLst/>
              <a:gdLst/>
              <a:ahLst/>
              <a:rect l="l" t="t" r="r" b="b"/>
              <a:pathLst>
                <a:path w="1248" h="611">
                  <a:moveTo>
                    <a:pt x="0" y="387"/>
                  </a:moveTo>
                  <a:cubicBezTo>
                    <a:pt x="30" y="357"/>
                    <a:pt x="69" y="333"/>
                    <a:pt x="91" y="296"/>
                  </a:cubicBezTo>
                  <a:cubicBezTo>
                    <a:pt x="99" y="283"/>
                    <a:pt x="82" y="267"/>
                    <a:pt x="83" y="252"/>
                  </a:cubicBezTo>
                  <a:cubicBezTo>
                    <a:pt x="86" y="187"/>
                    <a:pt x="129" y="141"/>
                    <a:pt x="179" y="108"/>
                  </a:cubicBezTo>
                  <a:cubicBezTo>
                    <a:pt x="196" y="57"/>
                    <a:pt x="248" y="17"/>
                    <a:pt x="299" y="0"/>
                  </a:cubicBezTo>
                  <a:cubicBezTo>
                    <a:pt x="451" y="4"/>
                    <a:pt x="603" y="1"/>
                    <a:pt x="755" y="12"/>
                  </a:cubicBezTo>
                  <a:cubicBezTo>
                    <a:pt x="769" y="13"/>
                    <a:pt x="778" y="30"/>
                    <a:pt x="791" y="36"/>
                  </a:cubicBezTo>
                  <a:cubicBezTo>
                    <a:pt x="856" y="65"/>
                    <a:pt x="926" y="74"/>
                    <a:pt x="995" y="84"/>
                  </a:cubicBezTo>
                  <a:cubicBezTo>
                    <a:pt x="1048" y="102"/>
                    <a:pt x="1086" y="138"/>
                    <a:pt x="1139" y="156"/>
                  </a:cubicBezTo>
                  <a:cubicBezTo>
                    <a:pt x="1147" y="168"/>
                    <a:pt x="1152" y="183"/>
                    <a:pt x="1163" y="192"/>
                  </a:cubicBezTo>
                  <a:cubicBezTo>
                    <a:pt x="1173" y="200"/>
                    <a:pt x="1193" y="193"/>
                    <a:pt x="1199" y="204"/>
                  </a:cubicBezTo>
                  <a:cubicBezTo>
                    <a:pt x="1211" y="225"/>
                    <a:pt x="1205" y="252"/>
                    <a:pt x="1211" y="276"/>
                  </a:cubicBezTo>
                  <a:cubicBezTo>
                    <a:pt x="1217" y="301"/>
                    <a:pt x="1235" y="348"/>
                    <a:pt x="1235" y="348"/>
                  </a:cubicBezTo>
                  <a:cubicBezTo>
                    <a:pt x="1231" y="428"/>
                    <a:pt x="1248" y="512"/>
                    <a:pt x="1223" y="588"/>
                  </a:cubicBezTo>
                  <a:cubicBezTo>
                    <a:pt x="1215" y="611"/>
                    <a:pt x="1175" y="600"/>
                    <a:pt x="1151" y="600"/>
                  </a:cubicBezTo>
                  <a:cubicBezTo>
                    <a:pt x="919" y="600"/>
                    <a:pt x="687" y="592"/>
                    <a:pt x="455" y="588"/>
                  </a:cubicBezTo>
                  <a:cubicBezTo>
                    <a:pt x="428" y="581"/>
                    <a:pt x="353" y="564"/>
                    <a:pt x="335" y="552"/>
                  </a:cubicBezTo>
                  <a:cubicBezTo>
                    <a:pt x="311" y="536"/>
                    <a:pt x="290" y="513"/>
                    <a:pt x="263" y="504"/>
                  </a:cubicBezTo>
                  <a:cubicBezTo>
                    <a:pt x="191" y="480"/>
                    <a:pt x="94" y="434"/>
                    <a:pt x="23" y="420"/>
                  </a:cubicBezTo>
                  <a:cubicBezTo>
                    <a:pt x="10" y="380"/>
                    <a:pt x="23" y="381"/>
                    <a:pt x="0" y="38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 rot="20485800">
              <a:off x="947160" y="330948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60×2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5"/>
          <p:cNvGrpSpPr/>
          <p:nvPr/>
        </p:nvGrpSpPr>
        <p:grpSpPr>
          <a:xfrm>
            <a:off x="1258920" y="3860640"/>
            <a:ext cx="2124000" cy="981360"/>
            <a:chOff x="1258920" y="3860640"/>
            <a:chExt cx="2124000" cy="981360"/>
          </a:xfrm>
        </p:grpSpPr>
        <p:sp>
          <p:nvSpPr>
            <p:cNvPr id="134" name="Freeform 22"/>
            <p:cNvSpPr/>
            <p:nvPr/>
          </p:nvSpPr>
          <p:spPr>
            <a:xfrm>
              <a:off x="1258920" y="3860640"/>
              <a:ext cx="2124000" cy="98136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>
              <a:off x="1596240" y="4127400"/>
              <a:ext cx="13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3×4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7"/>
          <p:cNvGrpSpPr/>
          <p:nvPr/>
        </p:nvGrpSpPr>
        <p:grpSpPr>
          <a:xfrm>
            <a:off x="2843280" y="4248000"/>
            <a:ext cx="2124000" cy="981360"/>
            <a:chOff x="2843280" y="4248000"/>
            <a:chExt cx="2124000" cy="981360"/>
          </a:xfrm>
        </p:grpSpPr>
        <p:sp>
          <p:nvSpPr>
            <p:cNvPr id="137" name="Freeform 28"/>
            <p:cNvSpPr/>
            <p:nvPr/>
          </p:nvSpPr>
          <p:spPr>
            <a:xfrm>
              <a:off x="2843280" y="4248000"/>
              <a:ext cx="2124000" cy="98136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180600" y="451476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×240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30"/>
          <p:cNvGrpSpPr/>
          <p:nvPr/>
        </p:nvGrpSpPr>
        <p:grpSpPr>
          <a:xfrm>
            <a:off x="3659760" y="3024720"/>
            <a:ext cx="2328480" cy="1251720"/>
            <a:chOff x="3659760" y="3024720"/>
            <a:chExt cx="2328480" cy="1251720"/>
          </a:xfrm>
        </p:grpSpPr>
        <p:sp>
          <p:nvSpPr>
            <p:cNvPr id="140" name="Freeform 31"/>
            <p:cNvSpPr/>
            <p:nvPr/>
          </p:nvSpPr>
          <p:spPr>
            <a:xfrm rot="21229200">
              <a:off x="3708000" y="3141720"/>
              <a:ext cx="2232000" cy="1017360"/>
            </a:xfrm>
            <a:custGeom>
              <a:avLst/>
              <a:gdLst/>
              <a:ahLst/>
              <a:rect l="l" t="t" r="r" b="b"/>
              <a:pathLst>
                <a:path w="1248" h="611">
                  <a:moveTo>
                    <a:pt x="0" y="387"/>
                  </a:moveTo>
                  <a:cubicBezTo>
                    <a:pt x="30" y="357"/>
                    <a:pt x="69" y="333"/>
                    <a:pt x="91" y="296"/>
                  </a:cubicBezTo>
                  <a:cubicBezTo>
                    <a:pt x="99" y="283"/>
                    <a:pt x="82" y="267"/>
                    <a:pt x="83" y="252"/>
                  </a:cubicBezTo>
                  <a:cubicBezTo>
                    <a:pt x="86" y="187"/>
                    <a:pt x="129" y="141"/>
                    <a:pt x="179" y="108"/>
                  </a:cubicBezTo>
                  <a:cubicBezTo>
                    <a:pt x="196" y="57"/>
                    <a:pt x="248" y="17"/>
                    <a:pt x="299" y="0"/>
                  </a:cubicBezTo>
                  <a:cubicBezTo>
                    <a:pt x="451" y="4"/>
                    <a:pt x="603" y="1"/>
                    <a:pt x="755" y="12"/>
                  </a:cubicBezTo>
                  <a:cubicBezTo>
                    <a:pt x="769" y="13"/>
                    <a:pt x="778" y="30"/>
                    <a:pt x="791" y="36"/>
                  </a:cubicBezTo>
                  <a:cubicBezTo>
                    <a:pt x="856" y="65"/>
                    <a:pt x="926" y="74"/>
                    <a:pt x="995" y="84"/>
                  </a:cubicBezTo>
                  <a:cubicBezTo>
                    <a:pt x="1048" y="102"/>
                    <a:pt x="1086" y="138"/>
                    <a:pt x="1139" y="156"/>
                  </a:cubicBezTo>
                  <a:cubicBezTo>
                    <a:pt x="1147" y="168"/>
                    <a:pt x="1152" y="183"/>
                    <a:pt x="1163" y="192"/>
                  </a:cubicBezTo>
                  <a:cubicBezTo>
                    <a:pt x="1173" y="200"/>
                    <a:pt x="1193" y="193"/>
                    <a:pt x="1199" y="204"/>
                  </a:cubicBezTo>
                  <a:cubicBezTo>
                    <a:pt x="1211" y="225"/>
                    <a:pt x="1205" y="252"/>
                    <a:pt x="1211" y="276"/>
                  </a:cubicBezTo>
                  <a:cubicBezTo>
                    <a:pt x="1217" y="301"/>
                    <a:pt x="1235" y="348"/>
                    <a:pt x="1235" y="348"/>
                  </a:cubicBezTo>
                  <a:cubicBezTo>
                    <a:pt x="1231" y="428"/>
                    <a:pt x="1248" y="512"/>
                    <a:pt x="1223" y="588"/>
                  </a:cubicBezTo>
                  <a:cubicBezTo>
                    <a:pt x="1215" y="611"/>
                    <a:pt x="1175" y="600"/>
                    <a:pt x="1151" y="600"/>
                  </a:cubicBezTo>
                  <a:cubicBezTo>
                    <a:pt x="919" y="600"/>
                    <a:pt x="687" y="592"/>
                    <a:pt x="455" y="588"/>
                  </a:cubicBezTo>
                  <a:cubicBezTo>
                    <a:pt x="428" y="581"/>
                    <a:pt x="353" y="564"/>
                    <a:pt x="335" y="552"/>
                  </a:cubicBezTo>
                  <a:cubicBezTo>
                    <a:pt x="311" y="536"/>
                    <a:pt x="290" y="513"/>
                    <a:pt x="263" y="504"/>
                  </a:cubicBezTo>
                  <a:cubicBezTo>
                    <a:pt x="191" y="480"/>
                    <a:pt x="94" y="434"/>
                    <a:pt x="23" y="420"/>
                  </a:cubicBezTo>
                  <a:cubicBezTo>
                    <a:pt x="10" y="380"/>
                    <a:pt x="23" y="381"/>
                    <a:pt x="0" y="38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 rot="21318000">
              <a:off x="4035240" y="338904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20×4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3"/>
          <p:cNvGrpSpPr/>
          <p:nvPr/>
        </p:nvGrpSpPr>
        <p:grpSpPr>
          <a:xfrm>
            <a:off x="3169800" y="4796640"/>
            <a:ext cx="2445480" cy="1720800"/>
            <a:chOff x="3169800" y="4796640"/>
            <a:chExt cx="2445480" cy="1720800"/>
          </a:xfrm>
        </p:grpSpPr>
        <p:sp>
          <p:nvSpPr>
            <p:cNvPr id="143" name="Freeform 34"/>
            <p:cNvSpPr/>
            <p:nvPr/>
          </p:nvSpPr>
          <p:spPr>
            <a:xfrm rot="20397600">
              <a:off x="3276360" y="5148360"/>
              <a:ext cx="2232000" cy="1017360"/>
            </a:xfrm>
            <a:custGeom>
              <a:avLst/>
              <a:gdLst/>
              <a:ahLst/>
              <a:rect l="l" t="t" r="r" b="b"/>
              <a:pathLst>
                <a:path w="1248" h="611">
                  <a:moveTo>
                    <a:pt x="0" y="387"/>
                  </a:moveTo>
                  <a:cubicBezTo>
                    <a:pt x="30" y="357"/>
                    <a:pt x="69" y="333"/>
                    <a:pt x="91" y="296"/>
                  </a:cubicBezTo>
                  <a:cubicBezTo>
                    <a:pt x="99" y="283"/>
                    <a:pt x="82" y="267"/>
                    <a:pt x="83" y="252"/>
                  </a:cubicBezTo>
                  <a:cubicBezTo>
                    <a:pt x="86" y="187"/>
                    <a:pt x="129" y="141"/>
                    <a:pt x="179" y="108"/>
                  </a:cubicBezTo>
                  <a:cubicBezTo>
                    <a:pt x="196" y="57"/>
                    <a:pt x="248" y="17"/>
                    <a:pt x="299" y="0"/>
                  </a:cubicBezTo>
                  <a:cubicBezTo>
                    <a:pt x="451" y="4"/>
                    <a:pt x="603" y="1"/>
                    <a:pt x="755" y="12"/>
                  </a:cubicBezTo>
                  <a:cubicBezTo>
                    <a:pt x="769" y="13"/>
                    <a:pt x="778" y="30"/>
                    <a:pt x="791" y="36"/>
                  </a:cubicBezTo>
                  <a:cubicBezTo>
                    <a:pt x="856" y="65"/>
                    <a:pt x="926" y="74"/>
                    <a:pt x="995" y="84"/>
                  </a:cubicBezTo>
                  <a:cubicBezTo>
                    <a:pt x="1048" y="102"/>
                    <a:pt x="1086" y="138"/>
                    <a:pt x="1139" y="156"/>
                  </a:cubicBezTo>
                  <a:cubicBezTo>
                    <a:pt x="1147" y="168"/>
                    <a:pt x="1152" y="183"/>
                    <a:pt x="1163" y="192"/>
                  </a:cubicBezTo>
                  <a:cubicBezTo>
                    <a:pt x="1173" y="200"/>
                    <a:pt x="1193" y="193"/>
                    <a:pt x="1199" y="204"/>
                  </a:cubicBezTo>
                  <a:cubicBezTo>
                    <a:pt x="1211" y="225"/>
                    <a:pt x="1205" y="252"/>
                    <a:pt x="1211" y="276"/>
                  </a:cubicBezTo>
                  <a:cubicBezTo>
                    <a:pt x="1217" y="301"/>
                    <a:pt x="1235" y="348"/>
                    <a:pt x="1235" y="348"/>
                  </a:cubicBezTo>
                  <a:cubicBezTo>
                    <a:pt x="1231" y="428"/>
                    <a:pt x="1248" y="512"/>
                    <a:pt x="1223" y="588"/>
                  </a:cubicBezTo>
                  <a:cubicBezTo>
                    <a:pt x="1215" y="611"/>
                    <a:pt x="1175" y="600"/>
                    <a:pt x="1151" y="600"/>
                  </a:cubicBezTo>
                  <a:cubicBezTo>
                    <a:pt x="919" y="600"/>
                    <a:pt x="687" y="592"/>
                    <a:pt x="455" y="588"/>
                  </a:cubicBezTo>
                  <a:cubicBezTo>
                    <a:pt x="428" y="581"/>
                    <a:pt x="353" y="564"/>
                    <a:pt x="335" y="552"/>
                  </a:cubicBezTo>
                  <a:cubicBezTo>
                    <a:pt x="311" y="536"/>
                    <a:pt x="290" y="513"/>
                    <a:pt x="263" y="504"/>
                  </a:cubicBezTo>
                  <a:cubicBezTo>
                    <a:pt x="191" y="480"/>
                    <a:pt x="94" y="434"/>
                    <a:pt x="23" y="420"/>
                  </a:cubicBezTo>
                  <a:cubicBezTo>
                    <a:pt x="10" y="380"/>
                    <a:pt x="23" y="381"/>
                    <a:pt x="0" y="38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 rot="20485800">
              <a:off x="3612600" y="539856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40×5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2"/>
          <p:cNvGrpSpPr/>
          <p:nvPr/>
        </p:nvGrpSpPr>
        <p:grpSpPr>
          <a:xfrm>
            <a:off x="5508720" y="1989000"/>
            <a:ext cx="2124000" cy="981360"/>
            <a:chOff x="5508720" y="1989000"/>
            <a:chExt cx="2124000" cy="981360"/>
          </a:xfrm>
        </p:grpSpPr>
        <p:sp>
          <p:nvSpPr>
            <p:cNvPr id="146" name="Freeform 43"/>
            <p:cNvSpPr/>
            <p:nvPr/>
          </p:nvSpPr>
          <p:spPr>
            <a:xfrm>
              <a:off x="5508720" y="1989000"/>
              <a:ext cx="2124000" cy="98136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"/>
            <p:cNvSpPr/>
            <p:nvPr/>
          </p:nvSpPr>
          <p:spPr>
            <a:xfrm>
              <a:off x="5846040" y="225576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300×3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5"/>
          <p:cNvGrpSpPr/>
          <p:nvPr/>
        </p:nvGrpSpPr>
        <p:grpSpPr>
          <a:xfrm>
            <a:off x="2448000" y="1268280"/>
            <a:ext cx="2124000" cy="981360"/>
            <a:chOff x="2448000" y="1268280"/>
            <a:chExt cx="2124000" cy="981360"/>
          </a:xfrm>
        </p:grpSpPr>
        <p:sp>
          <p:nvSpPr>
            <p:cNvPr id="149" name="Freeform 46"/>
            <p:cNvSpPr/>
            <p:nvPr/>
          </p:nvSpPr>
          <p:spPr>
            <a:xfrm>
              <a:off x="2448000" y="1268280"/>
              <a:ext cx="2124000" cy="98136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7"/>
            <p:cNvSpPr/>
            <p:nvPr/>
          </p:nvSpPr>
          <p:spPr>
            <a:xfrm>
              <a:off x="2785320" y="1535040"/>
              <a:ext cx="13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×17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60"/>
          <p:cNvGrpSpPr/>
          <p:nvPr/>
        </p:nvGrpSpPr>
        <p:grpSpPr>
          <a:xfrm>
            <a:off x="5244120" y="2675520"/>
            <a:ext cx="2097000" cy="1075320"/>
            <a:chOff x="5244120" y="2675520"/>
            <a:chExt cx="2097000" cy="1075320"/>
          </a:xfrm>
        </p:grpSpPr>
        <p:sp>
          <p:nvSpPr>
            <p:cNvPr id="152" name="Freeform 49"/>
            <p:cNvSpPr/>
            <p:nvPr/>
          </p:nvSpPr>
          <p:spPr>
            <a:xfrm rot="21229800">
              <a:off x="5284440" y="2781360"/>
              <a:ext cx="2016000" cy="863640"/>
            </a:xfrm>
            <a:custGeom>
              <a:avLst/>
              <a:gdLst/>
              <a:ahLst/>
              <a:rect l="l" t="t" r="r" b="b"/>
              <a:pathLst>
                <a:path w="1248" h="611">
                  <a:moveTo>
                    <a:pt x="0" y="387"/>
                  </a:moveTo>
                  <a:cubicBezTo>
                    <a:pt x="30" y="357"/>
                    <a:pt x="69" y="333"/>
                    <a:pt x="91" y="296"/>
                  </a:cubicBezTo>
                  <a:cubicBezTo>
                    <a:pt x="99" y="283"/>
                    <a:pt x="82" y="267"/>
                    <a:pt x="83" y="252"/>
                  </a:cubicBezTo>
                  <a:cubicBezTo>
                    <a:pt x="86" y="187"/>
                    <a:pt x="129" y="141"/>
                    <a:pt x="179" y="108"/>
                  </a:cubicBezTo>
                  <a:cubicBezTo>
                    <a:pt x="196" y="57"/>
                    <a:pt x="248" y="17"/>
                    <a:pt x="299" y="0"/>
                  </a:cubicBezTo>
                  <a:cubicBezTo>
                    <a:pt x="451" y="4"/>
                    <a:pt x="603" y="1"/>
                    <a:pt x="755" y="12"/>
                  </a:cubicBezTo>
                  <a:cubicBezTo>
                    <a:pt x="769" y="13"/>
                    <a:pt x="778" y="30"/>
                    <a:pt x="791" y="36"/>
                  </a:cubicBezTo>
                  <a:cubicBezTo>
                    <a:pt x="856" y="65"/>
                    <a:pt x="926" y="74"/>
                    <a:pt x="995" y="84"/>
                  </a:cubicBezTo>
                  <a:cubicBezTo>
                    <a:pt x="1048" y="102"/>
                    <a:pt x="1086" y="138"/>
                    <a:pt x="1139" y="156"/>
                  </a:cubicBezTo>
                  <a:cubicBezTo>
                    <a:pt x="1147" y="168"/>
                    <a:pt x="1152" y="183"/>
                    <a:pt x="1163" y="192"/>
                  </a:cubicBezTo>
                  <a:cubicBezTo>
                    <a:pt x="1173" y="200"/>
                    <a:pt x="1193" y="193"/>
                    <a:pt x="1199" y="204"/>
                  </a:cubicBezTo>
                  <a:cubicBezTo>
                    <a:pt x="1211" y="225"/>
                    <a:pt x="1205" y="252"/>
                    <a:pt x="1211" y="276"/>
                  </a:cubicBezTo>
                  <a:cubicBezTo>
                    <a:pt x="1217" y="301"/>
                    <a:pt x="1235" y="348"/>
                    <a:pt x="1235" y="348"/>
                  </a:cubicBezTo>
                  <a:cubicBezTo>
                    <a:pt x="1231" y="428"/>
                    <a:pt x="1248" y="512"/>
                    <a:pt x="1223" y="588"/>
                  </a:cubicBezTo>
                  <a:cubicBezTo>
                    <a:pt x="1215" y="611"/>
                    <a:pt x="1175" y="600"/>
                    <a:pt x="1151" y="600"/>
                  </a:cubicBezTo>
                  <a:cubicBezTo>
                    <a:pt x="919" y="600"/>
                    <a:pt x="687" y="592"/>
                    <a:pt x="455" y="588"/>
                  </a:cubicBezTo>
                  <a:cubicBezTo>
                    <a:pt x="428" y="581"/>
                    <a:pt x="353" y="564"/>
                    <a:pt x="335" y="552"/>
                  </a:cubicBezTo>
                  <a:cubicBezTo>
                    <a:pt x="311" y="536"/>
                    <a:pt x="290" y="513"/>
                    <a:pt x="263" y="504"/>
                  </a:cubicBezTo>
                  <a:cubicBezTo>
                    <a:pt x="191" y="480"/>
                    <a:pt x="94" y="434"/>
                    <a:pt x="23" y="420"/>
                  </a:cubicBezTo>
                  <a:cubicBezTo>
                    <a:pt x="10" y="380"/>
                    <a:pt x="23" y="381"/>
                    <a:pt x="0" y="38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0"/>
            <p:cNvSpPr/>
            <p:nvPr/>
          </p:nvSpPr>
          <p:spPr>
            <a:xfrm rot="21317400">
              <a:off x="5619240" y="2912760"/>
              <a:ext cx="13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41×2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4175280" y="1386000"/>
            <a:ext cx="2124000" cy="981000"/>
            <a:chOff x="4175280" y="1386000"/>
            <a:chExt cx="2124000" cy="981000"/>
          </a:xfrm>
        </p:grpSpPr>
        <p:sp>
          <p:nvSpPr>
            <p:cNvPr id="155" name="Freeform 52"/>
            <p:cNvSpPr/>
            <p:nvPr/>
          </p:nvSpPr>
          <p:spPr>
            <a:xfrm>
              <a:off x="4175280" y="1386000"/>
              <a:ext cx="2124000" cy="98100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4512600" y="1652400"/>
              <a:ext cx="13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12×8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54"/>
          <p:cNvGrpSpPr/>
          <p:nvPr/>
        </p:nvGrpSpPr>
        <p:grpSpPr>
          <a:xfrm>
            <a:off x="4968720" y="5472000"/>
            <a:ext cx="2124000" cy="981360"/>
            <a:chOff x="4968720" y="5472000"/>
            <a:chExt cx="2124000" cy="981360"/>
          </a:xfrm>
        </p:grpSpPr>
        <p:sp>
          <p:nvSpPr>
            <p:cNvPr id="158" name="Freeform 55"/>
            <p:cNvSpPr/>
            <p:nvPr/>
          </p:nvSpPr>
          <p:spPr>
            <a:xfrm>
              <a:off x="4968720" y="5472000"/>
              <a:ext cx="2124000" cy="98136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6"/>
            <p:cNvSpPr/>
            <p:nvPr/>
          </p:nvSpPr>
          <p:spPr>
            <a:xfrm>
              <a:off x="5306040" y="5738760"/>
              <a:ext cx="155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280×3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7"/>
          <p:cNvGrpSpPr/>
          <p:nvPr/>
        </p:nvGrpSpPr>
        <p:grpSpPr>
          <a:xfrm>
            <a:off x="2448000" y="2421000"/>
            <a:ext cx="2124000" cy="981000"/>
            <a:chOff x="2448000" y="2421000"/>
            <a:chExt cx="2124000" cy="981000"/>
          </a:xfrm>
        </p:grpSpPr>
        <p:sp>
          <p:nvSpPr>
            <p:cNvPr id="161" name="Freeform 58"/>
            <p:cNvSpPr/>
            <p:nvPr/>
          </p:nvSpPr>
          <p:spPr>
            <a:xfrm>
              <a:off x="2448000" y="2421000"/>
              <a:ext cx="2124000" cy="981000"/>
            </a:xfrm>
            <a:custGeom>
              <a:avLst/>
              <a:gdLst/>
              <a:ahLst/>
              <a:rect l="l" t="t" r="r" b="b"/>
              <a:pathLst>
                <a:path w="1691" h="781">
                  <a:moveTo>
                    <a:pt x="18" y="660"/>
                  </a:moveTo>
                  <a:cubicBezTo>
                    <a:pt x="33" y="392"/>
                    <a:pt x="0" y="488"/>
                    <a:pt x="102" y="336"/>
                  </a:cubicBezTo>
                  <a:cubicBezTo>
                    <a:pt x="121" y="261"/>
                    <a:pt x="163" y="232"/>
                    <a:pt x="222" y="192"/>
                  </a:cubicBezTo>
                  <a:cubicBezTo>
                    <a:pt x="288" y="93"/>
                    <a:pt x="220" y="174"/>
                    <a:pt x="462" y="144"/>
                  </a:cubicBezTo>
                  <a:cubicBezTo>
                    <a:pt x="511" y="138"/>
                    <a:pt x="568" y="107"/>
                    <a:pt x="618" y="96"/>
                  </a:cubicBezTo>
                  <a:cubicBezTo>
                    <a:pt x="720" y="73"/>
                    <a:pt x="638" y="97"/>
                    <a:pt x="750" y="60"/>
                  </a:cubicBezTo>
                  <a:cubicBezTo>
                    <a:pt x="774" y="52"/>
                    <a:pt x="822" y="36"/>
                    <a:pt x="822" y="36"/>
                  </a:cubicBezTo>
                  <a:cubicBezTo>
                    <a:pt x="1549" y="54"/>
                    <a:pt x="1122" y="0"/>
                    <a:pt x="1410" y="96"/>
                  </a:cubicBezTo>
                  <a:cubicBezTo>
                    <a:pt x="1422" y="108"/>
                    <a:pt x="1431" y="124"/>
                    <a:pt x="1446" y="132"/>
                  </a:cubicBezTo>
                  <a:cubicBezTo>
                    <a:pt x="1464" y="141"/>
                    <a:pt x="1490" y="131"/>
                    <a:pt x="1506" y="144"/>
                  </a:cubicBezTo>
                  <a:cubicBezTo>
                    <a:pt x="1580" y="201"/>
                    <a:pt x="1527" y="226"/>
                    <a:pt x="1602" y="276"/>
                  </a:cubicBezTo>
                  <a:cubicBezTo>
                    <a:pt x="1649" y="416"/>
                    <a:pt x="1691" y="616"/>
                    <a:pt x="1554" y="708"/>
                  </a:cubicBezTo>
                  <a:cubicBezTo>
                    <a:pt x="1506" y="781"/>
                    <a:pt x="1481" y="769"/>
                    <a:pt x="1386" y="780"/>
                  </a:cubicBezTo>
                  <a:cubicBezTo>
                    <a:pt x="1094" y="776"/>
                    <a:pt x="802" y="775"/>
                    <a:pt x="510" y="768"/>
                  </a:cubicBezTo>
                  <a:cubicBezTo>
                    <a:pt x="458" y="767"/>
                    <a:pt x="406" y="764"/>
                    <a:pt x="354" y="756"/>
                  </a:cubicBezTo>
                  <a:cubicBezTo>
                    <a:pt x="329" y="752"/>
                    <a:pt x="330" y="762"/>
                    <a:pt x="282" y="732"/>
                  </a:cubicBezTo>
                  <a:lnTo>
                    <a:pt x="18" y="66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9"/>
            <p:cNvSpPr/>
            <p:nvPr/>
          </p:nvSpPr>
          <p:spPr>
            <a:xfrm>
              <a:off x="2785320" y="2687400"/>
              <a:ext cx="13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70×9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"/>
                            </p:stCondLst>
                            <p:childTnLst>
                              <p:par>
                                <p:cTn id="29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1"/>
                            </p:stCondLst>
                            <p:childTnLst>
                              <p:par>
                                <p:cTn id="29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"/>
                            </p:stCondLst>
                            <p:childTnLst>
                              <p:par>
                                <p:cTn id="3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"/>
                            </p:stCondLst>
                            <p:childTnLst>
                              <p:par>
                                <p:cTn id="3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"/>
                            </p:stCondLst>
                            <p:childTnLst>
                              <p:par>
                                <p:cTn id="3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"/>
                            </p:stCondLst>
                            <p:childTnLst>
                              <p:par>
                                <p:cTn id="3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"/>
                            </p:stCondLst>
                            <p:childTnLst>
                              <p:par>
                                <p:cTn id="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"/>
                            </p:stCondLst>
                            <p:childTnLst>
                              <p:par>
                                <p:cTn id="3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"/>
                            </p:stCondLst>
                            <p:childTnLst>
                              <p:par>
                                <p:cTn id="3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"/>
                            </p:stCondLst>
                            <p:childTnLst>
                              <p:par>
                                <p:cTn id="3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"/>
                            </p:stCondLst>
                            <p:childTnLst>
                              <p:par>
                                <p:cTn id="3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"/>
                            </p:stCondLst>
                            <p:childTnLst>
                              <p:par>
                                <p:cTn id="3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15652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654360" y="260280"/>
            <a:ext cx="2375280" cy="825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神奇的金字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317880" y="5543640"/>
            <a:ext cx="1003680" cy="1341000"/>
            <a:chOff x="317880" y="5543640"/>
            <a:chExt cx="1003680" cy="1341000"/>
          </a:xfrm>
        </p:grpSpPr>
        <p:sp>
          <p:nvSpPr>
            <p:cNvPr id="166" name="Rectangle 9"/>
            <p:cNvSpPr/>
            <p:nvPr/>
          </p:nvSpPr>
          <p:spPr>
            <a:xfrm>
              <a:off x="317880" y="5543640"/>
              <a:ext cx="100368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五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755640" y="6107400"/>
              <a:ext cx="142920" cy="77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11"/>
          <p:cNvSpPr/>
          <p:nvPr/>
        </p:nvSpPr>
        <p:spPr>
          <a:xfrm>
            <a:off x="250920" y="1268280"/>
            <a:ext cx="3600360" cy="3529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1036800" y="200808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792720" y="287172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792720" y="3735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8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 flipH="1">
            <a:off x="4572000" y="1987560"/>
            <a:ext cx="3960720" cy="37465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5358600" y="272736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40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5114160" y="3591000"/>
            <a:ext cx="19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20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5114160" y="4454640"/>
            <a:ext cx="19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160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×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246384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383560" y="2008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413800" y="2852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2413800" y="37180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6991920" y="27082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7022520" y="35719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7022520" y="44370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9"/>
          <p:cNvGrpSpPr/>
          <p:nvPr/>
        </p:nvGrpSpPr>
        <p:grpSpPr>
          <a:xfrm>
            <a:off x="2843280" y="5950080"/>
            <a:ext cx="6049800" cy="907920"/>
            <a:chOff x="2843280" y="5950080"/>
            <a:chExt cx="6049800" cy="907920"/>
          </a:xfrm>
        </p:grpSpPr>
        <p:sp>
          <p:nvSpPr>
            <p:cNvPr id="184" name="AutoShape 28"/>
            <p:cNvSpPr/>
            <p:nvPr/>
          </p:nvSpPr>
          <p:spPr>
            <a:xfrm>
              <a:off x="2843280" y="5950080"/>
              <a:ext cx="6049800" cy="907920"/>
            </a:xfrm>
            <a:prstGeom prst="cloudCallout">
              <a:avLst>
                <a:gd name="adj1" fmla="val 29611"/>
                <a:gd name="adj2" fmla="val 5384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7"/>
            <p:cNvSpPr/>
            <p:nvPr/>
          </p:nvSpPr>
          <p:spPr>
            <a:xfrm>
              <a:off x="5668920" y="6066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算一算，你发现了什么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"/>
                            </p:stCondLst>
                            <p:childTnLst>
                              <p:par>
                                <p:cTn id="34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1"/>
                            </p:stCondLst>
                            <p:childTnLst>
                              <p:par>
                                <p:cTn id="35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Img225563588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551520" y="189000"/>
            <a:ext cx="127800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买玩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654640" y="5950080"/>
            <a:ext cx="2133360" cy="720720"/>
            <a:chOff x="2654640" y="5950080"/>
            <a:chExt cx="2133360" cy="720720"/>
          </a:xfrm>
        </p:grpSpPr>
        <p:sp>
          <p:nvSpPr>
            <p:cNvPr id="189" name="Line 14"/>
            <p:cNvSpPr/>
            <p:nvPr/>
          </p:nvSpPr>
          <p:spPr>
            <a:xfrm>
              <a:off x="4500720" y="6597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1"/>
            <p:cNvSpPr/>
            <p:nvPr/>
          </p:nvSpPr>
          <p:spPr>
            <a:xfrm>
              <a:off x="4545000" y="5950080"/>
              <a:ext cx="243000" cy="64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"/>
            <p:cNvSpPr/>
            <p:nvPr/>
          </p:nvSpPr>
          <p:spPr>
            <a:xfrm>
              <a:off x="2654640" y="5967360"/>
              <a:ext cx="1861200" cy="70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16"/>
          <p:cNvSpPr/>
          <p:nvPr/>
        </p:nvSpPr>
        <p:spPr>
          <a:xfrm>
            <a:off x="4643280" y="1197000"/>
            <a:ext cx="3384720" cy="1440000"/>
          </a:xfrm>
          <a:prstGeom prst="wedgeRoundRectCallout">
            <a:avLst>
              <a:gd name="adj1" fmla="val -50796"/>
              <a:gd name="adj2" fmla="val 78226"/>
              <a:gd name="adj3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阿姨要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这样的娃娃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带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够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7"/>
          <p:cNvGrpSpPr/>
          <p:nvPr/>
        </p:nvGrpSpPr>
        <p:grpSpPr>
          <a:xfrm>
            <a:off x="7734600" y="5759280"/>
            <a:ext cx="1003680" cy="1341360"/>
            <a:chOff x="7734600" y="5759280"/>
            <a:chExt cx="1003680" cy="1341360"/>
          </a:xfrm>
        </p:grpSpPr>
        <p:sp>
          <p:nvSpPr>
            <p:cNvPr id="194" name="Rectangle 18"/>
            <p:cNvSpPr/>
            <p:nvPr/>
          </p:nvSpPr>
          <p:spPr>
            <a:xfrm>
              <a:off x="7734600" y="5759280"/>
              <a:ext cx="100368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六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8172360" y="6323040"/>
              <a:ext cx="142920" cy="777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"/>
                            </p:stCondLst>
                            <p:childTnLst>
                              <p:par>
                                <p:cTn id="4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1"/>
                            </p:stCondLst>
                            <p:childTnLst>
                              <p:par>
                                <p:cTn id="4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2"/>
                            </p:stCondLst>
                            <p:childTnLst>
                              <p:par>
                                <p:cTn id="42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44_05_8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1"/>
          <p:cNvGrpSpPr/>
          <p:nvPr/>
        </p:nvGrpSpPr>
        <p:grpSpPr>
          <a:xfrm>
            <a:off x="1185840" y="2997360"/>
            <a:ext cx="2881440" cy="3313080"/>
            <a:chOff x="1185840" y="2997360"/>
            <a:chExt cx="2881440" cy="3313080"/>
          </a:xfrm>
        </p:grpSpPr>
        <p:sp>
          <p:nvSpPr>
            <p:cNvPr id="198" name="AutoShape 10"/>
            <p:cNvSpPr/>
            <p:nvPr/>
          </p:nvSpPr>
          <p:spPr>
            <a:xfrm>
              <a:off x="1185840" y="2997360"/>
              <a:ext cx="2881440" cy="3311280"/>
            </a:xfrm>
            <a:prstGeom prst="wedgeRectCallout">
              <a:avLst>
                <a:gd name="adj1" fmla="val 33583"/>
                <a:gd name="adj2" fmla="val -6606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5" descr="jfk"/>
            <p:cNvPicPr/>
            <p:nvPr/>
          </p:nvPicPr>
          <p:blipFill>
            <a:blip r:embed="rId2"/>
            <a:stretch/>
          </p:blipFill>
          <p:spPr>
            <a:xfrm>
              <a:off x="1201680" y="3024360"/>
              <a:ext cx="28656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8"/>
            <p:cNvSpPr/>
            <p:nvPr/>
          </p:nvSpPr>
          <p:spPr>
            <a:xfrm>
              <a:off x="1187280" y="5084640"/>
              <a:ext cx="2880000" cy="122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盒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4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元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买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盒送</a:t>
              </a: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盒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16"/>
          <p:cNvSpPr/>
          <p:nvPr/>
        </p:nvSpPr>
        <p:spPr>
          <a:xfrm>
            <a:off x="4537080" y="115920"/>
            <a:ext cx="4859280" cy="1441440"/>
          </a:xfrm>
          <a:prstGeom prst="cloudCallout">
            <a:avLst>
              <a:gd name="adj1" fmla="val -47939"/>
              <a:gd name="adj2" fmla="val 4460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次买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盒，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盒便宜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7"/>
          <p:cNvGrpSpPr/>
          <p:nvPr/>
        </p:nvGrpSpPr>
        <p:grpSpPr>
          <a:xfrm>
            <a:off x="7994880" y="5661000"/>
            <a:ext cx="535680" cy="1236240"/>
            <a:chOff x="7994880" y="5661000"/>
            <a:chExt cx="535680" cy="1236240"/>
          </a:xfrm>
        </p:grpSpPr>
        <p:sp>
          <p:nvSpPr>
            <p:cNvPr id="203" name="Rectangle 18"/>
            <p:cNvSpPr/>
            <p:nvPr/>
          </p:nvSpPr>
          <p:spPr>
            <a:xfrm>
              <a:off x="7994880" y="5661000"/>
              <a:ext cx="535680" cy="520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最后一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8172360" y="6120000"/>
              <a:ext cx="142920" cy="77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20"/>
          <p:cNvSpPr/>
          <p:nvPr/>
        </p:nvSpPr>
        <p:spPr>
          <a:xfrm>
            <a:off x="673560" y="189000"/>
            <a:ext cx="16437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买口服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1"/>
                            </p:stCondLst>
                            <p:childTnLst>
                              <p:par>
                                <p:cTn id="44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503504"/>
          <p:cNvPicPr/>
          <p:nvPr/>
        </p:nvPicPr>
        <p:blipFill>
          <a:blip r:embed="rId1"/>
          <a:stretch/>
        </p:blipFill>
        <p:spPr>
          <a:xfrm>
            <a:off x="-324000" y="-458640"/>
            <a:ext cx="9753840" cy="84247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5"/>
          <p:cNvGrpSpPr/>
          <p:nvPr/>
        </p:nvGrpSpPr>
        <p:grpSpPr>
          <a:xfrm>
            <a:off x="4977720" y="3213000"/>
            <a:ext cx="3447000" cy="2519640"/>
            <a:chOff x="4977720" y="3213000"/>
            <a:chExt cx="3447000" cy="2519640"/>
          </a:xfrm>
        </p:grpSpPr>
        <p:sp>
          <p:nvSpPr>
            <p:cNvPr id="208" name="Text Box 6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你真棒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7" descr="女孩"/>
            <p:cNvPicPr/>
            <p:nvPr/>
          </p:nvPicPr>
          <p:blipFill>
            <a:blip r:embed="rId2"/>
            <a:stretch/>
          </p:blipFill>
          <p:spPr>
            <a:xfrm>
              <a:off x="7164360" y="3213000"/>
              <a:ext cx="1260360" cy="25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Text Box 8"/>
          <p:cNvSpPr/>
          <p:nvPr/>
        </p:nvSpPr>
        <p:spPr>
          <a:xfrm>
            <a:off x="2479680" y="10810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顺利过关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>
            <a:hlinkClick r:id="rId3" action="ppaction://hlinksldjump"/>
          </p:cNvPr>
          <p:cNvSpPr/>
          <p:nvPr/>
        </p:nvSpPr>
        <p:spPr>
          <a:xfrm>
            <a:off x="8028000" y="638172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6067" y="10800"/>
                </a:moveTo>
                <a:lnTo>
                  <a:pt x="36572" y="3794"/>
                </a:lnTo>
                <a:lnTo>
                  <a:pt x="36572" y="17806"/>
                </a:lnTo>
                <a:close/>
              </a:path>
              <a:path fill="darken" w="59131" h="21600">
                <a:moveTo>
                  <a:pt x="22559" y="3794"/>
                </a:moveTo>
                <a:lnTo>
                  <a:pt x="24222" y="3794"/>
                </a:lnTo>
                <a:lnTo>
                  <a:pt x="24222" y="17806"/>
                </a:lnTo>
                <a:lnTo>
                  <a:pt x="22559" y="17806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"/>
                            </p:stCondLst>
                            <p:childTnLst>
                              <p:par>
                                <p:cTn id="4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1"/>
                            </p:stCondLst>
                            <p:childTnLst>
                              <p:par>
                                <p:cTn id="46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2413080" y="2924280"/>
            <a:ext cx="69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彩云"/>
              </a:rPr>
              <a:t>谢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073E-10BD-4427-8644-F9B85141D5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0"/>
          <p:cNvSpPr/>
          <p:nvPr/>
        </p:nvSpPr>
        <p:spPr>
          <a:xfrm>
            <a:off x="4788000" y="9111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55640" y="1027080"/>
            <a:ext cx="31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你知道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Image00001"/>
          <p:cNvPicPr/>
          <p:nvPr/>
        </p:nvPicPr>
        <p:blipFill>
          <a:blip r:embed="rId3"/>
          <a:stretch/>
        </p:blipFill>
        <p:spPr>
          <a:xfrm>
            <a:off x="3949560" y="333360"/>
            <a:ext cx="4799160" cy="62355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3"/>
          <p:cNvSpPr/>
          <p:nvPr/>
        </p:nvSpPr>
        <p:spPr>
          <a:xfrm>
            <a:off x="1044720" y="2852640"/>
            <a:ext cx="2950920" cy="1871640"/>
          </a:xfrm>
          <a:prstGeom prst="wedgeRoundRectCallout">
            <a:avLst>
              <a:gd name="adj1" fmla="val -41449"/>
              <a:gd name="adj2" fmla="val 69254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你还知道其它交通工具的速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18"/>
          <p:cNvPicPr/>
          <p:nvPr/>
        </p:nvPicPr>
        <p:blipFill>
          <a:blip r:embed="rId4"/>
          <a:stretch/>
        </p:blipFill>
        <p:spPr>
          <a:xfrm>
            <a:off x="0" y="5013360"/>
            <a:ext cx="1549440" cy="15494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5">
            <a:hlinkClick r:id="rId5" action="ppaction://hlinksldjump"/>
          </p:cNvPr>
          <p:cNvSpPr/>
          <p:nvPr/>
        </p:nvSpPr>
        <p:spPr>
          <a:xfrm>
            <a:off x="8028000" y="6453360"/>
            <a:ext cx="792000" cy="28872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05" h="21600">
                <a:moveTo>
                  <a:pt x="0" y="0"/>
                </a:moveTo>
                <a:lnTo>
                  <a:pt x="59205" y="0"/>
                </a:lnTo>
                <a:lnTo>
                  <a:pt x="59205" y="21600"/>
                </a:lnTo>
                <a:lnTo>
                  <a:pt x="0" y="21600"/>
                </a:lnTo>
                <a:close/>
              </a:path>
              <a:path fill="lightenLess" w="59205" h="21600">
                <a:moveTo>
                  <a:pt x="0" y="0"/>
                </a:moveTo>
                <a:lnTo>
                  <a:pt x="59205" y="0"/>
                </a:lnTo>
                <a:lnTo>
                  <a:pt x="57805" y="1400"/>
                </a:lnTo>
                <a:lnTo>
                  <a:pt x="1400" y="1400"/>
                </a:lnTo>
                <a:close/>
              </a:path>
              <a:path fill="darken" w="59205" h="21600">
                <a:moveTo>
                  <a:pt x="59205" y="0"/>
                </a:moveTo>
                <a:lnTo>
                  <a:pt x="59205" y="21600"/>
                </a:lnTo>
                <a:lnTo>
                  <a:pt x="57805" y="20200"/>
                </a:lnTo>
                <a:lnTo>
                  <a:pt x="57805" y="1400"/>
                </a:lnTo>
                <a:close/>
              </a:path>
              <a:path fill="darkenLess" w="59205" h="21600">
                <a:moveTo>
                  <a:pt x="5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05" y="20200"/>
                </a:lnTo>
                <a:close/>
              </a:path>
              <a:path fill="lighten" w="5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05" h="21600">
                <a:moveTo>
                  <a:pt x="26104" y="10800"/>
                </a:moveTo>
                <a:lnTo>
                  <a:pt x="36609" y="3794"/>
                </a:lnTo>
                <a:lnTo>
                  <a:pt x="36609" y="17806"/>
                </a:lnTo>
                <a:close/>
              </a:path>
              <a:path fill="darken" w="59205" h="21600">
                <a:moveTo>
                  <a:pt x="22596" y="3794"/>
                </a:moveTo>
                <a:lnTo>
                  <a:pt x="24258" y="3794"/>
                </a:lnTo>
                <a:lnTo>
                  <a:pt x="24258" y="17806"/>
                </a:lnTo>
                <a:lnTo>
                  <a:pt x="22596" y="17806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3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1836720" y="260280"/>
            <a:ext cx="3311280" cy="3623040"/>
            <a:chOff x="1836720" y="260280"/>
            <a:chExt cx="3311280" cy="3623040"/>
          </a:xfrm>
        </p:grpSpPr>
        <p:pic>
          <p:nvPicPr>
            <p:cNvPr id="58" name="Picture 4" descr="2005108153041800"/>
            <p:cNvPicPr/>
            <p:nvPr/>
          </p:nvPicPr>
          <p:blipFill>
            <a:blip r:embed="rId2"/>
            <a:stretch/>
          </p:blipFill>
          <p:spPr>
            <a:xfrm>
              <a:off x="1836720" y="260280"/>
              <a:ext cx="3311280" cy="26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9"/>
            <p:cNvSpPr/>
            <p:nvPr/>
          </p:nvSpPr>
          <p:spPr>
            <a:xfrm>
              <a:off x="1836720" y="2936160"/>
              <a:ext cx="331128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人骑自行车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小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约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千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5557680" y="241200"/>
            <a:ext cx="3335040" cy="3620880"/>
            <a:chOff x="5557680" y="241200"/>
            <a:chExt cx="3335040" cy="3620880"/>
          </a:xfrm>
        </p:grpSpPr>
        <p:pic>
          <p:nvPicPr>
            <p:cNvPr id="61" name="Picture 8" descr="xinsrc_261201091041312213638"/>
            <p:cNvPicPr/>
            <p:nvPr/>
          </p:nvPicPr>
          <p:blipFill>
            <a:blip r:embed="rId3"/>
            <a:stretch/>
          </p:blipFill>
          <p:spPr>
            <a:xfrm>
              <a:off x="5557680" y="241200"/>
              <a:ext cx="3335040" cy="26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/>
            <p:cNvSpPr/>
            <p:nvPr/>
          </p:nvSpPr>
          <p:spPr>
            <a:xfrm>
              <a:off x="5557680" y="2914920"/>
              <a:ext cx="333504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特快列车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小时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千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14040" y="3859200"/>
            <a:ext cx="5710320" cy="2954520"/>
            <a:chOff x="14040" y="3859200"/>
            <a:chExt cx="5710320" cy="2954520"/>
          </a:xfrm>
        </p:grpSpPr>
        <p:pic>
          <p:nvPicPr>
            <p:cNvPr id="64" name="Picture 14" descr="8"/>
            <p:cNvPicPr/>
            <p:nvPr/>
          </p:nvPicPr>
          <p:blipFill>
            <a:blip r:embed="rId4"/>
            <a:stretch/>
          </p:blipFill>
          <p:spPr>
            <a:xfrm flipH="1">
              <a:off x="14040" y="4680000"/>
              <a:ext cx="1965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AutoShape 15"/>
            <p:cNvSpPr/>
            <p:nvPr/>
          </p:nvSpPr>
          <p:spPr>
            <a:xfrm>
              <a:off x="468360" y="3859200"/>
              <a:ext cx="5256000" cy="1441440"/>
            </a:xfrm>
            <a:prstGeom prst="cloudCallout">
              <a:avLst>
                <a:gd name="adj1" fmla="val -24782"/>
                <a:gd name="adj2" fmla="val 700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人骑自行车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小时可以行多少千米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6"/>
          <p:cNvSpPr/>
          <p:nvPr/>
        </p:nvSpPr>
        <p:spPr>
          <a:xfrm>
            <a:off x="4140360" y="5013360"/>
            <a:ext cx="4967280" cy="1440000"/>
          </a:xfrm>
          <a:prstGeom prst="cloudCallout">
            <a:avLst>
              <a:gd name="adj1" fmla="val 4680"/>
              <a:gd name="adj2" fmla="val 50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特快列车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时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行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2197080" y="5516640"/>
            <a:ext cx="19432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6×3=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6300720" y="4437000"/>
            <a:ext cx="215892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60×3=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403280" y="981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×3=4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900000" y="2349360"/>
            <a:ext cx="3743280" cy="2232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"/>
              </a:rPr>
              <a:t>我用口算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×3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×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+18=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2"/>
          <p:cNvGrpSpPr/>
          <p:nvPr/>
        </p:nvGrpSpPr>
        <p:grpSpPr>
          <a:xfrm>
            <a:off x="2987640" y="4510080"/>
            <a:ext cx="2736720" cy="2232000"/>
            <a:chOff x="2987640" y="4510080"/>
            <a:chExt cx="2736720" cy="2232000"/>
          </a:xfrm>
        </p:grpSpPr>
        <p:sp>
          <p:nvSpPr>
            <p:cNvPr id="72" name="AutoShape 8"/>
            <p:cNvSpPr/>
            <p:nvPr/>
          </p:nvSpPr>
          <p:spPr>
            <a:xfrm flipH="1">
              <a:off x="2987640" y="4510080"/>
              <a:ext cx="2736720" cy="2232000"/>
            </a:xfrm>
            <a:prstGeom prst="wedgeRoundRectCallout">
              <a:avLst>
                <a:gd name="adj1" fmla="val 102203"/>
                <a:gd name="adj2" fmla="val 26453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我列竖式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 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×   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 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9"/>
            <p:cNvSpPr/>
            <p:nvPr/>
          </p:nvSpPr>
          <p:spPr>
            <a:xfrm>
              <a:off x="3419640" y="6022800"/>
              <a:ext cx="1512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0"/>
          <p:cNvSpPr/>
          <p:nvPr/>
        </p:nvSpPr>
        <p:spPr>
          <a:xfrm>
            <a:off x="5219640" y="3429000"/>
            <a:ext cx="3924360" cy="2087640"/>
          </a:xfrm>
          <a:prstGeom prst="cloudCallout">
            <a:avLst>
              <a:gd name="adj1" fmla="val 22129"/>
              <a:gd name="adj2" fmla="val -8231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你喜欢的方法算一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0×3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1956240" y="1628640"/>
            <a:ext cx="35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答：人骑自行车的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时可以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0" descr="katongdongwu3_048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403280" y="4017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0×3=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055760" y="1100160"/>
            <a:ext cx="37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答：人骑自行车的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时可以行</a:t>
            </a:r>
            <a:r>
              <a:rPr b="0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80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1547640" y="1557360"/>
            <a:ext cx="2592720" cy="1584360"/>
          </a:xfrm>
          <a:prstGeom prst="wedgeRoundRectCallout">
            <a:avLst>
              <a:gd name="adj1" fmla="val -42222"/>
              <a:gd name="adj2" fmla="val 60523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00×3=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0×3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+180=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132000" y="3211560"/>
            <a:ext cx="2808360" cy="1081080"/>
          </a:xfrm>
          <a:prstGeom prst="wedgeRoundRectCallout">
            <a:avLst>
              <a:gd name="adj1" fmla="val -3703"/>
              <a:gd name="adj2" fmla="val 65416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6×3=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60×3=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1"/>
          <p:cNvGrpSpPr/>
          <p:nvPr/>
        </p:nvGrpSpPr>
        <p:grpSpPr>
          <a:xfrm>
            <a:off x="6589440" y="2133720"/>
            <a:ext cx="1942920" cy="1942920"/>
            <a:chOff x="6589440" y="2133720"/>
            <a:chExt cx="1942920" cy="1942920"/>
          </a:xfrm>
        </p:grpSpPr>
        <p:sp>
          <p:nvSpPr>
            <p:cNvPr id="82" name="AutoShape 16"/>
            <p:cNvSpPr/>
            <p:nvPr/>
          </p:nvSpPr>
          <p:spPr>
            <a:xfrm flipH="1">
              <a:off x="6589080" y="2133720"/>
              <a:ext cx="1942920" cy="1942920"/>
            </a:xfrm>
            <a:prstGeom prst="wedgeRoundRectCallout">
              <a:avLst>
                <a:gd name="adj1" fmla="val 74995"/>
                <a:gd name="adj2" fmla="val 77203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1  6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×   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4  8 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6732720" y="3357720"/>
              <a:ext cx="165708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9"/>
          <p:cNvSpPr/>
          <p:nvPr/>
        </p:nvSpPr>
        <p:spPr>
          <a:xfrm>
            <a:off x="2195640" y="5300640"/>
            <a:ext cx="3097080" cy="1224000"/>
          </a:xfrm>
          <a:prstGeom prst="cloudCallout">
            <a:avLst>
              <a:gd name="adj1" fmla="val -42361"/>
              <a:gd name="adj2" fmla="val -9344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喜欢哪种方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2">
            <a:hlinkClick r:id="rId2" action="ppaction://hlinksldjump"/>
          </p:cNvPr>
          <p:cNvSpPr/>
          <p:nvPr/>
        </p:nvSpPr>
        <p:spPr>
          <a:xfrm>
            <a:off x="8028000" y="6453360"/>
            <a:ext cx="792000" cy="28872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05" h="21600">
                <a:moveTo>
                  <a:pt x="0" y="0"/>
                </a:moveTo>
                <a:lnTo>
                  <a:pt x="59205" y="0"/>
                </a:lnTo>
                <a:lnTo>
                  <a:pt x="59205" y="21600"/>
                </a:lnTo>
                <a:lnTo>
                  <a:pt x="0" y="21600"/>
                </a:lnTo>
                <a:close/>
              </a:path>
              <a:path fill="lightenLess" w="59205" h="21600">
                <a:moveTo>
                  <a:pt x="0" y="0"/>
                </a:moveTo>
                <a:lnTo>
                  <a:pt x="59205" y="0"/>
                </a:lnTo>
                <a:lnTo>
                  <a:pt x="57805" y="1400"/>
                </a:lnTo>
                <a:lnTo>
                  <a:pt x="1400" y="1400"/>
                </a:lnTo>
                <a:close/>
              </a:path>
              <a:path fill="darken" w="59205" h="21600">
                <a:moveTo>
                  <a:pt x="59205" y="0"/>
                </a:moveTo>
                <a:lnTo>
                  <a:pt x="59205" y="21600"/>
                </a:lnTo>
                <a:lnTo>
                  <a:pt x="57805" y="20200"/>
                </a:lnTo>
                <a:lnTo>
                  <a:pt x="57805" y="1400"/>
                </a:lnTo>
                <a:close/>
              </a:path>
              <a:path fill="darkenLess" w="59205" h="21600">
                <a:moveTo>
                  <a:pt x="5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05" y="20200"/>
                </a:lnTo>
                <a:close/>
              </a:path>
              <a:path fill="lighten" w="5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05" h="21600">
                <a:moveTo>
                  <a:pt x="26104" y="10800"/>
                </a:moveTo>
                <a:lnTo>
                  <a:pt x="36609" y="3794"/>
                </a:lnTo>
                <a:lnTo>
                  <a:pt x="36609" y="17806"/>
                </a:lnTo>
                <a:close/>
              </a:path>
              <a:path fill="darken" w="59205" h="21600">
                <a:moveTo>
                  <a:pt x="22596" y="3794"/>
                </a:moveTo>
                <a:lnTo>
                  <a:pt x="24258" y="3794"/>
                </a:lnTo>
                <a:lnTo>
                  <a:pt x="24258" y="17806"/>
                </a:lnTo>
                <a:lnTo>
                  <a:pt x="22596" y="17806"/>
                </a:ln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50000">
                <a:srgbClr val="c0c0c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3203640" y="836640"/>
            <a:ext cx="12240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3421080" y="3286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503504"/>
          <p:cNvPicPr/>
          <p:nvPr/>
        </p:nvPicPr>
        <p:blipFill>
          <a:blip r:embed="rId1"/>
          <a:stretch/>
        </p:blipFill>
        <p:spPr>
          <a:xfrm>
            <a:off x="-684360" y="-1108080"/>
            <a:ext cx="10657080" cy="9145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88160" y="8002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  <a:ea typeface="华文彩云"/>
              </a:rPr>
              <a:t>智慧城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977720" y="3213000"/>
            <a:ext cx="3447000" cy="2519640"/>
            <a:chOff x="4977720" y="3213000"/>
            <a:chExt cx="3447000" cy="2519640"/>
          </a:xfrm>
        </p:grpSpPr>
        <p:sp>
          <p:nvSpPr>
            <p:cNvPr id="91" name="Text Box 5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加油啊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女孩"/>
            <p:cNvPicPr/>
            <p:nvPr/>
          </p:nvPicPr>
          <p:blipFill>
            <a:blip r:embed="rId2"/>
            <a:stretch/>
          </p:blipFill>
          <p:spPr>
            <a:xfrm>
              <a:off x="7164360" y="3213000"/>
              <a:ext cx="1260360" cy="25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文本框 1"/>
          <p:cNvSpPr/>
          <p:nvPr/>
        </p:nvSpPr>
        <p:spPr>
          <a:xfrm>
            <a:off x="728640" y="634680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"/>
                            </p:stCondLst>
                            <p:childTnLst>
                              <p:par>
                                <p:cTn id="17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503482"/>
          <p:cNvPicPr/>
          <p:nvPr/>
        </p:nvPicPr>
        <p:blipFill>
          <a:blip r:embed="rId1"/>
          <a:stretch/>
        </p:blipFill>
        <p:spPr>
          <a:xfrm>
            <a:off x="-468360" y="-531720"/>
            <a:ext cx="10009080" cy="8424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809520" y="260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0093"/>
                </a:solidFill>
                <a:latin typeface="Arial"/>
                <a:ea typeface="华文新魏"/>
              </a:rPr>
              <a:t>登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88748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978240" y="3500280"/>
            <a:ext cx="173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60×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001520" y="2852640"/>
            <a:ext cx="147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5×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191960" y="1338120"/>
            <a:ext cx="147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3×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7049880" y="5300640"/>
            <a:ext cx="147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5×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952440" y="3716280"/>
            <a:ext cx="173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50×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504800" y="4292640"/>
            <a:ext cx="147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×7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736800" y="5157720"/>
            <a:ext cx="173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50×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618240" y="4437000"/>
            <a:ext cx="147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×17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593880" y="2781360"/>
            <a:ext cx="1732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0×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789840" y="5516640"/>
            <a:ext cx="637920" cy="1442520"/>
            <a:chOff x="789840" y="5516640"/>
            <a:chExt cx="637920" cy="1442520"/>
          </a:xfrm>
        </p:grpSpPr>
        <p:sp>
          <p:nvSpPr>
            <p:cNvPr id="107" name="Rectangle 16"/>
            <p:cNvSpPr/>
            <p:nvPr/>
          </p:nvSpPr>
          <p:spPr>
            <a:xfrm>
              <a:off x="789840" y="5516640"/>
              <a:ext cx="63792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一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7"/>
            <p:cNvSpPr/>
            <p:nvPr/>
          </p:nvSpPr>
          <p:spPr>
            <a:xfrm>
              <a:off x="1044720" y="6122880"/>
              <a:ext cx="142920" cy="836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2005326755639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324000" y="4508640"/>
            <a:ext cx="4392360" cy="1584360"/>
          </a:xfrm>
          <a:prstGeom prst="wedgeRoundRectCallout">
            <a:avLst>
              <a:gd name="adj1" fmla="val -3342"/>
              <a:gd name="adj2" fmla="val -6793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为布置“六一”晚会的会场，红、黄、蓝每种颜色的气球各买了</a:t>
            </a: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6227640" y="3357720"/>
            <a:ext cx="2376720" cy="1584000"/>
          </a:xfrm>
          <a:prstGeom prst="wedgeRoundRectCallout">
            <a:avLst>
              <a:gd name="adj1" fmla="val -38310"/>
              <a:gd name="adj2" fmla="val -59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三种颜色的气球共买了多少个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454560" y="115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欢乐的节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2"/>
          <p:cNvGrpSpPr/>
          <p:nvPr/>
        </p:nvGrpSpPr>
        <p:grpSpPr>
          <a:xfrm>
            <a:off x="7807680" y="5616720"/>
            <a:ext cx="1003680" cy="1341000"/>
            <a:chOff x="7807680" y="5616720"/>
            <a:chExt cx="1003680" cy="1341000"/>
          </a:xfrm>
        </p:grpSpPr>
        <p:sp>
          <p:nvSpPr>
            <p:cNvPr id="114" name="Rectangle 13"/>
            <p:cNvSpPr/>
            <p:nvPr/>
          </p:nvSpPr>
          <p:spPr>
            <a:xfrm>
              <a:off x="7807680" y="5616720"/>
              <a:ext cx="100368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二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4"/>
            <p:cNvSpPr/>
            <p:nvPr/>
          </p:nvSpPr>
          <p:spPr>
            <a:xfrm>
              <a:off x="8245440" y="6180480"/>
              <a:ext cx="142920" cy="77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"/>
                            </p:stCondLst>
                            <p:childTnLst>
                              <p:par>
                                <p:cTn id="23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1"/>
                            </p:stCondLst>
                            <p:childTnLst>
                              <p:par>
                                <p:cTn id="24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草原"/>
          <p:cNvPicPr/>
          <p:nvPr/>
        </p:nvPicPr>
        <p:blipFill>
          <a:blip r:embed="rId1"/>
          <a:stretch/>
        </p:blipFill>
        <p:spPr>
          <a:xfrm>
            <a:off x="-144360" y="-14292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454560" y="836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美丽的草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851280" y="1773360"/>
            <a:ext cx="4392720" cy="1584360"/>
          </a:xfrm>
          <a:prstGeom prst="wedgeRoundRectCallout">
            <a:avLst>
              <a:gd name="adj1" fmla="val -45412"/>
              <a:gd name="adj2" fmla="val 65027"/>
              <a:gd name="adj3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蒙古草原上某牧场养细毛羊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养的山羊的只数是细毛羊的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4920" y="3355920"/>
            <a:ext cx="3313080" cy="1081080"/>
          </a:xfrm>
          <a:prstGeom prst="wedgeRoundRectCallout">
            <a:avLst>
              <a:gd name="adj1" fmla="val 56134"/>
              <a:gd name="adj2" fmla="val 32671"/>
              <a:gd name="adj3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算出这个牧场养山羊多少只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"/>
          <p:cNvGrpSpPr/>
          <p:nvPr/>
        </p:nvGrpSpPr>
        <p:grpSpPr>
          <a:xfrm>
            <a:off x="7807680" y="5616720"/>
            <a:ext cx="1003680" cy="1341000"/>
            <a:chOff x="7807680" y="5616720"/>
            <a:chExt cx="1003680" cy="1341000"/>
          </a:xfrm>
        </p:grpSpPr>
        <p:sp>
          <p:nvSpPr>
            <p:cNvPr id="121" name="Rectangle 9"/>
            <p:cNvSpPr/>
            <p:nvPr/>
          </p:nvSpPr>
          <p:spPr>
            <a:xfrm>
              <a:off x="7807680" y="5616720"/>
              <a:ext cx="100368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第三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8245440" y="6180480"/>
              <a:ext cx="142920" cy="777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"/>
                            </p:stCondLst>
                            <p:childTnLst>
                              <p:par>
                                <p:cTn id="26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1"/>
                            </p:stCondLst>
                            <p:childTnLst>
                              <p:par>
                                <p:cTn id="27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6:21Z</dcterms:modified>
  <cp:revision>6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