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B92-27C0-4D96-9536-EFD93AEE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D0A-A686-4550-BAAC-A867553C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557-2535-4F09-86B8-8DC54DB2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6EE-EBFD-4968-B706-9F202A2D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43B1-3D8A-4261-BD54-976AC0FD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E75D-A9BC-4572-81D8-3DC3228E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185D-8A1B-483E-9A3F-4368456B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7860-DE99-4A2A-AEB7-FA7EB01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1310-C0BA-4343-B321-8C4072B8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C56B-CE3C-41A0-A26D-68D2E649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617D-3549-4EC0-ABF9-2281FE9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C32-1BEE-4A27-A824-709E6E32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6398-E2FF-45B7-9242-4F56460E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8E8B-B582-4591-B210-8CDA1E62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A2EB-ED38-4135-B968-FD79903B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AD31-9E05-46D9-9CFC-53807CE8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049D-6B47-4507-A35F-4DF2EA87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7AC-FD2E-4A58-AEE7-B1F251C4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A1E-3AC2-4EDD-A7E0-34422498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AC2-2F28-416B-B05D-8912F535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C69-0D84-4654-821F-4969D892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70F-662B-4FCC-BCF5-1F9CC32E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42F-113E-4C61-90AF-C22A99C0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511-196B-46B4-BB7E-BFEB36EA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8C24-A87E-4997-A2DF-EA57A996045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1CF6-2A2A-4A61-87ED-565F1015F78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file:///&#12298;&#36855;&#20154;&#30340;&#24352;&#23478;&#30028;&#12299;&#35829;&#35835;.swf" TargetMode="External"/><Relationship Id="rId17" Type="http://schemas.openxmlformats.org/officeDocument/2006/relationships/image" Target="../media/image3.png"/><Relationship Id="rId18" Type="http://schemas.openxmlformats.org/officeDocument/2006/relationships/image" Target="../media/image4.jpeg"/><Relationship Id="rId19" Type="http://schemas.openxmlformats.org/officeDocument/2006/relationships/hyperlink" Target="file:///&#12298;&#32034;&#28330;&#23786;&#30340;&#8220;&#37326;&#8221;&#12299;&#35829;&#35835;.swf" TargetMode="External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 Box 4" descr=""/>
          <p:cNvPicPr/>
          <p:nvPr/>
        </p:nvPicPr>
        <p:blipFill>
          <a:blip r:embed="rId1"/>
          <a:stretch/>
        </p:blipFill>
        <p:spPr>
          <a:xfrm>
            <a:off x="333360" y="1197000"/>
            <a:ext cx="9086760" cy="2216160"/>
          </a:xfrm>
          <a:prstGeom prst="rect">
            <a:avLst/>
          </a:prstGeom>
          <a:ln w="0">
            <a:noFill/>
          </a:ln>
        </p:spPr>
      </p:pic>
      <p:sp>
        <p:nvSpPr>
          <p:cNvPr id="83" name="矩形 5"/>
          <p:cNvSpPr/>
          <p:nvPr/>
        </p:nvSpPr>
        <p:spPr>
          <a:xfrm>
            <a:off x="250416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2638440" y="620640"/>
            <a:ext cx="365760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自然美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2714760" y="2849400"/>
            <a:ext cx="365760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6600"/>
                  </a:solidFill>
                  <a:round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天然美</a:t>
            </a:r>
            <a:endParaRPr b="1" lang="en-US" sz="9600" spc="1" strike="noStrike">
              <a:ln w="9360">
                <a:solidFill>
                  <a:srgbClr val="cc6600"/>
                </a:solidFill>
                <a:round/>
              </a:ln>
              <a:solidFill>
                <a:srgbClr val="cc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43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6915-61EF-4EC5-9D2F-10BFE58C6C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5029200" y="15382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桂林山水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029200" y="297180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16"/>
              </a:rPr>
              <a:t>迷人的张家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7" name="《桂林山水》课文朗读.MP3" descr=""/>
          <p:cNvPicPr/>
          <p:nvPr/>
        </p:nvPicPr>
        <p:blipFill>
          <a:blip r:embed="rId17"/>
          <a:stretch/>
        </p:blipFill>
        <p:spPr>
          <a:xfrm>
            <a:off x="8001000" y="1752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4716360" y="429264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9" name="Picture 6" descr="《索溪峪的“野”》插图"/>
          <p:cNvPicPr/>
          <p:nvPr/>
        </p:nvPicPr>
        <p:blipFill>
          <a:blip r:embed="rId18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5029200" y="3830760"/>
            <a:ext cx="285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19"/>
              </a:rPr>
              <a:t>索溪峪的“野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895480" y="4762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阅读提示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77156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索溪峪是张家界的一个主要景点。这里的一切都有一种野性的美。认真读读课文，想一想：“野”在本课是什么意思，课文从哪几个方面描写了索溪峪的“野”，是怎样写出这种野性美的。把你觉得写得好的地方多读一读，体会这样写好在哪里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《索溪峪的“野”》课文朗读.MP3" descr=""/>
          <p:cNvPicPr/>
          <p:nvPr/>
        </p:nvPicPr>
        <p:blipFill>
          <a:blip r:embed="rId1"/>
          <a:stretch/>
        </p:blipFill>
        <p:spPr>
          <a:xfrm>
            <a:off x="5791320" y="704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629080" y="333360"/>
            <a:ext cx="39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读读下列词语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933560"/>
            <a:ext cx="8229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赋予  倩影  崛起  巍巍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千峰万仞  绵亘蜿蜒  窈窕淑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撅着  水花四溅  老叟  荡涤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3352680" y="1600200"/>
            <a:ext cx="16002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琥珀"/>
              </a:rPr>
              <a:t>野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1600200" y="762120"/>
            <a:ext cx="76212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山</a:t>
            </a:r>
            <a:endParaRPr b="0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600200" y="2057400"/>
            <a:ext cx="7714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水</a:t>
            </a:r>
            <a:endParaRPr b="1" lang="en-US" sz="6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1219320" y="2895480"/>
            <a:ext cx="1542960" cy="13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动物</a:t>
            </a:r>
            <a:endParaRPr b="1" lang="en-US" sz="6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1600200" y="4772160"/>
            <a:ext cx="771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人</a:t>
            </a:r>
            <a:endParaRPr b="1" lang="en-US" sz="6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5486400" y="533520"/>
            <a:ext cx="182880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琥珀"/>
              </a:rPr>
              <a:t>姿态各异</a:t>
            </a:r>
            <a:endParaRPr b="0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5562720" y="1981080"/>
            <a:ext cx="190476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蜿蜒变幻</a:t>
            </a:r>
            <a:endParaRPr b="1" lang="en-US" sz="6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5486400" y="2819520"/>
            <a:ext cx="213372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自由自在</a:t>
            </a:r>
            <a:endParaRPr b="1" lang="en-US" sz="6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5486400" y="4800600"/>
            <a:ext cx="228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返璞归真</a:t>
            </a:r>
            <a:endParaRPr b="1" lang="en-US" sz="60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索溪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索溪峪风光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索溪峪风光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"/>
          <p:cNvSpPr/>
          <p:nvPr/>
        </p:nvSpPr>
        <p:spPr>
          <a:xfrm>
            <a:off x="1028880" y="303120"/>
            <a:ext cx="67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索溪峪风光1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索溪峪风光2"/>
          <p:cNvPicPr/>
          <p:nvPr/>
        </p:nvPicPr>
        <p:blipFill>
          <a:blip r:embed="rId2"/>
          <a:stretch/>
        </p:blipFill>
        <p:spPr>
          <a:xfrm>
            <a:off x="4572000" y="0"/>
            <a:ext cx="4648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07:39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6:52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