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7.jpeg" ContentType="image/jpeg"/>
  <Override PartName="/ppt/media/breeze.wav" ContentType="audio/x-wav"/>
  <Override PartName="/ppt/media/camera.wav" ContentType="audio/x-wav"/>
  <Override PartName="/ppt/media/click.wav" ContentType="audio/x-wav"/>
  <Override PartName="/ppt/media/image14.png" ContentType="image/png"/>
  <Override PartName="/ppt/media/image10.jpeg" ContentType="image/jpeg"/>
  <Override PartName="/ppt/media/image13.jpeg" ContentType="image/jpeg"/>
  <Override PartName="/ppt/media/image12.png" ContentType="image/png"/>
  <Override PartName="/ppt/media/image23.jpeg" ContentType="image/jpeg"/>
  <Override PartName="/ppt/media/explode.wav" ContentType="audio/x-wav"/>
  <Override PartName="/ppt/media/image5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5.png" ContentType="image/png"/>
  <Override PartName="/ppt/media/image8.gif" ContentType="image/gif"/>
  <Override PartName="/ppt/media/image20.jpeg" ContentType="image/jpeg"/>
  <Override PartName="/ppt/media/image1.jpeg" ContentType="image/jpeg"/>
  <Override PartName="/ppt/media/image19.gif" ContentType="image/gif"/>
  <Override PartName="/ppt/media/image24.jpeg" ContentType="image/jpeg"/>
  <Override PartName="/ppt/media/image30.jpeg" ContentType="image/jpeg"/>
  <Override PartName="/ppt/media/drumroll.wav" ContentType="audio/x-wav"/>
  <Override PartName="/ppt/media/image26.jpeg" ContentType="image/jpeg"/>
  <Override PartName="/ppt/media/image22.jpeg" ContentType="image/jpeg"/>
  <Override PartName="/ppt/media/cashreg.wav" ContentType="audio/x-wav"/>
  <Override PartName="/ppt/media/image27.jpeg" ContentType="image/jpeg"/>
  <Override PartName="/ppt/media/image28.jpeg" ContentType="image/jpeg"/>
  <Override PartName="/ppt/media/image31.wmf" ContentType="image/x-wmf"/>
  <Override PartName="/ppt/media/image7.jpeg" ContentType="image/jpeg"/>
  <Override PartName="/ppt/media/image3.jpeg" ContentType="image/jpeg"/>
  <Override PartName="/ppt/media/voltage.wav" ContentType="audio/x-wav"/>
  <Override PartName="/ppt/media/image25.png" ContentType="image/png"/>
  <Override PartName="/ppt/media/suction.wav" ContentType="audio/x-wav"/>
  <Override PartName="/ppt/media/MS900097487%5B2%5D.wav" ContentType="audio/x-wav"/>
  <Override PartName="/ppt/media/image29.jpeg" ContentType="image/jpeg"/>
  <Override PartName="/ppt/media/image2.jpeg" ContentType="image/jpeg"/>
  <Override PartName="/ppt/media/push.wav" ContentType="audio/x-wav"/>
  <Override PartName="/ppt/media/image21.jpeg" ContentType="image/jpeg"/>
  <Override PartName="/ppt/media/image6.gif" ContentType="image/gif"/>
  <Override PartName="/ppt/media/chimes.wav" ContentType="audio/x-wav"/>
  <Override PartName="/ppt/media/image4.jpeg" ContentType="image/jpeg"/>
  <Override PartName="/ppt/media/%E7%9C%8B%E7%AD%94%E6%A1%88.wav" ContentType="audio/x-wav"/>
  <Override PartName="/ppt/media/image16.jpeg" ContentType="image/jpeg"/>
  <Override PartName="/ppt/media/laser.wav" ContentType="audio/x-wav"/>
  <Override PartName="/ppt/media/typ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BB7E-143A-4A96-851F-B689A4396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DE31-44DE-49B3-8037-32731191BB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34DF-2692-4482-98C6-E34C8F24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99ED0-031E-4F8C-BA28-53EC1AD0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F9CF6-CFE5-425A-A963-71C62FCF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4450-3EF2-4688-B0BD-D89E7126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50CA-6B39-4C37-8DED-AF88321A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9884-5F4C-4025-A45F-5B38AD22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76FB-212E-4EAE-A1AB-41AAB174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8BC8-2FC4-4724-B849-36FB453A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DB1C-B606-4114-9593-D626E792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5176-0122-412B-B8A9-7D5BE23B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31C2-D782-49AA-9E90-5CEBB5A9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121CE-4DD9-425C-A8F6-8CFC6AA8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7AD7-8828-4997-A873-9A203112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CFC7-868D-4E7B-A51B-EEC764D9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3818-3DB6-4407-ADB7-C61188C0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1C1E-035F-4F0D-8C90-23A6981C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B6B1-589C-4339-8BBD-38842D83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CC950-732B-48DE-B559-C038391F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F35B-6DE3-40EE-BD2F-36D2D092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4847-11F6-4636-BA72-8407C61D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D04AB-BBF9-413D-951F-C840BFCB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DA706-501B-4F74-9C76-708CFC05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BB50-4002-430F-B4AB-9B29B68F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FB12D-CAE4-4A75-B04C-FE137D10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7349-428B-49DE-A071-E5E3305EF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1316-DC23-47FC-BCAE-58E1DEB946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audio" Target="../media/suction.wav"/><Relationship Id="rId5" Type="http://schemas.openxmlformats.org/officeDocument/2006/relationships/audio" Target="../media/voltage.wav"/><Relationship Id="rId6" Type="http://schemas.openxmlformats.org/officeDocument/2006/relationships/audio" Target="../media/click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&#30475;&#31572;&#26696;.wav"/><Relationship Id="rId3" Type="http://schemas.openxmlformats.org/officeDocument/2006/relationships/audio" Target="../media/&#30475;&#31572;&#26696;.wav"/><Relationship Id="rId4" Type="http://schemas.openxmlformats.org/officeDocument/2006/relationships/audio" Target="../media/&#30475;&#31572;&#26696;.wav"/><Relationship Id="rId5" Type="http://schemas.openxmlformats.org/officeDocument/2006/relationships/audio" Target="../media/&#30475;&#31572;&#26696;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MS900097487%5B2%5D.wav"/><Relationship Id="rId2" Type="http://schemas.openxmlformats.org/officeDocument/2006/relationships/audio" Target="../media/MS900097487%5B2%5D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&#30475;&#31572;&#26696;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drumroll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suction.wav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&#30475;&#31572;&#26696;.wav"/><Relationship Id="rId2" Type="http://schemas.openxmlformats.org/officeDocument/2006/relationships/audio" Target="../media/&#30475;&#31572;&#26696;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voltage.wav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pu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audio" Target="../media/&#30475;&#31572;&#26696;.wav"/><Relationship Id="rId5" Type="http://schemas.openxmlformats.org/officeDocument/2006/relationships/audio" Target="../media/&#30475;&#31572;&#26696;.wav"/><Relationship Id="rId6" Type="http://schemas.openxmlformats.org/officeDocument/2006/relationships/audio" Target="../media/&#30475;&#31572;&#26696;.wav"/><Relationship Id="rId7" Type="http://schemas.openxmlformats.org/officeDocument/2006/relationships/audio" Target="../media/&#30475;&#31572;&#26696;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MS900097487%5B2%5D.wav"/><Relationship Id="rId3" Type="http://schemas.openxmlformats.org/officeDocument/2006/relationships/audio" Target="../media/MS900097487%5B2%5D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611280" y="1700280"/>
            <a:ext cx="7850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华文新魏"/>
              </a:rPr>
              <a:t>土壤里有什么？</a:t>
            </a:r>
            <a:endParaRPr b="1" lang="en-US" sz="6000" spc="-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2162520" y="587700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蝼蛄"/>
          <p:cNvPicPr/>
          <p:nvPr/>
        </p:nvPicPr>
        <p:blipFill>
          <a:blip r:embed="rId1"/>
          <a:stretch/>
        </p:blipFill>
        <p:spPr>
          <a:xfrm>
            <a:off x="250920" y="476280"/>
            <a:ext cx="4392360" cy="2232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红脚绿金龟子（幼虫）"/>
          <p:cNvPicPr/>
          <p:nvPr/>
        </p:nvPicPr>
        <p:blipFill>
          <a:blip r:embed="rId2"/>
          <a:stretch/>
        </p:blipFill>
        <p:spPr>
          <a:xfrm>
            <a:off x="250920" y="3284640"/>
            <a:ext cx="4319640" cy="309564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4"/>
          <p:cNvSpPr/>
          <p:nvPr/>
        </p:nvSpPr>
        <p:spPr>
          <a:xfrm>
            <a:off x="4859280" y="1557360"/>
            <a:ext cx="1513080" cy="503280"/>
          </a:xfrm>
          <a:prstGeom prst="leftArrow">
            <a:avLst>
              <a:gd name="adj1" fmla="val 50000"/>
              <a:gd name="adj2" fmla="val 7514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AutoShape 5"/>
          <p:cNvSpPr/>
          <p:nvPr/>
        </p:nvSpPr>
        <p:spPr>
          <a:xfrm rot="19349400">
            <a:off x="4355640" y="2997000"/>
            <a:ext cx="2030400" cy="649080"/>
          </a:xfrm>
          <a:prstGeom prst="leftArrow">
            <a:avLst>
              <a:gd name="adj1" fmla="val 50000"/>
              <a:gd name="adj2" fmla="val 7818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6977160" y="476280"/>
            <a:ext cx="45864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178760" y="165420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143840" y="625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877080" y="333360"/>
            <a:ext cx="172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土壤中能发现许多不同种类的昆虫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dur="indefinite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4 0.027 0.08 0.06 0.08 C 0.099 0.08 0.113 0.04 0.119 0.016 L 0.125 -0.016 C 0.131 -0.04 0.146 -0.08 0.19 -0.08 C 0.218 -0.08 0.25 -0.044 0.25 0 C 0.25 0.044 0.218 0.08 0.19 0.08 C 0.146 0.08 0.131 0.04 0.125 0.016 L 0.119 -0.016 C 0.113 -0.04 0.099 -0.08 0.06 -0.08 C 0.027 -0.08 0 -0.044 0 0 Z">
                                      <p:cBhvr>
                                        <p:cTn id="245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dur="indefinite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dur="indefinite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9728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3"/>
          <p:cNvSpPr/>
          <p:nvPr/>
        </p:nvSpPr>
        <p:spPr>
          <a:xfrm>
            <a:off x="4643280" y="260280"/>
            <a:ext cx="4249800" cy="5761080"/>
          </a:xfrm>
          <a:prstGeom prst="wedgeEllipseCallout">
            <a:avLst>
              <a:gd name="adj1" fmla="val -108310"/>
              <a:gd name="adj2" fmla="val 841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382280" y="692280"/>
            <a:ext cx="38379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穴居动物，如老鼠在土壤中筑窝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dur="indefinite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361_47498"/>
          <p:cNvPicPr/>
          <p:nvPr/>
        </p:nvPicPr>
        <p:blipFill>
          <a:blip r:embed="rId1"/>
          <a:stretch/>
        </p:blipFill>
        <p:spPr>
          <a:xfrm>
            <a:off x="1014480" y="189000"/>
            <a:ext cx="6912000" cy="4680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2615760" y="5300640"/>
            <a:ext cx="4204080" cy="76428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蚂蚁是在土壤中穴居的昆虫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240000" cy="2879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600720" cy="2624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丽金龟子"/>
          <p:cNvPicPr/>
          <p:nvPr/>
        </p:nvPicPr>
        <p:blipFill>
          <a:blip r:embed="rId3"/>
          <a:stretch/>
        </p:blipFill>
        <p:spPr>
          <a:xfrm>
            <a:off x="324000" y="3645000"/>
            <a:ext cx="3024000" cy="2808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3581280" y="4191120"/>
            <a:ext cx="51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蜗牛和甲虫靠腐烂的生物为生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无标题"/>
          <p:cNvPicPr/>
          <p:nvPr/>
        </p:nvPicPr>
        <p:blipFill>
          <a:blip r:embed="rId1"/>
          <a:stretch/>
        </p:blipFill>
        <p:spPr>
          <a:xfrm>
            <a:off x="0" y="2708280"/>
            <a:ext cx="9144000" cy="4043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152280" y="152280"/>
            <a:ext cx="899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Arial"/>
                <a:ea typeface="楷体_GB2312"/>
              </a:rPr>
              <a:t>蚯蚓</a:t>
            </a:r>
            <a:r>
              <a:rPr b="0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能穿破坚硬、紧密的土壤，使植物的根更容易伸展，使空气和水更容易进入土壤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3"/>
          <p:cNvSpPr/>
          <p:nvPr/>
        </p:nvSpPr>
        <p:spPr>
          <a:xfrm>
            <a:off x="152280" y="152280"/>
            <a:ext cx="2667240" cy="13716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Verdana"/>
                <a:ea typeface="楷体_GB2312"/>
              </a:rPr>
              <a:t>讨论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 rot="20856600">
            <a:off x="685800" y="83772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土壤中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腐殖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的来源和作用？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590920" y="45720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为土壤动物提供食物，为植物提供养分，增强土壤肥力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666880" y="3124080"/>
            <a:ext cx="52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植物的根、茎、叶及生物的排泄物和死亡的生物体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523880" y="3048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523880" y="4572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用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219320" y="3352680"/>
            <a:ext cx="304560" cy="1600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144792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空气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023000" y="1905120"/>
            <a:ext cx="26190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植物根呼吸氧气的来源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882800" y="2666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水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940560" y="2819520"/>
            <a:ext cx="2375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植物生长必要的条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80880" y="762120"/>
            <a:ext cx="739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土壤中的非生命物质的作用：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219320" y="3962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腐殖质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200400" y="3733920"/>
            <a:ext cx="53341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276720" y="38098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土壤动物提供食物，为植物提供养分，增强土壤肥力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AutoShape 11">
            <a:hlinkClick r:id="rId1" action="ppaction://hlinksldjump"/>
          </p:cNvPr>
          <p:cNvSpPr/>
          <p:nvPr/>
        </p:nvSpPr>
        <p:spPr>
          <a:xfrm>
            <a:off x="395280" y="6308640"/>
            <a:ext cx="504720" cy="358920"/>
          </a:xfrm>
          <a:custGeom>
            <a:avLst/>
            <a:gdLst>
              <a:gd name="textAreaLeft" fmla="*/ 88200 w 504720"/>
              <a:gd name="textAreaRight" fmla="*/ 366120 w 50472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8640" y="15235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  <a:ea typeface="黑体"/>
              </a:rPr>
              <a:t>土壤的成分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62120" y="2590920"/>
          <a:ext cx="7777080" cy="4064040"/>
        </p:xfrm>
        <a:graphic>
          <a:graphicData uri="http://schemas.openxmlformats.org/drawingml/2006/table">
            <a:tbl>
              <a:tblPr/>
              <a:tblGrid>
                <a:gridCol w="2736720"/>
                <a:gridCol w="5040360"/>
              </a:tblGrid>
              <a:tr h="1015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Garamond"/>
                          <a:ea typeface="黑体"/>
                        </a:rPr>
                        <a:t>  </a:t>
                      </a: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Garamond"/>
                          <a:ea typeface="黑体"/>
                        </a:rPr>
                        <a:t>观察途径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Garamond"/>
                          <a:ea typeface="黑体"/>
                        </a:rPr>
                        <a:t>我在土壤里看到的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ff"/>
                          </a:solidFill>
                          <a:latin typeface="Garamond"/>
                          <a:ea typeface="黑体"/>
                        </a:rPr>
                        <a:t>肉眼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ff"/>
                          </a:solidFill>
                          <a:latin typeface="Garamond"/>
                          <a:ea typeface="黑体"/>
                        </a:rPr>
                        <a:t>放大镜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ff"/>
                          </a:solidFill>
                          <a:latin typeface="Garamond"/>
                          <a:ea typeface="黑体"/>
                        </a:rPr>
                        <a:t>倒入水中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Text Box 21"/>
          <p:cNvSpPr/>
          <p:nvPr/>
        </p:nvSpPr>
        <p:spPr>
          <a:xfrm>
            <a:off x="3657600" y="37339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土壤湿润、有捻不碎的小石子、草根和小虫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3657600" y="4724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有小石子、大小不同的沙粒、粉末状的微粒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09880" y="5715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有气泡冒出、土壤按颗粒大小沉积下来，越到底下颗粒越粗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WordArt 24"/>
          <p:cNvSpPr txBox="1"/>
          <p:nvPr/>
        </p:nvSpPr>
        <p:spPr>
          <a:xfrm>
            <a:off x="2514600" y="762120"/>
            <a:ext cx="5715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这堂课你有什么收获呢？</a:t>
            </a:r>
            <a:endParaRPr b="1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008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5" name="AutoShape 25"/>
          <p:cNvSpPr/>
          <p:nvPr/>
        </p:nvSpPr>
        <p:spPr>
          <a:xfrm>
            <a:off x="0" y="533520"/>
            <a:ext cx="26668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Verdana"/>
                <a:ea typeface="楷体_GB2312"/>
              </a:rPr>
              <a:t>小结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S900097487%5B2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S900097487%5B2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3"/>
          <p:cNvSpPr txBox="1"/>
          <p:nvPr/>
        </p:nvSpPr>
        <p:spPr>
          <a:xfrm>
            <a:off x="2971800" y="1066680"/>
            <a:ext cx="5715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这堂课你有什么收获呢？</a:t>
            </a:r>
            <a:endParaRPr b="1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008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7578720" y="4419720"/>
            <a:ext cx="18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4254120" y="3809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150800" y="2209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动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4238280" y="441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空气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006800" y="3276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4150800" y="27432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植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7578720" y="5257800"/>
            <a:ext cx="18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2653200" y="4648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非生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2612880" y="2819520"/>
            <a:ext cx="10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生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4221720" y="5562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矿物质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4221720" y="5029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腐殖质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219320" y="3581280"/>
            <a:ext cx="104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土壤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组成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AutoShape 16"/>
          <p:cNvSpPr/>
          <p:nvPr/>
        </p:nvSpPr>
        <p:spPr>
          <a:xfrm>
            <a:off x="3745080" y="2490840"/>
            <a:ext cx="174600" cy="1143000"/>
          </a:xfrm>
          <a:custGeom>
            <a:avLst/>
            <a:gdLst>
              <a:gd name="textAreaLeft" fmla="*/ 111600 w 174600"/>
              <a:gd name="textAreaRight" fmla="*/ 174960 w 174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AutoShape 17"/>
          <p:cNvSpPr/>
          <p:nvPr/>
        </p:nvSpPr>
        <p:spPr>
          <a:xfrm>
            <a:off x="3832200" y="4114800"/>
            <a:ext cx="174600" cy="1752480"/>
          </a:xfrm>
          <a:custGeom>
            <a:avLst/>
            <a:gdLst>
              <a:gd name="textAreaLeft" fmla="*/ 111600 w 174600"/>
              <a:gd name="textAreaRight" fmla="*/ 174960 w 174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7578720" y="3809880"/>
            <a:ext cx="18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2351160" y="3200400"/>
            <a:ext cx="174600" cy="1752480"/>
          </a:xfrm>
          <a:custGeom>
            <a:avLst/>
            <a:gdLst>
              <a:gd name="textAreaLeft" fmla="*/ 111600 w 174600"/>
              <a:gd name="textAreaRight" fmla="*/ 174960 w 174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AutoShape 20"/>
          <p:cNvSpPr/>
          <p:nvPr/>
        </p:nvSpPr>
        <p:spPr>
          <a:xfrm>
            <a:off x="304920" y="914400"/>
            <a:ext cx="26668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Verdana"/>
                <a:ea typeface="楷体_GB2312"/>
              </a:rPr>
              <a:t>小结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8"/>
          <p:cNvSpPr/>
          <p:nvPr/>
        </p:nvSpPr>
        <p:spPr>
          <a:xfrm>
            <a:off x="324000" y="1916280"/>
            <a:ext cx="8675640" cy="2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土壤是由         、           、       、              、        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等物质组成的混合物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根据颗粒大小可以把土壤的微粒分类，从大到小分别是              、             、            和             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把土壤放入水中，发现有气泡冒出，说明土壤中有          。土壤中还含有植物生长所需要的                 和                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3708360" y="765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土壤中有什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2124000" y="2565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3348000" y="2565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4356000" y="256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5364000" y="256536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6659640" y="2565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826920" y="4581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2195640" y="4581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3635280" y="458136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5148360" y="458136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Line 19"/>
          <p:cNvSpPr/>
          <p:nvPr/>
        </p:nvSpPr>
        <p:spPr>
          <a:xfrm>
            <a:off x="7667640" y="5229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Line 20"/>
          <p:cNvSpPr/>
          <p:nvPr/>
        </p:nvSpPr>
        <p:spPr>
          <a:xfrm>
            <a:off x="4788000" y="595008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6588000" y="595008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6867360" y="21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808164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空气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2331720" y="21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441000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黏土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5479560" y="213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腐殖质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Line 27"/>
          <p:cNvSpPr/>
          <p:nvPr/>
        </p:nvSpPr>
        <p:spPr>
          <a:xfrm>
            <a:off x="7885080" y="2565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3318840" y="213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小石子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1025280" y="414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沙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2690640" y="414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3976560" y="414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粉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5418000" y="414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黏土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786564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空气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5119200" y="54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腐殖质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678456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盐分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762120" y="19051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岩石在大气、水、动植物的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长期联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作用下，发生变化，这种现象叫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952880" y="3962520"/>
            <a:ext cx="32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风化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0"/>
          <p:cNvSpPr/>
          <p:nvPr/>
        </p:nvSpPr>
        <p:spPr>
          <a:xfrm>
            <a:off x="0" y="126828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把土壤拿来烧会闻到一股焦臭味，这是因为土壤中有（      ）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水分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黏土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腐殖质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最大的土壤颗粒是（         ）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沙砾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沙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粉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因为土壤中有（        ），所以很多小动物能生活在土壤里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沙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黏土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空气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土壤中蚯蚓的主要作用是（        ）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给植物提供盐分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使植物的根更容易伸展使空气和水更容易进入土壤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分解动物、植物残留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8034480" y="14842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3635640" y="25653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922840" y="3141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3348000" y="2602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土壤中有什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4427640" y="414972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2770200" y="206064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可以用来烧制砖块的是（      ）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沙砾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沙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黏土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颗粒直径大于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毫米的是（         ）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沙砾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沙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粉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6810480" y="22050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7163280" y="33577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3708360" y="765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土壤中有什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2" name="Picture 8" descr="土壤"/>
          <p:cNvPicPr/>
          <p:nvPr/>
        </p:nvPicPr>
        <p:blipFill>
          <a:blip r:embed="rId1"/>
          <a:stretch/>
        </p:blipFill>
        <p:spPr>
          <a:xfrm>
            <a:off x="324000" y="3789360"/>
            <a:ext cx="1692000" cy="2392200"/>
          </a:xfrm>
          <a:prstGeom prst="rect">
            <a:avLst/>
          </a:prstGeom>
          <a:ln w="0">
            <a:noFill/>
          </a:ln>
        </p:spPr>
      </p:pic>
      <p:sp>
        <p:nvSpPr>
          <p:cNvPr id="263" name="Line 9"/>
          <p:cNvSpPr/>
          <p:nvPr/>
        </p:nvSpPr>
        <p:spPr>
          <a:xfrm>
            <a:off x="1908000" y="4724280"/>
            <a:ext cx="1727280" cy="7308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1908000" y="5013360"/>
            <a:ext cx="1727280" cy="2160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1908000" y="5229360"/>
            <a:ext cx="1727280" cy="57600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1835280" y="5805360"/>
            <a:ext cx="1800000" cy="50328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3635280" y="4581360"/>
            <a:ext cx="122400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3635280" y="5084640"/>
            <a:ext cx="122400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3635280" y="5587920"/>
            <a:ext cx="122400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3635280" y="6091200"/>
            <a:ext cx="122400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84760" y="4581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ahoma"/>
              </a:rPr>
              <a:t>黏土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3884760" y="5084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ahoma"/>
              </a:rPr>
              <a:t>粉沙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3833280" y="5589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ahoma"/>
              </a:rPr>
              <a:t>沙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3884760" y="6093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ahoma"/>
              </a:rPr>
              <a:t>沙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3742200" y="1844640"/>
            <a:ext cx="1716840" cy="44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土壤是由水、空气、沙、黏土腐殖质等混合成的。（     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不同的地方，土壤的颜色是不同的。（    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腐殖质多的土壤，小动物也会比较少。（     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每立方米的土壤中，生活着几十亿个生物体。（     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土壤中最小的颗粒是黏土。（     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土壤在水中搅拌后沉淀可以按颗粒大小分成几层。（      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、土壤中的腐殖质和盐分，是植物生长所需营养元素。（    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792504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6051600" y="270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734868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642276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×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4900680" y="45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7925040" y="51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3276720" y="765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土壤中有什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8212320" y="58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4140360" y="5229360"/>
            <a:ext cx="43192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4140360" y="4653000"/>
            <a:ext cx="287964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4140360" y="4149720"/>
            <a:ext cx="2519280" cy="35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4067280" y="3573360"/>
            <a:ext cx="230508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4067280" y="3068640"/>
            <a:ext cx="237636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4067280" y="2492280"/>
            <a:ext cx="360036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684360" y="2349360"/>
            <a:ext cx="3095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蚂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蚯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蜗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老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细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植物的茎、根、叶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708360" y="765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土壤中有什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4067280" y="2421000"/>
            <a:ext cx="4608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分解动物、植物的残留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在土壤中群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在土壤中筑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靠腐烂的生物为生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是腐殖质的主要来源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使植物的根更容易伸展使空气水更容易进入泥土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1619280" y="2637000"/>
            <a:ext cx="2448000" cy="576000"/>
          </a:xfrm>
          <a:prstGeom prst="line">
            <a:avLst/>
          </a:prstGeom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Line 14"/>
          <p:cNvSpPr/>
          <p:nvPr/>
        </p:nvSpPr>
        <p:spPr>
          <a:xfrm>
            <a:off x="1547640" y="3357720"/>
            <a:ext cx="2592720" cy="2087280"/>
          </a:xfrm>
          <a:prstGeom prst="line">
            <a:avLst/>
          </a:prstGeom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1547640" y="4005360"/>
            <a:ext cx="2664000" cy="360360"/>
          </a:xfrm>
          <a:prstGeom prst="line">
            <a:avLst/>
          </a:prstGeom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Line 16"/>
          <p:cNvSpPr/>
          <p:nvPr/>
        </p:nvSpPr>
        <p:spPr>
          <a:xfrm flipV="1">
            <a:off x="1547640" y="3789000"/>
            <a:ext cx="2519640" cy="863640"/>
          </a:xfrm>
          <a:prstGeom prst="line">
            <a:avLst/>
          </a:prstGeom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Line 17"/>
          <p:cNvSpPr/>
          <p:nvPr/>
        </p:nvSpPr>
        <p:spPr>
          <a:xfrm flipV="1">
            <a:off x="1476360" y="2707920"/>
            <a:ext cx="2590920" cy="2521080"/>
          </a:xfrm>
          <a:prstGeom prst="line">
            <a:avLst/>
          </a:prstGeom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Line 18"/>
          <p:cNvSpPr/>
          <p:nvPr/>
        </p:nvSpPr>
        <p:spPr>
          <a:xfrm flipV="1">
            <a:off x="3564000" y="4869000"/>
            <a:ext cx="576360" cy="1008000"/>
          </a:xfrm>
          <a:prstGeom prst="line">
            <a:avLst/>
          </a:prstGeom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活动小人"/>
          <p:cNvPicPr/>
          <p:nvPr/>
        </p:nvPicPr>
        <p:blipFill>
          <a:blip r:embed="rId1"/>
          <a:stretch/>
        </p:blipFill>
        <p:spPr>
          <a:xfrm>
            <a:off x="5219640" y="391464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4156200" y="133020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1295280" y="17524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cc"/>
                </a:solidFill>
                <a:latin typeface="Arial"/>
              </a:rPr>
              <a:t>土壤</a:t>
            </a:r>
            <a:r>
              <a:rPr b="0" lang="zh-CN" sz="8000" spc="-1" strike="noStrike">
                <a:solidFill>
                  <a:srgbClr val="00cc00"/>
                </a:solidFill>
                <a:latin typeface="Arial"/>
              </a:rPr>
              <a:t>是地球上最有价值的资源！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17409[1]"/>
          <p:cNvPicPr/>
          <p:nvPr/>
        </p:nvPicPr>
        <p:blipFill>
          <a:blip r:embed="rId1"/>
          <a:stretch/>
        </p:blipFill>
        <p:spPr>
          <a:xfrm>
            <a:off x="0" y="0"/>
            <a:ext cx="3809880" cy="3352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种植果木的红壤"/>
          <p:cNvPicPr/>
          <p:nvPr/>
        </p:nvPicPr>
        <p:blipFill>
          <a:blip r:embed="rId2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大兴安岭"/>
          <p:cNvPicPr/>
          <p:nvPr/>
        </p:nvPicPr>
        <p:blipFill>
          <a:blip r:embed="rId3"/>
          <a:stretch/>
        </p:blipFill>
        <p:spPr>
          <a:xfrm>
            <a:off x="3809880" y="0"/>
            <a:ext cx="5334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草原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WordArt 3"/>
          <p:cNvSpPr txBox="1"/>
          <p:nvPr/>
        </p:nvSpPr>
        <p:spPr>
          <a:xfrm>
            <a:off x="3657600" y="5877000"/>
            <a:ext cx="24987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9900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彩云"/>
              </a:rPr>
              <a:t>过度放牧</a:t>
            </a:r>
            <a:endParaRPr b="0" lang="en-US" sz="1800" spc="1" strike="noStrike">
              <a:ln w="12600">
                <a:solidFill>
                  <a:srgbClr val="ff9900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F2003070413443701442"/>
          <p:cNvPicPr/>
          <p:nvPr/>
        </p:nvPicPr>
        <p:blipFill>
          <a:blip r:embed="rId1"/>
          <a:stretch/>
        </p:blipFill>
        <p:spPr>
          <a:xfrm>
            <a:off x="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3"/>
          <p:cNvSpPr/>
          <p:nvPr/>
        </p:nvSpPr>
        <p:spPr>
          <a:xfrm>
            <a:off x="4932360" y="5445000"/>
            <a:ext cx="4032360" cy="1081080"/>
          </a:xfrm>
          <a:prstGeom prst="rect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WordArt 4"/>
          <p:cNvSpPr txBox="1"/>
          <p:nvPr/>
        </p:nvSpPr>
        <p:spPr>
          <a:xfrm>
            <a:off x="5364000" y="5589720"/>
            <a:ext cx="32403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华文彩云"/>
              </a:rPr>
              <a:t>乱倒垃圾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310" name="Picture 5" descr="垃圾污染1"/>
          <p:cNvPicPr/>
          <p:nvPr/>
        </p:nvPicPr>
        <p:blipFill>
          <a:blip r:embed="rId4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311" name="WordArt 6"/>
          <p:cNvSpPr txBox="1"/>
          <p:nvPr/>
        </p:nvSpPr>
        <p:spPr>
          <a:xfrm>
            <a:off x="2771640" y="11592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99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6000"/>
                    </a:srgbClr>
                  </a:outerShdw>
                </a:effectLst>
                <a:latin typeface="华文彩云"/>
              </a:rPr>
              <a:t>污染环境</a:t>
            </a:r>
            <a:endParaRPr b="0" lang="en-US" sz="1800" spc="1" strike="noStrike">
              <a:ln w="9360">
                <a:solidFill>
                  <a:srgbClr val="ff99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6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5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4000"/>
                            </p:stCondLst>
                            <p:childTnLst>
                              <p:par>
                                <p:cTn id="762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乱砍滥伐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13" name="WordArt 3"/>
          <p:cNvSpPr txBox="1"/>
          <p:nvPr/>
        </p:nvSpPr>
        <p:spPr>
          <a:xfrm>
            <a:off x="468360" y="404640"/>
            <a:ext cx="3865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乱砍滥伐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黄土高原水土流失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3185280" y="60339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黄土高原水土流失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914400" y="46483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岩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286000" y="4267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风化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828800" y="48769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429000" y="45720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岩石破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4952880" y="487692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02920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继续风化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629400" y="4495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小石子和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9" descr="图片11"/>
          <p:cNvPicPr/>
          <p:nvPr/>
        </p:nvPicPr>
        <p:blipFill>
          <a:blip r:embed="rId1"/>
          <a:stretch/>
        </p:blipFill>
        <p:spPr>
          <a:xfrm>
            <a:off x="380880" y="1143000"/>
            <a:ext cx="2533680" cy="2666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图片12pg"/>
          <p:cNvPicPr/>
          <p:nvPr/>
        </p:nvPicPr>
        <p:blipFill>
          <a:blip r:embed="rId2"/>
          <a:stretch/>
        </p:blipFill>
        <p:spPr>
          <a:xfrm>
            <a:off x="3352680" y="1143000"/>
            <a:ext cx="2514600" cy="2666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图片13jpg"/>
          <p:cNvPicPr/>
          <p:nvPr/>
        </p:nvPicPr>
        <p:blipFill>
          <a:blip r:embed="rId3"/>
          <a:stretch/>
        </p:blipFill>
        <p:spPr>
          <a:xfrm>
            <a:off x="6324480" y="1143000"/>
            <a:ext cx="2514600" cy="266688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12"/>
          <p:cNvSpPr/>
          <p:nvPr/>
        </p:nvSpPr>
        <p:spPr>
          <a:xfrm>
            <a:off x="2895480" y="1828800"/>
            <a:ext cx="609840" cy="533520"/>
          </a:xfrm>
          <a:prstGeom prst="rightArrow">
            <a:avLst>
              <a:gd name="adj1" fmla="val 50000"/>
              <a:gd name="adj2" fmla="val 28571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5867280" y="1752480"/>
            <a:ext cx="609840" cy="533520"/>
          </a:xfrm>
          <a:prstGeom prst="rightArrow">
            <a:avLst>
              <a:gd name="adj1" fmla="val 50000"/>
              <a:gd name="adj2" fmla="val 28571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土地沙化"/>
          <p:cNvPicPr/>
          <p:nvPr/>
        </p:nvPicPr>
        <p:blipFill>
          <a:blip r:embed="rId1"/>
          <a:stretch/>
        </p:blipFill>
        <p:spPr>
          <a:xfrm>
            <a:off x="0" y="55440"/>
            <a:ext cx="914400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西北沙漠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3"/>
          <p:cNvSpPr/>
          <p:nvPr/>
        </p:nvSpPr>
        <p:spPr>
          <a:xfrm>
            <a:off x="3605400" y="404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Comic Sans MS"/>
              </a:rPr>
              <a:t>西北沙漠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文本框 1"/>
          <p:cNvSpPr/>
          <p:nvPr/>
        </p:nvSpPr>
        <p:spPr>
          <a:xfrm>
            <a:off x="3301920" y="3108240"/>
            <a:ext cx="54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模板下载：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3"/>
          <p:cNvSpPr/>
          <p:nvPr/>
        </p:nvSpPr>
        <p:spPr>
          <a:xfrm>
            <a:off x="1066680" y="10666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Arial"/>
                <a:ea typeface="华文新魏"/>
              </a:rPr>
              <a:t>说一说：</a:t>
            </a:r>
            <a:r>
              <a:rPr b="0" lang="zh-CN" sz="7200" spc="-1" strike="noStrike">
                <a:solidFill>
                  <a:srgbClr val="00ff00"/>
                </a:solidFill>
                <a:latin typeface="Arial"/>
                <a:ea typeface="华文新魏"/>
              </a:rPr>
              <a:t>我们人类应该怎样保护一切生物赖以生存的土壤呢？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EACH_CH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620856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250920" y="476280"/>
            <a:ext cx="533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a886e0"/>
                </a:solidFill>
                <a:latin typeface="黑体"/>
                <a:ea typeface="黑体"/>
              </a:rPr>
              <a:t>保护大自然就是保护人类赖以生存的环境，人人都要关心，人人都要尽力。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0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使用规范说明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Garamond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Garamond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Garamond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Garamond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56AE-8EEE-46F5-ABFC-9235CCCDCA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4"/>
          <p:cNvSpPr/>
          <p:nvPr/>
        </p:nvSpPr>
        <p:spPr>
          <a:xfrm>
            <a:off x="4341960" y="238752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0000f2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0000f2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2" descr="image002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3"/>
          <p:cNvSpPr/>
          <p:nvPr/>
        </p:nvSpPr>
        <p:spPr>
          <a:xfrm rot="184200">
            <a:off x="5722560" y="5016600"/>
            <a:ext cx="2879640" cy="1368360"/>
          </a:xfrm>
          <a:prstGeom prst="wedgeEllipseCallout">
            <a:avLst>
              <a:gd name="adj1" fmla="val -121499"/>
              <a:gd name="adj2" fmla="val -203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5724360" y="189000"/>
            <a:ext cx="2880000" cy="1224000"/>
          </a:xfrm>
          <a:prstGeom prst="wedgeEllipseCallout">
            <a:avLst>
              <a:gd name="adj1" fmla="val -96527"/>
              <a:gd name="adj2" fmla="val 1627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AutoShape 5"/>
          <p:cNvSpPr/>
          <p:nvPr/>
        </p:nvSpPr>
        <p:spPr>
          <a:xfrm rot="462000">
            <a:off x="5795640" y="3499920"/>
            <a:ext cx="2870280" cy="1233720"/>
          </a:xfrm>
          <a:prstGeom prst="wedgeEllipseCallout">
            <a:avLst>
              <a:gd name="adj1" fmla="val -143189"/>
              <a:gd name="adj2" fmla="val -6499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5148360" y="1557360"/>
            <a:ext cx="3529080" cy="1582560"/>
          </a:xfrm>
          <a:prstGeom prst="wedgeEllipseCallout">
            <a:avLst>
              <a:gd name="adj1" fmla="val -114999"/>
              <a:gd name="adj2" fmla="val -508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156360" y="549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枯枝落叶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156360" y="3933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亚土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012000" y="5516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岩石碎屑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443640" y="1989000"/>
            <a:ext cx="165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724360" y="206064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有腐殖质的表土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380880"/>
          <a:ext cx="9144000" cy="5413320"/>
        </p:xfrm>
        <a:graphic>
          <a:graphicData uri="http://schemas.openxmlformats.org/drawingml/2006/table">
            <a:tbl>
              <a:tblPr/>
              <a:tblGrid>
                <a:gridCol w="1828800"/>
                <a:gridCol w="7315200"/>
              </a:tblGrid>
              <a:tr h="1082520"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Garamond"/>
                        </a:rPr>
                        <a:t>               </a:t>
                      </a:r>
                      <a:r>
                        <a:rPr b="1" lang="zh-CN" sz="5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寻找土壤的成分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2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方法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我在土壤里看到的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28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肉眼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ff"/>
                          </a:solidFill>
                          <a:latin typeface="Garamond"/>
                        </a:rPr>
                        <a:t>   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46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放大镜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ff"/>
                          </a:solidFill>
                          <a:latin typeface="Garamond"/>
                        </a:rPr>
                        <a:t>    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9"/>
          <p:cNvSpPr/>
          <p:nvPr/>
        </p:nvSpPr>
        <p:spPr>
          <a:xfrm>
            <a:off x="1905120" y="30481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土壤湿润、有捻不碎的小石子、 草根和小虫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2575080" y="-122400"/>
            <a:ext cx="4435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2057400" y="44956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有小石子、大小不同的沙粒、粉末状的微粒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0" y="5562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、始终要仔细观察，记录下每一步骤看到的现象。阅读此资料后开始动手操作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0" y="76212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把小土块放入水中，你看到了什么现象？说明土壤里有什么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0" y="17524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将土块搅动后静置一段时间， 观察静置后的水杯中的情况，水里有什么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0" y="30481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注意事项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0" y="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实验步骤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914400" y="3733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土块要轻放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914400" y="4267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搅拌要彻底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0" y="4800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静置时间要长。观察时，杯子也应保持静置不动的状态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anim calcmode="discrete" valueType="str">
                                      <p:cBhvr additive="repl">
                                        <p:cTn id="13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7315200" y="2438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黏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7535520" y="3400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粉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7540200" y="4390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7391520" y="5410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沙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19320" y="533520"/>
            <a:ext cx="1523880" cy="533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752480" y="609480"/>
            <a:ext cx="459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873360" y="1905120"/>
            <a:ext cx="1642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土壤中有什么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10" descr="upload__627569e6_115b7821a75__7ffe_00000561"/>
          <p:cNvPicPr/>
          <p:nvPr/>
        </p:nvPicPr>
        <p:blipFill>
          <a:blip r:embed="rId2"/>
          <a:stretch/>
        </p:blipFill>
        <p:spPr>
          <a:xfrm>
            <a:off x="1219320" y="380880"/>
            <a:ext cx="761760" cy="1771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4402D"/>
          <p:cNvPicPr/>
          <p:nvPr/>
        </p:nvPicPr>
        <p:blipFill>
          <a:blip r:embed="rId3"/>
          <a:stretch/>
        </p:blipFill>
        <p:spPr>
          <a:xfrm>
            <a:off x="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Line 12"/>
          <p:cNvSpPr/>
          <p:nvPr/>
        </p:nvSpPr>
        <p:spPr>
          <a:xfrm>
            <a:off x="4038480" y="2666880"/>
            <a:ext cx="3276720" cy="0"/>
          </a:xfrm>
          <a:prstGeom prst="line">
            <a:avLst/>
          </a:prstGeom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13"/>
          <p:cNvSpPr/>
          <p:nvPr/>
        </p:nvSpPr>
        <p:spPr>
          <a:xfrm flipV="1">
            <a:off x="3886200" y="3733920"/>
            <a:ext cx="3429000" cy="914400"/>
          </a:xfrm>
          <a:prstGeom prst="line">
            <a:avLst/>
          </a:prstGeom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14"/>
          <p:cNvSpPr/>
          <p:nvPr/>
        </p:nvSpPr>
        <p:spPr>
          <a:xfrm flipV="1">
            <a:off x="3657600" y="4724280"/>
            <a:ext cx="3733920" cy="152640"/>
          </a:xfrm>
          <a:prstGeom prst="line">
            <a:avLst/>
          </a:prstGeom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3505320" y="5486400"/>
            <a:ext cx="3809880" cy="152280"/>
          </a:xfrm>
          <a:prstGeom prst="line">
            <a:avLst/>
          </a:prstGeom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7%9C%8B%E7%AD%94%E6%A1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挖土小人"/>
          <p:cNvPicPr/>
          <p:nvPr/>
        </p:nvPicPr>
        <p:blipFill>
          <a:blip r:embed="rId1"/>
          <a:stretch/>
        </p:blipFill>
        <p:spPr>
          <a:xfrm>
            <a:off x="4500720" y="3408480"/>
            <a:ext cx="4643280" cy="3449520"/>
          </a:xfrm>
          <a:prstGeom prst="rect">
            <a:avLst/>
          </a:prstGeom>
          <a:ln w="0">
            <a:noFill/>
          </a:ln>
        </p:spPr>
      </p:pic>
      <p:sp>
        <p:nvSpPr>
          <p:cNvPr id="160" name="WordArt 3"/>
          <p:cNvSpPr txBox="1"/>
          <p:nvPr/>
        </p:nvSpPr>
        <p:spPr>
          <a:xfrm>
            <a:off x="152280" y="533520"/>
            <a:ext cx="8507520" cy="41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寻找土壤中的生命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S900097487%5B2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S900097487%5B2%5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ttp:/zhenyuan.sdedu.net/Resource/GZ/GZDL/DGJC/XDLS/U4/tbjx0217zw_04_0006_1.jpg"/>
          <p:cNvPicPr/>
          <p:nvPr/>
        </p:nvPicPr>
        <p:blipFill>
          <a:blip r:embed="rId1"/>
          <a:stretch/>
        </p:blipFill>
        <p:spPr>
          <a:xfrm>
            <a:off x="0" y="317520"/>
            <a:ext cx="5940360" cy="65404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"/>
          <p:cNvSpPr/>
          <p:nvPr/>
        </p:nvSpPr>
        <p:spPr>
          <a:xfrm>
            <a:off x="5867280" y="914400"/>
            <a:ext cx="2741760" cy="4967280"/>
          </a:xfrm>
          <a:prstGeom prst="wedgeRectCallout">
            <a:avLst>
              <a:gd name="adj1" fmla="val -166736"/>
              <a:gd name="adj2" fmla="val 2785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212080" y="981000"/>
            <a:ext cx="3105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00"/>
                </a:solidFill>
                <a:latin typeface="Arial"/>
                <a:ea typeface="楷体_GB2312"/>
              </a:rPr>
              <a:t>植物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的根穿过土壤并占有适当的位置   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dur="indefinite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dur="indefinite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5:09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5:47Z</dcterms:modified>
  <cp:revision>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