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glass.wav" ContentType="audio/x-wav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75C-3C50-46AD-ACA4-F505522D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845-0AA8-4A18-8E70-B94CE174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42D-8334-4894-B4A2-41B62740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F40-86EB-4D56-AD27-36B4614C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D6A7-6763-4730-BEAB-42C9ABD9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E97B-913D-4120-85FA-B47CA95A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D2E7-D22E-403F-8C97-EBE30C25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7E4B-ABA0-42D9-AA1D-82E72E25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9FDC-1BA2-469A-A1AD-EFF59826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A9A4-C3E2-4BB1-AC51-3BEEC79D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0DCE-AADD-4305-BDAF-96FA0CC2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E55-DA57-4901-B41F-F07AD560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17DB-831A-4FF7-9307-2BE7C9C3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F178-15E6-4AE0-AFCC-2AD488D9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95E9-EEEB-464E-9701-453B1ECD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07F9-8691-423A-A6A5-FCA7F612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79BA-85CC-41A3-B216-20AF4C09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63E7-1A7C-4A25-97DB-08697FE0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70CF-AEFA-4709-8B0F-DCFE83F9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0B8-9767-4C5D-8527-CF9F79FC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E53-6E29-44A0-BB3C-100E8358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73A-4054-4891-9C19-E2D8C971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AEA-3D67-4327-813A-812BB69F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1FF-BA6A-474D-ACF3-39C22A4E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D130-7CB4-45E3-B06B-0299F8FC0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4554-106B-48FB-8856-860941C69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1336680" y="155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979640" y="1989000"/>
            <a:ext cx="54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们成功了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2183400" y="59500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qqx002"/>
          <p:cNvPicPr/>
          <p:nvPr/>
        </p:nvPicPr>
        <p:blipFill>
          <a:blip r:embed="rId1"/>
          <a:stretch/>
        </p:blipFill>
        <p:spPr>
          <a:xfrm>
            <a:off x="0" y="2924280"/>
            <a:ext cx="4356000" cy="3933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U1860P461T5D512F154DT20070712215551"/>
          <p:cNvPicPr/>
          <p:nvPr/>
        </p:nvPicPr>
        <p:blipFill>
          <a:blip r:embed="rId2"/>
          <a:stretch/>
        </p:blipFill>
        <p:spPr>
          <a:xfrm>
            <a:off x="0" y="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U1860P461T5D505F154DT20070712215850"/>
          <p:cNvPicPr/>
          <p:nvPr/>
        </p:nvPicPr>
        <p:blipFill>
          <a:blip r:embed="rId3"/>
          <a:stretch/>
        </p:blipFill>
        <p:spPr>
          <a:xfrm>
            <a:off x="4381560" y="0"/>
            <a:ext cx="476244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qqx005"/>
          <p:cNvPicPr/>
          <p:nvPr/>
        </p:nvPicPr>
        <p:blipFill>
          <a:blip r:embed="rId4"/>
          <a:stretch/>
        </p:blipFill>
        <p:spPr>
          <a:xfrm>
            <a:off x="4356000" y="3429000"/>
            <a:ext cx="478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qqx003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qqx001"/>
          <p:cNvPicPr/>
          <p:nvPr/>
        </p:nvPicPr>
        <p:blipFill>
          <a:blip r:embed="rId2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0442-D692-4AE8-9A9F-9755BADF5C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J12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47636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430280" y="836640"/>
            <a:ext cx="4375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宋体"/>
              </a:rPr>
              <a:t>喜讯  传来  欢聚  挥舞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宋体"/>
              </a:rPr>
              <a:t>锣鼓  欢呼  飘扬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宋体"/>
              </a:rPr>
              <a:t>击掌  拥抱   泪水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宋体"/>
              </a:rPr>
              <a:t>奥林匹克  不约而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6668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279440" y="1546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71400" y="27144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ù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n   chu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á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419720" y="380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380120" y="195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j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ù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   hu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08320" y="164304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lu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ó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           h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115520" y="160020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y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á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558000" y="31669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j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ī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        y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ō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ng b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à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963240" y="320040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è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2347920" y="461484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858840" y="453852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yu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申请01"/>
          <p:cNvPicPr/>
          <p:nvPr/>
        </p:nvPicPr>
        <p:blipFill>
          <a:blip r:embed="rId2"/>
          <a:stretch/>
        </p:blipFill>
        <p:spPr>
          <a:xfrm>
            <a:off x="0" y="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5335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人们 不约而同地涌上街头，北京立即成了欢乐的海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0" descr=""/>
          <p:cNvPicPr/>
          <p:nvPr/>
        </p:nvPicPr>
        <p:blipFill>
          <a:blip r:embed="rId3"/>
          <a:stretch/>
        </p:blipFill>
        <p:spPr>
          <a:xfrm>
            <a:off x="3809880" y="2666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"/>
          <p:cNvSpPr/>
          <p:nvPr/>
        </p:nvSpPr>
        <p:spPr>
          <a:xfrm>
            <a:off x="295200" y="6094440"/>
            <a:ext cx="71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申请04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6019920" y="762120"/>
            <a:ext cx="2590560" cy="1373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天安门广场聚集了几十万群众。人们挥舞着国旗，在欢庆的锣鼓声中一遍遍高声欢呼：“我们成功了！”“我们爱北京！”“祖国万岁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申请05"/>
          <p:cNvPicPr/>
          <p:nvPr/>
        </p:nvPicPr>
        <p:blipFill>
          <a:blip r:embed="rId2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900000" y="530064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大家互相击掌，互相拥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申请03"/>
          <p:cNvPicPr/>
          <p:nvPr/>
        </p:nvPicPr>
        <p:blipFill>
          <a:blip r:embed="rId2"/>
          <a:stretch/>
        </p:blipFill>
        <p:spPr>
          <a:xfrm>
            <a:off x="0" y="0"/>
            <a:ext cx="464832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申请07"/>
          <p:cNvPicPr/>
          <p:nvPr/>
        </p:nvPicPr>
        <p:blipFill>
          <a:blip r:embed="rId3"/>
          <a:stretch/>
        </p:blipFill>
        <p:spPr>
          <a:xfrm>
            <a:off x="3733920" y="3124080"/>
            <a:ext cx="5410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申请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申请06"/>
          <p:cNvPicPr/>
          <p:nvPr/>
        </p:nvPicPr>
        <p:blipFill>
          <a:blip r:embed="rId2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1403280" y="53737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庆祝北京申办奥运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20073262341636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271520" y="28400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151160" y="27669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888240" y="27669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271520" y="50720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103880" y="50007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06:56:24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29:39Z</dcterms:modified>
  <cp:revision>22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