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38.jpeg" ContentType="image/jpeg"/>
  <Override PartName="/ppt/media/image7.jpeg" ContentType="image/jpeg"/>
  <Override PartName="/ppt/media/image6.jpeg" ContentType="image/jpeg"/>
  <Override PartName="/ppt/media/image60.png" ContentType="image/png"/>
  <Override PartName="/ppt/media/image50.jpeg" ContentType="image/jpeg"/>
  <Override PartName="/ppt/media/image37.jpeg" ContentType="image/jpeg"/>
  <Override PartName="/ppt/media/image3.jpeg" ContentType="image/jpeg"/>
  <Override PartName="/ppt/media/image5.jpeg" ContentType="image/jpeg"/>
  <Override PartName="/ppt/media/image61.png" ContentType="image/png"/>
  <Override PartName="/ppt/media/image20.jpeg" ContentType="image/jpeg"/>
  <Override PartName="/ppt/media/image59.png" ContentType="image/png"/>
  <Override PartName="/ppt/media/image24.jpeg" ContentType="image/jpeg"/>
  <Override PartName="/ppt/media/image36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51.jpeg" ContentType="image/jpeg"/>
  <Override PartName="/ppt/media/image4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13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40.jpeg" ContentType="image/jpeg"/>
  <Override PartName="/ppt/media/image5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FDDA-ADF1-493C-BE26-1B4DD3BDB5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A48E-3E6B-46DD-8761-4E56EE0BC1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3888-124C-4EAB-A6E5-76D2D2094C0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103C-C87F-48CF-A78E-3336A70A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AE9C-C2E5-414E-8C7B-A083F690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59C45-F32B-4B03-A349-00CB5B9B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D74E1-31D5-4610-BC3E-66563819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3B76D-9267-4757-A15C-5D28400F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FFFB9-B958-43B7-B9F0-A5003446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C99F1-3898-4558-B600-47353273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44E7A-A0DC-4E88-B3B8-3B904353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4F1FA-C3A6-4685-B2B8-204051B7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F8272-BB39-4BAF-AD18-11ACBA7A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4D8C3-05C1-446E-A3D3-1D880F4E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0D46C-F775-4EE4-AA45-08BD2208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870A-96B9-4A80-BB50-F96EAD52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18A15-193D-4E19-9DDB-89B1F607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D9583-C1E6-4C0B-958E-224B30A8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BE03C-5CF9-4019-A7CD-16A236FB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41591-A604-4847-BB59-0E5CD2DF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3782A-4CAC-4A20-9651-B34845A0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F0353-70E6-453A-B7E8-8331FCEB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FB84C-6398-4804-8EA3-FE6AD364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E798B-0DE1-4D6B-A43F-2A435020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D85E5-DFDE-4FF2-A4E7-19E60DB3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67A25-504A-40E6-9B6C-3EF0B9CA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98A-9250-4C5F-BAE0-EFAE90D2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AE8C2-E476-49B4-8366-198BB806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36AC7-40A0-4729-A472-F41781F8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FAB14-2C70-47A8-B535-ED1CC7C5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58D2D-EC19-4FAE-9709-1A0B0E44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63129-1A3D-49A1-998E-78FB959B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6915F-C32D-4FDC-B721-96E6C46D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24938-0B6A-4E17-9342-109BA03B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B2694-4BE2-41FD-901D-BB33DD73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5E892-DE44-46EA-A1B8-4B710176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79A69-A6B4-4A8F-A090-AC402D2B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C16F-8747-4CA9-8820-26D6F5D0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E6F41-704E-4715-860E-EA2C1BC2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2BB54-D741-4867-B961-1A86CB3B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8B167-02A2-44C9-94D2-A8CEAC87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BB5BA-C7A3-4886-86C4-B37164F0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08624-D111-46CC-B4A2-8813A963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8C228-39CE-444E-AD38-04B2A00A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A4B05-F3B6-483D-B38D-2F69FD2C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917A8-2D38-471E-9A0E-8EE85D09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8EFF8-6297-4DE0-8F10-CDC1F79D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D1418-246B-406A-9D63-E65CCFAA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6775-1259-499F-BC17-2DF55389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64472-6CD1-4BF8-99A5-085B982C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EFF64-76B8-4B69-A188-36A46EE2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E7157-4A40-4A09-AB74-C5C937B1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636BF-2B3F-4749-9301-A4EFCA2D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B5150-6146-480E-AD7E-661E2543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4AFBE2-A35A-438F-BC0D-AD324D34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D58467-AED3-4A9C-9E0A-ED2FA641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C7BA9F-C402-4557-9564-51746236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B8A3A1-F618-4B6E-851E-0298C00A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941C85-09E6-4350-B840-DA38D95D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0A66-E17E-4EBB-A471-B83DEE95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8AC6F3-1947-4324-95A9-FB7D320E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F8967-EE3F-409F-BC49-199B0309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F4B787-E37F-4B3D-B077-7BD92C88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0DB306-4D33-4227-8E40-CF76387C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97344-9630-4013-A8D9-E0806AC6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FC1B57-1FB3-41EA-953B-5487ADB2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DFF121-7E53-4924-8AB4-DB3594CC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147FDF-DC98-464F-B8E0-17A2AB9D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04A433-9C98-4F0A-A3E1-6DB37C63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CC59A8-6C4F-4470-B515-F0B0B0F8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3C01-0A18-415B-80F7-F9CD5975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74A090-CBF7-4D8E-9274-1E9F5240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DC41B4-FB1A-43A0-9366-01B434F6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5E87C1-F22C-4653-8582-4BF5D7C9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C757E-C27B-40DA-93FB-69835DBF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A5FC3-237C-4130-8460-9062CCA1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E59BEB-DBE9-44C0-8689-42123E44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F44905-36E0-46F2-875A-A0677B1B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A75EBC-0EDF-4028-9962-C8AE039D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D601AA-DB23-491A-8B01-91E49A65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3711-698C-4455-B960-8D43797C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EB2C-7E20-4047-813A-B8AA2F59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A14A-1F46-4E86-A68C-D3708FA0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F95-20AF-49E3-A0A4-D7C819DA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0959-33E9-4C5A-BE8A-DBB3F68E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A1A2-BDF2-45F3-94E6-46B14E58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AE51-290C-4C97-BA00-7AE8F661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CEBB-2639-4C52-9431-1FA0AC1E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EAF4-5100-46EA-BE5E-9354EDF2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C4081-2556-4B9D-A906-CF0DD821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3B2C7-4E94-4A74-8353-ED26BA89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DC227-B1EB-484E-83C7-6B301AC3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3E72B-EC43-4B10-8F4C-359E9210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AF213-DA3E-4EA8-BA33-EDEFB0C3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5DF9-3704-4A1E-BC5B-44BCDB79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9293B-C137-4C2C-BF0C-0AA5B71B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7546A-4709-4623-AC68-97B44034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5F82E-A0AC-4A50-92C8-CEC3809B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CA3A6-7482-4A48-940B-C39EBE9A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D74E9-DB7C-4903-AE71-02F2CE28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3F015-F3EC-4FD7-95E9-F88977B2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159C8-37D9-438C-8530-DC536DD8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7BD05-EA4C-40F0-B99A-6C87C269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6DC12-0FE3-4F6E-8DCE-11940953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276A9-DF43-4770-B4A4-9768701E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511-768B-4329-9C8A-1D2349AE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1A75E-0E42-4D1F-8CA8-1B3A8F61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74FE1-198F-4B85-BDEE-54EB5710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F59F3-6140-48C4-80C1-A4E29467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5F2C8-7FEA-42FA-AF28-B2A544E9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08519-856D-43E4-9D2A-5E9A3362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7DE66-BDA1-4E02-A6BA-DA361FE1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08DD2-CDC5-4973-AED1-3582CAB2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A6392-00D3-4D19-890D-1B2737B0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853EF-91F1-4F92-AB7B-6CC78638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02F1B-B0A1-4AB0-A220-F734AFB7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E168-600C-4867-9733-E785C890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7BD02-1850-40E0-B5B1-A92421DE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19363-E8BB-4388-9CD5-EE7B7552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24DEF-B713-40CB-A0E3-CF2FC2EB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A53DE-8CD9-4ED0-AFED-EAD27678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09763-FDCC-4FBD-B38C-FB8045DF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B83C3-8284-4660-B9A2-1DA36F59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38F82-81F0-4492-A42A-BDD3CA57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90981-3DDF-482D-AADE-80E78199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81BC8-4E02-4196-B22D-0B4635B9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06878-064F-4748-B5A6-BADD2A5B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6E68-18FC-482D-90B9-41DD2AEA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E5824-49D1-4ACC-A16F-7EA3B147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7DCB7-65E1-420D-9855-8C375030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698DF-F9E1-434A-BE52-6113EA28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854CB-17F7-4D16-9252-E5D9DDD3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AE8C7-FEBA-4E07-A215-A2A2A2EA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1613C-C02A-403E-9501-FC672018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0A803-9F15-4CE8-A7BE-47D963DE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3F17E-92CC-4A03-9920-1ABEDA68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D4F05-B90A-4EF1-A0D3-A151C4C9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13E79-4161-48D5-BA05-61E00425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0073-7F70-4639-A423-C671B180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AB65C-D2A7-4083-B51B-53B1BF11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EC53C-4D13-41C8-8430-BB00AEEB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FDDCD-E1CB-45D8-941E-5CE19706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A922A-07FD-4B6D-87A5-F8EC4D3E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582BF-8E84-4A90-A4B1-229E567A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4786C-349F-4CF6-87F2-B4F96F9C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1A566-230E-49A0-B2FD-4914BBE0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2EFB3-B765-412E-B965-96AEAD8A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AB890-4592-488E-B3A3-83042A48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E7260-4C79-4667-88B2-249050C7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B2F4-2393-439E-B8DC-92F72CA0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E40ED-E8B3-42A2-9BF7-38DB0D01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81084-583C-405B-A085-A9ADA7F3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B4EAE-DB8B-4F0C-BE24-1772ABC7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A6E6B-5CFE-4054-BE6B-F8AC7F3D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7D05F-0A03-467E-B14E-EF3274F3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2CDB2-8299-4311-AD64-69DF09E5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70566-F926-4C88-81A2-E95FB402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B2927-5B4D-4CFB-A569-D3722011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94192-56E6-4310-BD74-402DE9A6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427B7-3DDD-4A88-A3C3-607689E6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DF3C-987D-4936-B83A-D38AEC6A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3D8AF-CB21-4971-9E49-6BE21238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CBA42-C216-4313-9656-9E674623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D80E1-446B-4856-871A-13D93CD6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65A66-033A-43B1-A401-5BC89EE7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19D84-FD17-4CA9-B176-A493ADD6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3114C-1B9B-45E6-98A2-4C1E7F1E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2F8DE-541B-4733-B9B0-19852D0B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CA7A5-A3B1-450F-9627-DA36CB81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491CF-541C-4551-91E7-7498E5D8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DB923-B296-49D9-9608-ACA4F689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32C7-0C11-422A-AA0F-45358AAD3A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D648-F7D3-47DF-8653-CF57A71342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3EF5-E1AC-4080-A105-0CE621DB6A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BE34-B025-4A5E-BCB4-459BDF853A7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E897-4E89-4BAA-A013-3CCEB26207A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5166-FC10-4C91-945A-D149B11FF6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3F2D-6BA2-4CBE-BA2C-1ACF2BBED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1F7C-0007-4E2D-9756-A79552C54F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E789-C4DA-47B7-B6A7-6CBB4C1E69E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C21A-D621-4C7C-ACDF-FBB2D0F54A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9401-5C3D-405A-95F8-E63B2BF83D7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0115-07F6-45C6-8355-10EC8125F4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4AAC-E927-4E42-8EBF-9FCE05A537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7DC7-7DD2-4E7C-A5C3-66188E55A5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image" Target="../media/image23.jpeg"/><Relationship Id="rId23" Type="http://schemas.openxmlformats.org/officeDocument/2006/relationships/image" Target="../media/image24.jpeg"/><Relationship Id="rId2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hyperlink" Target="http://www.1ppt.cn/" TargetMode="External"/><Relationship Id="rId21" Type="http://schemas.openxmlformats.org/officeDocument/2006/relationships/image" Target="../media/image59.png"/><Relationship Id="rId22" Type="http://schemas.openxmlformats.org/officeDocument/2006/relationships/image" Target="../media/image60.png"/><Relationship Id="rId23" Type="http://schemas.openxmlformats.org/officeDocument/2006/relationships/image" Target="../media/image61.png"/><Relationship Id="rId2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3"/>
          <p:cNvSpPr txBox="1"/>
          <p:nvPr/>
        </p:nvSpPr>
        <p:spPr>
          <a:xfrm>
            <a:off x="1042920" y="1916280"/>
            <a:ext cx="7201080" cy="13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微软雅黑"/>
              </a:rPr>
              <a:t>我们周围的材料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582" name="矩形 2"/>
          <p:cNvSpPr/>
          <p:nvPr/>
        </p:nvSpPr>
        <p:spPr>
          <a:xfrm>
            <a:off x="2438640" y="5950080"/>
            <a:ext cx="441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-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无标题"/>
          <p:cNvPicPr/>
          <p:nvPr/>
        </p:nvPicPr>
        <p:blipFill>
          <a:blip r:embed="rId1"/>
          <a:stretch/>
        </p:blipFill>
        <p:spPr>
          <a:xfrm>
            <a:off x="2700360" y="1628640"/>
            <a:ext cx="2857320" cy="261936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3"/>
          <p:cNvSpPr/>
          <p:nvPr/>
        </p:nvSpPr>
        <p:spPr>
          <a:xfrm>
            <a:off x="826920" y="71892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我身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佩戴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的物品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玩具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各是什么材料做成的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4" descr="101057_pro_310x310"/>
          <p:cNvPicPr/>
          <p:nvPr/>
        </p:nvPicPr>
        <p:blipFill>
          <a:blip r:embed="rId2"/>
          <a:stretch/>
        </p:blipFill>
        <p:spPr>
          <a:xfrm>
            <a:off x="0" y="1700280"/>
            <a:ext cx="2654280" cy="214452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" descr="xiuxianyule2_0155"/>
          <p:cNvPicPr/>
          <p:nvPr/>
        </p:nvPicPr>
        <p:blipFill>
          <a:blip r:embed="rId3"/>
          <a:stretch/>
        </p:blipFill>
        <p:spPr>
          <a:xfrm>
            <a:off x="6372360" y="328464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3468321"/>
          <p:cNvPicPr/>
          <p:nvPr/>
        </p:nvPicPr>
        <p:blipFill>
          <a:blip r:embed="rId4"/>
          <a:stretch/>
        </p:blipFill>
        <p:spPr>
          <a:xfrm>
            <a:off x="5435640" y="1197000"/>
            <a:ext cx="2952720" cy="17524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7" descr="2008311941550"/>
          <p:cNvPicPr/>
          <p:nvPr/>
        </p:nvPicPr>
        <p:blipFill>
          <a:blip r:embed="rId5"/>
          <a:stretch/>
        </p:blipFill>
        <p:spPr>
          <a:xfrm>
            <a:off x="3203640" y="3573360"/>
            <a:ext cx="2881080" cy="27082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8" descr="e20f73533b5e6cca8d5430da"/>
          <p:cNvPicPr/>
          <p:nvPr/>
        </p:nvPicPr>
        <p:blipFill>
          <a:blip r:embed="rId6"/>
          <a:stretch/>
        </p:blipFill>
        <p:spPr>
          <a:xfrm>
            <a:off x="179280" y="4292640"/>
            <a:ext cx="2492640" cy="21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9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身上的物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0" y="1341360"/>
          <a:ext cx="9144000" cy="5516640"/>
        </p:xfrm>
        <a:graphic>
          <a:graphicData uri="http://schemas.openxmlformats.org/drawingml/2006/table">
            <a:tbl>
              <a:tblPr/>
              <a:tblGrid>
                <a:gridCol w="1609560"/>
                <a:gridCol w="3041640"/>
                <a:gridCol w="1433520"/>
                <a:gridCol w="3059280"/>
              </a:tblGrid>
              <a:tr h="179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可能使用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材料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可能使用的材料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2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服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扣子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2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拉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夹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2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钥匙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639" name="Text Box 31"/>
          <p:cNvSpPr/>
          <p:nvPr/>
        </p:nvSpPr>
        <p:spPr>
          <a:xfrm>
            <a:off x="2124000" y="314172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纤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2"/>
          <p:cNvSpPr/>
          <p:nvPr/>
        </p:nvSpPr>
        <p:spPr>
          <a:xfrm>
            <a:off x="1476360" y="426096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金属、塑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33"/>
          <p:cNvSpPr/>
          <p:nvPr/>
        </p:nvSpPr>
        <p:spPr>
          <a:xfrm>
            <a:off x="1763640" y="566100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金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34"/>
          <p:cNvSpPr/>
          <p:nvPr/>
        </p:nvSpPr>
        <p:spPr>
          <a:xfrm>
            <a:off x="5940360" y="3110040"/>
            <a:ext cx="34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塑料、金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35"/>
          <p:cNvSpPr/>
          <p:nvPr/>
        </p:nvSpPr>
        <p:spPr>
          <a:xfrm>
            <a:off x="6948360" y="436572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塑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Box 3"/>
          <p:cNvSpPr/>
          <p:nvPr/>
        </p:nvSpPr>
        <p:spPr>
          <a:xfrm>
            <a:off x="5604480" y="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书包里的物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4211640" y="765000"/>
          <a:ext cx="4932360" cy="5472360"/>
        </p:xfrm>
        <a:graphic>
          <a:graphicData uri="http://schemas.openxmlformats.org/drawingml/2006/table">
            <a:tbl>
              <a:tblPr/>
              <a:tblGrid>
                <a:gridCol w="1768320"/>
                <a:gridCol w="316404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646" name="TextBox 5"/>
          <p:cNvSpPr/>
          <p:nvPr/>
        </p:nvSpPr>
        <p:spPr>
          <a:xfrm>
            <a:off x="4570560" y="836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品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6"/>
          <p:cNvSpPr/>
          <p:nvPr/>
        </p:nvSpPr>
        <p:spPr>
          <a:xfrm>
            <a:off x="6437880" y="836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能使用的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7"/>
          <p:cNvSpPr/>
          <p:nvPr/>
        </p:nvSpPr>
        <p:spPr>
          <a:xfrm>
            <a:off x="4562640" y="1628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铅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8"/>
          <p:cNvSpPr/>
          <p:nvPr/>
        </p:nvSpPr>
        <p:spPr>
          <a:xfrm>
            <a:off x="6937560" y="1557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木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9"/>
          <p:cNvSpPr/>
          <p:nvPr/>
        </p:nvSpPr>
        <p:spPr>
          <a:xfrm>
            <a:off x="4632480" y="2349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尺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10"/>
          <p:cNvSpPr/>
          <p:nvPr/>
        </p:nvSpPr>
        <p:spPr>
          <a:xfrm>
            <a:off x="7032600" y="2349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塑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11"/>
          <p:cNvSpPr/>
          <p:nvPr/>
        </p:nvSpPr>
        <p:spPr>
          <a:xfrm>
            <a:off x="4632480" y="3213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书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12"/>
          <p:cNvSpPr/>
          <p:nvPr/>
        </p:nvSpPr>
        <p:spPr>
          <a:xfrm>
            <a:off x="7122960" y="3159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13"/>
          <p:cNvSpPr/>
          <p:nvPr/>
        </p:nvSpPr>
        <p:spPr>
          <a:xfrm>
            <a:off x="4518000" y="4005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文具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14"/>
          <p:cNvSpPr/>
          <p:nvPr/>
        </p:nvSpPr>
        <p:spPr>
          <a:xfrm>
            <a:off x="7166880" y="3951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金属、塑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15"/>
          <p:cNvSpPr/>
          <p:nvPr/>
        </p:nvSpPr>
        <p:spPr>
          <a:xfrm>
            <a:off x="4518000" y="4797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橡皮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16"/>
          <p:cNvSpPr/>
          <p:nvPr/>
        </p:nvSpPr>
        <p:spPr>
          <a:xfrm>
            <a:off x="7032600" y="472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橡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17"/>
          <p:cNvSpPr/>
          <p:nvPr/>
        </p:nvSpPr>
        <p:spPr>
          <a:xfrm>
            <a:off x="4632480" y="5516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剪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18"/>
          <p:cNvSpPr/>
          <p:nvPr/>
        </p:nvSpPr>
        <p:spPr>
          <a:xfrm>
            <a:off x="7239960" y="55166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塑料、金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43" descr="DSC01903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4583880" y="111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观察教室里的一些物品，它们是什么材料做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3" descr="DSC01904"/>
          <p:cNvPicPr/>
          <p:nvPr/>
        </p:nvPicPr>
        <p:blipFill>
          <a:blip r:embed="rId1"/>
          <a:stretch/>
        </p:blipFill>
        <p:spPr>
          <a:xfrm>
            <a:off x="1332000" y="693720"/>
            <a:ext cx="7020000" cy="453708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4"/>
          <p:cNvSpPr/>
          <p:nvPr/>
        </p:nvSpPr>
        <p:spPr>
          <a:xfrm>
            <a:off x="1041840" y="5143680"/>
            <a:ext cx="18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风扇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6049080" y="5143680"/>
            <a:ext cx="12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桌子、椅子、门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木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2165400" y="5576760"/>
            <a:ext cx="52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视机的外壳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塑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的，里面的零件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1161720" y="6089760"/>
            <a:ext cx="23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户是玻璃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木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6"/>
          <p:cNvSpPr/>
          <p:nvPr/>
        </p:nvSpPr>
        <p:spPr>
          <a:xfrm>
            <a:off x="324000" y="1125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7"/>
          <p:cNvSpPr/>
          <p:nvPr/>
        </p:nvSpPr>
        <p:spPr>
          <a:xfrm>
            <a:off x="1403280" y="117360"/>
            <a:ext cx="656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常见的材料有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金属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木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塑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玻璃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纸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纤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8"/>
          <p:cNvSpPr/>
          <p:nvPr/>
        </p:nvSpPr>
        <p:spPr>
          <a:xfrm>
            <a:off x="228600" y="1676520"/>
            <a:ext cx="2895480" cy="2514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9"/>
          <p:cNvSpPr/>
          <p:nvPr/>
        </p:nvSpPr>
        <p:spPr>
          <a:xfrm>
            <a:off x="3200400" y="1676520"/>
            <a:ext cx="2816280" cy="2533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10"/>
          <p:cNvSpPr/>
          <p:nvPr/>
        </p:nvSpPr>
        <p:spPr>
          <a:xfrm>
            <a:off x="6084720" y="1676520"/>
            <a:ext cx="2830680" cy="253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1"/>
          <p:cNvSpPr/>
          <p:nvPr/>
        </p:nvSpPr>
        <p:spPr>
          <a:xfrm>
            <a:off x="304920" y="4191120"/>
            <a:ext cx="2895480" cy="2666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12"/>
          <p:cNvSpPr/>
          <p:nvPr/>
        </p:nvSpPr>
        <p:spPr>
          <a:xfrm>
            <a:off x="3203640" y="4191120"/>
            <a:ext cx="2816280" cy="2666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13"/>
          <p:cNvSpPr/>
          <p:nvPr/>
        </p:nvSpPr>
        <p:spPr>
          <a:xfrm>
            <a:off x="1219320" y="1752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14"/>
          <p:cNvSpPr/>
          <p:nvPr/>
        </p:nvSpPr>
        <p:spPr>
          <a:xfrm>
            <a:off x="304920" y="22860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特有光泽而不透明，富有延展性及导热性、导电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15"/>
          <p:cNvSpPr/>
          <p:nvPr/>
        </p:nvSpPr>
        <p:spPr>
          <a:xfrm>
            <a:off x="4140360" y="1700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木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16"/>
          <p:cNvSpPr/>
          <p:nvPr/>
        </p:nvSpPr>
        <p:spPr>
          <a:xfrm>
            <a:off x="3203640" y="2205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黄白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面有纹路，不太重，能削得动，能浮在水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7"/>
          <p:cNvSpPr/>
          <p:nvPr/>
        </p:nvSpPr>
        <p:spPr>
          <a:xfrm>
            <a:off x="70102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塑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8"/>
          <p:cNvSpPr/>
          <p:nvPr/>
        </p:nvSpPr>
        <p:spPr>
          <a:xfrm>
            <a:off x="6143760" y="2209680"/>
            <a:ext cx="30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很轻，不会锈蚀，有较好的透明性和耐磨性。容易变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9"/>
          <p:cNvSpPr/>
          <p:nvPr/>
        </p:nvSpPr>
        <p:spPr>
          <a:xfrm>
            <a:off x="1219320" y="4191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玻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20"/>
          <p:cNvSpPr/>
          <p:nvPr/>
        </p:nvSpPr>
        <p:spPr>
          <a:xfrm>
            <a:off x="380880" y="4724280"/>
            <a:ext cx="27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透明的，一般用于建筑物，用来隔风透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易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21"/>
          <p:cNvSpPr/>
          <p:nvPr/>
        </p:nvSpPr>
        <p:spPr>
          <a:xfrm>
            <a:off x="4419720" y="42670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22"/>
          <p:cNvSpPr/>
          <p:nvPr/>
        </p:nvSpPr>
        <p:spPr>
          <a:xfrm>
            <a:off x="3657600" y="495288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很薄，用于书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比较光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12"/>
          <p:cNvSpPr/>
          <p:nvPr/>
        </p:nvSpPr>
        <p:spPr>
          <a:xfrm>
            <a:off x="6012000" y="4191120"/>
            <a:ext cx="2903400" cy="2666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20"/>
          <p:cNvSpPr/>
          <p:nvPr/>
        </p:nvSpPr>
        <p:spPr>
          <a:xfrm>
            <a:off x="7185600" y="4221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纤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21"/>
          <p:cNvSpPr/>
          <p:nvPr/>
        </p:nvSpPr>
        <p:spPr>
          <a:xfrm>
            <a:off x="6443640" y="48690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弹性大，可以用来做衣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66"/>
                </a:solidFill>
                <a:latin typeface="Arial"/>
                <a:ea typeface="黑体"/>
              </a:rPr>
              <a:t>塑料制作的物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3" descr="432_20043148354"/>
          <p:cNvPicPr/>
          <p:nvPr/>
        </p:nvPicPr>
        <p:blipFill>
          <a:blip r:embed="rId1"/>
          <a:stretch/>
        </p:blipFill>
        <p:spPr>
          <a:xfrm>
            <a:off x="6372360" y="1700280"/>
            <a:ext cx="2087280" cy="194472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4" descr="db006"/>
          <p:cNvPicPr/>
          <p:nvPr/>
        </p:nvPicPr>
        <p:blipFill>
          <a:blip r:embed="rId2"/>
          <a:stretch/>
        </p:blipFill>
        <p:spPr>
          <a:xfrm>
            <a:off x="250920" y="4292640"/>
            <a:ext cx="2520720" cy="225252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5" descr="20041314144368896"/>
          <p:cNvPicPr/>
          <p:nvPr/>
        </p:nvPicPr>
        <p:blipFill>
          <a:blip r:embed="rId3"/>
          <a:stretch/>
        </p:blipFill>
        <p:spPr>
          <a:xfrm>
            <a:off x="6516720" y="4149720"/>
            <a:ext cx="1871640" cy="24480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6" descr="made-in-china"/>
          <p:cNvPicPr/>
          <p:nvPr/>
        </p:nvPicPr>
        <p:blipFill>
          <a:blip r:embed="rId4"/>
          <a:stretch/>
        </p:blipFill>
        <p:spPr>
          <a:xfrm>
            <a:off x="3132000" y="1700280"/>
            <a:ext cx="2808360" cy="19908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7" descr="n-china"/>
          <p:cNvPicPr/>
          <p:nvPr/>
        </p:nvPicPr>
        <p:blipFill>
          <a:blip r:embed="rId5"/>
          <a:stretch/>
        </p:blipFill>
        <p:spPr>
          <a:xfrm>
            <a:off x="3276720" y="4508640"/>
            <a:ext cx="2374920" cy="18828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8" descr=""/>
          <p:cNvPicPr/>
          <p:nvPr/>
        </p:nvPicPr>
        <p:blipFill>
          <a:blip r:embed="rId6"/>
          <a:stretch/>
        </p:blipFill>
        <p:spPr>
          <a:xfrm>
            <a:off x="228600" y="1600200"/>
            <a:ext cx="2552760" cy="19810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66"/>
                </a:solidFill>
                <a:latin typeface="Arial"/>
                <a:ea typeface="黑体"/>
              </a:rPr>
              <a:t>金属（铁）制作的物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3" descr="20040324104646"/>
          <p:cNvPicPr/>
          <p:nvPr/>
        </p:nvPicPr>
        <p:blipFill>
          <a:blip r:embed="rId1"/>
          <a:stretch/>
        </p:blipFill>
        <p:spPr>
          <a:xfrm>
            <a:off x="5218200" y="1600200"/>
            <a:ext cx="2865240" cy="21798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" descr="20040324110959"/>
          <p:cNvPicPr/>
          <p:nvPr/>
        </p:nvPicPr>
        <p:blipFill>
          <a:blip r:embed="rId2"/>
          <a:stretch/>
        </p:blipFill>
        <p:spPr>
          <a:xfrm>
            <a:off x="0" y="4365720"/>
            <a:ext cx="2627280" cy="24922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5" descr="ti4"/>
          <p:cNvPicPr/>
          <p:nvPr/>
        </p:nvPicPr>
        <p:blipFill>
          <a:blip r:embed="rId3"/>
          <a:stretch/>
        </p:blipFill>
        <p:spPr>
          <a:xfrm>
            <a:off x="3419640" y="4365720"/>
            <a:ext cx="2520720" cy="2492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6" descr="pro18"/>
          <p:cNvPicPr/>
          <p:nvPr/>
        </p:nvPicPr>
        <p:blipFill>
          <a:blip r:embed="rId4"/>
          <a:stretch/>
        </p:blipFill>
        <p:spPr>
          <a:xfrm>
            <a:off x="1219320" y="1905120"/>
            <a:ext cx="3317760" cy="19936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7" descr="5"/>
          <p:cNvPicPr/>
          <p:nvPr/>
        </p:nvPicPr>
        <p:blipFill>
          <a:blip r:embed="rId5"/>
          <a:stretch/>
        </p:blipFill>
        <p:spPr>
          <a:xfrm>
            <a:off x="6372360" y="4437000"/>
            <a:ext cx="2520720" cy="216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66"/>
                </a:solidFill>
                <a:latin typeface="Arial"/>
                <a:ea typeface="黑体"/>
              </a:rPr>
              <a:t>金属（铝）制作的物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3" descr="1"/>
          <p:cNvPicPr/>
          <p:nvPr/>
        </p:nvPicPr>
        <p:blipFill>
          <a:blip r:embed="rId1"/>
          <a:stretch/>
        </p:blipFill>
        <p:spPr>
          <a:xfrm>
            <a:off x="0" y="1844640"/>
            <a:ext cx="2843280" cy="196524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4" descr="5509"/>
          <p:cNvPicPr/>
          <p:nvPr/>
        </p:nvPicPr>
        <p:blipFill>
          <a:blip r:embed="rId2"/>
          <a:stretch/>
        </p:blipFill>
        <p:spPr>
          <a:xfrm>
            <a:off x="6443640" y="1916280"/>
            <a:ext cx="2700360" cy="19810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" descr="cp10"/>
          <p:cNvPicPr/>
          <p:nvPr/>
        </p:nvPicPr>
        <p:blipFill>
          <a:blip r:embed="rId3"/>
          <a:stretch/>
        </p:blipFill>
        <p:spPr>
          <a:xfrm>
            <a:off x="3132000" y="4437000"/>
            <a:ext cx="2664000" cy="200340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6" descr="image002"/>
          <p:cNvPicPr/>
          <p:nvPr/>
        </p:nvPicPr>
        <p:blipFill>
          <a:blip r:embed="rId4"/>
          <a:stretch/>
        </p:blipFill>
        <p:spPr>
          <a:xfrm>
            <a:off x="6375240" y="4581360"/>
            <a:ext cx="2444760" cy="186084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7" descr="Img_0052"/>
          <p:cNvPicPr/>
          <p:nvPr/>
        </p:nvPicPr>
        <p:blipFill>
          <a:blip r:embed="rId5"/>
          <a:stretch/>
        </p:blipFill>
        <p:spPr>
          <a:xfrm>
            <a:off x="3203640" y="1844640"/>
            <a:ext cx="2881080" cy="19353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8" descr="lq-4"/>
          <p:cNvPicPr/>
          <p:nvPr/>
        </p:nvPicPr>
        <p:blipFill>
          <a:blip r:embed="rId6"/>
          <a:stretch/>
        </p:blipFill>
        <p:spPr>
          <a:xfrm>
            <a:off x="179280" y="4508640"/>
            <a:ext cx="2664000" cy="1923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66"/>
                </a:solidFill>
                <a:latin typeface="Arial"/>
                <a:ea typeface="黑体"/>
              </a:rPr>
              <a:t>纸制作的物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4652640" y="1599840"/>
            <a:ext cx="4033800" cy="21798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2"/>
          <a:stretch/>
        </p:blipFill>
        <p:spPr>
          <a:xfrm>
            <a:off x="456840" y="3946680"/>
            <a:ext cx="4033800" cy="217944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3"/>
          <a:stretch/>
        </p:blipFill>
        <p:spPr>
          <a:xfrm>
            <a:off x="456840" y="1599840"/>
            <a:ext cx="4033800" cy="21798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" descr=""/>
          <p:cNvPicPr/>
          <p:nvPr/>
        </p:nvPicPr>
        <p:blipFill>
          <a:blip r:embed="rId4"/>
          <a:stretch/>
        </p:blipFill>
        <p:spPr>
          <a:xfrm>
            <a:off x="838080" y="2057400"/>
            <a:ext cx="7413840" cy="4322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AutoShape 2"/>
          <p:cNvSpPr/>
          <p:nvPr/>
        </p:nvSpPr>
        <p:spPr>
          <a:xfrm>
            <a:off x="900000" y="476280"/>
            <a:ext cx="7020000" cy="5346720"/>
          </a:xfrm>
          <a:prstGeom prst="roundRect">
            <a:avLst>
              <a:gd name="adj" fmla="val 64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Group 4"/>
          <p:cNvGrpSpPr/>
          <p:nvPr/>
        </p:nvGrpSpPr>
        <p:grpSpPr>
          <a:xfrm>
            <a:off x="5473080" y="765000"/>
            <a:ext cx="1368720" cy="972360"/>
            <a:chOff x="5473080" y="765000"/>
            <a:chExt cx="1368720" cy="972360"/>
          </a:xfrm>
        </p:grpSpPr>
        <p:sp>
          <p:nvSpPr>
            <p:cNvPr id="714" name="AutoShape 5"/>
            <p:cNvSpPr/>
            <p:nvPr/>
          </p:nvSpPr>
          <p:spPr>
            <a:xfrm flipH="1">
              <a:off x="5908680" y="765000"/>
              <a:ext cx="496440" cy="453600"/>
            </a:xfrm>
            <a:custGeom>
              <a:avLst/>
              <a:gdLst>
                <a:gd name="textAreaLeft" fmla="*/ 115560 w 496440"/>
                <a:gd name="textAreaRight" fmla="*/ 380880 w 496440"/>
                <a:gd name="textAreaTop" fmla="*/ 47160 h 453600"/>
                <a:gd name="textAreaBottom" fmla="*/ 286920 h 45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utoShape 6"/>
            <p:cNvSpPr/>
            <p:nvPr/>
          </p:nvSpPr>
          <p:spPr>
            <a:xfrm flipH="1" rot="17280000">
              <a:off x="5670000" y="821160"/>
              <a:ext cx="340200" cy="661680"/>
            </a:xfrm>
            <a:custGeom>
              <a:avLst/>
              <a:gdLst>
                <a:gd name="textAreaLeft" fmla="*/ 79200 w 340200"/>
                <a:gd name="textAreaRight" fmla="*/ 261000 w 340200"/>
                <a:gd name="textAreaTop" fmla="*/ 68760 h 661680"/>
                <a:gd name="textAreaBottom" fmla="*/ 418680 h 66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7"/>
            <p:cNvSpPr/>
            <p:nvPr/>
          </p:nvSpPr>
          <p:spPr>
            <a:xfrm flipH="1" rot="12960000">
              <a:off x="5716080" y="1180440"/>
              <a:ext cx="496800" cy="454320"/>
            </a:xfrm>
            <a:custGeom>
              <a:avLst/>
              <a:gdLst>
                <a:gd name="textAreaLeft" fmla="*/ 115560 w 496800"/>
                <a:gd name="textAreaRight" fmla="*/ 381240 w 496800"/>
                <a:gd name="textAreaTop" fmla="*/ 47160 h 454320"/>
                <a:gd name="textAreaBottom" fmla="*/ 28764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8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8"/>
            <p:cNvSpPr/>
            <p:nvPr/>
          </p:nvSpPr>
          <p:spPr>
            <a:xfrm flipH="1" rot="4320000">
              <a:off x="6304320" y="820800"/>
              <a:ext cx="340200" cy="661680"/>
            </a:xfrm>
            <a:custGeom>
              <a:avLst/>
              <a:gdLst>
                <a:gd name="textAreaLeft" fmla="*/ 79200 w 340200"/>
                <a:gd name="textAreaRight" fmla="*/ 261000 w 340200"/>
                <a:gd name="textAreaTop" fmla="*/ 68760 h 661680"/>
                <a:gd name="textAreaBottom" fmla="*/ 418680 h 66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9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9"/>
            <p:cNvSpPr/>
            <p:nvPr/>
          </p:nvSpPr>
          <p:spPr>
            <a:xfrm flipH="1" rot="8640000">
              <a:off x="6102000" y="1171080"/>
              <a:ext cx="496800" cy="453600"/>
            </a:xfrm>
            <a:custGeom>
              <a:avLst/>
              <a:gdLst>
                <a:gd name="textAreaLeft" fmla="*/ 115560 w 496800"/>
                <a:gd name="textAreaRight" fmla="*/ 381240 w 496800"/>
                <a:gd name="textAreaTop" fmla="*/ 47160 h 453600"/>
                <a:gd name="textAreaBottom" fmla="*/ 286920 h 45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4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Text Box 10"/>
          <p:cNvSpPr/>
          <p:nvPr/>
        </p:nvSpPr>
        <p:spPr>
          <a:xfrm>
            <a:off x="2027160" y="716040"/>
            <a:ext cx="25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我想知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1"/>
          <p:cNvSpPr/>
          <p:nvPr/>
        </p:nvSpPr>
        <p:spPr>
          <a:xfrm>
            <a:off x="1189080" y="213372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、窗户的每个部位分别有什么材料组成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12" descr="p_large_658d0000aba92d14"/>
          <p:cNvPicPr/>
          <p:nvPr/>
        </p:nvPicPr>
        <p:blipFill>
          <a:blip r:embed="rId1"/>
          <a:stretch/>
        </p:blipFill>
        <p:spPr>
          <a:xfrm>
            <a:off x="6156360" y="4005360"/>
            <a:ext cx="2987640" cy="266364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13"/>
          <p:cNvSpPr/>
          <p:nvPr/>
        </p:nvSpPr>
        <p:spPr>
          <a:xfrm>
            <a:off x="1185840" y="4005360"/>
            <a:ext cx="60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、窗户不同的部位为什么要用不同的材料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IMG_4269"/>
          <p:cNvPicPr/>
          <p:nvPr/>
        </p:nvPicPr>
        <p:blipFill>
          <a:blip r:embed="rId1"/>
          <a:stretch/>
        </p:blipFill>
        <p:spPr>
          <a:xfrm>
            <a:off x="5724360" y="685800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" descr="IMG_42801"/>
          <p:cNvPicPr/>
          <p:nvPr/>
        </p:nvPicPr>
        <p:blipFill>
          <a:blip r:embed="rId2"/>
          <a:stretch/>
        </p:blipFill>
        <p:spPr>
          <a:xfrm>
            <a:off x="36360" y="4076640"/>
            <a:ext cx="1798920" cy="13492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4" descr="IMG_43561"/>
          <p:cNvPicPr/>
          <p:nvPr/>
        </p:nvPicPr>
        <p:blipFill>
          <a:blip r:embed="rId3"/>
          <a:stretch/>
        </p:blipFill>
        <p:spPr>
          <a:xfrm>
            <a:off x="3852720" y="4076640"/>
            <a:ext cx="1798920" cy="13492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IMG_43571"/>
          <p:cNvPicPr/>
          <p:nvPr/>
        </p:nvPicPr>
        <p:blipFill>
          <a:blip r:embed="rId4"/>
          <a:stretch/>
        </p:blipFill>
        <p:spPr>
          <a:xfrm>
            <a:off x="3852720" y="1339920"/>
            <a:ext cx="1798920" cy="13492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IMG_43381"/>
          <p:cNvPicPr/>
          <p:nvPr/>
        </p:nvPicPr>
        <p:blipFill>
          <a:blip r:embed="rId5"/>
          <a:stretch/>
        </p:blipFill>
        <p:spPr>
          <a:xfrm>
            <a:off x="36360" y="0"/>
            <a:ext cx="1798920" cy="13492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7" descr="IMG_43421"/>
          <p:cNvPicPr/>
          <p:nvPr/>
        </p:nvPicPr>
        <p:blipFill>
          <a:blip r:embed="rId6"/>
          <a:stretch/>
        </p:blipFill>
        <p:spPr>
          <a:xfrm>
            <a:off x="7740720" y="44280"/>
            <a:ext cx="1349280" cy="18003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8" descr="IMG_43461"/>
          <p:cNvPicPr/>
          <p:nvPr/>
        </p:nvPicPr>
        <p:blipFill>
          <a:blip r:embed="rId7"/>
          <a:stretch/>
        </p:blipFill>
        <p:spPr>
          <a:xfrm>
            <a:off x="36360" y="1339920"/>
            <a:ext cx="1798920" cy="13492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9" descr="IMG_43031"/>
          <p:cNvPicPr/>
          <p:nvPr/>
        </p:nvPicPr>
        <p:blipFill>
          <a:blip r:embed="rId8"/>
          <a:stretch/>
        </p:blipFill>
        <p:spPr>
          <a:xfrm>
            <a:off x="7740720" y="2060640"/>
            <a:ext cx="1349280" cy="18000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IMG_43041"/>
          <p:cNvPicPr/>
          <p:nvPr/>
        </p:nvPicPr>
        <p:blipFill>
          <a:blip r:embed="rId9"/>
          <a:stretch/>
        </p:blipFill>
        <p:spPr>
          <a:xfrm>
            <a:off x="5869080" y="-20520"/>
            <a:ext cx="1795320" cy="13428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IMG_43071"/>
          <p:cNvPicPr/>
          <p:nvPr/>
        </p:nvPicPr>
        <p:blipFill>
          <a:blip r:embed="rId10"/>
          <a:stretch/>
        </p:blipFill>
        <p:spPr>
          <a:xfrm>
            <a:off x="6012000" y="4438800"/>
            <a:ext cx="1349280" cy="17985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2" descr="IMG_43081"/>
          <p:cNvPicPr/>
          <p:nvPr/>
        </p:nvPicPr>
        <p:blipFill>
          <a:blip r:embed="rId11"/>
          <a:stretch/>
        </p:blipFill>
        <p:spPr>
          <a:xfrm>
            <a:off x="3852720" y="2708280"/>
            <a:ext cx="1798920" cy="13492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3" descr="IMG_43411"/>
          <p:cNvPicPr/>
          <p:nvPr/>
        </p:nvPicPr>
        <p:blipFill>
          <a:blip r:embed="rId12"/>
          <a:stretch/>
        </p:blipFill>
        <p:spPr>
          <a:xfrm>
            <a:off x="1908000" y="4076640"/>
            <a:ext cx="1800360" cy="13492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4" descr="IMG_42891"/>
          <p:cNvPicPr/>
          <p:nvPr/>
        </p:nvPicPr>
        <p:blipFill>
          <a:blip r:embed="rId13"/>
          <a:stretch/>
        </p:blipFill>
        <p:spPr>
          <a:xfrm>
            <a:off x="3854520" y="-20520"/>
            <a:ext cx="1795320" cy="13428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5" descr="IMG_42621"/>
          <p:cNvPicPr/>
          <p:nvPr/>
        </p:nvPicPr>
        <p:blipFill>
          <a:blip r:embed="rId14"/>
          <a:stretch/>
        </p:blipFill>
        <p:spPr>
          <a:xfrm>
            <a:off x="1909800" y="0"/>
            <a:ext cx="1797120" cy="13492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6" descr="IMG_42611"/>
          <p:cNvPicPr/>
          <p:nvPr/>
        </p:nvPicPr>
        <p:blipFill>
          <a:blip r:embed="rId15"/>
          <a:stretch/>
        </p:blipFill>
        <p:spPr>
          <a:xfrm>
            <a:off x="1908000" y="1339920"/>
            <a:ext cx="1800360" cy="13492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7" descr="IMG_43581"/>
          <p:cNvPicPr/>
          <p:nvPr/>
        </p:nvPicPr>
        <p:blipFill>
          <a:blip r:embed="rId16"/>
          <a:stretch/>
        </p:blipFill>
        <p:spPr>
          <a:xfrm>
            <a:off x="34920" y="2708280"/>
            <a:ext cx="1800360" cy="13492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8" descr="IMG_43621"/>
          <p:cNvPicPr/>
          <p:nvPr/>
        </p:nvPicPr>
        <p:blipFill>
          <a:blip r:embed="rId17"/>
          <a:stretch/>
        </p:blipFill>
        <p:spPr>
          <a:xfrm>
            <a:off x="1908000" y="2708280"/>
            <a:ext cx="1800360" cy="13492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9" descr="IMG_43591"/>
          <p:cNvPicPr/>
          <p:nvPr/>
        </p:nvPicPr>
        <p:blipFill>
          <a:blip r:embed="rId18"/>
          <a:stretch/>
        </p:blipFill>
        <p:spPr>
          <a:xfrm rot="16140000">
            <a:off x="6127560" y="2736720"/>
            <a:ext cx="1117440" cy="14922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0" descr="IMG_43601"/>
          <p:cNvPicPr/>
          <p:nvPr/>
        </p:nvPicPr>
        <p:blipFill>
          <a:blip r:embed="rId19"/>
          <a:stretch/>
        </p:blipFill>
        <p:spPr>
          <a:xfrm>
            <a:off x="1908000" y="5445000"/>
            <a:ext cx="1800360" cy="13496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21" descr="IMG_43611"/>
          <p:cNvPicPr/>
          <p:nvPr/>
        </p:nvPicPr>
        <p:blipFill>
          <a:blip r:embed="rId20"/>
          <a:stretch/>
        </p:blipFill>
        <p:spPr>
          <a:xfrm>
            <a:off x="5869080" y="1339920"/>
            <a:ext cx="1798560" cy="13492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22" descr="IMG_42651"/>
          <p:cNvPicPr/>
          <p:nvPr/>
        </p:nvPicPr>
        <p:blipFill>
          <a:blip r:embed="rId21"/>
          <a:stretch/>
        </p:blipFill>
        <p:spPr>
          <a:xfrm>
            <a:off x="3852720" y="5445000"/>
            <a:ext cx="1798920" cy="13496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3" descr="IMG_42681"/>
          <p:cNvPicPr/>
          <p:nvPr/>
        </p:nvPicPr>
        <p:blipFill>
          <a:blip r:embed="rId22"/>
          <a:stretch/>
        </p:blipFill>
        <p:spPr>
          <a:xfrm>
            <a:off x="34920" y="5445000"/>
            <a:ext cx="1792440" cy="13496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4" descr="45749fa77e94ed87d043586e"/>
          <p:cNvPicPr/>
          <p:nvPr/>
        </p:nvPicPr>
        <p:blipFill>
          <a:blip r:embed="rId23"/>
          <a:stretch/>
        </p:blipFill>
        <p:spPr>
          <a:xfrm>
            <a:off x="7740720" y="4076640"/>
            <a:ext cx="129708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0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9" descr=""/>
          <p:cNvPicPr/>
          <p:nvPr/>
        </p:nvPicPr>
        <p:blipFill>
          <a:blip r:embed="rId21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726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10" descr="png-0644"/>
          <p:cNvPicPr/>
          <p:nvPr/>
        </p:nvPicPr>
        <p:blipFill>
          <a:blip r:embed="rId22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11" descr="png-0652"/>
          <p:cNvPicPr/>
          <p:nvPr/>
        </p:nvPicPr>
        <p:blipFill>
          <a:blip r:embed="rId23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2837-BDAA-40F3-8764-5E64B887887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4"/>
          <p:cNvSpPr/>
          <p:nvPr/>
        </p:nvSpPr>
        <p:spPr>
          <a:xfrm>
            <a:off x="252360" y="765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观察过周围的物品是由哪些材料做成的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哪些材料是最常见的材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我们会大量使用它们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1418760" y="2924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知道的材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414360" y="3789360"/>
            <a:ext cx="843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找出六种常见的材料。我们知道它们的特性吗？试着分别用适当的词语描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395280" y="53737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常见的有金属、木头、塑料、玻璃、纸、纤维等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木桌"/>
          <p:cNvPicPr/>
          <p:nvPr/>
        </p:nvPicPr>
        <p:blipFill>
          <a:blip r:embed="rId1"/>
          <a:stretch/>
        </p:blipFill>
        <p:spPr>
          <a:xfrm>
            <a:off x="34920" y="0"/>
            <a:ext cx="4392720" cy="685800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3"/>
          <p:cNvSpPr/>
          <p:nvPr/>
        </p:nvSpPr>
        <p:spPr>
          <a:xfrm>
            <a:off x="2383920" y="693720"/>
            <a:ext cx="1826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木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4861080" y="909720"/>
            <a:ext cx="410364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黄白色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表面有纹路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不太重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能削得动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锯了以后有末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能浮在水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书"/>
          <p:cNvPicPr/>
          <p:nvPr/>
        </p:nvPicPr>
        <p:blipFill>
          <a:blip r:embed="rId1"/>
          <a:stretch/>
        </p:blipFill>
        <p:spPr>
          <a:xfrm>
            <a:off x="2916360" y="0"/>
            <a:ext cx="622764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3"/>
          <p:cNvSpPr/>
          <p:nvPr/>
        </p:nvSpPr>
        <p:spPr>
          <a:xfrm>
            <a:off x="900000" y="112536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34920" y="3213000"/>
            <a:ext cx="52545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很薄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用于书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矩形 5"/>
          <p:cNvSpPr/>
          <p:nvPr/>
        </p:nvSpPr>
        <p:spPr>
          <a:xfrm>
            <a:off x="3348000" y="5516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3114D"/>
          <p:cNvPicPr/>
          <p:nvPr/>
        </p:nvPicPr>
        <p:blipFill>
          <a:blip r:embed="rId1"/>
          <a:stretch/>
        </p:blipFill>
        <p:spPr>
          <a:xfrm>
            <a:off x="0" y="0"/>
            <a:ext cx="4535640" cy="685800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3"/>
          <p:cNvSpPr/>
          <p:nvPr/>
        </p:nvSpPr>
        <p:spPr>
          <a:xfrm>
            <a:off x="2340000" y="9079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金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4718160" y="981000"/>
            <a:ext cx="43196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具特有光泽而不透明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富有展性、延性及导热性、导电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3101D"/>
          <p:cNvPicPr/>
          <p:nvPr/>
        </p:nvPicPr>
        <p:blipFill>
          <a:blip r:embed="rId1"/>
          <a:stretch/>
        </p:blipFill>
        <p:spPr>
          <a:xfrm>
            <a:off x="-898560" y="0"/>
            <a:ext cx="5686560" cy="685800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3"/>
          <p:cNvSpPr/>
          <p:nvPr/>
        </p:nvSpPr>
        <p:spPr>
          <a:xfrm>
            <a:off x="1835280" y="26028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塑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4788000" y="620640"/>
            <a:ext cx="453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很轻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不会锈蚀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有较好的透明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和耐磨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容易变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玻璃"/>
          <p:cNvPicPr/>
          <p:nvPr/>
        </p:nvPicPr>
        <p:blipFill>
          <a:blip r:embed="rId1"/>
          <a:stretch/>
        </p:blipFill>
        <p:spPr>
          <a:xfrm>
            <a:off x="34920" y="0"/>
            <a:ext cx="482616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3"/>
          <p:cNvSpPr/>
          <p:nvPr/>
        </p:nvSpPr>
        <p:spPr>
          <a:xfrm>
            <a:off x="5364000" y="1486080"/>
            <a:ext cx="3600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是透明的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一般用于建筑物，用来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风透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6576480" y="404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玻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衣服纤维"/>
          <p:cNvPicPr/>
          <p:nvPr/>
        </p:nvPicPr>
        <p:blipFill>
          <a:blip r:embed="rId1"/>
          <a:stretch/>
        </p:blipFill>
        <p:spPr>
          <a:xfrm>
            <a:off x="0" y="0"/>
            <a:ext cx="5184720" cy="685800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3"/>
          <p:cNvSpPr/>
          <p:nvPr/>
        </p:nvSpPr>
        <p:spPr>
          <a:xfrm>
            <a:off x="3391920" y="117360"/>
            <a:ext cx="1826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纤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5148360" y="1197000"/>
            <a:ext cx="3816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弹性大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可以用来做衣服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02:58:3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cp:lastPrinted>1899-12-30T00:00:00Z</cp:lastPrinted>
  <dcterms:modified xsi:type="dcterms:W3CDTF">2017-04-16T15:51:53Z</dcterms:modified>
  <cp:revision>8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