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357D-9299-4C68-A256-97975F305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8EAF-983D-4373-B164-7480BDA62438}" type="slidenum">
              <a:rPr b="0" lang="en-US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3B1-1C2D-4572-B7CA-29337698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230-2A32-4BBB-B707-B7D7A95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45A-FFDC-445D-AD4C-1F9057A77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B51-056F-4C33-AA55-15B66D24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7A7-6750-4222-A39B-76DF9AC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2DD-BB1E-4E7A-85D1-B9DD6C30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66C-585B-4CE2-A642-703C73B8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457-81CF-4DDC-B7C2-7C0A47E4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FF27-43F7-43B7-8A2E-F9284B64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1C9-39EE-4634-B999-4DE82B4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FAC-1C97-41FB-9BC3-B40E50F1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A405-6EA6-4BD1-ADB5-ED9A32E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7F4-5AE2-4345-9376-FA09CA2632C6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4.png"/><Relationship Id="rId17" Type="http://schemas.openxmlformats.org/officeDocument/2006/relationships/image" Target="../media/image7.jpe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gua.exe" TargetMode="External"/><Relationship Id="rId4" Type="http://schemas.openxmlformats.org/officeDocument/2006/relationships/image" Target="../media/image9.png"/><Relationship Id="rId5" Type="http://schemas.openxmlformats.org/officeDocument/2006/relationships/hyperlink" Target="yi.exe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307800" y="6222960"/>
            <a:ext cx="47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867280" y="2133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看着可爱的雪孩子，小白兔真高兴。他和雪孩子又唱又跳，玩得很开心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9" name="Picture 4" descr="雪娃娃03"/>
          <p:cNvPicPr/>
          <p:nvPr/>
        </p:nvPicPr>
        <p:blipFill>
          <a:blip r:embed="rId3"/>
          <a:stretch/>
        </p:blipFill>
        <p:spPr>
          <a:xfrm>
            <a:off x="1622520" y="1676520"/>
            <a:ext cx="4092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5715000" y="2286000"/>
            <a:ext cx="2971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小白兔玩累了，就回家休息。屋子里很冷，他往火里加了一些柴，就上床睡觉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2" name="Picture 4" descr="雪娃娃04"/>
          <p:cNvPicPr/>
          <p:nvPr/>
        </p:nvPicPr>
        <p:blipFill>
          <a:blip r:embed="rId3"/>
          <a:stretch/>
        </p:blipFill>
        <p:spPr>
          <a:xfrm>
            <a:off x="1447920" y="1752480"/>
            <a:ext cx="4113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943600" y="25131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火把旁边的柴堆烧着了。小白兔睡得正香，一点儿也不知道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5" name="Picture 4" descr="雪娃娃05"/>
          <p:cNvPicPr/>
          <p:nvPr/>
        </p:nvPicPr>
        <p:blipFill>
          <a:blip r:embed="rId3"/>
          <a:stretch/>
        </p:blipFill>
        <p:spPr>
          <a:xfrm>
            <a:off x="1654200" y="1828800"/>
            <a:ext cx="406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5791320" y="28605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看见小白兔家着火了，就飞快地跑了过去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8" name="Picture 4" descr="雪娃娃06"/>
          <p:cNvPicPr/>
          <p:nvPr/>
        </p:nvPicPr>
        <p:blipFill>
          <a:blip r:embed="rId3"/>
          <a:stretch/>
        </p:blipFill>
        <p:spPr>
          <a:xfrm>
            <a:off x="1533600" y="1828800"/>
            <a:ext cx="395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867280" y="251460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从大火中救出了小白兔，自己却化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1" name="Picture 4" descr="雪娃娃07"/>
          <p:cNvPicPr/>
          <p:nvPr/>
        </p:nvPicPr>
        <p:blipFill>
          <a:blip r:embed="rId3"/>
          <a:stretch/>
        </p:blipFill>
        <p:spPr>
          <a:xfrm>
            <a:off x="1592280" y="1752480"/>
            <a:ext cx="397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486400" y="220968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哪里去了呢？他飞到了空中，成了一朵白云，一朵很美很美的白云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4" name="Picture 4" descr="雪娃娃08"/>
          <p:cNvPicPr/>
          <p:nvPr/>
        </p:nvPicPr>
        <p:blipFill>
          <a:blip r:embed="rId3"/>
          <a:stretch/>
        </p:blipFill>
        <p:spPr>
          <a:xfrm>
            <a:off x="1411200" y="1752480"/>
            <a:ext cx="384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9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30"/>
          <p:cNvSpPr/>
          <p:nvPr/>
        </p:nvSpPr>
        <p:spPr>
          <a:xfrm>
            <a:off x="1219320" y="1981080"/>
            <a:ext cx="2057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议议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7" name="Rectangle 1034"/>
          <p:cNvSpPr/>
          <p:nvPr/>
        </p:nvSpPr>
        <p:spPr>
          <a:xfrm>
            <a:off x="2148840" y="4191120"/>
            <a:ext cx="474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是怎样飞到天上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还会回来吗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Text Box 1035"/>
          <p:cNvSpPr/>
          <p:nvPr/>
        </p:nvSpPr>
        <p:spPr>
          <a:xfrm>
            <a:off x="2323080" y="3162240"/>
            <a:ext cx="4569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救出了小白兔，自己变成了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Rectangle 1037"/>
          <p:cNvSpPr/>
          <p:nvPr/>
        </p:nvSpPr>
        <p:spPr>
          <a:xfrm>
            <a:off x="3851280" y="14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9"/>
          <p:cNvGrpSpPr/>
          <p:nvPr/>
        </p:nvGrpSpPr>
        <p:grpSpPr>
          <a:xfrm>
            <a:off x="990720" y="2017800"/>
            <a:ext cx="7238880" cy="4461120"/>
            <a:chOff x="990720" y="2017800"/>
            <a:chExt cx="7238880" cy="4461120"/>
          </a:xfrm>
        </p:grpSpPr>
        <p:grpSp>
          <p:nvGrpSpPr>
            <p:cNvPr id="102" name="Group 7"/>
            <p:cNvGrpSpPr/>
            <p:nvPr/>
          </p:nvGrpSpPr>
          <p:grpSpPr>
            <a:xfrm>
              <a:off x="990720" y="2017800"/>
              <a:ext cx="7238880" cy="3773520"/>
              <a:chOff x="990720" y="2017800"/>
              <a:chExt cx="7238880" cy="3773520"/>
            </a:xfrm>
          </p:grpSpPr>
          <p:pic>
            <p:nvPicPr>
              <p:cNvPr id="103" name="Picture 5" descr="雪孩子课件1"/>
              <p:cNvPicPr/>
              <p:nvPr/>
            </p:nvPicPr>
            <p:blipFill>
              <a:blip r:embed="rId3"/>
              <a:stretch/>
            </p:blipFill>
            <p:spPr>
              <a:xfrm>
                <a:off x="5218200" y="2017800"/>
                <a:ext cx="3011400" cy="377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6" descr="雪孩子课件2"/>
              <p:cNvPicPr/>
              <p:nvPr/>
            </p:nvPicPr>
            <p:blipFill>
              <a:blip r:embed="rId4"/>
              <a:stretch/>
            </p:blipFill>
            <p:spPr>
              <a:xfrm>
                <a:off x="990720" y="2362320"/>
                <a:ext cx="3962160" cy="315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 Box 8"/>
            <p:cNvSpPr/>
            <p:nvPr/>
          </p:nvSpPr>
          <p:spPr>
            <a:xfrm>
              <a:off x="3352680" y="5897520"/>
              <a:ext cx="252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雪 的 形 成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1219320" y="1600200"/>
            <a:ext cx="2819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想想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800600" y="4381560"/>
            <a:ext cx="3809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想对雪孩子说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1079640" y="2362320"/>
            <a:ext cx="3568680" cy="4057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4807080" y="2911320"/>
            <a:ext cx="3657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说说小白兔望着白云会说些什么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371600" y="18288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905120" y="2819520"/>
            <a:ext cx="59436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唱又跳　　　又细又长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说又笑　　　又大又圆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   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1_1-1-21-312_20030103215224"/>
          <p:cNvPicPr/>
          <p:nvPr/>
        </p:nvPicPr>
        <p:blipFill>
          <a:blip r:embed="rId3"/>
          <a:stretch/>
        </p:blipFill>
        <p:spPr>
          <a:xfrm>
            <a:off x="2247840" y="167652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914400" y="2362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儿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905360" y="3805200"/>
            <a:ext cx="350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太阳公公怕他热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把他的衣裳全脱掉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光着身子还冒汗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越流汗水个越小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295280" y="3160800"/>
            <a:ext cx="3124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雪人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寒风吹，雪花飘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个雪人个子高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给雪人穿单衣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外面又套大棉袄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459080" y="1647720"/>
            <a:ext cx="5475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续编故事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雪孩子又回来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FD4E-2519-482A-A3A2-913FD0BFA97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news_2003122221417"/>
          <p:cNvPicPr/>
          <p:nvPr/>
        </p:nvPicPr>
        <p:blipFill>
          <a:blip r:embed="rId3"/>
          <a:stretch/>
        </p:blipFill>
        <p:spPr>
          <a:xfrm>
            <a:off x="1066680" y="1752480"/>
            <a:ext cx="6934320" cy="4272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2987640" y="330840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ziliao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4" name="Picture 2050" descr="小学语文(记叙文）01"/>
          <p:cNvPicPr/>
          <p:nvPr/>
        </p:nvPicPr>
        <p:blipFill>
          <a:blip r:embed="rId16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71" descr=""/>
          <p:cNvPicPr/>
          <p:nvPr/>
        </p:nvPicPr>
        <p:blipFill>
          <a:blip r:embed="rId17"/>
          <a:stretch/>
        </p:blipFill>
        <p:spPr>
          <a:xfrm>
            <a:off x="1828800" y="1905120"/>
            <a:ext cx="5334120" cy="384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612800" y="2362320"/>
            <a:ext cx="5943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仔细看图，想想每幅图上画了什么。再读读图旁的句子，画出自己不认识的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728080" y="17971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认一认，读一读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9" name="Picture 4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5"/>
          <p:cNvGrpSpPr/>
          <p:nvPr/>
        </p:nvGrpSpPr>
        <p:grpSpPr>
          <a:xfrm>
            <a:off x="1676520" y="2722680"/>
            <a:ext cx="6396120" cy="2766240"/>
            <a:chOff x="1676520" y="2722680"/>
            <a:chExt cx="6396120" cy="2766240"/>
          </a:xfrm>
        </p:grpSpPr>
        <p:grpSp>
          <p:nvGrpSpPr>
            <p:cNvPr id="61" name="Group 13"/>
            <p:cNvGrpSpPr/>
            <p:nvPr/>
          </p:nvGrpSpPr>
          <p:grpSpPr>
            <a:xfrm>
              <a:off x="1676520" y="2722680"/>
              <a:ext cx="6396120" cy="1164960"/>
              <a:chOff x="1676520" y="2722680"/>
              <a:chExt cx="6396120" cy="1164960"/>
            </a:xfrm>
          </p:grpSpPr>
          <p:sp>
            <p:nvSpPr>
              <p:cNvPr id="62" name="Rectangle 8"/>
              <p:cNvSpPr/>
              <p:nvPr/>
            </p:nvSpPr>
            <p:spPr>
              <a:xfrm>
                <a:off x="1676520" y="3245040"/>
                <a:ext cx="624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孩 让 起 玩 往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63" name="Text Box 10"/>
              <p:cNvSpPr/>
              <p:nvPr/>
            </p:nvSpPr>
            <p:spPr>
              <a:xfrm>
                <a:off x="1691640" y="2722680"/>
                <a:ext cx="638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h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i      r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g       qǐ       w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     zhù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Group 14"/>
            <p:cNvGrpSpPr/>
            <p:nvPr/>
          </p:nvGrpSpPr>
          <p:grpSpPr>
            <a:xfrm>
              <a:off x="1697040" y="4338720"/>
              <a:ext cx="6257520" cy="1150200"/>
              <a:chOff x="1697040" y="4338720"/>
              <a:chExt cx="6257520" cy="1150200"/>
            </a:xfrm>
          </p:grpSpPr>
          <p:sp>
            <p:nvSpPr>
              <p:cNvPr id="65" name="Rectangle 9"/>
              <p:cNvSpPr/>
              <p:nvPr/>
            </p:nvSpPr>
            <p:spPr>
              <a:xfrm>
                <a:off x="1720800" y="4846320"/>
                <a:ext cx="6019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觉 烧 知 道 化 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66" name="Text Box 12"/>
              <p:cNvSpPr/>
              <p:nvPr/>
            </p:nvSpPr>
            <p:spPr>
              <a:xfrm>
                <a:off x="1697040" y="4338720"/>
                <a:ext cx="62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ji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     shāo     zhī     d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Book Antiqua"/>
                  </a:rPr>
                  <a:t>      hu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373392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9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048120"/>
            <a:ext cx="3352680" cy="2012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3024360"/>
            <a:ext cx="3276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雪娃娃01"/>
          <p:cNvPicPr/>
          <p:nvPr/>
        </p:nvPicPr>
        <p:blipFill>
          <a:blip r:embed="rId3"/>
          <a:stretch/>
        </p:blipFill>
        <p:spPr>
          <a:xfrm>
            <a:off x="1295280" y="1828800"/>
            <a:ext cx="4800600" cy="4270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248520" y="270828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下了一天一夜的雪。房子上、树上、地上一片白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019920" y="2241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兔妈妈要出去找吃的。她堆了一个漂亮的雪孩子，让他和小白兔一起玩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6" name="Picture 4" descr="雪娃娃02"/>
          <p:cNvPicPr/>
          <p:nvPr/>
        </p:nvPicPr>
        <p:blipFill>
          <a:blip r:embed="rId3"/>
          <a:stretch/>
        </p:blipFill>
        <p:spPr>
          <a:xfrm>
            <a:off x="1219320" y="1828800"/>
            <a:ext cx="45720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/>
  <dc:description/>
  <cp:keywords/>
  <dc:language>en-US</dc:language>
  <cp:lastModifiedBy>xinxing</cp:lastModifiedBy>
  <dcterms:modified xsi:type="dcterms:W3CDTF">2017-04-16T16:12:22Z</dcterms:modified>
  <cp:revision>8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