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085-24DF-44C8-B5CF-0BC52D50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D71-1C97-468C-B042-7A95325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7EC-4E2D-4F29-9A0D-12C874D7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51A-7E53-4C6C-9A83-521A4C9C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F79-0897-4F23-B3DD-D1DE8C5D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E7B-38DC-4258-A2F8-01CCBEB0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756-9A57-4F62-AF57-2742BA4C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8E0-910E-4A8C-9F2B-3A0A487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0E5-789E-407D-90AB-06955F2D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571-0233-4C4E-9091-EBDEDB3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BDC-0FA3-4388-82A3-B1D543F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8FB-A44F-4E7D-8E18-5CCB79E6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E7D6-8BB0-4E0F-AFE7-21769FAA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47068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8915400" cy="89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旅行            蒲公英              降落伞                娃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苍耳             纷纷                  山洼                  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蹦跳             炸开                  观察                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312408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E:\唐红梅\植物妈妈有办法\16.jpg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E:\唐红梅\植物妈妈有办法\17.jpg"/>
          <p:cNvPicPr/>
          <p:nvPr/>
        </p:nvPicPr>
        <p:blipFill>
          <a:blip r:embed="rId3"/>
          <a:stretch/>
        </p:blipFill>
        <p:spPr>
          <a:xfrm>
            <a:off x="5638680" y="4114800"/>
            <a:ext cx="2503440" cy="3189240"/>
          </a:xfrm>
          <a:prstGeom prst="rect">
            <a:avLst/>
          </a:prstGeom>
          <a:ln w="0">
            <a:noFill/>
          </a:ln>
        </p:spPr>
      </p:pic>
      <p:pic>
        <p:nvPicPr>
          <p:cNvPr id="61" name="qiurisiyu.mp3" descr=""/>
          <p:cNvPicPr/>
          <p:nvPr/>
        </p:nvPicPr>
        <p:blipFill>
          <a:blip r:embed="rId4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343400" y="15238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如  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娃  纷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田字格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1A04-2495-4D7D-A0FD-BBBDE4C030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唐红梅\植物妈妈有办法\6.jpg"/>
          <p:cNvPicPr/>
          <p:nvPr/>
        </p:nvPicPr>
        <p:blipFill>
          <a:blip r:embed="rId1"/>
          <a:stretch/>
        </p:blipFill>
        <p:spPr>
          <a:xfrm>
            <a:off x="380880" y="2895480"/>
            <a:ext cx="4953240" cy="370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唐红梅\植物妈妈有办法\4.bmp"/>
          <p:cNvPicPr/>
          <p:nvPr/>
        </p:nvPicPr>
        <p:blipFill>
          <a:blip r:embed="rId2"/>
          <a:stretch/>
        </p:blipFill>
        <p:spPr>
          <a:xfrm>
            <a:off x="3886200" y="22860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唐红梅\植物妈妈有办法\2.bmp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唐红梅\植物妈妈有办法\8.jpg"/>
          <p:cNvPicPr/>
          <p:nvPr/>
        </p:nvPicPr>
        <p:blipFill>
          <a:blip r:embed="rId2"/>
          <a:stretch/>
        </p:blipFill>
        <p:spPr>
          <a:xfrm>
            <a:off x="4648320" y="3390840"/>
            <a:ext cx="4152960" cy="31147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1112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唐红梅\植物妈妈有办法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唐红梅\植物妈妈有办法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7" descr="E:\唐红梅\植物妈妈有办法\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唐红梅\植物妈妈有办法\19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0:25:1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1:06Z</dcterms:modified>
  <cp:revision>2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