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6955-96F4-4C39-9CEE-73AF5A2C9C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EF65-A8F4-4988-9E61-89B3D9B5AD54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B9F7-4C93-44B8-AFCC-58EE5CF3561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A541-8DDE-4434-B230-F45AC4CA5A7F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9600-8172-4166-A09C-1E542A62AC40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9173-181E-4F14-A66D-C1D8E7B576B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下面，请同学们随着老师，用一分多钟的时间感受一下昼夜交替的瞬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5887-912B-4C66-B8C4-C0223CDA4DE0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EE16-E893-4D33-B9FB-D4AA346FBED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F9BA-2890-49FF-87CD-46B7FF3C462D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99656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99656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99656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9656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2d050"/>
                </a:solidFill>
                <a:latin typeface="微软雅黑"/>
                <a:ea typeface="微软雅黑"/>
              </a:rPr>
              <a:t>昼夜交替现象</a:t>
            </a:r>
            <a:endParaRPr b="0" lang="en-US" sz="88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143000" y="627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教科版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科学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年级下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2171160" y="5943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2514600" y="152388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   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太阳不动，地球围绕太阳公转但不自转”这种情况下，也会有昼夜交替现象，但要地球绕太阳一圈才会发生一次昼夜现象，也就是说需要约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876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个小时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的时间，这显然也是不符合事实的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133720" y="533520"/>
            <a:ext cx="58672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、太阳不动，地球围绕太阳公转但不自转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4" name="Picture 4" descr="C:\Documents and Settings\Administrator\My Documents\My Pictures\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4280" y="1447920"/>
            <a:ext cx="3459240" cy="464796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1"/>
          <p:cNvSpPr/>
          <p:nvPr/>
        </p:nvSpPr>
        <p:spPr>
          <a:xfrm>
            <a:off x="407880" y="622620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2590920" y="1523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地球自转，不公转”时，地球自转一周就会发生一次昼夜现象。如果是这样，地球上某地的昼夜长短、气温变化就天天一样，不会出现差异，也就不会发生四季变化。这也不符合实际情况。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4" descr="C:\Documents and Settings\Administrator\My Documents\My Pictures\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4280" y="1447920"/>
            <a:ext cx="3459240" cy="4647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2133720" y="533520"/>
            <a:ext cx="3124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、地球自转，不公转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4"/>
          <p:cNvSpPr/>
          <p:nvPr/>
        </p:nvSpPr>
        <p:spPr>
          <a:xfrm>
            <a:off x="1828800" y="18144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只有“地球围绕太阳公转，同时自转”才会既有昼夜变化，又有四季变化，才符合真实的情况。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133720" y="533520"/>
            <a:ext cx="4800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、地球围绕太阳公转，同时自转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1" name="Picture 2" descr="C:\Documents and Settings\Administrator\My Documents\My Pictures\0100000000000011909320503625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988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51f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Microsoft Sans Serif"/>
              </a:rPr>
              <a:t> </a:t>
            </a:r>
            <a:r>
              <a:rPr b="0" lang="zh-CN" sz="1400" spc="-1" strike="noStrike" u="sng">
                <a:solidFill>
                  <a:srgbClr val="2f251f"/>
                </a:solidFill>
                <a:uFillTx/>
                <a:latin typeface="Microsoft Sans Serif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2f251f"/>
                </a:solidFill>
                <a:uFillTx/>
                <a:latin typeface="Microsoft Sans Serif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Microsoft Sans Serif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kejia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2567-8A92-4302-A11D-45BAC8A0FB7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:\Documents and Settings\Administrator\My Documents\My Pictures\1.jpg"/>
          <p:cNvPicPr/>
          <p:nvPr/>
        </p:nvPicPr>
        <p:blipFill>
          <a:blip r:embed="rId1"/>
          <a:stretch/>
        </p:blipFill>
        <p:spPr>
          <a:xfrm>
            <a:off x="3048120" y="2514600"/>
            <a:ext cx="5005440" cy="3786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838080" y="25383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每天伴我们醒来的第一缕阳光和每天哄我们入睡的茫茫夜色，似乎是上了发条的时钟，生生不息，永不停歇。但有谁去认真留意他们？了解他们如何交替？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396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昼”与“夜”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396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体验昼夜交替瞬间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pic>
        <p:nvPicPr>
          <p:cNvPr id="90" name="昼夜.avi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685800" y="24652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早上，太阳从东边冉冉升起，晚上，太阳又从西边落下</a:t>
            </a: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……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就这样，白昼和黑夜交替出现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带着昼夜交替的余温，请大家请思考一下：地球上为什么会有昼夜？昼夜为什么交替出现？关于昼夜，你知道哪些？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5105520" y="22860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关于昼夜的形成，大家也许会答出地球饶着太阳转，或者地球自转。那么大家从那里得知的呢？果真是这样吗？为什么地球自转或者绕着太阳转会出现昼夜交替？下面请前后两桌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围绕着太阳和地球的关系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，一起交流：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地球上为什么会有昼夜现象？昼夜现象为什么交替出现？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解释哪些情况可能出现昼夜交替？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4343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对昼夜交替的解释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pic>
        <p:nvPicPr>
          <p:cNvPr id="94" name="Picture 3" descr="C:\Documents and Settings\Administrator\My Documents\My Pictures\01000000000000119093205036251.jpg"/>
          <p:cNvPicPr/>
          <p:nvPr/>
        </p:nvPicPr>
        <p:blipFill>
          <a:blip r:embed="rId1"/>
          <a:stretch/>
        </p:blipFill>
        <p:spPr>
          <a:xfrm>
            <a:off x="91440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4343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昼夜交替的假说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pic>
        <p:nvPicPr>
          <p:cNvPr id="96" name="Picture 2" descr="C:\Documents and Settings\Administrator\My Documents\My Pictures\F200608231713312704565492.jpg"/>
          <p:cNvPicPr/>
          <p:nvPr/>
        </p:nvPicPr>
        <p:blipFill>
          <a:blip r:embed="rId1"/>
          <a:stretch/>
        </p:blipFill>
        <p:spPr>
          <a:xfrm>
            <a:off x="4267080" y="2286000"/>
            <a:ext cx="4152960" cy="4152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>
            <a:hlinkClick r:id="rId2" action="ppaction://hlinksldjump"/>
          </p:cNvPr>
          <p:cNvSpPr/>
          <p:nvPr/>
        </p:nvSpPr>
        <p:spPr>
          <a:xfrm>
            <a:off x="762120" y="28954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地球不动，太阳围着 地球转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TextBox 6">
            <a:hlinkClick r:id="rId3" action="ppaction://hlinksldjump"/>
          </p:cNvPr>
          <p:cNvSpPr/>
          <p:nvPr/>
        </p:nvSpPr>
        <p:spPr>
          <a:xfrm>
            <a:off x="762120" y="3787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太阳不动，地球围着 太阳转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Box 7">
            <a:hlinkClick r:id="rId4" action="ppaction://hlinksldjump"/>
          </p:cNvPr>
          <p:cNvSpPr/>
          <p:nvPr/>
        </p:nvSpPr>
        <p:spPr>
          <a:xfrm>
            <a:off x="762120" y="46292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地球自转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TextBox 8">
            <a:hlinkClick r:id="rId5" action="ppaction://hlinksldjump"/>
          </p:cNvPr>
          <p:cNvSpPr/>
          <p:nvPr/>
        </p:nvSpPr>
        <p:spPr>
          <a:xfrm>
            <a:off x="762120" y="52354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地球围着太阳转，同时地球自转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838080" y="2362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GO TO EX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昼夜交替的解释1.avi" descr=""/>
          <p:cNvPicPr/>
          <p:nvPr/>
        </p:nvPicPr>
        <p:blipFill>
          <a:blip r:embed="rId1"/>
          <a:stretch/>
        </p:blipFill>
        <p:spPr>
          <a:xfrm>
            <a:off x="2209680" y="2440080"/>
            <a:ext cx="4953240" cy="3808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4343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昼夜交替的解释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6324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游戏：昼夜交替的模拟实验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85800" y="22860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游戏规则：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、老师将会请几组同学，每组两人，一个扮演地球一个扮演太阳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、扮演地球的同学每正面直视太阳时要说“昼”，背向太阳时要说“夜”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、“地球”和“太阳”要按老师的指示，分别扮演：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地球不动，太阳围着地球转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太阳不动，地球围着太阳转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③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地球自转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④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地球围着太阳转，同时地球自转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464832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通过实验，我们发现很多情况都会使地球上发生昼夜交替的现象，昼夜交替究竟是什么原因呢？下节课我们将继续研究，同学们也可以查阅一下相关的资料，看看科学家是怎样研究得出结论的？把你们的资料和全班同学交流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6324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课堂小结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pic>
        <p:nvPicPr>
          <p:cNvPr id="108" name="Picture 2" descr="C:\Documents and Settings\Administrator\My Documents\My Pictures\F200608231713312704565492.jpg"/>
          <p:cNvPicPr/>
          <p:nvPr/>
        </p:nvPicPr>
        <p:blipFill>
          <a:blip r:embed="rId1"/>
          <a:stretch/>
        </p:blipFill>
        <p:spPr>
          <a:xfrm>
            <a:off x="609480" y="243828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4572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、地球不动，太阳围绕地球转</a:t>
            </a:r>
            <a:endParaRPr b="0" lang="en-US" sz="2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209680" y="1463760"/>
            <a:ext cx="289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当“地球不动，太阳围绕地球转”时，地球上有昼夜交替，但是太阳要绕地球一圈，才会发生一次昼夜交替。太阳离地球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1.5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亿千米，太阳运行的速度是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250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千米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秒，照此速度，科学家推算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太阳绕地球一圈要花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046.6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。也就是说约要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43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天才会发生一次昼夜交替现象，不会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24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小时内发生一次昼夜交替现象，这显然是不符合实际情况的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4" descr="C:\Documents and Settings\Administrator\My Documents\My Pictures\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57800" y="1447920"/>
            <a:ext cx="2925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29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