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5E8E-53C1-45D4-BFA2-7984FF55BEB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4159-59DC-46CC-8295-20B21C65361A}" type="slidenum">
              <a:rPr b="0" lang="zh-CN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0A86-0FA5-480D-9A1F-6984E937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C73B-023B-4E46-8780-34B7DD38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22EA-0E33-42D1-8A67-020AACB9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CC81-AC7B-42FB-AB4B-65CD9715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07CF-3499-4CAC-99CB-2C84ABEC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79C0-E817-44E3-94F8-4BD6B21F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2BA9-309C-49DB-88C2-62CDDE73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09D0-9346-4935-8D24-E7AE614B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030E-6F29-403B-BAEF-57DF8F8C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31F5-E9D9-4612-97C9-D04691D0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D21FF-700C-427F-A003-18D45FFC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D354-E50C-4A40-B89F-7B0A158AD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6023-2EB5-4E9B-B605-7644D194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5DC9-11FE-4EB4-91B3-195F3907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48BB-EDAD-43C4-8473-69E17DB8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F0A4-2FB8-4F73-BE48-391D360F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268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65720" y="159984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0000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268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65720" y="3872160"/>
            <a:ext cx="25070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F7B8-D27B-4999-9D50-1F462561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CB3-88FC-4033-A695-081AD996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900F-438C-48EA-B092-82ABEAC9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06FC-67D7-49F0-85BC-A476D32C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786800" cy="46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E064-E7C8-4CC3-83FB-5966A310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C36-4816-4D06-ADF9-7B4BB8B7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0240" y="387216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4330-6FDA-41DF-9FBA-4C6D6DF9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0240" y="1599840"/>
            <a:ext cx="3799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00000" y="3872160"/>
            <a:ext cx="77868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02A-2B0F-42FB-9352-EFD74C0B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e7d8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Line 5"/>
          <p:cNvSpPr/>
          <p:nvPr/>
        </p:nvSpPr>
        <p:spPr>
          <a:xfrm>
            <a:off x="1015920" y="1600200"/>
            <a:ext cx="7747200" cy="0"/>
          </a:xfrm>
          <a:prstGeom prst="line">
            <a:avLst/>
          </a:prstGeom>
          <a:ln w="3240">
            <a:solidFill>
              <a:srgbClr val="a08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DEA26-E59A-4038-B1CC-A7F8E9357579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Line 10"/>
          <p:cNvSpPr/>
          <p:nvPr/>
        </p:nvSpPr>
        <p:spPr>
          <a:xfrm>
            <a:off x="973080" y="3141720"/>
            <a:ext cx="7775640" cy="0"/>
          </a:xfrm>
          <a:prstGeom prst="line">
            <a:avLst/>
          </a:prstGeom>
          <a:ln w="507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2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0B85-755B-4A51-8C72-46A1608B5447}" type="slidenum">
              <a:rPr b="0" lang="zh-CN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3080" y="105228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002060"/>
                </a:solidFill>
                <a:latin typeface="Times New Roman"/>
              </a:rPr>
              <a:t>蚯  蚓</a:t>
            </a:r>
            <a:endParaRPr b="1" lang="en-US" sz="13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98" name="图片 1" descr=""/>
          <p:cNvPicPr/>
          <p:nvPr/>
        </p:nvPicPr>
        <p:blipFill>
          <a:blip r:embed="rId1"/>
          <a:stretch/>
        </p:blipFill>
        <p:spPr>
          <a:xfrm>
            <a:off x="2765520" y="3213000"/>
            <a:ext cx="4197240" cy="2808360"/>
          </a:xfrm>
          <a:prstGeom prst="rect">
            <a:avLst/>
          </a:prstGeom>
          <a:ln w="0">
            <a:noFill/>
          </a:ln>
        </p:spPr>
      </p:pic>
      <p:sp>
        <p:nvSpPr>
          <p:cNvPr id="99" name="矩形 7"/>
          <p:cNvSpPr/>
          <p:nvPr/>
        </p:nvSpPr>
        <p:spPr>
          <a:xfrm>
            <a:off x="250200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2" name="Picture 3" descr="01"/>
          <p:cNvPicPr/>
          <p:nvPr/>
        </p:nvPicPr>
        <p:blipFill>
          <a:blip r:embed="rId1"/>
          <a:stretch/>
        </p:blipFill>
        <p:spPr>
          <a:xfrm>
            <a:off x="3492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1"/>
          <p:cNvPicPr/>
          <p:nvPr/>
        </p:nvPicPr>
        <p:blipFill>
          <a:blip r:embed="rId1"/>
          <a:stretch/>
        </p:blipFill>
        <p:spPr>
          <a:xfrm>
            <a:off x="0" y="-25560"/>
            <a:ext cx="909972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406080"/>
            <a:ext cx="807408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33"/>
                </a:solidFill>
                <a:latin typeface="Times New Roman"/>
              </a:rPr>
              <a:t>四、比较蚯蚓和蜗牛的相同和不同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5" name="Picture 4" descr="18"/>
          <p:cNvPicPr/>
          <p:nvPr/>
        </p:nvPicPr>
        <p:blipFill>
          <a:blip r:embed="rId2"/>
          <a:stretch/>
        </p:blipFill>
        <p:spPr>
          <a:xfrm>
            <a:off x="611280" y="1917720"/>
            <a:ext cx="3875040" cy="28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10"/>
          <p:cNvPicPr/>
          <p:nvPr/>
        </p:nvPicPr>
        <p:blipFill>
          <a:blip r:embed="rId3"/>
          <a:stretch/>
        </p:blipFill>
        <p:spPr>
          <a:xfrm>
            <a:off x="5219640" y="1917720"/>
            <a:ext cx="325116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1"/>
          <p:cNvPicPr/>
          <p:nvPr/>
        </p:nvPicPr>
        <p:blipFill>
          <a:blip r:embed="rId1"/>
          <a:stretch/>
        </p:blipFill>
        <p:spPr>
          <a:xfrm>
            <a:off x="34920" y="0"/>
            <a:ext cx="9099720" cy="6913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479736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相同点：适应潮湿的环境，身体柔软，都会爬行，吃食物，会排泄，会繁殖后代，对外界刺激有反应。</a:t>
            </a:r>
            <a:endParaRPr b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95280" y="189000"/>
            <a:ext cx="38210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蜗牛：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生活在潮湿的地面上，有壳，有触角和眼睛，身体柔软，吃菜叶等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16360" y="189000"/>
            <a:ext cx="382104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蚯蚓：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生活在疏松的泥土中，身体有环节，吃落叶等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2" name="Picture 3" descr="维恩图"/>
          <p:cNvPicPr/>
          <p:nvPr/>
        </p:nvPicPr>
        <p:blipFill>
          <a:blip r:embed="rId1"/>
          <a:stretch/>
        </p:blipFill>
        <p:spPr>
          <a:xfrm>
            <a:off x="0" y="1440"/>
            <a:ext cx="9137520" cy="6885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468360" y="98280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蜗牛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生活在潮湿的地面上，有壳，有触角和眼睛，身体柔软，吃菜叶等。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84720" y="119700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蚯蚓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2000"/>
                </a:solidFill>
                <a:latin typeface="Arial"/>
              </a:rPr>
              <a:t>生活在疏松的泥土中，身体有环节，吃落叶等。</a:t>
            </a:r>
            <a:endParaRPr b="0" lang="en-US" sz="4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492360" y="141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适应潮湿的环境，身体柔软，都会爬行，吃食物，会排泄，会繁殖后代，对外界刺激有反应。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10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349440" y="406080"/>
            <a:ext cx="53370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33"/>
                </a:solidFill>
                <a:latin typeface="Times New Roman"/>
              </a:rPr>
              <a:t>作业：</a:t>
            </a:r>
            <a:endParaRPr b="1" lang="en-US" sz="4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484000" y="1599840"/>
            <a:ext cx="620244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Times New Roman"/>
              </a:rPr>
              <a:t>下节课前抓</a:t>
            </a:r>
            <a:r>
              <a:rPr b="0" lang="zh-CN" sz="44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402000"/>
                </a:solidFill>
                <a:latin typeface="Times New Roman"/>
              </a:rPr>
              <a:t>到</a:t>
            </a:r>
            <a:r>
              <a:rPr b="0" lang="zh-CN" sz="4400" spc="-1" strike="noStrike">
                <a:solidFill>
                  <a:srgbClr val="402000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402000"/>
                </a:solidFill>
                <a:latin typeface="Times New Roman"/>
              </a:rPr>
              <a:t>只蚂蚁放在观察瓶里，下节课带来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Times New Roman"/>
              </a:rPr>
              <a:t>课堂作业本</a:t>
            </a:r>
            <a:r>
              <a:rPr b="0" lang="zh-CN" sz="4400" spc="-1" strike="noStrike">
                <a:solidFill>
                  <a:srgbClr val="402000"/>
                </a:solidFill>
                <a:latin typeface="Times New Roman"/>
              </a:rPr>
              <a:t>P16</a:t>
            </a:r>
            <a:r>
              <a:rPr b="0" lang="zh-CN" sz="4400" spc="-1" strike="noStrike">
                <a:solidFill>
                  <a:srgbClr val="402000"/>
                </a:solidFill>
                <a:latin typeface="Times New Roman"/>
              </a:rPr>
              <a:t>完成，上交。 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文本框 1"/>
          <p:cNvSpPr/>
          <p:nvPr/>
        </p:nvSpPr>
        <p:spPr>
          <a:xfrm>
            <a:off x="1911240" y="5584680"/>
            <a:ext cx="488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402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a7f32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02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F4AA-E70D-43BE-8164-790598F85F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11"/>
          <p:cNvPicPr/>
          <p:nvPr/>
        </p:nvPicPr>
        <p:blipFill>
          <a:blip r:embed="rId1"/>
          <a:stretch/>
        </p:blipFill>
        <p:spPr>
          <a:xfrm>
            <a:off x="-33480" y="0"/>
            <a:ext cx="9207720" cy="68864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一、蚯蚓生活的环境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蚯蚓生活在</a:t>
            </a:r>
            <a:r>
              <a:rPr b="1" lang="zh-CN" sz="4000" spc="-1" strike="noStrike">
                <a:solidFill>
                  <a:srgbClr val="cd3333"/>
                </a:solidFill>
                <a:latin typeface="Times New Roman"/>
              </a:rPr>
              <a:t>松软的土壤中</a:t>
            </a: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，在花坛、草地、菜园里我们经常能发现蚯蚓，有时候它们也藏在砖块的下面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如果在土地上发现蚯蚓的粪便，就更容易找到它们了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4" name="Picture 3" descr="06"/>
          <p:cNvPicPr/>
          <p:nvPr/>
        </p:nvPicPr>
        <p:blipFill>
          <a:blip r:embed="rId1"/>
          <a:stretch/>
        </p:blipFill>
        <p:spPr>
          <a:xfrm>
            <a:off x="1440" y="0"/>
            <a:ext cx="9180720" cy="72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06" name="Picture 3" descr="02"/>
          <p:cNvPicPr/>
          <p:nvPr/>
        </p:nvPicPr>
        <p:blipFill>
          <a:blip r:embed="rId1"/>
          <a:stretch/>
        </p:blipFill>
        <p:spPr>
          <a:xfrm>
            <a:off x="0" y="-23760"/>
            <a:ext cx="917892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7"/>
          <p:cNvSpPr/>
          <p:nvPr/>
        </p:nvSpPr>
        <p:spPr>
          <a:xfrm>
            <a:off x="2556000" y="580536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402000"/>
              </a:solidFill>
              <a:latin typeface="Arial"/>
            </a:endParaRPr>
          </a:p>
        </p:txBody>
      </p:sp>
      <p:pic>
        <p:nvPicPr>
          <p:cNvPr id="108" name="Picture 2" descr="11"/>
          <p:cNvPicPr/>
          <p:nvPr/>
        </p:nvPicPr>
        <p:blipFill>
          <a:blip r:embed="rId1"/>
          <a:stretch/>
        </p:blipFill>
        <p:spPr>
          <a:xfrm>
            <a:off x="-19080" y="1440"/>
            <a:ext cx="9163080" cy="6885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二、观察蚯蚓的身体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蚯蚓的身体是怎样的？你能找到它的口、环带和肛门吗？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11"/>
          <p:cNvPicPr/>
          <p:nvPr/>
        </p:nvPicPr>
        <p:blipFill>
          <a:blip r:embed="rId1"/>
          <a:stretch/>
        </p:blipFill>
        <p:spPr>
          <a:xfrm>
            <a:off x="-33480" y="-23760"/>
            <a:ext cx="9159840" cy="68817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332640" y="27813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口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358360" y="4510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环带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7614360" y="206064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肛门</a:t>
            </a:r>
            <a:endParaRPr b="0" lang="en-US" sz="60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11"/>
          <p:cNvPicPr/>
          <p:nvPr/>
        </p:nvPicPr>
        <p:blipFill>
          <a:blip r:embed="rId1"/>
          <a:stretch/>
        </p:blipFill>
        <p:spPr>
          <a:xfrm>
            <a:off x="-20520" y="1440"/>
            <a:ext cx="91645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868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33"/>
                </a:solidFill>
                <a:latin typeface="Times New Roman"/>
              </a:rPr>
              <a:t>三、观察蚯蚓的运动和反应</a:t>
            </a:r>
            <a:endParaRPr b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00000" y="1599840"/>
            <a:ext cx="77868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用笔轻轻触碰蚯蚓的身体，它会怎么样呢？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2000"/>
                </a:solidFill>
                <a:latin typeface="Times New Roman"/>
              </a:rPr>
              <a:t>蚯蚓的身体会伸缩躲开。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蚯蚓的身体有环节，靠环节间的缩放来爬行运动，能对外界刺激作出反应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07"/>
          <p:cNvPicPr/>
          <p:nvPr/>
        </p:nvPicPr>
        <p:blipFill>
          <a:blip r:embed="rId1"/>
          <a:stretch/>
        </p:blipFill>
        <p:spPr>
          <a:xfrm>
            <a:off x="0" y="-96840"/>
            <a:ext cx="9215280" cy="69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1"/>
          <p:cNvPicPr/>
          <p:nvPr/>
        </p:nvPicPr>
        <p:blipFill>
          <a:blip r:embed="rId1"/>
          <a:stretch/>
        </p:blipFill>
        <p:spPr>
          <a:xfrm>
            <a:off x="0" y="144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12360" y="764640"/>
            <a:ext cx="7785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402000"/>
                </a:solidFill>
                <a:latin typeface="Times New Roman"/>
              </a:rPr>
              <a:t>把蚯蚓轻轻放入常温的浅水中，它会有什么反应？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02000"/>
                </a:solidFill>
                <a:latin typeface="Times New Roman"/>
              </a:rPr>
              <a:t>放在水里一会儿就能看到它挣扎的样子。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99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02000"/>
                </a:solidFill>
                <a:latin typeface="Times New Roman"/>
              </a:rPr>
              <a:t>蜗牛喜欢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潮湿</a:t>
            </a:r>
            <a:r>
              <a:rPr b="1" lang="zh-CN" sz="4800" spc="-1" strike="noStrike">
                <a:solidFill>
                  <a:srgbClr val="402000"/>
                </a:solidFill>
                <a:latin typeface="Times New Roman"/>
              </a:rPr>
              <a:t>的环境，但是怕水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不能生活在水中</a:t>
            </a:r>
            <a:r>
              <a:rPr b="1" lang="zh-CN" sz="4800" spc="-1" strike="noStrike">
                <a:solidFill>
                  <a:srgbClr val="402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6:08:18Z</dcterms:modified>
  <cp:revision>1</cp:revision>
  <dc:subject/>
  <dc:title>蚯  蚓</dc:title>
</cp:coreProperties>
</file>