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27BA-6A60-4065-993D-0B513E95E989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893A-B57E-4D16-B4E3-3CA64D18811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65000" y="83304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内乘法（二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922320" y="1844640"/>
            <a:ext cx="485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的乘法口诀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0" name="Picture 5" descr="\\192.168.1.3\临时中转站1_以本人姓名建目录\开发中心-多媒体部\02美术部\晨会文件\04宁煌\人教数学教参\06.png"/>
          <p:cNvPicPr/>
          <p:nvPr/>
        </p:nvPicPr>
        <p:blipFill>
          <a:blip r:embed="rId2"/>
          <a:stretch/>
        </p:blipFill>
        <p:spPr>
          <a:xfrm>
            <a:off x="684360" y="94284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201" name="矩形 7"/>
          <p:cNvSpPr/>
          <p:nvPr/>
        </p:nvSpPr>
        <p:spPr>
          <a:xfrm>
            <a:off x="154800" y="63104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楷体_GB2312"/>
              </a:rPr>
              <a:t>四、课堂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716040" y="2494080"/>
            <a:ext cx="810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十七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21F6-65CB-4031-876D-19DD38E51D5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75009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计算铺垫，导入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998640" y="1726560"/>
            <a:ext cx="59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屏幕，口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763640" y="558972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你们算得真快，说说怎么算得这么快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1763640" y="60562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小结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来，乘法口诀可以使我们的口算又对又快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Rectangle 29"/>
          <p:cNvSpPr/>
          <p:nvPr/>
        </p:nvSpPr>
        <p:spPr>
          <a:xfrm>
            <a:off x="1803240" y="2384280"/>
            <a:ext cx="272736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Rectangle 33"/>
          <p:cNvSpPr/>
          <p:nvPr/>
        </p:nvSpPr>
        <p:spPr>
          <a:xfrm>
            <a:off x="6229440" y="3165480"/>
            <a:ext cx="136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36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6229440" y="3165480"/>
            <a:ext cx="75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Rectangle 23"/>
          <p:cNvSpPr/>
          <p:nvPr/>
        </p:nvSpPr>
        <p:spPr>
          <a:xfrm>
            <a:off x="6229440" y="3165480"/>
            <a:ext cx="143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Rectangle 25"/>
          <p:cNvSpPr/>
          <p:nvPr/>
        </p:nvSpPr>
        <p:spPr>
          <a:xfrm>
            <a:off x="6229440" y="3165480"/>
            <a:ext cx="165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6229440" y="3165480"/>
            <a:ext cx="753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8" descr="72-1"/>
          <p:cNvPicPr/>
          <p:nvPr/>
        </p:nvPicPr>
        <p:blipFill>
          <a:blip r:embed="rId1"/>
          <a:stretch/>
        </p:blipFill>
        <p:spPr>
          <a:xfrm>
            <a:off x="1692360" y="3213000"/>
            <a:ext cx="5476680" cy="6652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92040" y="161928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借助直观，自主探索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557360" y="3933720"/>
            <a:ext cx="64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观察，你知道了什么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249640" y="4257720"/>
            <a:ext cx="47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你们怎么这么快就算出结果了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3564360" y="35154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4187520" y="3513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4794480" y="3513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5409000" y="3512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6017040" y="3513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6627600" y="3513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2249640" y="46162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你们都是用几的口诀算出结果的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249640" y="4976640"/>
            <a:ext cx="42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. 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口诀有几句，哪几句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2249640" y="5308560"/>
            <a:ext cx="511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你们能任选一句口诀，边指着主题图，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边说说口诀表示的意思吗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2249640" y="6021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谁能不看着主题图，选一句口诀说说它表示的意思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2249640" y="63435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你能说出每句口诀分别可以计算哪个算式吗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33" name="Picture 27" descr="未标题-8"/>
          <p:cNvPicPr/>
          <p:nvPr/>
        </p:nvPicPr>
        <p:blipFill>
          <a:blip r:embed="rId2"/>
          <a:stretch/>
        </p:blipFill>
        <p:spPr>
          <a:xfrm>
            <a:off x="1619280" y="2079720"/>
            <a:ext cx="633744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47"/>
          <p:cNvSpPr/>
          <p:nvPr/>
        </p:nvSpPr>
        <p:spPr>
          <a:xfrm>
            <a:off x="3203640" y="2295360"/>
            <a:ext cx="1911240" cy="2975040"/>
          </a:xfrm>
          <a:custGeom>
            <a:avLst/>
            <a:gdLst>
              <a:gd name="textAreaLeft" fmla="*/ 93240 w 1911240"/>
              <a:gd name="textAreaRight" fmla="*/ 1818000 w 1911240"/>
              <a:gd name="textAreaTop" fmla="*/ 93240 h 2975040"/>
              <a:gd name="textAreaBottom" fmla="*/ 2881800 h 2975040"/>
            </a:gdLst>
            <a:ahLst/>
            <a:rect l="textAreaLeft" t="textAreaTop" r="textAreaRight" b="textAreaBottom"/>
            <a:pathLst>
              <a:path w="21600" h="33620">
                <a:moveTo>
                  <a:pt x="3600" y="0"/>
                </a:moveTo>
                <a:arcTo wR="3600" hR="3600" stAng="16200000" swAng="-5400000"/>
                <a:lnTo>
                  <a:pt x="0" y="30020"/>
                </a:lnTo>
                <a:arcTo wR="3600" hR="3600" stAng="10800000" swAng="-5400000"/>
                <a:lnTo>
                  <a:pt x="18000" y="33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1f7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392040" y="161928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借助直观，自主探索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2247840" y="5554800"/>
            <a:ext cx="48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让我们来读读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句口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3328920" y="2384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七得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Rectangle 27"/>
          <p:cNvSpPr/>
          <p:nvPr/>
        </p:nvSpPr>
        <p:spPr>
          <a:xfrm>
            <a:off x="5343480" y="238428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Rectangle 28"/>
          <p:cNvSpPr/>
          <p:nvPr/>
        </p:nvSpPr>
        <p:spPr>
          <a:xfrm>
            <a:off x="3328920" y="278136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七十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Rectangle 29"/>
          <p:cNvSpPr/>
          <p:nvPr/>
        </p:nvSpPr>
        <p:spPr>
          <a:xfrm>
            <a:off x="3328920" y="3176640"/>
            <a:ext cx="16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七二十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Rectangle 30"/>
          <p:cNvSpPr/>
          <p:nvPr/>
        </p:nvSpPr>
        <p:spPr>
          <a:xfrm>
            <a:off x="3328920" y="3571920"/>
            <a:ext cx="16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七二十八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Rectangle 31"/>
          <p:cNvSpPr/>
          <p:nvPr/>
        </p:nvSpPr>
        <p:spPr>
          <a:xfrm>
            <a:off x="3328920" y="39686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七三十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Rectangle 32"/>
          <p:cNvSpPr/>
          <p:nvPr/>
        </p:nvSpPr>
        <p:spPr>
          <a:xfrm>
            <a:off x="3328920" y="436392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七四十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3328920" y="4761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七四十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Rectangle 34"/>
          <p:cNvSpPr/>
          <p:nvPr/>
        </p:nvSpPr>
        <p:spPr>
          <a:xfrm>
            <a:off x="5343480" y="2781360"/>
            <a:ext cx="16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Rectangle 35"/>
          <p:cNvSpPr/>
          <p:nvPr/>
        </p:nvSpPr>
        <p:spPr>
          <a:xfrm>
            <a:off x="5343480" y="3176640"/>
            <a:ext cx="16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Rectangle 36"/>
          <p:cNvSpPr/>
          <p:nvPr/>
        </p:nvSpPr>
        <p:spPr>
          <a:xfrm>
            <a:off x="5343480" y="3571920"/>
            <a:ext cx="16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Rectangle 37"/>
          <p:cNvSpPr/>
          <p:nvPr/>
        </p:nvSpPr>
        <p:spPr>
          <a:xfrm>
            <a:off x="5343480" y="3968640"/>
            <a:ext cx="16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Rectangle 38"/>
          <p:cNvSpPr/>
          <p:nvPr/>
        </p:nvSpPr>
        <p:spPr>
          <a:xfrm>
            <a:off x="5343480" y="4363920"/>
            <a:ext cx="16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1654200" y="2384280"/>
            <a:ext cx="12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1654200" y="278136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1654200" y="317664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1654200" y="357192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1654200" y="396864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1654200" y="436392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1654200" y="476100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16"/>
          <p:cNvSpPr/>
          <p:nvPr/>
        </p:nvSpPr>
        <p:spPr>
          <a:xfrm>
            <a:off x="3059280" y="2417760"/>
            <a:ext cx="661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92040" y="1590840"/>
            <a:ext cx="79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发现规律，记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220760" y="429264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能不看着黑板背一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口诀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685880" y="4724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句口诀难记？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682640" y="51562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能想出办法帮他记住这句口诀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4" name="Group 26"/>
          <p:cNvGrpSpPr/>
          <p:nvPr/>
        </p:nvGrpSpPr>
        <p:grpSpPr>
          <a:xfrm>
            <a:off x="1403280" y="2332080"/>
            <a:ext cx="3097440" cy="1655640"/>
            <a:chOff x="1403280" y="2332080"/>
            <a:chExt cx="3097440" cy="1655640"/>
          </a:xfrm>
        </p:grpSpPr>
        <p:sp>
          <p:nvSpPr>
            <p:cNvPr id="265" name="Rectangle 13"/>
            <p:cNvSpPr/>
            <p:nvPr/>
          </p:nvSpPr>
          <p:spPr>
            <a:xfrm>
              <a:off x="1403280" y="2332080"/>
              <a:ext cx="3097440" cy="1655640"/>
            </a:xfrm>
            <a:prstGeom prst="rect">
              <a:avLst/>
            </a:prstGeom>
            <a:solidFill>
              <a:srgbClr val="ff8181"/>
            </a:solidFill>
            <a:ln w="0">
              <a:noFill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6" name="Text Box 14"/>
            <p:cNvSpPr/>
            <p:nvPr/>
          </p:nvSpPr>
          <p:spPr>
            <a:xfrm>
              <a:off x="1940040" y="263700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连加算式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7" name="Text Box 15"/>
            <p:cNvSpPr/>
            <p:nvPr/>
          </p:nvSpPr>
          <p:spPr>
            <a:xfrm>
              <a:off x="1890720" y="3267720"/>
              <a:ext cx="21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8" name="Group 27"/>
          <p:cNvGrpSpPr/>
          <p:nvPr/>
        </p:nvGrpSpPr>
        <p:grpSpPr>
          <a:xfrm>
            <a:off x="4788000" y="2330280"/>
            <a:ext cx="3311280" cy="1656000"/>
            <a:chOff x="4788000" y="2330280"/>
            <a:chExt cx="3311280" cy="1656000"/>
          </a:xfrm>
        </p:grpSpPr>
        <p:sp>
          <p:nvSpPr>
            <p:cNvPr id="269" name="Rectangle 18"/>
            <p:cNvSpPr/>
            <p:nvPr/>
          </p:nvSpPr>
          <p:spPr>
            <a:xfrm>
              <a:off x="4788000" y="2330280"/>
              <a:ext cx="3311280" cy="16560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0" name="Text Box 19"/>
            <p:cNvSpPr/>
            <p:nvPr/>
          </p:nvSpPr>
          <p:spPr>
            <a:xfrm>
              <a:off x="4919760" y="2359440"/>
              <a:ext cx="30304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多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少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加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71" name="Text Box 24"/>
          <p:cNvSpPr/>
          <p:nvPr/>
        </p:nvSpPr>
        <p:spPr>
          <a:xfrm>
            <a:off x="1219320" y="5587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：同学们用了不同的方法记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口诀，其他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诀同学们也可以用这些方法来帮助记忆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8640" y="417240"/>
            <a:ext cx="85060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692360" y="4437000"/>
            <a:ext cx="67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聪聪在学习口诀时遇到困难了，快听听他遇到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什么困难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611280" y="1690200"/>
            <a:ext cx="25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2463840" y="530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七等于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463840" y="5732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怎么知道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840040" y="3543120"/>
            <a:ext cx="199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十八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78" name="Picture 13" descr="10"/>
          <p:cNvPicPr/>
          <p:nvPr/>
        </p:nvPicPr>
        <p:blipFill>
          <a:blip r:embed="rId1"/>
          <a:stretch/>
        </p:blipFill>
        <p:spPr>
          <a:xfrm>
            <a:off x="5003640" y="1844640"/>
            <a:ext cx="1492560" cy="194472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14"/>
          <p:cNvSpPr/>
          <p:nvPr/>
        </p:nvSpPr>
        <p:spPr>
          <a:xfrm>
            <a:off x="2195640" y="2565360"/>
            <a:ext cx="2376360" cy="496440"/>
          </a:xfrm>
          <a:prstGeom prst="wedgeRoundRectCallout">
            <a:avLst>
              <a:gd name="adj1" fmla="val 68023"/>
              <a:gd name="adj2" fmla="val 2854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七等于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1692360" y="3546360"/>
            <a:ext cx="3036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七（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6656400" y="344340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聪聪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1547640" y="519264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请你快速说出结果，并说说你用的是哪句口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611280" y="1690200"/>
            <a:ext cx="39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一算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1589040" y="2673360"/>
            <a:ext cx="6561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2657520" y="2681280"/>
            <a:ext cx="73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4770360" y="268128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6908760" y="268128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2655720" y="347184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4768920" y="3473280"/>
            <a:ext cx="73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6907320" y="3473280"/>
            <a:ext cx="73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Text Box 21"/>
          <p:cNvSpPr/>
          <p:nvPr/>
        </p:nvSpPr>
        <p:spPr>
          <a:xfrm>
            <a:off x="2655720" y="425448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Text Box 22"/>
          <p:cNvSpPr/>
          <p:nvPr/>
        </p:nvSpPr>
        <p:spPr>
          <a:xfrm>
            <a:off x="4768920" y="4254480"/>
            <a:ext cx="48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6907320" y="4254480"/>
            <a:ext cx="73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楷体_GB2312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文本框 1"/>
          <p:cNvSpPr/>
          <p:nvPr/>
        </p:nvSpPr>
        <p:spPr>
          <a:xfrm>
            <a:off x="1400040" y="2062080"/>
            <a:ext cx="66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1"/>
          <p:cNvSpPr/>
          <p:nvPr/>
        </p:nvSpPr>
        <p:spPr>
          <a:xfrm>
            <a:off x="1187280" y="3573000"/>
            <a:ext cx="407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诀是：（   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203480" y="451008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846520" y="3562200"/>
            <a:ext cx="199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五七三十五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611280" y="1690560"/>
            <a:ext cx="523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篮子里一共有多少颗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1978200" y="5300640"/>
            <a:ext cx="713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想求出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篮子里一共有多少颗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能列个算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1978200" y="5732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用乘法计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2243160" y="4869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追问：一个星期是几天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03" name="Group 32"/>
          <p:cNvGrpSpPr/>
          <p:nvPr/>
        </p:nvGrpSpPr>
        <p:grpSpPr>
          <a:xfrm>
            <a:off x="1387440" y="2708280"/>
            <a:ext cx="3863880" cy="557280"/>
            <a:chOff x="1387440" y="2708280"/>
            <a:chExt cx="3863880" cy="557280"/>
          </a:xfrm>
        </p:grpSpPr>
        <p:grpSp>
          <p:nvGrpSpPr>
            <p:cNvPr id="304" name="Group 29"/>
            <p:cNvGrpSpPr/>
            <p:nvPr/>
          </p:nvGrpSpPr>
          <p:grpSpPr>
            <a:xfrm>
              <a:off x="1387440" y="2708280"/>
              <a:ext cx="2838600" cy="557280"/>
              <a:chOff x="1387440" y="2708280"/>
              <a:chExt cx="2838600" cy="557280"/>
            </a:xfrm>
          </p:grpSpPr>
          <p:sp>
            <p:nvSpPr>
              <p:cNvPr id="305" name="Oval 24"/>
              <p:cNvSpPr/>
              <p:nvPr/>
            </p:nvSpPr>
            <p:spPr>
              <a:xfrm>
                <a:off x="2025720" y="2725560"/>
                <a:ext cx="539640" cy="540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6" name="Rectangle 25"/>
              <p:cNvSpPr/>
              <p:nvPr/>
            </p:nvSpPr>
            <p:spPr>
              <a:xfrm>
                <a:off x="1387440" y="2725560"/>
                <a:ext cx="503280" cy="503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7" name="Rectangle 26"/>
              <p:cNvSpPr/>
              <p:nvPr/>
            </p:nvSpPr>
            <p:spPr>
              <a:xfrm>
                <a:off x="2711520" y="2725560"/>
                <a:ext cx="503280" cy="503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8" name="Rectangle 27"/>
              <p:cNvSpPr/>
              <p:nvPr/>
            </p:nvSpPr>
            <p:spPr>
              <a:xfrm>
                <a:off x="3722760" y="2725560"/>
                <a:ext cx="503280" cy="503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9" name="Text Box 28"/>
              <p:cNvSpPr/>
              <p:nvPr/>
            </p:nvSpPr>
            <p:spPr>
              <a:xfrm>
                <a:off x="3277800" y="2708280"/>
                <a:ext cx="3787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＝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10" name="Text Box 12"/>
            <p:cNvSpPr/>
            <p:nvPr/>
          </p:nvSpPr>
          <p:spPr>
            <a:xfrm>
              <a:off x="4129200" y="2720520"/>
              <a:ext cx="112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颗）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1" name="Group 30"/>
          <p:cNvGrpSpPr/>
          <p:nvPr/>
        </p:nvGrpSpPr>
        <p:grpSpPr>
          <a:xfrm>
            <a:off x="1378080" y="2715840"/>
            <a:ext cx="3004920" cy="513720"/>
            <a:chOff x="1378080" y="2715840"/>
            <a:chExt cx="3004920" cy="513720"/>
          </a:xfrm>
        </p:grpSpPr>
        <p:sp>
          <p:nvSpPr>
            <p:cNvPr id="312" name="Text Box 17"/>
            <p:cNvSpPr/>
            <p:nvPr/>
          </p:nvSpPr>
          <p:spPr>
            <a:xfrm>
              <a:off x="2741760" y="2715840"/>
              <a:ext cx="471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7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1378080" y="2733480"/>
              <a:ext cx="533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5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4" name="Text Box 19"/>
            <p:cNvSpPr/>
            <p:nvPr/>
          </p:nvSpPr>
          <p:spPr>
            <a:xfrm>
              <a:off x="3583080" y="2715840"/>
              <a:ext cx="799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5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5" name="Text Box 20"/>
            <p:cNvSpPr/>
            <p:nvPr/>
          </p:nvSpPr>
          <p:spPr>
            <a:xfrm>
              <a:off x="2040120" y="2739600"/>
              <a:ext cx="519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×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6" name="Group 23"/>
          <p:cNvGrpSpPr/>
          <p:nvPr/>
        </p:nvGrpSpPr>
        <p:grpSpPr>
          <a:xfrm>
            <a:off x="5240160" y="1773360"/>
            <a:ext cx="3292560" cy="2836800"/>
            <a:chOff x="5240160" y="1773360"/>
            <a:chExt cx="3292560" cy="2836800"/>
          </a:xfrm>
        </p:grpSpPr>
        <p:pic>
          <p:nvPicPr>
            <p:cNvPr id="317" name="Object 8" descr=""/>
            <p:cNvPicPr/>
            <p:nvPr/>
          </p:nvPicPr>
          <p:blipFill>
            <a:blip r:embed="rId1"/>
            <a:stretch/>
          </p:blipFill>
          <p:spPr>
            <a:xfrm>
              <a:off x="7210440" y="3284640"/>
              <a:ext cx="1322280" cy="13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AutoShape 21"/>
            <p:cNvSpPr/>
            <p:nvPr/>
          </p:nvSpPr>
          <p:spPr>
            <a:xfrm>
              <a:off x="5240160" y="1773360"/>
              <a:ext cx="2644920" cy="1286280"/>
            </a:xfrm>
            <a:prstGeom prst="wedgeRoundRectCallout">
              <a:avLst>
                <a:gd name="adj1" fmla="val 30236"/>
                <a:gd name="adj2" fmla="val 65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每天吃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颗松果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篮子里的松果够我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吃一个星期的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19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楷体_GB2312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5"/>
          <p:cNvSpPr/>
          <p:nvPr/>
        </p:nvSpPr>
        <p:spPr>
          <a:xfrm>
            <a:off x="611280" y="1628640"/>
            <a:ext cx="79707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0400" indent="-3200400">
              <a:lnSpc>
                <a:spcPct val="12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 2013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年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月第一个星期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是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，第二个星期一是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 marL="3200400" indent="-3200400">
              <a:lnSpc>
                <a:spcPct val="12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号，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是第（    ）个星期一，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9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是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 marL="3200400" indent="-3200400">
              <a:lnSpc>
                <a:spcPct val="12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星期（    ）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42920" y="371628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来读读题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835280" y="544356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用乘法计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835280" y="414828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806480" y="4579920"/>
            <a:ext cx="70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想解决这些问题，你有什么想法，和同桌说一说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1808280" y="5011560"/>
            <a:ext cx="44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来说说你是怎么想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1014480" y="2149200"/>
            <a:ext cx="70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1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4387680" y="2134800"/>
            <a:ext cx="6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1692360" y="2638080"/>
            <a:ext cx="65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楷体_GB2312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20Z</dcterms:modified>
  <cp:revision>4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