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camera.wav" ContentType="audio/x-wav"/>
  <Override PartName="/ppt/media/image6.png" ContentType="image/png"/>
  <Override PartName="/ppt/media/image12.jpeg" ContentType="image/jpeg"/>
  <Override PartName="/ppt/media/image14.jpeg" ContentType="image/jpeg"/>
  <Override PartName="/ppt/media/type.wav" ContentType="audio/x-wav"/>
  <Override PartName="/ppt/media/image13.jpeg" ContentType="image/jpeg"/>
  <Override PartName="/ppt/media/chimes.wav" ContentType="audio/x-wav"/>
  <Override PartName="/ppt/media/image9.jpeg" ContentType="image/jpeg"/>
  <Override PartName="/ppt/media/image1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AD17-A527-4ADE-B491-2260C29B0B6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D571-0D29-4B96-97CE-1059C21BE0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AAD-2F9C-4BCB-9928-004B473E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7AA-7922-4951-B8B9-A5A719A6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89D9-7680-4B71-99C0-4AE16F2C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8C96-C040-453C-B9B5-8A796D0A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00E1-842E-4A3B-B7F9-80141D70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7365-9111-4A17-AFB3-C3717B7C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3E31-85CA-4724-AF0E-56495223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05FD-5D56-4FC4-8E0B-36A1AEE1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C67B-2657-4AA5-9D6E-658CC314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F7B9-D763-4CB0-9477-1A90E5EF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1522-46B9-4794-B8FF-273BF2E0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02F-170F-4857-BF2C-994E0242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850C-4456-4BEF-84A1-2D869A5E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A756-AE0A-4497-940B-A84666A7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B52A-D140-410A-A6EF-52C352F9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35C8-8F08-45CA-8093-48909A44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4BFE-777B-4EDE-AD3F-FF3110FA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55FC0-C55B-4CBB-8AAC-776DE784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32DEB-8931-4ED2-8C1F-1A9D8DFC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45E35-1DA3-4E65-8462-8177359F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AC15C-8E54-4F42-90F4-49E255F4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49A78-87EC-483C-937B-9FEBCB01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2C2-2160-4F57-8D11-5BED5458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9014D-B841-4AE8-834B-5BA3EA88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86E77-190C-4144-813C-BBE588FB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C65AD-918B-4780-8EE2-0B86E26F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F1725-FFBA-4B6C-8CF6-5BBE994A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48A71-708B-4278-A023-E3144C84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EAFB1-5F9A-45C7-8258-7F15AA3F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4DB6F-4DD9-425B-B6D6-C280B6A6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1F8C-9121-4B3C-92BF-40A726A7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26BA-8421-413A-BA2E-3DC89396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BBAA-E0D1-4575-A090-8E4BF750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8375-D184-4A47-B88D-0A194D25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1A0E-4219-40C3-BA0F-252A3514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4EB-4AC8-43DD-9DE2-63F61266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AB54-C5B2-4955-9F9E-86D3B50B6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0F78-6CE2-41F6-8FE9-BB5F762E2DF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A212-35B5-4F7A-AB3F-C5176167FE1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"/>
          <p:cNvPicPr/>
          <p:nvPr/>
        </p:nvPicPr>
        <p:blipFill>
          <a:blip r:embed="rId1"/>
          <a:stretch/>
        </p:blipFill>
        <p:spPr>
          <a:xfrm>
            <a:off x="1905120" y="2193840"/>
            <a:ext cx="4991040" cy="3808440"/>
          </a:xfrm>
          <a:prstGeom prst="rect">
            <a:avLst/>
          </a:prstGeom>
          <a:ln w="0">
            <a:noFill/>
          </a:ln>
        </p:spPr>
      </p:pic>
      <p:pic>
        <p:nvPicPr>
          <p:cNvPr id="158" name="WordArt 2" descr=""/>
          <p:cNvPicPr/>
          <p:nvPr/>
        </p:nvPicPr>
        <p:blipFill>
          <a:blip r:embed="rId2"/>
          <a:stretch/>
        </p:blipFill>
        <p:spPr>
          <a:xfrm>
            <a:off x="895320" y="473040"/>
            <a:ext cx="7467480" cy="13622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0"/>
          <p:cNvSpPr/>
          <p:nvPr/>
        </p:nvSpPr>
        <p:spPr>
          <a:xfrm>
            <a:off x="7315200" y="5791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"/>
          <p:cNvSpPr/>
          <p:nvPr/>
        </p:nvSpPr>
        <p:spPr>
          <a:xfrm>
            <a:off x="2176560" y="61578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月球背面10"/>
          <p:cNvPicPr/>
          <p:nvPr/>
        </p:nvPicPr>
        <p:blipFill>
          <a:blip r:embed="rId1"/>
          <a:stretch/>
        </p:blipFill>
        <p:spPr>
          <a:xfrm>
            <a:off x="0" y="0"/>
            <a:ext cx="8991720" cy="6804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1097640" y="5335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月球飞船拍摄的月球图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986928"/>
          <p:cNvPicPr/>
          <p:nvPr/>
        </p:nvPicPr>
        <p:blipFill>
          <a:blip r:embed="rId1"/>
          <a:stretch/>
        </p:blipFill>
        <p:spPr>
          <a:xfrm>
            <a:off x="533520" y="609480"/>
            <a:ext cx="4762440" cy="4743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1676520" y="548640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"/>
          <p:cNvSpPr/>
          <p:nvPr/>
        </p:nvSpPr>
        <p:spPr>
          <a:xfrm flipV="1">
            <a:off x="2514600" y="1371600"/>
            <a:ext cx="3886200" cy="1371600"/>
          </a:xfrm>
          <a:prstGeom prst="line">
            <a:avLst/>
          </a:prstGeom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038480" y="586728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月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3657600" y="4800600"/>
            <a:ext cx="914400" cy="1066680"/>
          </a:xfrm>
          <a:prstGeom prst="line">
            <a:avLst/>
          </a:prstGeom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6477120" y="990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月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4952880" y="2438280"/>
            <a:ext cx="1524240" cy="152424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6553080" y="36576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环行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7847640" y="19810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6702840" y="33526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4721760" y="54244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月海"/>
          <p:cNvPicPr/>
          <p:nvPr/>
        </p:nvPicPr>
        <p:blipFill>
          <a:blip r:embed="rId1"/>
          <a:stretch/>
        </p:blipFill>
        <p:spPr>
          <a:xfrm>
            <a:off x="46080" y="0"/>
            <a:ext cx="4840200" cy="52959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1447920" y="5486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月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257800" y="762120"/>
            <a:ext cx="3581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所谓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月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并非月球上面的海洋，而是月球上比较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低洼的平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并无一滴水存在。比较多人认为月海是小天体撞击月球时，撞破月壳，使月幔流出，玄武岩岩浆覆盖了低地，形成了月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环行山"/>
          <p:cNvPicPr/>
          <p:nvPr/>
        </p:nvPicPr>
        <p:blipFill>
          <a:blip r:embed="rId1"/>
          <a:stretch/>
        </p:blipFill>
        <p:spPr>
          <a:xfrm>
            <a:off x="0" y="0"/>
            <a:ext cx="5018040" cy="56386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175248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环行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5334120" y="6858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环形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希腊文的意思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所以又称为碗状凹坑结构。环形山的形成可能有两个原因，一是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陨星撞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结果，二是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火山活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但是大多数的环形结构均属于陨星的撞击结果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1143000" y="22860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月球是怎么运动的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85800" y="2514600"/>
            <a:ext cx="8077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黑体"/>
              </a:rPr>
              <a:t>   </a:t>
            </a: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黑体"/>
              </a:rPr>
              <a:t>月球围绕地球逆时针方向运行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"/>
          <p:cNvSpPr/>
          <p:nvPr/>
        </p:nvSpPr>
        <p:spPr>
          <a:xfrm>
            <a:off x="1573200" y="581328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0" y="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月球的基本数据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09480" y="1523880"/>
            <a:ext cx="76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月球</a:t>
            </a:r>
            <a:r>
              <a:rPr b="1" lang="zh-CN" sz="4800" spc="-1" strike="noStrike">
                <a:solidFill>
                  <a:srgbClr val="ccecff"/>
                </a:solidFill>
                <a:latin typeface="黑体"/>
                <a:ea typeface="黑体"/>
              </a:rPr>
              <a:t>直径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大约是地球的</a:t>
            </a:r>
            <a:r>
              <a:rPr b="1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1∕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609480" y="2514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月球</a:t>
            </a:r>
            <a:r>
              <a:rPr b="1" lang="zh-CN" sz="4800" spc="-1" strike="noStrike">
                <a:solidFill>
                  <a:srgbClr val="ccecff"/>
                </a:solidFill>
                <a:latin typeface="黑体"/>
                <a:ea typeface="黑体"/>
              </a:rPr>
              <a:t>质量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大约是地球的</a:t>
            </a:r>
            <a:r>
              <a:rPr b="1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1∕8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533520" y="388620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月球</a:t>
            </a:r>
            <a:r>
              <a:rPr b="1" lang="zh-CN" sz="4800" spc="-1" strike="noStrike">
                <a:solidFill>
                  <a:srgbClr val="ccecff"/>
                </a:solidFill>
                <a:latin typeface="黑体"/>
                <a:ea typeface="黑体"/>
              </a:rPr>
              <a:t>体积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大约是地球的</a:t>
            </a:r>
            <a:r>
              <a:rPr b="1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1∕4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33520" y="480060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月球</a:t>
            </a:r>
            <a:r>
              <a:rPr b="1" lang="zh-CN" sz="4800" spc="-1" strike="noStrike">
                <a:solidFill>
                  <a:srgbClr val="ccecff"/>
                </a:solidFill>
                <a:latin typeface="黑体"/>
                <a:ea typeface="黑体"/>
              </a:rPr>
              <a:t>引力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大约是地球的</a:t>
            </a:r>
            <a:r>
              <a:rPr b="1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1∕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609480" y="1127160"/>
            <a:ext cx="820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黑体"/>
              </a:rPr>
              <a:t>     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我国太空技术发展很快，也发射了卫星探索月球，就是“嫦娥一号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250920" y="685800"/>
            <a:ext cx="8893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月球是围绕地球运动的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行星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卫星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恒星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彗星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月球上有许多的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环形山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火山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湖泊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雪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月球的直径大约是地球直径的（      ）分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二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三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四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月球质量大约是地球质量的（     ）分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八十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七十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六十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五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881600" y="8380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734280" y="22096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5951520" y="350532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209680" y="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地球的卫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月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5715000" y="480060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250920" y="762120"/>
            <a:ext cx="889308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一人在地球上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斤的人，到了月球上称的体重是（     ）斤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0    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0   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0    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第一个在月球上留下足迹的人是（      ）的阿姆斯特朗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英国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美国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法国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德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我国第一颗人造月球卫星的名字叫（    ）一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牛郎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嫦娥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织女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探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距离地球最近的星球是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太阳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月球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金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22320" y="144792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405840" y="26668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6558120" y="44956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2286000" y="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地球的卫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月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4876920" y="5715000"/>
            <a:ext cx="6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3"/>
          <p:cNvSpPr/>
          <p:nvPr/>
        </p:nvSpPr>
        <p:spPr>
          <a:xfrm>
            <a:off x="250920" y="914400"/>
            <a:ext cx="88930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年美国的（    ）载人飞船成功地在月球上着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阿波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号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嫦娥一号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神舟六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第一个在月球上留下足迹的宇航员是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嫦娥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阿波罗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阿姆斯特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地球的直径大约是月球直径的（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/4       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倍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3658680" y="10666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246800" y="29718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2209680" y="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地球的卫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月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6232680" y="42670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990720" y="152388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  <a:ea typeface="华文楷体"/>
              </a:rPr>
              <a:t>      </a:t>
            </a: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华文楷体"/>
              </a:rPr>
              <a:t>你知道地球的卫星是谁吗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"/>
          <p:cNvSpPr/>
          <p:nvPr/>
        </p:nvSpPr>
        <p:spPr>
          <a:xfrm>
            <a:off x="1422360" y="5603760"/>
            <a:ext cx="72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C79E-F75F-4D00-93BF-D0731AC869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380880" y="175248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黑体"/>
              </a:rPr>
              <a:t>      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自古以来，我们人类就不断地探索月球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S50022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152280" y="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远古时期－－－月球形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3107d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228600" y="585144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伽利略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发明的天文望远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S5002290"/>
          <p:cNvPicPr/>
          <p:nvPr/>
        </p:nvPicPr>
        <p:blipFill>
          <a:blip r:embed="rId1"/>
          <a:stretch/>
        </p:blipFill>
        <p:spPr>
          <a:xfrm>
            <a:off x="0" y="0"/>
            <a:ext cx="9372600" cy="67676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4191120" y="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无人月球探测飞行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3105d"/>
          <p:cNvPicPr/>
          <p:nvPr/>
        </p:nvPicPr>
        <p:blipFill>
          <a:blip r:embed="rId1"/>
          <a:stretch/>
        </p:blipFill>
        <p:spPr>
          <a:xfrm>
            <a:off x="0" y="0"/>
            <a:ext cx="4191120" cy="46483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4267080" y="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66ff"/>
                </a:solidFill>
                <a:latin typeface="黑体"/>
                <a:ea typeface="黑体"/>
              </a:rPr>
              <a:t>1969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66ff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0066ff"/>
                </a:solidFill>
                <a:latin typeface="黑体"/>
                <a:ea typeface="黑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日，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美国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“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阿波罗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11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号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”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飞船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次将人类送上了月球。宇航员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阿姆斯特朗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个踏上月球，人类首次登月成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419720" y="36576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琥珀"/>
              </a:rPr>
              <a:t>      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  <a:ea typeface="华文琥珀"/>
              </a:rPr>
              <a:t>“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我迈出了一小步，但人类迈出了一大步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0" y="46483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登上月球－－实地考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200602101807026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>
            <a:off x="1636200" y="7128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关于月球，你了解多少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00629165558886"/>
          <p:cNvPicPr/>
          <p:nvPr/>
        </p:nvPicPr>
        <p:blipFill>
          <a:blip r:embed="rId1"/>
          <a:stretch/>
        </p:blipFill>
        <p:spPr>
          <a:xfrm>
            <a:off x="380880" y="1981080"/>
            <a:ext cx="2438640" cy="2819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3111d"/>
          <p:cNvPicPr/>
          <p:nvPr/>
        </p:nvPicPr>
        <p:blipFill>
          <a:blip r:embed="rId2"/>
          <a:stretch/>
        </p:blipFill>
        <p:spPr>
          <a:xfrm>
            <a:off x="3200400" y="1981080"/>
            <a:ext cx="2514600" cy="2819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3115d"/>
          <p:cNvPicPr/>
          <p:nvPr/>
        </p:nvPicPr>
        <p:blipFill>
          <a:blip r:embed="rId3"/>
          <a:srcRect l="20002" t="3335" r="20002" b="10001"/>
          <a:stretch/>
        </p:blipFill>
        <p:spPr>
          <a:xfrm>
            <a:off x="6095880" y="1981080"/>
            <a:ext cx="2286000" cy="28195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1905120" y="60948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天文望远镜下的月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5:32:0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5:57Z</dcterms:modified>
  <cp:revision>5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