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9" descr="logo2副本"/>
          <p:cNvPicPr/>
          <p:nvPr/>
        </p:nvPicPr>
        <p:blipFill>
          <a:blip r:embed="rId3"/>
          <a:stretch/>
        </p:blipFill>
        <p:spPr>
          <a:xfrm>
            <a:off x="539640" y="6033960"/>
            <a:ext cx="3167280" cy="49068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8"/>
          <p:cNvSpPr/>
          <p:nvPr/>
        </p:nvSpPr>
        <p:spPr>
          <a:xfrm>
            <a:off x="642960" y="1557360"/>
            <a:ext cx="81439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c1c1c"/>
                </a:solidFill>
                <a:latin typeface="Arial"/>
                <a:ea typeface="楷体_GB2312"/>
              </a:rPr>
              <a:t>Unit 4  Where is my car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5"/>
          <p:cNvSpPr/>
          <p:nvPr/>
        </p:nvSpPr>
        <p:spPr>
          <a:xfrm>
            <a:off x="2615400" y="623736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85480" y="357120"/>
            <a:ext cx="81867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分课时教学建议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571680" y="1928880"/>
          <a:ext cx="8001000" cy="3817800"/>
        </p:xfrm>
        <a:graphic>
          <a:graphicData uri="http://schemas.openxmlformats.org/drawingml/2006/table">
            <a:tbl>
              <a:tblPr/>
              <a:tblGrid>
                <a:gridCol w="785880"/>
                <a:gridCol w="928800"/>
                <a:gridCol w="2712960"/>
                <a:gridCol w="3573360"/>
              </a:tblGrid>
              <a:tr h="428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课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课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主要教学内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教学要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</a:tr>
              <a:tr h="3389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第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课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会话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A Let’s talk/Let’s pl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词汇：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go home, where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in, desk, under,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silly 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句型：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Where is …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It’s in/under the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1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能够在图片和教师的帮助下理解对话大意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2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能够在语境中理解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Where is …? It’s in/under the …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的语用功能，并在图片或动作等帮助下，理解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Let’s go home. Silly me!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的意思。使用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Where is …?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询问物品的位置并使用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It’s in/under the …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作答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3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能够朗读对话，并能进行角色表演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4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使用学过的文具、食品等拓展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Let’s play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的练习内容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81" name="文本框 1"/>
          <p:cNvSpPr/>
          <p:nvPr/>
        </p:nvSpPr>
        <p:spPr>
          <a:xfrm>
            <a:off x="1030320" y="6105600"/>
            <a:ext cx="52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5480" y="357120"/>
            <a:ext cx="81867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分课时教学建议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571680" y="1928880"/>
          <a:ext cx="8001000" cy="3740040"/>
        </p:xfrm>
        <a:graphic>
          <a:graphicData uri="http://schemas.openxmlformats.org/drawingml/2006/table">
            <a:tbl>
              <a:tblPr/>
              <a:tblGrid>
                <a:gridCol w="785880"/>
                <a:gridCol w="928800"/>
                <a:gridCol w="2712960"/>
                <a:gridCol w="3573360"/>
              </a:tblGrid>
              <a:tr h="428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课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课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主要教学内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教学要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</a:tr>
              <a:tr h="3311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第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课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词汇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A Let’s learn/Let’s 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词汇：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on, in, under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chair, des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句型：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Where is …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It’s in/under/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the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1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能够听、说、认读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on, in, under, chair, desk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五个单词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2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能够在教师提供的语境中运用这些来简单询问物品的方位并作答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3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能够在图片的帮助下听懂指令并做出相应的动作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85480" y="357120"/>
            <a:ext cx="81867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分课时教学建议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571680" y="1928880"/>
          <a:ext cx="8001000" cy="3740040"/>
        </p:xfrm>
        <a:graphic>
          <a:graphicData uri="http://schemas.openxmlformats.org/drawingml/2006/table">
            <a:tbl>
              <a:tblPr/>
              <a:tblGrid>
                <a:gridCol w="785880"/>
                <a:gridCol w="928800"/>
                <a:gridCol w="2712960"/>
                <a:gridCol w="3573360"/>
              </a:tblGrid>
              <a:tr h="428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课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课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主要教学内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教学要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</a:tr>
              <a:tr h="3311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第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课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字母语音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Let’s sp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语音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Listen and wr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听音写字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1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能够通过听例词发音，观察例词结构中共有的字母，理解字母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o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对应发音  。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2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能够在教师的引导下说出例词由哪些音构成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3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能够在之前的练习基础上给出几个独立的音，让学生试着自己拼起来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4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能够在四线三格中正确书写单词，注意到字母间距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3071880" y="2714760"/>
            <a:ext cx="304560" cy="218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5786280" y="3000240"/>
            <a:ext cx="304920" cy="2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5480" y="357120"/>
            <a:ext cx="81867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分课时教学建议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571680" y="1928880"/>
          <a:ext cx="8001000" cy="3817800"/>
        </p:xfrm>
        <a:graphic>
          <a:graphicData uri="http://schemas.openxmlformats.org/drawingml/2006/table">
            <a:tbl>
              <a:tblPr/>
              <a:tblGrid>
                <a:gridCol w="785880"/>
                <a:gridCol w="928800"/>
                <a:gridCol w="2712960"/>
                <a:gridCol w="3573360"/>
              </a:tblGrid>
              <a:tr h="428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课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课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主要教学内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教学要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</a:tr>
              <a:tr h="3389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第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课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会话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B Let’s talk/Let’s pl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词汇：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cap, toy box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have a good 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句型：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Is it in …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Yes, it i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No, it isn’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1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能够在图片和教师的帮助下理解对话大意。能在语境中理解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Is it in …? Yes, it is. No, it isn’t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的语用功能，并在图片或动作等帮助下理解语境语言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Have a good time!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能简单询问物品的位置关系。能正确读出和使用肯定和否定回答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2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能够朗读对话并能进行角色表演。教师注意引导学生注意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Yes/No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问句的升降调读法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3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能够使用身边的物品完成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Let’s play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的游戏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85480" y="357120"/>
            <a:ext cx="81867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分课时教学建议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571680" y="1928880"/>
          <a:ext cx="8001000" cy="3811680"/>
        </p:xfrm>
        <a:graphic>
          <a:graphicData uri="http://schemas.openxmlformats.org/drawingml/2006/table">
            <a:tbl>
              <a:tblPr/>
              <a:tblGrid>
                <a:gridCol w="785880"/>
                <a:gridCol w="928800"/>
                <a:gridCol w="2712960"/>
                <a:gridCol w="3573360"/>
              </a:tblGrid>
              <a:tr h="428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课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课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主要教学内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教学要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</a:tr>
              <a:tr h="3382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第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课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词汇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B Let’s learn/Let’s 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词汇：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cap, ball, car,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boat, 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句型：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Is it in …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Yes, it i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No, it isn’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1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能够听、说、认读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cap, ball, car, boat, map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等单词。注意告知学生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cap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是有帽檐的棒球帽，可补充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hat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2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能够运用这些单词综合复习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A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部分学习的词汇完成藏物品找物品的游戏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3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能够在图片的帮助下听懂指令并做出相应的动作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4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时间允许的情况下可以复习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a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在重度闭音节中的发音，将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cap, map, hat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加入到第一单元发音例词中去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85480" y="357120"/>
            <a:ext cx="81867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分课时教学建议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571680" y="1928880"/>
          <a:ext cx="8001000" cy="4092480"/>
        </p:xfrm>
        <a:graphic>
          <a:graphicData uri="http://schemas.openxmlformats.org/drawingml/2006/table">
            <a:tbl>
              <a:tblPr/>
              <a:tblGrid>
                <a:gridCol w="785880"/>
                <a:gridCol w="928800"/>
                <a:gridCol w="2712960"/>
                <a:gridCol w="3573360"/>
              </a:tblGrid>
              <a:tr h="428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课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课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主要教学内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教学要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</a:tr>
              <a:tr h="3663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第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课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综合技能活动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Start to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Let’s che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Let’s s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Story 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1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能够在图片和语境的帮助下认读句子，并且能够以文段中的句子为范本，回答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Zoom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提出的问题找到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Zip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的藏身之处。（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Start to read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2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检测部分要求学生能够熟练地听、说本单元对话部分的主要句型，能听、说、认读词汇部分的所有单词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3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能够学会唱歌曲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Where is the toy car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4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能够在图片的帮助下理解故事内容，在教师的帮助下表演故事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简洁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6F811-FCDC-4030-9455-90BF583A855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6:05:41Z</dcterms:modified>
  <cp:revision>11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