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png" ContentType="image/png"/>
  <Override PartName="/ppt/media/image12.png" ContentType="image/png"/>
  <Override PartName="/ppt/media/image8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3748-0841-465A-BA47-A8C75B38B6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A651-3116-4054-A1BC-CF5197DE65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2ABC-0399-4FCA-A7D2-2A0ECB93F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7CAE-684A-4761-874A-5AB61302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A077-FEF2-491E-AA92-1779AFB77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BD6D-0E2E-48B9-B47F-203F20BC7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0ACD-88D9-41C2-A1F7-070478BFC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06EA-232A-44B2-8A39-A21EBE9E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D31F-EE07-4182-8CC1-C9D919A5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AF4A-32A1-46A8-94CE-7F7394C5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8040-238F-4AE7-A678-B1E5EB18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3924-3FF9-4D9E-A381-4CE0A7A9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0BE6-523B-4AD0-8B6A-45E31F8E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77DF-DB13-4A00-AF3B-AB621E22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AD53-2F6F-401D-9A00-5A844B05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EB75-BDB8-4A73-8AA6-0A016648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DA5B-D343-4DAB-867C-7BCEA3A7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4619-C466-4775-B71C-085AD8F06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E8F3-1FA4-4F34-AB92-E0CAAE978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8E0B7-EBF7-476A-A303-628257932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FB5DA-7CE6-4712-A796-863BE9DF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90949-3A0D-40C0-AA79-06160423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F3AB1-C5C9-4DE1-80DF-9D7745FD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0E8A5-854F-465A-B6AE-A8AD1825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823F-BCF9-425D-866A-BE16F6A9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6CDE7-9076-4619-9B46-999C0202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CFAD5-6757-4E21-9472-801C4559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277EC-13E8-4D06-8218-BA4226B8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748D1-F588-4B78-A9BB-05D2218C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84E9C-9C0C-4788-B031-495E597D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CD9E2-B52C-40B2-9DA3-6AC6E51FC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57B47-46B5-4B0C-ADEE-C4798CAA2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85CD2-B3DB-4616-AC7B-02A7851ED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00B88-EBEA-4626-849D-4377E4C2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D05A3-9D0E-46CD-83EE-53B575AA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56EE-4604-41CC-AFE6-41FB9FA5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642BC-97FC-4C9B-91D0-C92DBE95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B77E0-45EE-4104-BBC8-A5DF409A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1C483-3BB3-42BC-B627-B3C17D74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BB604-AD63-4774-A7DC-B2447CC7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B7359-71EA-4F04-BC21-D6A653D6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876C8-9B8A-43DB-88AA-D56B0CE2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DD773-3C01-47FF-B4DE-E8CCFF57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C2629-09F1-4B97-95E8-4F2FE50E3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CAB03-A8A4-4D1B-891C-221D112C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88A932-70A2-4899-B387-A0E4553F9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FE19-209B-4CE3-960E-04C5EEEE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C45F06-FDA4-4374-ABCB-5AC25CD7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B3A070-0446-48E8-ADDA-9068164A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9E2274-04B5-4211-8999-FB553989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655A92-6F66-48AA-A9CA-CA4D8E68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B4DA81-5058-41B4-8A15-78A6F76E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219F14-27CA-4184-8E0A-26CA11F4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D436E1-7B14-43C2-859C-463B0FAA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6AFF33-44A5-4681-A635-A027C7A3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8E13CC-3D49-460A-A25B-6E554868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0621F0-A03F-4314-BB4E-A5326E4CA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D5E7-8324-4BC6-821B-C5CDD1AF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53205D-43BF-494A-AC59-59809CD4B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1E7B-9941-430F-A785-105E4482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7378-CBB8-4361-B5F1-8A13F4F9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C1E7-9BA1-48D6-9534-1F5DD011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AEF1-B7C0-4705-980E-0359ABCD2F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DD25-74B5-4FF6-8E08-2CBE1C174AC0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4560" y="25200"/>
            <a:ext cx="1164960" cy="20955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252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0840" y="286560"/>
                  <a:ext cx="8024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780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796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3760" y="223200"/>
                  <a:ext cx="28440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9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33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35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2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3AA7-F79F-448E-82AB-BF999B4012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91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9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Group 18"/>
          <p:cNvGrpSpPr/>
          <p:nvPr/>
        </p:nvGrpSpPr>
        <p:grpSpPr>
          <a:xfrm>
            <a:off x="7797240" y="4317840"/>
            <a:ext cx="981000" cy="1160280"/>
            <a:chOff x="7797240" y="4317840"/>
            <a:chExt cx="981000" cy="1160280"/>
          </a:xfrm>
        </p:grpSpPr>
        <p:sp>
          <p:nvSpPr>
            <p:cNvPr id="201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0"/>
            <p:cNvSpPr/>
            <p:nvPr/>
          </p:nvSpPr>
          <p:spPr>
            <a:xfrm rot="7320000">
              <a:off x="7766280" y="4637880"/>
              <a:ext cx="995400" cy="4600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1"/>
            <p:cNvSpPr/>
            <p:nvPr/>
          </p:nvSpPr>
          <p:spPr>
            <a:xfrm rot="7320000">
              <a:off x="7934760" y="462168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22"/>
            <p:cNvGrpSpPr/>
            <p:nvPr/>
          </p:nvGrpSpPr>
          <p:grpSpPr>
            <a:xfrm>
              <a:off x="7797240" y="4317840"/>
              <a:ext cx="981000" cy="1160280"/>
              <a:chOff x="7797240" y="4317840"/>
              <a:chExt cx="981000" cy="1160280"/>
            </a:xfrm>
          </p:grpSpPr>
          <p:sp>
            <p:nvSpPr>
              <p:cNvPr id="205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24"/>
              <p:cNvSpPr/>
              <p:nvPr/>
            </p:nvSpPr>
            <p:spPr>
              <a:xfrm rot="7320000">
                <a:off x="7758360" y="4650480"/>
                <a:ext cx="1058760" cy="49500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25"/>
              <p:cNvSpPr/>
              <p:nvPr/>
            </p:nvSpPr>
            <p:spPr>
              <a:xfrm rot="7320000">
                <a:off x="8036280" y="4757400"/>
                <a:ext cx="749520" cy="279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26"/>
              <p:cNvSpPr/>
              <p:nvPr/>
            </p:nvSpPr>
            <p:spPr>
              <a:xfrm rot="7320000">
                <a:off x="8513640" y="4559760"/>
                <a:ext cx="10008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27"/>
              <p:cNvSpPr/>
              <p:nvPr/>
            </p:nvSpPr>
            <p:spPr>
              <a:xfrm rot="7320000">
                <a:off x="8152920" y="4759200"/>
                <a:ext cx="306360" cy="1656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0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34BF-6ADE-4113-A8B2-189B14A9F2B1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54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58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6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6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9CFB-5122-4257-A964-94771619BE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页脚占位符 4"/>
          <p:cNvSpPr/>
          <p:nvPr/>
        </p:nvSpPr>
        <p:spPr>
          <a:xfrm>
            <a:off x="473040" y="5991120"/>
            <a:ext cx="9159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幻灯片之家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2484360" y="1341360"/>
            <a:ext cx="45007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ff0066"/>
                </a:solidFill>
                <a:latin typeface="华文楷体"/>
                <a:ea typeface="华文楷体"/>
              </a:rPr>
              <a:t>故 乡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b8fcf4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4357080" y="112536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多子、饥荒、苛税、兵、匪、官、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3097440" y="1773360"/>
            <a:ext cx="80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社会落后愚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4920120" y="24922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华文隶书"/>
              </a:rPr>
              <a:t>帝国主义侵略、封建社会制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2268360" y="333360"/>
            <a:ext cx="48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新魏"/>
              </a:rPr>
              <a:t>闰土变化的原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9"/>
          <p:cNvSpPr/>
          <p:nvPr/>
        </p:nvSpPr>
        <p:spPr>
          <a:xfrm>
            <a:off x="1476360" y="1197000"/>
            <a:ext cx="216000" cy="863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0"/>
          <p:cNvSpPr/>
          <p:nvPr/>
        </p:nvSpPr>
        <p:spPr>
          <a:xfrm>
            <a:off x="0" y="141300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表面原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0" y="2637000"/>
            <a:ext cx="17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深层原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2"/>
          <p:cNvSpPr/>
          <p:nvPr/>
        </p:nvSpPr>
        <p:spPr>
          <a:xfrm>
            <a:off x="539640" y="3789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闰土的遭遇正是当时广大受压迫、受剥削农民的具体写照。作者塑造这一形象的目的，也就在于揭示帝国主义、封建社会双重压迫给中国人民带来的灾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8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8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8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8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0" dur="3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05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16" descr="j0229389"/>
          <p:cNvPicPr/>
          <p:nvPr/>
        </p:nvPicPr>
        <p:blipFill>
          <a:blip r:embed="rId1"/>
          <a:stretch/>
        </p:blipFill>
        <p:spPr>
          <a:xfrm>
            <a:off x="324000" y="914400"/>
            <a:ext cx="8424720" cy="554040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4"/>
          <p:cNvSpPr/>
          <p:nvPr/>
        </p:nvSpPr>
        <p:spPr>
          <a:xfrm>
            <a:off x="550440" y="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景物描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686160" y="1197000"/>
            <a:ext cx="70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段 （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新魏"/>
              </a:rPr>
              <a:t>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629280" y="227664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段（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新魏"/>
              </a:rPr>
              <a:t> 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7"/>
          <p:cNvSpPr/>
          <p:nvPr/>
        </p:nvSpPr>
        <p:spPr>
          <a:xfrm>
            <a:off x="619200" y="3284640"/>
            <a:ext cx="798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7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8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8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段（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新魏"/>
              </a:rPr>
              <a:t>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9"/>
          <p:cNvSpPr/>
          <p:nvPr/>
        </p:nvSpPr>
        <p:spPr>
          <a:xfrm>
            <a:off x="611280" y="458136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华文行楷"/>
              </a:rPr>
              <a:t>景物描写有力地渲染了气氛，烘托出了人物的思想感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8"/>
          <p:cNvSpPr/>
          <p:nvPr/>
        </p:nvSpPr>
        <p:spPr>
          <a:xfrm>
            <a:off x="2484360" y="1474920"/>
            <a:ext cx="496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9"/>
          <p:cNvSpPr/>
          <p:nvPr/>
        </p:nvSpPr>
        <p:spPr>
          <a:xfrm>
            <a:off x="3060720" y="126828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农村的衰败和悲凉的气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0"/>
          <p:cNvSpPr/>
          <p:nvPr/>
        </p:nvSpPr>
        <p:spPr>
          <a:xfrm>
            <a:off x="2124000" y="2349360"/>
            <a:ext cx="60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明丽、五彩缤纷的图画和明朗愉快的气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1"/>
          <p:cNvSpPr/>
          <p:nvPr/>
        </p:nvSpPr>
        <p:spPr>
          <a:xfrm>
            <a:off x="3708360" y="335772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静谧的气氛，情景交融的意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2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7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2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0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4"/>
          <p:cNvSpPr/>
          <p:nvPr/>
        </p:nvSpPr>
        <p:spPr>
          <a:xfrm>
            <a:off x="324000" y="25092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写作特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0" y="3068640"/>
            <a:ext cx="1258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6"/>
          <p:cNvSpPr/>
          <p:nvPr/>
        </p:nvSpPr>
        <p:spPr>
          <a:xfrm>
            <a:off x="1258920" y="836640"/>
            <a:ext cx="76327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少年闰土和成年闰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方正姚体"/>
              </a:rPr>
              <a:t>农民命运的日益悲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我和闰土的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方正姚体"/>
              </a:rPr>
              <a:t>封建等级的鸿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杨二嫂前后生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方正姚体"/>
              </a:rPr>
              <a:t>黑暗社会已病入膏肓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故乡情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方正姚体"/>
              </a:rPr>
              <a:t>每况愈下的中国农村经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我和闰土的关系与宏儿水生的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方正姚体"/>
              </a:rPr>
              <a:t>对未来生活的向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7"/>
          <p:cNvSpPr/>
          <p:nvPr/>
        </p:nvSpPr>
        <p:spPr>
          <a:xfrm>
            <a:off x="684360" y="1125360"/>
            <a:ext cx="368280" cy="5256360"/>
          </a:xfrm>
          <a:custGeom>
            <a:avLst/>
            <a:gdLst>
              <a:gd name="textAreaLeft" fmla="*/ 235440 w 368280"/>
              <a:gd name="textAreaRight" fmla="*/ 368640 w 368280"/>
              <a:gd name="textAreaTop" fmla="*/ 136800 h 5256360"/>
              <a:gd name="textAreaBottom" fmla="*/ 5119560 h 525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121"/>
                </a:lnTo>
                <a:cubicBezTo>
                  <a:pt x="10800" y="10021"/>
                  <a:pt x="5400" y="10920"/>
                  <a:pt x="0" y="10920"/>
                </a:cubicBezTo>
                <a:cubicBezTo>
                  <a:pt x="5400" y="10920"/>
                  <a:pt x="10800" y="11820"/>
                  <a:pt x="10800" y="1271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15" descr="看戏河埠"/>
          <p:cNvPicPr/>
          <p:nvPr/>
        </p:nvPicPr>
        <p:blipFill>
          <a:blip r:embed="rId2"/>
          <a:stretch/>
        </p:blipFill>
        <p:spPr>
          <a:xfrm>
            <a:off x="5364000" y="3068640"/>
            <a:ext cx="3240360" cy="21366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9" descr="图像-32"/>
          <p:cNvPicPr/>
          <p:nvPr/>
        </p:nvPicPr>
        <p:blipFill>
          <a:blip r:embed="rId3"/>
          <a:stretch/>
        </p:blipFill>
        <p:spPr>
          <a:xfrm>
            <a:off x="5292720" y="569880"/>
            <a:ext cx="3382920" cy="2187720"/>
          </a:xfrm>
          <a:prstGeom prst="rect">
            <a:avLst/>
          </a:prstGeom>
          <a:ln w="0">
            <a:noFill/>
          </a:ln>
        </p:spPr>
      </p:pic>
      <p:sp>
        <p:nvSpPr>
          <p:cNvPr id="471" name="文本框 1"/>
          <p:cNvSpPr/>
          <p:nvPr/>
        </p:nvSpPr>
        <p:spPr>
          <a:xfrm>
            <a:off x="324000" y="6381720"/>
            <a:ext cx="62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7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2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6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6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6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6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3" dur="3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7" descr="俯首甘为儒子牛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4"/>
          <p:cNvSpPr/>
          <p:nvPr/>
        </p:nvSpPr>
        <p:spPr>
          <a:xfrm>
            <a:off x="2117160" y="1125360"/>
            <a:ext cx="5301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希望是本无所谓有，无所谓无的。这正如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上的路，其实地上本没有路，走的人多了，也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成了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5"/>
          <p:cNvSpPr/>
          <p:nvPr/>
        </p:nvSpPr>
        <p:spPr>
          <a:xfrm>
            <a:off x="395280" y="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华文行楷"/>
              </a:rPr>
              <a:t>品味语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6"/>
          <p:cNvSpPr/>
          <p:nvPr/>
        </p:nvSpPr>
        <p:spPr>
          <a:xfrm>
            <a:off x="0" y="393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只空有希望而不去奋斗、追求，希望便“无所谓有”；有了希望并始终不渝地斗争、实践，希望便“无所谓无”。人们都满怀希望奋斗，就会迎来新生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0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95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页脚占位符 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6" descr="16TBC41"/>
          <p:cNvPicPr/>
          <p:nvPr/>
        </p:nvPicPr>
        <p:blipFill>
          <a:blip r:embed="rId1"/>
          <a:stretch/>
        </p:blipFill>
        <p:spPr>
          <a:xfrm>
            <a:off x="2771640" y="0"/>
            <a:ext cx="1152720" cy="1224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" descr="读书图"/>
          <p:cNvPicPr/>
          <p:nvPr/>
        </p:nvPicPr>
        <p:blipFill>
          <a:blip r:embed="rId2"/>
          <a:stretch/>
        </p:blipFill>
        <p:spPr>
          <a:xfrm>
            <a:off x="1042920" y="3716280"/>
            <a:ext cx="3529080" cy="314172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9"/>
          <p:cNvSpPr/>
          <p:nvPr/>
        </p:nvSpPr>
        <p:spPr>
          <a:xfrm>
            <a:off x="468360" y="260280"/>
            <a:ext cx="32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琥珀"/>
              </a:rPr>
              <a:t>思考题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0"/>
          <p:cNvSpPr/>
          <p:nvPr/>
        </p:nvSpPr>
        <p:spPr>
          <a:xfrm>
            <a:off x="826920" y="112536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、作者在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故乡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中描写了三个“故乡”你知道是那几个吗？作者重点写了那一个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1"/>
          <p:cNvSpPr/>
          <p:nvPr/>
        </p:nvSpPr>
        <p:spPr>
          <a:xfrm>
            <a:off x="1258920" y="27082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、文中的“水生”“宏儿”起到了什么作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2"/>
          <p:cNvSpPr/>
          <p:nvPr/>
        </p:nvSpPr>
        <p:spPr>
          <a:xfrm>
            <a:off x="4716360" y="314172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、这篇小说的主题，有以下几种理解你赞同哪一种？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3"/>
          <p:cNvSpPr/>
          <p:nvPr/>
        </p:nvSpPr>
        <p:spPr>
          <a:xfrm>
            <a:off x="4572000" y="4437000"/>
            <a:ext cx="4572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、人的生命和活力被扼杀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、纯真的人性被扭曲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C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、愚味、落后、贫穷的轮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D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、渴望理想的人与人的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4"/>
          <p:cNvSpPr/>
          <p:nvPr/>
        </p:nvSpPr>
        <p:spPr>
          <a:xfrm>
            <a:off x="2454480" y="1992240"/>
            <a:ext cx="49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彩云"/>
                <a:ea typeface="华文彩云"/>
              </a:rPr>
              <a:t>回忆中的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彩云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华文彩云"/>
                <a:ea typeface="华文彩云"/>
              </a:rPr>
              <a:t>故乡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彩云"/>
              </a:rPr>
              <a:t>”</a:t>
            </a:r>
            <a:r>
              <a:rPr b="0" lang="zh-CN" sz="2400" spc="-1" strike="noStrike">
                <a:solidFill>
                  <a:srgbClr val="ff0000"/>
                </a:solidFill>
                <a:latin typeface="华文彩云"/>
                <a:ea typeface="华文彩云"/>
              </a:rPr>
              <a:t>     现实中的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彩云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华文彩云"/>
                <a:ea typeface="华文彩云"/>
              </a:rPr>
              <a:t>故乡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彩云"/>
              </a:rPr>
              <a:t>”</a:t>
            </a:r>
            <a:r>
              <a:rPr b="0" lang="zh-CN" sz="2400" spc="-1" strike="noStrike">
                <a:solidFill>
                  <a:srgbClr val="ff0000"/>
                </a:solidFill>
                <a:latin typeface="华文彩云"/>
                <a:ea typeface="华文彩云"/>
              </a:rPr>
              <a:t>     理想中的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彩云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华文彩云"/>
                <a:ea typeface="华文彩云"/>
              </a:rPr>
              <a:t>故乡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彩云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0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1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3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omic Sans MS"/>
              </a:rPr>
              <a:t> </a:t>
            </a:r>
            <a:r>
              <a:rPr b="0" lang="zh-CN" sz="1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omic Sans MS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D2E7-B896-4792-AE05-8FC013599F4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250920" y="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谈谈小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539640" y="9079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琥珀"/>
              </a:rPr>
              <a:t>小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1619280" y="765000"/>
            <a:ext cx="75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以塑造人物为中心，通过完整的故事情节的叙述和环境的描写反映社会生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0" y="220500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琥珀"/>
              </a:rPr>
              <a:t>小说分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8"/>
          <p:cNvSpPr/>
          <p:nvPr/>
        </p:nvSpPr>
        <p:spPr>
          <a:xfrm>
            <a:off x="1619280" y="19890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1908000" y="1700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长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1908000" y="2205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1908000" y="2708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短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2"/>
          <p:cNvSpPr/>
          <p:nvPr/>
        </p:nvSpPr>
        <p:spPr>
          <a:xfrm>
            <a:off x="3059280" y="198900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3"/>
          <p:cNvSpPr/>
          <p:nvPr/>
        </p:nvSpPr>
        <p:spPr>
          <a:xfrm>
            <a:off x="3348000" y="22050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按篇幅长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4"/>
          <p:cNvSpPr/>
          <p:nvPr/>
        </p:nvSpPr>
        <p:spPr>
          <a:xfrm>
            <a:off x="5364000" y="227664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（小小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5"/>
          <p:cNvSpPr/>
          <p:nvPr/>
        </p:nvSpPr>
        <p:spPr>
          <a:xfrm>
            <a:off x="0" y="349092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琥珀"/>
              </a:rPr>
              <a:t>小说三要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2195640" y="350028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人物、故事情节、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0" y="4221000"/>
            <a:ext cx="24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琥珀"/>
              </a:rPr>
              <a:t>人物塑造方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8"/>
          <p:cNvSpPr/>
          <p:nvPr/>
        </p:nvSpPr>
        <p:spPr>
          <a:xfrm>
            <a:off x="2662200" y="4221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外貌、语言、动作、心理。 （神态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9"/>
          <p:cNvSpPr/>
          <p:nvPr/>
        </p:nvSpPr>
        <p:spPr>
          <a:xfrm>
            <a:off x="0" y="5084640"/>
            <a:ext cx="22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彩云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琥珀"/>
              </a:rPr>
              <a:t>故事情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0"/>
          <p:cNvSpPr/>
          <p:nvPr/>
        </p:nvSpPr>
        <p:spPr>
          <a:xfrm>
            <a:off x="1763640" y="5084640"/>
            <a:ext cx="73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开端、发展、高潮、结局。 （序幕、尾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1"/>
          <p:cNvSpPr/>
          <p:nvPr/>
        </p:nvSpPr>
        <p:spPr>
          <a:xfrm>
            <a:off x="250920" y="595008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琥珀"/>
              </a:rPr>
              <a:t>环境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22"/>
          <p:cNvSpPr/>
          <p:nvPr/>
        </p:nvSpPr>
        <p:spPr>
          <a:xfrm>
            <a:off x="1476360" y="5877000"/>
            <a:ext cx="142920" cy="72072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3"/>
          <p:cNvSpPr/>
          <p:nvPr/>
        </p:nvSpPr>
        <p:spPr>
          <a:xfrm>
            <a:off x="1763640" y="5656320"/>
            <a:ext cx="26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自然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社会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6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6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6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6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6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6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6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6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6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6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6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6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6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矩形 16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鲁迅像2"/>
          <p:cNvPicPr/>
          <p:nvPr/>
        </p:nvPicPr>
        <p:blipFill>
          <a:blip r:embed="rId16"/>
          <a:stretch/>
        </p:blipFill>
        <p:spPr>
          <a:xfrm>
            <a:off x="0" y="0"/>
            <a:ext cx="3635280" cy="342900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6"/>
          <p:cNvSpPr/>
          <p:nvPr/>
        </p:nvSpPr>
        <p:spPr>
          <a:xfrm>
            <a:off x="3851280" y="476280"/>
            <a:ext cx="50767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881—193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于浙江绍兴，原名周树人，字豫才，我国现代伟大的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宋体"/>
              </a:rPr>
              <a:t>文学家、思想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宋体"/>
              </a:rPr>
              <a:t>革命家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第一篇小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狂人日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开始用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鲁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作笔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250920" y="328464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著名作品集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野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朝花夕拾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》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呐喊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彷徨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》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华盖集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坟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324000" y="429264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华文新魏"/>
              </a:rPr>
              <a:t>在初中我们学过他的作品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"/>
          <p:cNvSpPr/>
          <p:nvPr/>
        </p:nvSpPr>
        <p:spPr>
          <a:xfrm>
            <a:off x="0" y="472428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从百草园到三味书屋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34920" y="515772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社戏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34920" y="5661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阿长与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山海经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》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34920" y="616572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鲁迅自传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4354560" y="4724280"/>
            <a:ext cx="32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选自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朝花夕拾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4354560" y="522936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选自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呐喊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4356000" y="573408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选自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朝花夕拾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4356000" y="6237360"/>
            <a:ext cx="39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选自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集外集拾遗补篇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550440" y="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华文行楷"/>
              </a:rPr>
              <a:t>作品介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395280" y="1335240"/>
            <a:ext cx="842472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华文楷体"/>
                <a:ea typeface="华文楷体"/>
              </a:rPr>
              <a:t>     </a:t>
            </a:r>
            <a:r>
              <a:rPr b="1" lang="en-US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《</a:t>
            </a: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故乡</a:t>
            </a:r>
            <a:r>
              <a:rPr b="1" lang="en-US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》</a:t>
            </a: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运用了第一人称的叙述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</a:t>
            </a: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通过</a:t>
            </a: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对故乡景色和人物前后变化的描写反映了当时旧中国的社会现实。作者深切地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触到故乡的衰败，并以此作为小说的情节基础，</a:t>
            </a: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描写</a:t>
            </a: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了以闰土为代表的旧中国农民的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惨生活，</a:t>
            </a: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表达</a:t>
            </a: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了</a:t>
            </a:r>
            <a:r>
              <a:rPr b="1" lang="zh-CN" sz="3200" spc="-1" strike="noStrike">
                <a:solidFill>
                  <a:srgbClr val="006600"/>
                </a:solidFill>
                <a:latin typeface="华文楷体"/>
                <a:ea typeface="方正姚体"/>
              </a:rPr>
              <a:t>“</a:t>
            </a: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我</a:t>
            </a:r>
            <a:r>
              <a:rPr b="1" lang="zh-CN" sz="3200" spc="-1" strike="noStrike">
                <a:solidFill>
                  <a:srgbClr val="006600"/>
                </a:solidFill>
                <a:latin typeface="华文楷体"/>
                <a:ea typeface="方正姚体"/>
              </a:rPr>
              <a:t>”</a:t>
            </a: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对贫苦农民的深切同情，</a:t>
            </a: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反映</a:t>
            </a: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了农村经济的日益破产，</a:t>
            </a: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揭示</a:t>
            </a: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了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民日益贫困的社会根源，</a:t>
            </a: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抒发</a:t>
            </a: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了热切向往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生活的愿望</a:t>
            </a:r>
            <a:r>
              <a:rPr b="1" lang="zh-CN" sz="3600" spc="-1" strike="noStrike">
                <a:solidFill>
                  <a:srgbClr val="006600"/>
                </a:solidFill>
                <a:latin typeface="方正姚体"/>
                <a:ea typeface="方正姚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4" dur="3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页脚占位符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0" y="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华文行楷"/>
              </a:rPr>
              <a:t>结构分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611280" y="907920"/>
            <a:ext cx="82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一段：  写“我”渐近故乡时的悲凉心情和眼前故乡破败萧条的景象，交代了“我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故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时间和原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611280" y="29973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段：叙述“我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在故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见闻、感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684360" y="458136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三段：写“我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离开故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心情、感想，表达了“我”对新生活的向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8"/>
          <p:cNvSpPr/>
          <p:nvPr/>
        </p:nvSpPr>
        <p:spPr>
          <a:xfrm>
            <a:off x="826920" y="220500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开头到第</a:t>
            </a:r>
            <a:r>
              <a:rPr b="1" lang="zh-CN" sz="2400" spc="-1" strike="noStrike" u="sng">
                <a:solidFill>
                  <a:srgbClr val="ff0066"/>
                </a:solidFill>
                <a:uFillTx/>
                <a:latin typeface="Arial"/>
                <a:ea typeface="华文新魏"/>
              </a:rPr>
              <a:t>     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自然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9"/>
          <p:cNvSpPr/>
          <p:nvPr/>
        </p:nvSpPr>
        <p:spPr>
          <a:xfrm>
            <a:off x="1042920" y="3573360"/>
            <a:ext cx="684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第</a:t>
            </a:r>
            <a:r>
              <a:rPr b="1" lang="zh-CN" sz="2400" spc="-1" strike="noStrike" u="sng">
                <a:solidFill>
                  <a:srgbClr val="ff0066"/>
                </a:solidFill>
                <a:uFillTx/>
                <a:latin typeface="Arial"/>
                <a:ea typeface="华文新魏"/>
              </a:rPr>
              <a:t>       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自然段到第</a:t>
            </a:r>
            <a:r>
              <a:rPr b="1" lang="zh-CN" sz="2400" spc="-1" strike="noStrike" u="sng">
                <a:solidFill>
                  <a:srgbClr val="ff0066"/>
                </a:solidFill>
                <a:uFillTx/>
                <a:latin typeface="Arial"/>
                <a:ea typeface="华文新魏"/>
              </a:rPr>
              <a:t>         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自然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"/>
          <p:cNvSpPr/>
          <p:nvPr/>
        </p:nvSpPr>
        <p:spPr>
          <a:xfrm>
            <a:off x="1835280" y="5516640"/>
            <a:ext cx="65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第</a:t>
            </a:r>
            <a:r>
              <a:rPr b="1" lang="zh-CN" sz="2400" spc="-1" strike="noStrike" u="sng">
                <a:solidFill>
                  <a:srgbClr val="ff0066"/>
                </a:solidFill>
                <a:uFillTx/>
                <a:latin typeface="Arial"/>
                <a:ea typeface="华文新魏"/>
              </a:rPr>
              <a:t>       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自然段到结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1"/>
          <p:cNvSpPr/>
          <p:nvPr/>
        </p:nvSpPr>
        <p:spPr>
          <a:xfrm>
            <a:off x="2268360" y="2133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2"/>
          <p:cNvSpPr/>
          <p:nvPr/>
        </p:nvSpPr>
        <p:spPr>
          <a:xfrm>
            <a:off x="1619280" y="3500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3"/>
          <p:cNvSpPr/>
          <p:nvPr/>
        </p:nvSpPr>
        <p:spPr>
          <a:xfrm>
            <a:off x="3995640" y="350028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4"/>
          <p:cNvSpPr/>
          <p:nvPr/>
        </p:nvSpPr>
        <p:spPr>
          <a:xfrm>
            <a:off x="2340000" y="5445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6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6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6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6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6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0" y="90792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小说以“我”的行踪（回故乡、在故乡、离故乡）为经，以“我”的见闻、感受为纬，逐步展开情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0" y="0"/>
            <a:ext cx="33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行楷"/>
              </a:rPr>
              <a:t>故事情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1042920" y="2205000"/>
            <a:ext cx="12970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方正姚体"/>
              </a:rPr>
              <a:t>回故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方正姚体"/>
              </a:rPr>
              <a:t>1-5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方正姚体"/>
              </a:rPr>
              <a:t>自然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9"/>
          <p:cNvSpPr/>
          <p:nvPr/>
        </p:nvSpPr>
        <p:spPr>
          <a:xfrm>
            <a:off x="2484360" y="2133720"/>
            <a:ext cx="71640" cy="934920"/>
          </a:xfrm>
          <a:custGeom>
            <a:avLst/>
            <a:gdLst>
              <a:gd name="textAreaLeft" fmla="*/ 45720 w 71640"/>
              <a:gd name="textAreaRight" fmla="*/ 72000 w 7164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0"/>
          <p:cNvSpPr/>
          <p:nvPr/>
        </p:nvSpPr>
        <p:spPr>
          <a:xfrm>
            <a:off x="2627280" y="19162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回乡时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1"/>
          <p:cNvSpPr/>
          <p:nvPr/>
        </p:nvSpPr>
        <p:spPr>
          <a:xfrm>
            <a:off x="2700360" y="242100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回乡原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2"/>
          <p:cNvSpPr/>
          <p:nvPr/>
        </p:nvSpPr>
        <p:spPr>
          <a:xfrm>
            <a:off x="2700360" y="292428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所见景象及心情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3"/>
          <p:cNvSpPr/>
          <p:nvPr/>
        </p:nvSpPr>
        <p:spPr>
          <a:xfrm>
            <a:off x="1042920" y="4005360"/>
            <a:ext cx="1368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方正姚体"/>
              </a:rPr>
              <a:t>在故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方正姚体"/>
              </a:rPr>
              <a:t>6-77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方正姚体"/>
              </a:rPr>
              <a:t>自然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4"/>
          <p:cNvSpPr/>
          <p:nvPr/>
        </p:nvSpPr>
        <p:spPr>
          <a:xfrm>
            <a:off x="2484360" y="4076640"/>
            <a:ext cx="73080" cy="1152720"/>
          </a:xfrm>
          <a:custGeom>
            <a:avLst/>
            <a:gdLst>
              <a:gd name="textAreaLeft" fmla="*/ 46800 w 73080"/>
              <a:gd name="textAreaRight" fmla="*/ 73440 w 7308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5"/>
          <p:cNvSpPr/>
          <p:nvPr/>
        </p:nvSpPr>
        <p:spPr>
          <a:xfrm>
            <a:off x="2556000" y="3789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到家那天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6"/>
          <p:cNvSpPr/>
          <p:nvPr/>
        </p:nvSpPr>
        <p:spPr>
          <a:xfrm>
            <a:off x="4211640" y="3573360"/>
            <a:ext cx="73080" cy="8654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7"/>
          <p:cNvSpPr/>
          <p:nvPr/>
        </p:nvSpPr>
        <p:spPr>
          <a:xfrm>
            <a:off x="2484360" y="4581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过了三四天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8"/>
          <p:cNvSpPr/>
          <p:nvPr/>
        </p:nvSpPr>
        <p:spPr>
          <a:xfrm>
            <a:off x="2556000" y="5013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又过了九天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9"/>
          <p:cNvSpPr/>
          <p:nvPr/>
        </p:nvSpPr>
        <p:spPr>
          <a:xfrm>
            <a:off x="1116000" y="5589720"/>
            <a:ext cx="12970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方正姚体"/>
              </a:rPr>
              <a:t>离故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方正姚体"/>
              </a:rPr>
              <a:t>78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方正姚体"/>
              </a:rPr>
              <a:t>段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方正姚体"/>
              </a:rPr>
              <a:t>-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方正姚体"/>
              </a:rPr>
              <a:t>结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20"/>
          <p:cNvSpPr/>
          <p:nvPr/>
        </p:nvSpPr>
        <p:spPr>
          <a:xfrm>
            <a:off x="2556000" y="5734080"/>
            <a:ext cx="71280" cy="792000"/>
          </a:xfrm>
          <a:custGeom>
            <a:avLst/>
            <a:gdLst>
              <a:gd name="textAreaLeft" fmla="*/ 45720 w 71280"/>
              <a:gd name="textAreaRight" fmla="*/ 71640 w 712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1"/>
          <p:cNvSpPr/>
          <p:nvPr/>
        </p:nvSpPr>
        <p:spPr>
          <a:xfrm>
            <a:off x="2700360" y="566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船上谈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2"/>
          <p:cNvSpPr/>
          <p:nvPr/>
        </p:nvSpPr>
        <p:spPr>
          <a:xfrm>
            <a:off x="2771640" y="6093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我”的感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3"/>
          <p:cNvSpPr/>
          <p:nvPr/>
        </p:nvSpPr>
        <p:spPr>
          <a:xfrm>
            <a:off x="4356000" y="335772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母子见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4"/>
          <p:cNvSpPr/>
          <p:nvPr/>
        </p:nvSpPr>
        <p:spPr>
          <a:xfrm>
            <a:off x="4427640" y="371628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回忆少年闰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5"/>
          <p:cNvSpPr/>
          <p:nvPr/>
        </p:nvSpPr>
        <p:spPr>
          <a:xfrm>
            <a:off x="4356000" y="4149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见到杨二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6"/>
          <p:cNvSpPr/>
          <p:nvPr/>
        </p:nvSpPr>
        <p:spPr>
          <a:xfrm>
            <a:off x="4427640" y="458136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见到了闰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7"/>
          <p:cNvSpPr/>
          <p:nvPr/>
        </p:nvSpPr>
        <p:spPr>
          <a:xfrm>
            <a:off x="4427640" y="5013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动身启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8"/>
          <p:cNvSpPr/>
          <p:nvPr/>
        </p:nvSpPr>
        <p:spPr>
          <a:xfrm>
            <a:off x="4067280" y="1916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严寒的冬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9"/>
          <p:cNvSpPr/>
          <p:nvPr/>
        </p:nvSpPr>
        <p:spPr>
          <a:xfrm>
            <a:off x="4067280" y="242100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卖屋、搬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0"/>
          <p:cNvSpPr/>
          <p:nvPr/>
        </p:nvSpPr>
        <p:spPr>
          <a:xfrm>
            <a:off x="5292720" y="2924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萧索、悲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2"/>
          <p:cNvSpPr/>
          <p:nvPr/>
        </p:nvSpPr>
        <p:spPr>
          <a:xfrm>
            <a:off x="-38880" y="2276640"/>
            <a:ext cx="9118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开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3"/>
          <p:cNvSpPr/>
          <p:nvPr/>
        </p:nvSpPr>
        <p:spPr>
          <a:xfrm>
            <a:off x="-84960" y="3645000"/>
            <a:ext cx="9118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发展与高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34"/>
          <p:cNvSpPr/>
          <p:nvPr/>
        </p:nvSpPr>
        <p:spPr>
          <a:xfrm>
            <a:off x="-38880" y="5734080"/>
            <a:ext cx="911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结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77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4" dur="770" fill="hold"/>
                                        <p:tgtEl>
                                          <p:spTgt spid="3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6" dur="77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8" dur="77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77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2" dur="770" fill="hold"/>
                                        <p:tgtEl>
                                          <p:spTgt spid="3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4" dur="77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6" dur="77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77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3" dur="770" fill="hold"/>
                                        <p:tgtEl>
                                          <p:spTgt spid="4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5" dur="77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7" dur="77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77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4" dur="770" fill="hold"/>
                                        <p:tgtEl>
                                          <p:spTgt spid="4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6" dur="77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77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770" fill="hold"/>
                                        <p:tgtEl>
                                          <p:spTgt spid="3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9" dur="77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1" dur="77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77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4" dur="770" fill="hold"/>
                                        <p:tgtEl>
                                          <p:spTgt spid="3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6" dur="77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8" dur="77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77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770" fill="hold"/>
                                        <p:tgtEl>
                                          <p:spTgt spid="3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3" dur="77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5" dur="77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77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2" dur="770" fill="hold"/>
                                        <p:tgtEl>
                                          <p:spTgt spid="3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4" dur="77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6" dur="77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77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3" dur="770" fill="hold"/>
                                        <p:tgtEl>
                                          <p:spTgt spid="3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5" dur="77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7" dur="77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77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4" dur="77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6" dur="77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8" dur="77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77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1" dur="770" fill="hold"/>
                                        <p:tgtEl>
                                          <p:spTgt spid="3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3" dur="77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5" dur="77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77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8" dur="770" fill="hold"/>
                                        <p:tgtEl>
                                          <p:spTgt spid="3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0" dur="77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2" dur="77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0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250920" y="26028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华文行楷"/>
              </a:rPr>
              <a:t>人物分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250920" y="14130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闰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1798560" y="119700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宋体"/>
              </a:rPr>
              <a:t>是一个勤劳善良，质朴老实，痛苦麻木，但不觉悟的农民形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250920" y="31417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杨二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9"/>
          <p:cNvSpPr/>
          <p:nvPr/>
        </p:nvSpPr>
        <p:spPr>
          <a:xfrm>
            <a:off x="1763640" y="314172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宋体"/>
              </a:rPr>
              <a:t>是一个贪婪、尖刻、鄙俗，自私庸俗的小市民典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0"/>
          <p:cNvSpPr/>
          <p:nvPr/>
        </p:nvSpPr>
        <p:spPr>
          <a:xfrm>
            <a:off x="250920" y="494172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我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1"/>
          <p:cNvSpPr/>
          <p:nvPr/>
        </p:nvSpPr>
        <p:spPr>
          <a:xfrm>
            <a:off x="1619280" y="501336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宋体"/>
              </a:rPr>
              <a:t>是一个对现实不满正在追求进步的知识分子形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3"/>
          <p:cNvSpPr/>
          <p:nvPr/>
        </p:nvSpPr>
        <p:spPr>
          <a:xfrm>
            <a:off x="1908000" y="206064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新魏"/>
              </a:rPr>
              <a:t>哀其不幸，怒其不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4"/>
          <p:cNvSpPr/>
          <p:nvPr/>
        </p:nvSpPr>
        <p:spPr>
          <a:xfrm>
            <a:off x="1908000" y="3716280"/>
            <a:ext cx="47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新魏"/>
              </a:rPr>
              <a:t>既可恨、可鄙又可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5"/>
          <p:cNvSpPr/>
          <p:nvPr/>
        </p:nvSpPr>
        <p:spPr>
          <a:xfrm>
            <a:off x="1692360" y="5445000"/>
            <a:ext cx="67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新魏"/>
              </a:rPr>
              <a:t>寄希望于未来，却又对前途感到渺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6"/>
          <p:cNvSpPr/>
          <p:nvPr/>
        </p:nvSpPr>
        <p:spPr>
          <a:xfrm>
            <a:off x="1835280" y="2565360"/>
            <a:ext cx="73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揭示帝国主义、封建社会给中国人民带来的灾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7"/>
          <p:cNvSpPr/>
          <p:nvPr/>
        </p:nvSpPr>
        <p:spPr>
          <a:xfrm>
            <a:off x="1619280" y="4292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在三座大山压榨下乡镇小市民也逃不了日益贫困的厄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8"/>
          <p:cNvSpPr/>
          <p:nvPr/>
        </p:nvSpPr>
        <p:spPr>
          <a:xfrm>
            <a:off x="1763640" y="58770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串联全文。（故乡及故乡人的变化都是通过“我”的观察与感受表现出来的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9"/>
          <p:cNvSpPr/>
          <p:nvPr/>
        </p:nvSpPr>
        <p:spPr>
          <a:xfrm>
            <a:off x="0" y="2133720"/>
            <a:ext cx="17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方正姚体"/>
              </a:rPr>
              <a:t>作者对其态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0"/>
          <p:cNvSpPr/>
          <p:nvPr/>
        </p:nvSpPr>
        <p:spPr>
          <a:xfrm>
            <a:off x="0" y="3789360"/>
            <a:ext cx="2050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方正姚体"/>
              </a:rPr>
              <a:t>作者对其态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1"/>
          <p:cNvSpPr/>
          <p:nvPr/>
        </p:nvSpPr>
        <p:spPr>
          <a:xfrm>
            <a:off x="0" y="5445000"/>
            <a:ext cx="19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方正姚体"/>
              </a:rPr>
              <a:t>作者对其态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2"/>
          <p:cNvSpPr/>
          <p:nvPr/>
        </p:nvSpPr>
        <p:spPr>
          <a:xfrm>
            <a:off x="0" y="2637000"/>
            <a:ext cx="17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6633"/>
                </a:solidFill>
                <a:latin typeface="Arial"/>
                <a:ea typeface="方正姚体"/>
              </a:rPr>
              <a:t>塑造其目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3"/>
          <p:cNvSpPr/>
          <p:nvPr/>
        </p:nvSpPr>
        <p:spPr>
          <a:xfrm>
            <a:off x="0" y="4365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6633"/>
                </a:solidFill>
                <a:latin typeface="Arial"/>
                <a:ea typeface="方正姚体"/>
              </a:rPr>
              <a:t>塑造其目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4"/>
          <p:cNvSpPr/>
          <p:nvPr/>
        </p:nvSpPr>
        <p:spPr>
          <a:xfrm>
            <a:off x="0" y="595008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6633"/>
                </a:solidFill>
                <a:latin typeface="Arial"/>
                <a:ea typeface="方正姚体"/>
              </a:rPr>
              <a:t>塑造其目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77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8" dur="770" fill="hold"/>
                                        <p:tgtEl>
                                          <p:spTgt spid="4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0" dur="77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2" dur="77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77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5" dur="770" fill="hold"/>
                                        <p:tgtEl>
                                          <p:spTgt spid="4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7" dur="77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9" dur="77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155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2" dur="1155" fill="hold"/>
                                        <p:tgtEl>
                                          <p:spTgt spid="4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4" dur="1155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6" dur="1155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4" descr="少年闰土"/>
          <p:cNvPicPr/>
          <p:nvPr/>
        </p:nvPicPr>
        <p:blipFill>
          <a:blip r:embed="rId1"/>
          <a:stretch/>
        </p:blipFill>
        <p:spPr>
          <a:xfrm>
            <a:off x="0" y="0"/>
            <a:ext cx="4237200" cy="685800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6"/>
          <p:cNvSpPr/>
          <p:nvPr/>
        </p:nvSpPr>
        <p:spPr>
          <a:xfrm>
            <a:off x="4967280" y="126828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十一二岁  紫色圆脸   毡帽、银项圈   红活圆实的手 健康壮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7"/>
          <p:cNvSpPr/>
          <p:nvPr/>
        </p:nvSpPr>
        <p:spPr>
          <a:xfrm>
            <a:off x="4788000" y="2924280"/>
            <a:ext cx="43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活泼刚健  动作利落  有智有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语言朴质生动    热情纯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8"/>
          <p:cNvSpPr/>
          <p:nvPr/>
        </p:nvSpPr>
        <p:spPr>
          <a:xfrm>
            <a:off x="5076720" y="45086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友好热情   纯真平等友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9"/>
          <p:cNvSpPr/>
          <p:nvPr/>
        </p:nvSpPr>
        <p:spPr>
          <a:xfrm>
            <a:off x="5148360" y="5661000"/>
            <a:ext cx="36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热爱生活 生活知识丰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天真活泼   无忧无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2"/>
          <p:cNvSpPr/>
          <p:nvPr/>
        </p:nvSpPr>
        <p:spPr>
          <a:xfrm>
            <a:off x="3492360" y="1773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外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492360" y="3141720"/>
            <a:ext cx="14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语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3059280" y="4437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对我的态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2916360" y="580536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对生活的态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5219640" y="33336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隶书"/>
              </a:rPr>
              <a:t>少年闰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6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6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6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6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6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6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6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6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6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6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6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6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6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6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6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6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4" descr="中年闰土"/>
          <p:cNvPicPr/>
          <p:nvPr/>
        </p:nvPicPr>
        <p:blipFill>
          <a:blip r:embed="rId1"/>
          <a:stretch/>
        </p:blipFill>
        <p:spPr>
          <a:xfrm>
            <a:off x="0" y="0"/>
            <a:ext cx="4237200" cy="68580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6"/>
          <p:cNvSpPr/>
          <p:nvPr/>
        </p:nvSpPr>
        <p:spPr>
          <a:xfrm>
            <a:off x="4572000" y="1197000"/>
            <a:ext cx="43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脸色灰黄   皱纹深  极薄的棉衣  眼肿得通红  破毡帽  手粗笨开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4643280" y="285264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话吞吞吐吐    只是摇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谦恭又含糊     迟钝麻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8"/>
          <p:cNvSpPr/>
          <p:nvPr/>
        </p:nvSpPr>
        <p:spPr>
          <a:xfrm>
            <a:off x="5148360" y="450864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恭恭敬敬    呼“我”老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9"/>
          <p:cNvSpPr/>
          <p:nvPr/>
        </p:nvSpPr>
        <p:spPr>
          <a:xfrm>
            <a:off x="536400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悲哀痛苦    寄托神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0"/>
          <p:cNvSpPr/>
          <p:nvPr/>
        </p:nvSpPr>
        <p:spPr>
          <a:xfrm>
            <a:off x="3203640" y="162864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外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1"/>
          <p:cNvSpPr/>
          <p:nvPr/>
        </p:nvSpPr>
        <p:spPr>
          <a:xfrm>
            <a:off x="3203640" y="306864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语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2"/>
          <p:cNvSpPr/>
          <p:nvPr/>
        </p:nvSpPr>
        <p:spPr>
          <a:xfrm>
            <a:off x="2700360" y="4508640"/>
            <a:ext cx="19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对我的态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3"/>
          <p:cNvSpPr/>
          <p:nvPr/>
        </p:nvSpPr>
        <p:spPr>
          <a:xfrm>
            <a:off x="2556000" y="5734080"/>
            <a:ext cx="23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对生活的态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4"/>
          <p:cNvSpPr/>
          <p:nvPr/>
        </p:nvSpPr>
        <p:spPr>
          <a:xfrm>
            <a:off x="5292720" y="26028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隶书"/>
              </a:rPr>
              <a:t>中年闰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6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6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6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6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6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6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6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6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6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6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6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6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6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6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6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6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04:37:2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3:45Z</dcterms:modified>
  <cp:revision>3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