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C41-F43E-4E23-8CF2-CE4A1F6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D11-FA49-4903-BDF1-6EA69429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573-726C-4234-B094-EE27E845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49A-A31E-460F-B093-EA12579B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933-FF98-4DBA-AFE6-D6529984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D36-7F2B-415E-B86A-D9EC086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7BC-C18E-469F-B1D3-4F297A3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4C5-93B6-4DCE-8E95-883A7BCE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C3E-BC7D-4F14-9859-2322041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1CA-813F-439A-8CE5-A203C2F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184-2DCB-41C1-B1FB-84A6980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8DB-EC6A-4453-9533-0A1115E9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D8A-B522-44B6-8D5D-BE1B86E7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0" r="0" b="3773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希望.mp3" descr=""/>
          <p:cNvPicPr/>
          <p:nvPr/>
        </p:nvPicPr>
        <p:blipFill>
          <a:blip r:embed="rId2"/>
          <a:stretch/>
        </p:blipFill>
        <p:spPr>
          <a:xfrm>
            <a:off x="-6858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3" descr=""/>
          <p:cNvPicPr/>
          <p:nvPr/>
        </p:nvPicPr>
        <p:blipFill>
          <a:blip r:embed="rId3"/>
          <a:stretch/>
        </p:blipFill>
        <p:spPr>
          <a:xfrm>
            <a:off x="4498920" y="1258920"/>
            <a:ext cx="3529080" cy="4340160"/>
          </a:xfrm>
          <a:prstGeom prst="rect">
            <a:avLst/>
          </a:prstGeom>
          <a:ln w="0">
            <a:noFill/>
          </a:ln>
        </p:spPr>
      </p:pic>
      <p:sp>
        <p:nvSpPr>
          <p:cNvPr id="44" name="矩形 11"/>
          <p:cNvSpPr/>
          <p:nvPr/>
        </p:nvSpPr>
        <p:spPr>
          <a:xfrm>
            <a:off x="23821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438280" y="5540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秋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362320" y="1600200"/>
            <a:ext cx="61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春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38280" y="27432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夏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14600" y="3886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冬天在哪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42880" y="1325520"/>
            <a:ext cx="54936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14280" y="1630440"/>
            <a:ext cx="549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 rot="5400000">
            <a:off x="-914400" y="213336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敢动笔写写吗？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2193840" y="527832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 rot="5400000">
            <a:off x="2895480" y="3276360"/>
            <a:ext cx="1066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幸福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5715000" y="4191120"/>
            <a:ext cx="1905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遗憾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4572000" y="2362320"/>
            <a:ext cx="12952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美丽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685800" y="266688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快乐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9" name="WordArt 13"/>
          <p:cNvSpPr txBox="1"/>
          <p:nvPr/>
        </p:nvSpPr>
        <p:spPr>
          <a:xfrm rot="5400000">
            <a:off x="418680" y="79992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你能找到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7924680" y="5105520"/>
            <a:ext cx="838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吗？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696440" y="46483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希望.mp3" descr=""/>
          <p:cNvPicPr/>
          <p:nvPr/>
        </p:nvPicPr>
        <p:blipFill>
          <a:blip r:embed="rId2"/>
          <a:stretch/>
        </p:blipFill>
        <p:spPr>
          <a:xfrm>
            <a:off x="-685800" y="5181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 rot="5400000">
            <a:off x="7657560" y="72360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746600" y="59356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6400800" y="5327640"/>
            <a:ext cx="236232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8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谢谢</a:t>
            </a:r>
            <a:endParaRPr b="0" lang="en-US" sz="2400" spc="1" strike="noStrike">
              <a:ln w="12600">
                <a:solidFill>
                  <a:srgbClr val="8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641160" y="-27000"/>
            <a:ext cx="8502840" cy="6885000"/>
            <a:chOff x="641160" y="-27000"/>
            <a:chExt cx="8502840" cy="6885000"/>
          </a:xfrm>
        </p:grpSpPr>
        <p:pic>
          <p:nvPicPr>
            <p:cNvPr id="108" name="Picture 2" descr="露珠"/>
            <p:cNvPicPr/>
            <p:nvPr/>
          </p:nvPicPr>
          <p:blipFill>
            <a:blip r:embed="rId1"/>
            <a:stretch/>
          </p:blipFill>
          <p:spPr>
            <a:xfrm>
              <a:off x="4648320" y="-27000"/>
              <a:ext cx="44956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收割"/>
            <p:cNvPicPr/>
            <p:nvPr/>
          </p:nvPicPr>
          <p:blipFill>
            <a:blip r:embed="rId2"/>
            <a:stretch/>
          </p:blipFill>
          <p:spPr>
            <a:xfrm>
              <a:off x="4648320" y="1916280"/>
              <a:ext cx="44956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" descr="收割2"/>
            <p:cNvPicPr/>
            <p:nvPr/>
          </p:nvPicPr>
          <p:blipFill>
            <a:blip r:embed="rId3"/>
            <a:stretch/>
          </p:blipFill>
          <p:spPr>
            <a:xfrm>
              <a:off x="6804000" y="3933720"/>
              <a:ext cx="234000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5"/>
            <p:cNvSpPr/>
            <p:nvPr/>
          </p:nvSpPr>
          <p:spPr>
            <a:xfrm>
              <a:off x="641160" y="3809880"/>
              <a:ext cx="3676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震落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露珠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伐木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飘出幽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放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镰刀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用背篓来装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瓜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秋天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农家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882000" y="765000"/>
              <a:ext cx="2930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思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比较删后的诗句和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节诗表达效果上有什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不同？能删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7" descr="水果"/>
            <p:cNvPicPr/>
            <p:nvPr/>
          </p:nvPicPr>
          <p:blipFill>
            <a:blip r:embed="rId4"/>
            <a:stretch/>
          </p:blipFill>
          <p:spPr>
            <a:xfrm>
              <a:off x="4648320" y="3906720"/>
              <a:ext cx="2303280" cy="295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AutoShape 14">
            <a:hlinkClick r:id="rId5" action="ppaction://hlinksldjump"/>
          </p:cNvPr>
          <p:cNvSpPr/>
          <p:nvPr/>
        </p:nvSpPr>
        <p:spPr>
          <a:xfrm>
            <a:off x="28195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E4F2-AAB7-40B8-86A9-D38357AD42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4427640" y="765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红叶3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594880" y="4800600"/>
            <a:ext cx="1399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何其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 rot="5400000">
            <a:off x="-381240" y="1828440"/>
            <a:ext cx="47246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秋天</a:t>
            </a:r>
            <a:endParaRPr b="0" lang="en-US" sz="4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0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 rot="5400000">
            <a:off x="799560" y="1333080"/>
            <a:ext cx="236196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何其芳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80880" y="35812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现代散文家、诗人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文艺评论家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380880" y="6461280"/>
            <a:ext cx="75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752480" y="304920"/>
            <a:ext cx="7667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晨满披着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丁丁（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hēng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饱食过稻香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背篓（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ēilǒ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来装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篱间肥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u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栖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江面的冷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圆的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i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鱼似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蓬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载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摇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渔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枯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清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è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USIC.MP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WordArt 4"/>
          <p:cNvSpPr txBox="1"/>
          <p:nvPr/>
        </p:nvSpPr>
        <p:spPr>
          <a:xfrm rot="5400000">
            <a:off x="-304920" y="1600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  天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31800" y="3657600"/>
            <a:ext cx="458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7320" y="34290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其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6" descr="图片0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1027"/>
          <p:cNvSpPr txBox="1"/>
          <p:nvPr/>
        </p:nvSpPr>
        <p:spPr>
          <a:xfrm rot="5400000">
            <a:off x="799560" y="1333080"/>
            <a:ext cx="236196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何其芳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1028"/>
          <p:cNvSpPr/>
          <p:nvPr/>
        </p:nvSpPr>
        <p:spPr>
          <a:xfrm>
            <a:off x="380880" y="358128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现代散文家、诗人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  <a:ea typeface="华文新魏"/>
              </a:rPr>
              <a:t>文艺评论家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露珠"/>
          <p:cNvPicPr/>
          <p:nvPr/>
        </p:nvPicPr>
        <p:blipFill>
          <a:blip r:embed="rId1"/>
          <a:stretch/>
        </p:blipFill>
        <p:spPr>
          <a:xfrm>
            <a:off x="4648320" y="-27000"/>
            <a:ext cx="449568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收割"/>
          <p:cNvPicPr/>
          <p:nvPr/>
        </p:nvPicPr>
        <p:blipFill>
          <a:blip r:embed="rId2"/>
          <a:stretch/>
        </p:blipFill>
        <p:spPr>
          <a:xfrm>
            <a:off x="4648320" y="1916280"/>
            <a:ext cx="4495680" cy="2066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收割2"/>
          <p:cNvPicPr/>
          <p:nvPr/>
        </p:nvPicPr>
        <p:blipFill>
          <a:blip r:embed="rId3"/>
          <a:stretch/>
        </p:blipFill>
        <p:spPr>
          <a:xfrm>
            <a:off x="6804000" y="3933720"/>
            <a:ext cx="234000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641160" y="3809880"/>
            <a:ext cx="367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背篓来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882000" y="765000"/>
            <a:ext cx="293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删后的诗句和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节诗表达效果上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？能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水果"/>
          <p:cNvPicPr/>
          <p:nvPr/>
        </p:nvPicPr>
        <p:blipFill>
          <a:blip r:embed="rId4"/>
          <a:stretch/>
        </p:blipFill>
        <p:spPr>
          <a:xfrm>
            <a:off x="4648320" y="3906720"/>
            <a:ext cx="2303280" cy="2951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1219320" y="373392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清晨满披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295280" y="4221000"/>
            <a:ext cx="13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丁丁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62120" y="4653000"/>
            <a:ext cx="24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饱食过稻香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905120" y="5084640"/>
            <a:ext cx="22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竹篱间肥硕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914400" y="55054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栖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>
            <a:hlinkClick r:id="rId5" action="ppaction://hlinksldjump"/>
          </p:cNvPr>
          <p:cNvSpPr/>
          <p:nvPr/>
        </p:nvSpPr>
        <p:spPr>
          <a:xfrm>
            <a:off x="3733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撒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乌桕"/>
          <p:cNvPicPr/>
          <p:nvPr/>
        </p:nvPicPr>
        <p:blipFill>
          <a:blip r:embed="rId2"/>
          <a:stretch/>
        </p:blipFill>
        <p:spPr>
          <a:xfrm>
            <a:off x="7308720" y="4648320"/>
            <a:ext cx="1835280" cy="1976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2286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向江面的冷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撒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圆圆的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收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鳊鱼似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乌桕叶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影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芦蓬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满载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轻轻摇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归泊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秋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游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渔船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53341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思考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你觉得这节诗写得好吗？           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20120" y="586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祁连山水"/>
          <p:cNvPicPr/>
          <p:nvPr/>
        </p:nvPicPr>
        <p:blipFill>
          <a:blip r:embed="rId1"/>
          <a:stretch/>
        </p:blipFill>
        <p:spPr>
          <a:xfrm>
            <a:off x="4608360" y="0"/>
            <a:ext cx="4643640" cy="321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羊群"/>
          <p:cNvPicPr/>
          <p:nvPr/>
        </p:nvPicPr>
        <p:blipFill>
          <a:blip r:embed="rId2"/>
          <a:stretch/>
        </p:blipFill>
        <p:spPr>
          <a:xfrm>
            <a:off x="0" y="2752560"/>
            <a:ext cx="9144000" cy="4105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782280" y="44280"/>
            <a:ext cx="320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枯涸见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更清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33520" y="5562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画面跟原诗意境有何不同之处？该不该加 点什么？说说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52480" y="304920"/>
            <a:ext cx="7667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震落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晨满披着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伐木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丁丁（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hēng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飘出幽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饱食过稻香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镰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背篓（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ēilǒ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来装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篱间肥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hu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瓜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栖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农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江面的冷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圆的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iā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鱼似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乌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叶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蓬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载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摇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渔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蟋蟀声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寥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枯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清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背上的笛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何处去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满流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夜的香与热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孔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è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牧羊女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MUSIC.MP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 rot="5400000">
            <a:off x="-304920" y="1600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秋  天</a:t>
            </a:r>
            <a:endParaRPr b="0" i="1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31800" y="3657600"/>
            <a:ext cx="458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147320" y="342900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其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3:31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15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