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camera.wav" ContentType="audio/x-wav"/>
  <Override PartName="/ppt/media/image17.gif" ContentType="image/gif"/>
  <Override PartName="/ppt/media/image12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applause.wav" ContentType="audio/x-wav"/>
  <Override PartName="/ppt/media/image4.png" ContentType="image/png"/>
  <Override PartName="/ppt/media/laser.wav" ContentType="audio/x-wav"/>
  <Override PartName="/ppt/media/image3.png" ContentType="image/png"/>
  <Override PartName="/ppt/media/image9.jpeg" ContentType="image/jpeg"/>
  <Override PartName="/ppt/media/push.wav" ContentType="audio/x-wav"/>
  <Override PartName="/ppt/media/type.wav" ContentType="audio/x-wav"/>
  <Override PartName="/ppt/media/image14.gif" ContentType="image/gif"/>
  <Override PartName="/ppt/media/voltage.wav" ContentType="audio/x-wav"/>
  <Override PartName="/ppt/media/image13.jpeg" ContentType="image/jpeg"/>
  <Override PartName="/ppt/media/image18.jpeg" ContentType="image/jpeg"/>
  <Override PartName="/ppt/media/chimes.wav" ContentType="audio/x-wav"/>
  <Override PartName="/ppt/media/image2.png" ContentType="image/png"/>
  <Override PartName="/ppt/media/suction.wav" ContentType="audio/x-wav"/>
  <Override PartName="/ppt/media/image16.gif" ContentType="image/gif"/>
  <Override PartName="/ppt/media/drumroll.wav" ContentType="audio/x-wav"/>
  <Override PartName="/ppt/media/image15.png" ContentType="image/png"/>
  <Override PartName="/ppt/media/projctor.wav" ContentType="audio/x-wav"/>
  <Override PartName="/ppt/media/image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371-8F61-4F88-BED8-7C4392F1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C8C4-7F8D-4A58-A3FE-88CBB1FA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748B-4384-4948-8FF5-1205CE70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79F7-F1A6-43E0-A1A4-75725510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EF3B-D91B-45E3-804B-2DDECB6C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DD56-DBA7-4136-A1AE-CFBC91AA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6F13-9268-410E-AEE7-F727AED9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C49D-BADC-47A4-A572-5AD058EE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8C1B-EBCA-44D4-AE18-F093FCEB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E73E-ABDB-466A-8B82-E99235E4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6796-2EC3-443B-8D86-71724EC1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17D3-FDB2-470E-98F2-9EB5DA67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C365-5544-425F-908E-6654DF5D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844F-E075-4EA8-84F4-BD9C4135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1715-DA90-486F-9A19-F7FA2000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98B9-9BA3-4FA3-9D12-4F601944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B8B8-F607-4184-A176-F245B62B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F8F81-B164-49D9-9610-60A7A13C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A5E5D-E649-41A1-A415-F915D73B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656A0-CF0D-4962-BE5D-39389F55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A2771-5800-496E-B90B-4621F3A0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48A8D-F8FA-463C-AEBD-72942AF0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2D5-EC43-465C-9171-45EED667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00939-D868-43E0-A5A3-AC798840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EFA83-77AA-439F-8EEE-1D5DDC90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EA4E8-E5F7-4444-BBF9-ED74FC93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24883-2E36-4936-AB54-63004892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85BDC-EE9D-443D-9CAF-7393E760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01526-AF1A-4ECE-8FD0-94281221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40A18-C48E-4228-914D-EAC640FC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2D064-1700-4F71-BB19-2539DC9F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1B722-F511-437A-B64B-62EE4107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041BB-ECA4-4AD2-AC77-59FAEA6E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A0B2-7F62-4C6E-92E7-3679DAF8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C1525-4DE7-40D9-954E-BD8742E7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41957-80BB-43A3-8117-1757D7C3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5D4DD-911D-4734-AAEE-07E1ACA6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2063E-AC0A-4EAE-AF1B-655EFEDC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35604-AF0C-40FB-85F0-56194612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52A86-3CE3-4A40-9AE0-59D0CD43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0B3DB-CA7B-4B8F-9C1A-9001B730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F2F5A-5DCF-43B7-8689-788C556C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635F2-E217-44E3-801C-BAB14F92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7A644-DBA9-4A71-833A-D6A0384F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5DDF-546C-4816-8EC0-299A9AEC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A42A0-EF43-4CE9-906A-8B7F8D98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BFE23-963F-4748-855E-59A08F7B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86608-DE1E-4CE3-9398-595AFD52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A45D6-4926-408A-B848-1F1E2782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404AD-4273-43F9-9266-AA6F1C29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F7CEC-3D82-41D6-9123-4C2C64D4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01535-1363-4080-88E5-1B5AA598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3224D-701B-40AB-9D71-2309FBEE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AE6B0-F299-42F0-836D-776E291A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C7841-4F2C-4E50-85BE-53B190C8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6FDC-D455-4E6A-9F80-BA2378A3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CFAF9-C605-41F1-99A7-F2B16F5F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26986-CE22-4AEB-804D-A930E5F0B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70BDA-8DD5-4B73-9AAF-05B49A77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7E3B3-5953-4DAA-89C9-3588D0A9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7E28B-E680-4BA2-99D8-E8B31136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6EEC9-41F2-4820-92D6-C401A96E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79CE3-14AE-4117-A26E-1083636C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80C0E-B77D-435E-B14B-8F15F7FC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A5FDD-501A-4D9A-A157-4A923DD4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B8AE1-29AF-4EB1-991D-6A09E5D6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C3E4-B7CA-4AC6-B1C1-F01FA990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327A2-9DA6-45F0-9888-5B143AE1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83A7B-16C4-495D-B1AB-E1E74C90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54E4A-890C-43F1-9CF5-BE8E63FA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6654E-FEE5-4EE6-A0C7-865B9DA6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F7254-8908-4C91-9208-2E88EB37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9A8B2-E275-44FA-A5C0-539929E5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E7BBE-7F56-4A95-959A-0FEBB268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4B0E9-331F-43BF-88AB-C30CA477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989EF-6978-4707-918F-05E2D773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FFCEC-E61F-497F-AF74-FBC19798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D5F-08EA-4114-A4BC-E4DB5978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C2040-5A1A-4CC5-AFAF-DBF2CB00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F5C7F-DF22-44EB-9DF4-760C9E81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67DFC-49EA-4035-801A-A50C02B3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EDB71-B96E-4DE6-86EB-4C84DACF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77A75-3D04-4419-A6BE-50A662F9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AA22-74A7-49A7-A487-68BAECD1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Picture 6" descr="框a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7" descr="框a2"/>
            <p:cNvPicPr/>
            <p:nvPr/>
          </p:nvPicPr>
          <p:blipFill>
            <a:blip r:embed="rId4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8" descr="框a3"/>
            <p:cNvPicPr/>
            <p:nvPr/>
          </p:nvPicPr>
          <p:blipFill>
            <a:blip r:embed="rId5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9" descr="框a4"/>
            <p:cNvPicPr/>
            <p:nvPr/>
          </p:nvPicPr>
          <p:blipFill>
            <a:blip r:embed="rId6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335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90CB-754B-457A-9546-6EE49C202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942C-6E7C-4173-A2BF-4A298737D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3CC1-8AEB-4C97-8679-33EBCCE82BF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0720" y="524520"/>
                  <a:ext cx="4276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0868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600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616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232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5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9458-5BE0-42B6-A589-3C9244D06C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9" name="Picture 3" descr="框a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4" descr="框a2"/>
            <p:cNvPicPr/>
            <p:nvPr/>
          </p:nvPicPr>
          <p:blipFill>
            <a:blip r:embed="rId4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5" descr="框a3"/>
            <p:cNvPicPr/>
            <p:nvPr/>
          </p:nvPicPr>
          <p:blipFill>
            <a:blip r:embed="rId5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6" descr="框a4"/>
            <p:cNvPicPr/>
            <p:nvPr/>
          </p:nvPicPr>
          <p:blipFill>
            <a:blip r:embed="rId6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3" name="Picture 7" descr="麒靈"/>
          <p:cNvPicPr/>
          <p:nvPr/>
        </p:nvPicPr>
        <p:blipFill>
          <a:blip r:embed="rId7"/>
          <a:stretch/>
        </p:blipFill>
        <p:spPr>
          <a:xfrm>
            <a:off x="914400" y="685800"/>
            <a:ext cx="7316640" cy="54878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335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45684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5093-1199-49CD-B83E-4CC056AE9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6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7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6" name="Group 18"/>
          <p:cNvGrpSpPr/>
          <p:nvPr/>
        </p:nvGrpSpPr>
        <p:grpSpPr>
          <a:xfrm>
            <a:off x="7797960" y="4317840"/>
            <a:ext cx="981720" cy="1160640"/>
            <a:chOff x="7797960" y="4317840"/>
            <a:chExt cx="981720" cy="1160640"/>
          </a:xfrm>
        </p:grpSpPr>
        <p:sp>
          <p:nvSpPr>
            <p:cNvPr id="27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20"/>
            <p:cNvSpPr/>
            <p:nvPr/>
          </p:nvSpPr>
          <p:spPr>
            <a:xfrm rot="7320000">
              <a:off x="7764840" y="4636080"/>
              <a:ext cx="99504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21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Group 22"/>
            <p:cNvGrpSpPr/>
            <p:nvPr/>
          </p:nvGrpSpPr>
          <p:grpSpPr>
            <a:xfrm>
              <a:off x="7797960" y="4317840"/>
              <a:ext cx="981720" cy="1160640"/>
              <a:chOff x="7797960" y="4317840"/>
              <a:chExt cx="981720" cy="1160640"/>
            </a:xfrm>
          </p:grpSpPr>
          <p:sp>
            <p:nvSpPr>
              <p:cNvPr id="281" name="Freeform 23"/>
              <p:cNvSpPr/>
              <p:nvPr/>
            </p:nvSpPr>
            <p:spPr>
              <a:xfrm rot="7320000">
                <a:off x="7916400" y="5063760"/>
                <a:ext cx="9396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24"/>
              <p:cNvSpPr/>
              <p:nvPr/>
            </p:nvSpPr>
            <p:spPr>
              <a:xfrm rot="7320000">
                <a:off x="7759080" y="4649760"/>
                <a:ext cx="1058760" cy="496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25"/>
              <p:cNvSpPr/>
              <p:nvPr/>
            </p:nvSpPr>
            <p:spPr>
              <a:xfrm rot="7320000">
                <a:off x="8037720" y="4756680"/>
                <a:ext cx="749520" cy="2804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26"/>
              <p:cNvSpPr/>
              <p:nvPr/>
            </p:nvSpPr>
            <p:spPr>
              <a:xfrm rot="7320000">
                <a:off x="8513280" y="4557600"/>
                <a:ext cx="100080" cy="1882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27"/>
              <p:cNvSpPr/>
              <p:nvPr/>
            </p:nvSpPr>
            <p:spPr>
              <a:xfrm rot="7320000">
                <a:off x="8151840" y="4757760"/>
                <a:ext cx="306360" cy="165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28CD-A5A0-4B8C-81BC-F15B73C2D81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A156-150C-45C6-9E77-12D78C18EC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voltage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WordArt 4" descr=""/>
          <p:cNvPicPr/>
          <p:nvPr/>
        </p:nvPicPr>
        <p:blipFill>
          <a:blip r:embed="rId2"/>
          <a:stretch/>
        </p:blipFill>
        <p:spPr>
          <a:xfrm>
            <a:off x="2203560" y="2838600"/>
            <a:ext cx="4929120" cy="11952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5"/>
          <p:cNvSpPr/>
          <p:nvPr/>
        </p:nvSpPr>
        <p:spPr>
          <a:xfrm>
            <a:off x="3514680" y="429264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 国 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矩形 6"/>
          <p:cNvSpPr/>
          <p:nvPr/>
        </p:nvSpPr>
        <p:spPr>
          <a:xfrm>
            <a:off x="2138760" y="6093000"/>
            <a:ext cx="9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文本框 1"/>
          <p:cNvSpPr/>
          <p:nvPr/>
        </p:nvSpPr>
        <p:spPr>
          <a:xfrm>
            <a:off x="0" y="5924520"/>
            <a:ext cx="46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4"/>
          <p:cNvSpPr/>
          <p:nvPr/>
        </p:nvSpPr>
        <p:spPr>
          <a:xfrm>
            <a:off x="539640" y="1628640"/>
            <a:ext cx="77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我们的主人公白兔慧心未泯，悟到拥有月亮并非好事，所以放弃了所有权。而人类则相反，总以为拥有就是幸福，未来如何都不肯放弃即得利益，贪得无厌，如一些贪官，接收别人的巨额贿赂，心惊胆战，惶惶不可终日，最后被举报，获得判刑坐牢的下场。可见，这话对人类有讽刺意味－－无情的批判；对白兔的肯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1042920" y="6922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文中提到“人类”，含有什么意味？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和人类不同的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删除吗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2843280" y="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 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思考品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1391760" y="4730400"/>
            <a:ext cx="7643880" cy="22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不可删除。这样写是强调人类慧心已泯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总以为拥有就是幸福，无论如何也不肯放弃既得利益。这话对人类有讽刺意味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5"/>
          <p:cNvSpPr/>
          <p:nvPr/>
        </p:nvSpPr>
        <p:spPr>
          <a:xfrm>
            <a:off x="971640" y="47628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白兔得到月亮后必然会产生得失之患吗？有无得失之患的关键在哪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1042920" y="155736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必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说法过于武断，因而不正确。但寓言中的主人公是白兔，得到的是月亮这样的珍奇异宝，因此很难不产生得失之患。如果白兔得到的是一把青草，就不会有这样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得失之患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7" descr="__scale__1_263149642"/>
          <p:cNvPicPr/>
          <p:nvPr/>
        </p:nvPicPr>
        <p:blipFill>
          <a:blip r:embed="rId1"/>
          <a:stretch/>
        </p:blipFill>
        <p:spPr>
          <a:xfrm>
            <a:off x="7164360" y="5589720"/>
            <a:ext cx="1554120" cy="116496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8"/>
          <p:cNvSpPr/>
          <p:nvPr/>
        </p:nvSpPr>
        <p:spPr>
          <a:xfrm>
            <a:off x="1042920" y="3789360"/>
            <a:ext cx="67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会不会产生得失之患应该从两方面分析，一是得到的财富是否巨大，二是自己是否有能力保护它。通常情况下，我们面对突如其来的巨大财富，是很难不产生得失之患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6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4"/>
          <p:cNvSpPr/>
          <p:nvPr/>
        </p:nvSpPr>
        <p:spPr>
          <a:xfrm>
            <a:off x="3132000" y="0"/>
            <a:ext cx="26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语言欣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1547640" y="765000"/>
            <a:ext cx="69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爱大自然的美，尤爱皎洁的月色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句在句式上有什么特点？起什么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1258920" y="263700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是无忧无虑地嬉戏，或是心旷神怡地赏月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句在语言上精美，表现在何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1258920" y="162864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此句运用了递进关系的句式，不仅具体表明白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独具审美的智慧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更表明白兔爱月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8"/>
          <p:cNvSpPr/>
          <p:nvPr/>
        </p:nvSpPr>
        <p:spPr>
          <a:xfrm>
            <a:off x="1042920" y="35002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精美处有二。一是用对称的句式，使语言显现整齐匀称之美，又有节奏和谐之美；二是生动形象地展示出此时白兔轻松自由、不受功利驱使的心态美，蕴含着作者提倡一种审美的人生态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WordArt 9"/>
          <p:cNvSpPr txBox="1"/>
          <p:nvPr/>
        </p:nvSpPr>
        <p:spPr>
          <a:xfrm>
            <a:off x="2124000" y="5516640"/>
            <a:ext cx="498816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有一种财富不怕抢，是什么？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52" name="Picture 10" descr="月兔"/>
          <p:cNvPicPr/>
          <p:nvPr/>
        </p:nvPicPr>
        <p:blipFill>
          <a:blip r:embed="rId1"/>
          <a:stretch/>
        </p:blipFill>
        <p:spPr>
          <a:xfrm>
            <a:off x="0" y="0"/>
            <a:ext cx="1401840" cy="1401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4"/>
          <p:cNvSpPr/>
          <p:nvPr/>
        </p:nvSpPr>
        <p:spPr>
          <a:xfrm>
            <a:off x="3276720" y="62064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体验与反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2700360" y="2133720"/>
            <a:ext cx="5557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你是否有过患得患失的现象？原因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我们应从白兔身上学到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4" descr="pic_31677"/>
          <p:cNvPicPr/>
          <p:nvPr/>
        </p:nvPicPr>
        <p:blipFill>
          <a:blip r:embed="rId1"/>
          <a:srcRect l="3338" t="10504" r="11177" b="0"/>
          <a:stretch/>
        </p:blipFill>
        <p:spPr>
          <a:xfrm>
            <a:off x="1981080" y="2209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Arial"/>
                <a:ea typeface="华文彩云"/>
              </a:rPr>
              <a:t>落难的王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4"/>
          <p:cNvSpPr/>
          <p:nvPr/>
        </p:nvSpPr>
        <p:spPr>
          <a:xfrm>
            <a:off x="3132000" y="8424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整体感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9"/>
          <p:cNvSpPr/>
          <p:nvPr/>
        </p:nvSpPr>
        <p:spPr>
          <a:xfrm>
            <a:off x="2347560" y="76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王子是怎样落难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10"/>
          <p:cNvSpPr/>
          <p:nvPr/>
        </p:nvSpPr>
        <p:spPr>
          <a:xfrm>
            <a:off x="755640" y="4292640"/>
            <a:ext cx="77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王子落难前后性格有什么不同？为什么会发生这种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2"/>
          <p:cNvSpPr/>
          <p:nvPr/>
        </p:nvSpPr>
        <p:spPr>
          <a:xfrm>
            <a:off x="1621440" y="1268280"/>
            <a:ext cx="35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身份：王子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奴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乞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13"/>
          <p:cNvSpPr/>
          <p:nvPr/>
        </p:nvSpPr>
        <p:spPr>
          <a:xfrm>
            <a:off x="971640" y="1628640"/>
            <a:ext cx="590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遭遇：父王被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母后受辱自尽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自己被敌人掳去当了奴隶，受尽非人的折磨。逃出虎口时成了残废，流落异国他乡，靠行乞度日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1692360" y="5157720"/>
            <a:ext cx="6941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王子落难前生性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多愁善感</a:t>
            </a:r>
            <a:r>
              <a:rPr b="1" lang="zh-CN" sz="2800" spc="-1" strike="noStrike">
                <a:solidFill>
                  <a:srgbClr val="703d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遭遇厄运后历尽苦难的磨练，性格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坚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起来了，所以能够顽强的面对厄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4"/>
          <p:cNvSpPr/>
          <p:nvPr/>
        </p:nvSpPr>
        <p:spPr>
          <a:xfrm>
            <a:off x="971640" y="2276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文章用第几人称写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情节发展中起到什么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2368080" y="404640"/>
            <a:ext cx="38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这篇寓言告诉我们一个什么道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3910320" y="90792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厄运能使脆弱的人变得坚强起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2484360" y="134136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质疑探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971640" y="342900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用第一人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我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塑造一个与落难王子同时代的人，亲眼见过王子并有一段对话，让人觉得似乎不是编造的而是亲身见闻。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增加故事真实的可信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0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>
            <a:off x="971640" y="549360"/>
            <a:ext cx="679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哪，太可怕了，这件事落在我的头上，我可受不了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句话在课文反复出现过三次，都是什么情况下出现的？有什么意义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1116000" y="2492280"/>
            <a:ext cx="69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天哪，太可怕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……”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反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三遍，第一次出自王子之口，第二次出自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之口，第三次是在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耳边响起，重复半载，略去半载。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这样的构思，耐人寻味。厄运一旦落到自已头上怎么办，有王子的经历在前，这样的故事又好像在不断重复，对人很有启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2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4"/>
          <p:cNvSpPr/>
          <p:nvPr/>
        </p:nvSpPr>
        <p:spPr>
          <a:xfrm>
            <a:off x="971640" y="549360"/>
            <a:ext cx="71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落难之后才能战胜脆弱，这是一条规律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战胜脆弱，关键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39640" y="1844280"/>
            <a:ext cx="79329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若认为只有落难才能战胜脆弱，别无他法，这样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规律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不能成立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但落难和厄运确实能使人战胜脆弱，变得坚强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但落难和厄运不一定使所有的人都变得坚强，也有被厄运压跨的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关键是要培养坚韧的意志，必须自觉地寻找艰苦，在艰苦的条件下刻苦地磨练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3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3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17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先生，请别说这话。凡是人间的灾难，无论落到谁头上，谁都得受着，而且都受得了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只要他不死。至于死，就更是一件容易的事了。”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既然很“容易”，王子为什么没有去死？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95280" y="2636640"/>
            <a:ext cx="79185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死了，国仇、家仇谁来报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死了，国家、百姓谁来拯救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死了，妻子、儿女谁来抚养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死了，给后世留下没出息的名声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Text Box 7"/>
          <p:cNvSpPr/>
          <p:nvPr/>
        </p:nvSpPr>
        <p:spPr>
          <a:xfrm>
            <a:off x="3132000" y="5300640"/>
            <a:ext cx="5357880" cy="459720"/>
          </a:xfrm>
          <a:prstGeom prst="rect">
            <a:avLst/>
          </a:prstGeom>
          <a:noFill/>
          <a:ln w="381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不怕死的，不一定是英雄；不怕“活”的，可能是英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0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5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0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5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0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4"/>
          <p:cNvSpPr/>
          <p:nvPr/>
        </p:nvSpPr>
        <p:spPr>
          <a:xfrm>
            <a:off x="2700360" y="33336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比较阅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1332000" y="1125360"/>
            <a:ext cx="71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要求：与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白兔和月亮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从主题、情节、表现手法、表达方式上作比较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1835280" y="1989000"/>
            <a:ext cx="660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在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主题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上，两篇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都是写人生态度的，但角度不同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。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白兔和月亮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写人在获利之后的心境；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落难的王子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写人在受难后的状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1763640" y="3860640"/>
            <a:ext cx="65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在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情节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上，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都表现了大起大落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，而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白兔和月亮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写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好事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可以变坏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落难的王子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写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坏事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可以变好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。（这里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好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坏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都是相对的，决定于当事人的思想观念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5"/>
          <p:cNvSpPr/>
          <p:nvPr/>
        </p:nvSpPr>
        <p:spPr>
          <a:xfrm>
            <a:off x="826920" y="476280"/>
            <a:ext cx="71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在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表现手法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上，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都采用了寓言故事的 形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而寓言的特征就是用比喻，以小见大地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明一个深刻的道理。但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白兔和月亮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寓言成分更浓些，而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落难的王子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写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更像是事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826920" y="3645000"/>
            <a:ext cx="752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在表达方式上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，两篇寓言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都以叙事为主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而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白兔和月亮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在叙事的基础上，都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对人物的心理描写，且多议论；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落难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王子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则侧重叙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5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4"/>
          <p:cNvSpPr/>
          <p:nvPr/>
        </p:nvSpPr>
        <p:spPr>
          <a:xfrm>
            <a:off x="684360" y="1484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两则寓言，一则写好事变成了坏事；一则写坏事变成了好事。人生道路上，大大小小的好事、坏事是经常遇到的，怎样对待好事，怎样对待坏事，两则寓言很有启发性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3132000" y="333360"/>
            <a:ext cx="208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总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4"/>
          <p:cNvSpPr/>
          <p:nvPr/>
        </p:nvSpPr>
        <p:spPr>
          <a:xfrm>
            <a:off x="2195640" y="54936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体验与反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826920" y="1700280"/>
            <a:ext cx="7239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人生在世，或福或祸，可能不期而至，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此我们应怎样面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实际上人的一生挺平淡的，大喜大悲的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毕竟不多。我们应当怎样在日常生活中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养自己的意志品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134200" cy="28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有一天，厄运也落到了我的头上，而我的耳边也响起了那熟悉的叹息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天哪，太可怕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”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故事似乎没写完， 请你补充完整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685800" y="4190760"/>
            <a:ext cx="769608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6e73"/>
                </a:solidFill>
                <a:latin typeface="Comic Sans MS"/>
                <a:ea typeface="楷体_GB2312"/>
              </a:rPr>
              <a:t>想象你遭遇厄运后会怎样面对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文本框 1"/>
          <p:cNvSpPr/>
          <p:nvPr/>
        </p:nvSpPr>
        <p:spPr>
          <a:xfrm>
            <a:off x="2665440" y="5924520"/>
            <a:ext cx="51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8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0920" y="558360"/>
            <a:ext cx="2027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6e73"/>
                </a:solidFill>
                <a:latin typeface="Comic Sans MS"/>
                <a:ea typeface="方正琥珀简体"/>
              </a:rPr>
              <a:t>填空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088640" y="1946160"/>
            <a:ext cx="714852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有一只白兔独具审美的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   　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她爱大自然的美，尤爱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　　　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的月色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或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　　　　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地嬉戏，或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　　　　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地赏月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月的阴晴圆缺无不各具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　　　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从前的闲适心情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　　　　　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了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脑中只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着一个念头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这是我的月亮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Rectangle 7"/>
          <p:cNvSpPr/>
          <p:nvPr/>
        </p:nvSpPr>
        <p:spPr>
          <a:xfrm>
            <a:off x="1476360" y="2060640"/>
            <a:ext cx="67737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　　　　　　　　　　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慧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　　　　　　　　　　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皎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无忧无虑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　　　　　　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心旷神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8"/>
          <p:cNvSpPr/>
          <p:nvPr/>
        </p:nvSpPr>
        <p:spPr>
          <a:xfrm>
            <a:off x="1619280" y="3933720"/>
            <a:ext cx="5261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　　　　　　　　　　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风韵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　　　　　　　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一扫而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　　　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5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0" dur="5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5" dur="5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0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5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0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30000"/>
            <a:ext cx="1654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6e73"/>
                </a:solidFill>
                <a:latin typeface="Comic Sans MS"/>
                <a:ea typeface="方正琥珀简体"/>
              </a:rPr>
              <a:t>填空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000" y="2087640"/>
            <a:ext cx="8496360" cy="28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她牢牢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着月亮，就像财主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着自己的金窖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　　　　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，她便紧张不安，惟恐宝藏丢失；满月缺损，她便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　　　　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，仿佛遭了抢劫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月的阴晴圆缺不再各具风韵，反倒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　　　　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，勾起了无穷的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　　　　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我们的主人公毕竟慧心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1219320" y="200340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8"/>
          <p:cNvSpPr/>
          <p:nvPr/>
        </p:nvSpPr>
        <p:spPr>
          <a:xfrm>
            <a:off x="1004760" y="19890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　　　盯　　　　　　　　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1008000" y="249228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乌云蔽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10"/>
          <p:cNvSpPr/>
          <p:nvPr/>
        </p:nvSpPr>
        <p:spPr>
          <a:xfrm>
            <a:off x="2771640" y="3716280"/>
            <a:ext cx="16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得失之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1"/>
          <p:cNvSpPr/>
          <p:nvPr/>
        </p:nvSpPr>
        <p:spPr>
          <a:xfrm>
            <a:off x="4572000" y="42069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未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12"/>
          <p:cNvSpPr/>
          <p:nvPr/>
        </p:nvSpPr>
        <p:spPr>
          <a:xfrm>
            <a:off x="2841480" y="285264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心痛如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3"/>
          <p:cNvSpPr/>
          <p:nvPr/>
        </p:nvSpPr>
        <p:spPr>
          <a:xfrm>
            <a:off x="6372360" y="334152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险象迭生　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7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2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7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2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7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2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omic Sans MS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AD38-6B40-4F05-B09E-DF98C175F96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2842920" y="907560"/>
            <a:ext cx="5397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4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生于上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62—196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就读于北京大学哲学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考入中国社会科学院哲学系，先后获硕士、博士学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进入中国社会科学院哲学研究所工作至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5" descr="周国平"/>
          <p:cNvPicPr/>
          <p:nvPr/>
        </p:nvPicPr>
        <p:blipFill>
          <a:blip r:embed="rId1"/>
          <a:stretch/>
        </p:blipFill>
        <p:spPr>
          <a:xfrm>
            <a:off x="0" y="0"/>
            <a:ext cx="2592360" cy="44640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6"/>
          <p:cNvSpPr/>
          <p:nvPr/>
        </p:nvSpPr>
        <p:spPr>
          <a:xfrm>
            <a:off x="3132000" y="2602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介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468360" y="465300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著作：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苏联当代哲学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人与永恒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只有一个人生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今天我活着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爱与 孤独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译著有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论辩证法的叙述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偶像的黄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希腊悲剧时代的哲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WordArt 4"/>
          <p:cNvSpPr txBox="1"/>
          <p:nvPr/>
        </p:nvSpPr>
        <p:spPr>
          <a:xfrm>
            <a:off x="2916360" y="62064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关于寓言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684360" y="1628640"/>
            <a:ext cx="74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寓言：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文学体裁的一种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以比喻性的故事寄寓意味深长的道理，言在此而意在彼，给人以启示。它一般比较短小，故事的主人公可以是人也可以是拟人化的动植物或其他事物。西方文学作品中最著名的寓言有古希腊的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伊索寓言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等。我国春秋战国时期已盛行寓言，在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庄子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韩非子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里都有保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4"/>
          <p:cNvSpPr/>
          <p:nvPr/>
        </p:nvSpPr>
        <p:spPr>
          <a:xfrm>
            <a:off x="2700720" y="765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6e73"/>
                </a:solidFill>
                <a:latin typeface="Times New Roman"/>
              </a:rPr>
              <a:t>（加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红色</a:t>
            </a:r>
            <a:r>
              <a:rPr b="1" lang="zh-CN" sz="2800" spc="-1" strike="noStrike">
                <a:solidFill>
                  <a:srgbClr val="2f6e73"/>
                </a:solidFill>
                <a:latin typeface="Times New Roman"/>
              </a:rPr>
              <a:t>的字容易写错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3381120" y="333360"/>
            <a:ext cx="89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读一读，写一写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71280" y="1700280"/>
            <a:ext cx="7127640" cy="29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慧心　闲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适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   ）  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嬉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戏（   </a:t>
            </a:r>
            <a:r>
              <a:rPr b="1" lang="zh-CN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)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风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韵</a:t>
            </a: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(     )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慷慨</a:t>
            </a:r>
            <a:r>
              <a:rPr b="1" lang="en-US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(           )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撤销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 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禀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告（      ）  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厄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运（  ）　折磨　 行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乞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   ）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正色　落难　归属　流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无忧无虑　心旷神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怡</a:t>
            </a:r>
            <a:r>
              <a:rPr b="1" lang="zh-CN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（    </a:t>
            </a:r>
            <a:r>
              <a:rPr b="1" lang="en-US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阴晴圆缺举世无双　心痛如割　险象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迭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   ）生得失之患　多愁善感　天灾人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突如其来　异国他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636360" y="1628640"/>
            <a:ext cx="6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h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6269400" y="17002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2195640" y="2060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4862160" y="2060640"/>
            <a:ext cx="14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kāng kǎ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2413440" y="249408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h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3133440" y="249228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iā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3"/>
          <p:cNvSpPr/>
          <p:nvPr/>
        </p:nvSpPr>
        <p:spPr>
          <a:xfrm>
            <a:off x="6198120" y="249228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ǐ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4"/>
          <p:cNvSpPr/>
          <p:nvPr/>
        </p:nvSpPr>
        <p:spPr>
          <a:xfrm>
            <a:off x="2270520" y="299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6084720" y="2924280"/>
            <a:ext cx="5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q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7"/>
          <p:cNvSpPr/>
          <p:nvPr/>
        </p:nvSpPr>
        <p:spPr>
          <a:xfrm>
            <a:off x="5436720" y="378936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8"/>
          <p:cNvSpPr/>
          <p:nvPr/>
        </p:nvSpPr>
        <p:spPr>
          <a:xfrm>
            <a:off x="6734160" y="42210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i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4"/>
          <p:cNvSpPr/>
          <p:nvPr/>
        </p:nvSpPr>
        <p:spPr>
          <a:xfrm>
            <a:off x="2268360" y="26028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释词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611280" y="836640"/>
            <a:ext cx="2305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嬉戏：             慧心：               撤销：               禀告：               行乞：               正色：                心旷神怡：    举世无双：    险象迭生：   突如其来：  风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547640" y="836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游戏、玩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1547640" y="12542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原佛语，指能领悟真理的心。今泛指智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1547640" y="1700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取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1547640" y="2133720"/>
            <a:ext cx="56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旧时称向上级或长辈告诉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1547640" y="24922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向人乞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1547640" y="2924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用严肃或严厉的神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2268360" y="335772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心情舒畅，精神愉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2268360" y="37893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全世界没有第二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2268360" y="4221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危险的现象一次又一次地产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2268360" y="465300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事情来得突然，出人意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6"/>
          <p:cNvSpPr/>
          <p:nvPr/>
        </p:nvSpPr>
        <p:spPr>
          <a:xfrm>
            <a:off x="3611880" y="5084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优美的姿态神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7"/>
          <p:cNvSpPr/>
          <p:nvPr/>
        </p:nvSpPr>
        <p:spPr>
          <a:xfrm>
            <a:off x="5689800" y="551664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生怕丢失个人利益的忧虑心情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8"/>
          <p:cNvSpPr/>
          <p:nvPr/>
        </p:nvSpPr>
        <p:spPr>
          <a:xfrm>
            <a:off x="1980360" y="551664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得失之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落难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9"/>
          <p:cNvSpPr/>
          <p:nvPr/>
        </p:nvSpPr>
        <p:spPr>
          <a:xfrm>
            <a:off x="3924360" y="59500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遭遇灾难，陷入困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4" descr="pic_31676"/>
          <p:cNvPicPr/>
          <p:nvPr/>
        </p:nvPicPr>
        <p:blipFill>
          <a:blip r:embed="rId1"/>
          <a:srcRect l="12447" t="0" r="0" b="3338"/>
          <a:stretch/>
        </p:blipFill>
        <p:spPr>
          <a:xfrm>
            <a:off x="4876920" y="620640"/>
            <a:ext cx="3557520" cy="56390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月兔"/>
          <p:cNvPicPr/>
          <p:nvPr/>
        </p:nvPicPr>
        <p:blipFill>
          <a:blip r:embed="rId2"/>
          <a:stretch/>
        </p:blipFill>
        <p:spPr>
          <a:xfrm>
            <a:off x="457200" y="3808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2933280"/>
            <a:ext cx="4248000" cy="15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彩云"/>
              </a:rPr>
              <a:t>白兔和月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白兔和月亮 女声朗读.mp3" descr=""/>
          <p:cNvPicPr/>
          <p:nvPr/>
        </p:nvPicPr>
        <p:blipFill>
          <a:blip r:embed="rId3"/>
          <a:stretch/>
        </p:blipFill>
        <p:spPr>
          <a:xfrm>
            <a:off x="241128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112301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539640" y="549360"/>
            <a:ext cx="78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白兔赏月的心态前后有什么变化？为什么会有这种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2411280" y="0"/>
            <a:ext cx="381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  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整体感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39640" y="4365720"/>
            <a:ext cx="80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白兔为什么请求诸神之王撤销那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慷慨的决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5214960"/>
            <a:ext cx="8697960" cy="18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白兔悟出一个道理，拥有巨大的财富并非好事，反而使她生出无穷的得失之患，令她紧张不安，失去了生活的乐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4"/>
          <p:cNvSpPr/>
          <p:nvPr/>
        </p:nvSpPr>
        <p:spPr>
          <a:xfrm>
            <a:off x="395280" y="1341360"/>
            <a:ext cx="8229600" cy="1373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白兔在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拥有月亮以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对月亮抱着发现美、欣赏美的审美态度，是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心旷神怡地赏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所以她的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心情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闲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；在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拥有月亮之后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在她的眼里，月亮是她的私有财产，她必须占有它，不让它遭到侵犯和损害，否则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就紧张不安心痛如割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之所以这样是因为她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对月亮抱着功利的态度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勾起了无穷的得失之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15" descr="__scale__1_200497416"/>
          <p:cNvPicPr/>
          <p:nvPr/>
        </p:nvPicPr>
        <p:blipFill>
          <a:blip r:embed="rId1"/>
          <a:stretch/>
        </p:blipFill>
        <p:spPr>
          <a:xfrm>
            <a:off x="7956720" y="260280"/>
            <a:ext cx="961920" cy="762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5"/>
          <p:cNvSpPr/>
          <p:nvPr/>
        </p:nvSpPr>
        <p:spPr>
          <a:xfrm>
            <a:off x="755640" y="90792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寓意：拥有巨大的财富会生出无穷的得失之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1042920" y="40464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从这个寓言故事中我们怎样的启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10" descr="__scale__1_263149642"/>
          <p:cNvPicPr/>
          <p:nvPr/>
        </p:nvPicPr>
        <p:blipFill>
          <a:blip r:embed="rId1"/>
          <a:stretch/>
        </p:blipFill>
        <p:spPr>
          <a:xfrm>
            <a:off x="7164360" y="5589720"/>
            <a:ext cx="1554120" cy="116496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12"/>
          <p:cNvSpPr/>
          <p:nvPr/>
        </p:nvSpPr>
        <p:spPr>
          <a:xfrm>
            <a:off x="2987640" y="1413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1476360" y="2492280"/>
            <a:ext cx="2879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得月前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得月后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后慧心未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2987640" y="2266920"/>
            <a:ext cx="33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忧无虑地嬉戏，心旷神怡地赏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059280" y="364500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闲适心情一扫光，紧张不安，有得失之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AutoShape 16"/>
          <p:cNvSpPr/>
          <p:nvPr/>
        </p:nvSpPr>
        <p:spPr>
          <a:xfrm>
            <a:off x="1403280" y="2637000"/>
            <a:ext cx="73080" cy="2736720"/>
          </a:xfrm>
          <a:custGeom>
            <a:avLst/>
            <a:gdLst>
              <a:gd name="textAreaLeft" fmla="*/ 46800 w 73080"/>
              <a:gd name="textAreaRight" fmla="*/ 73440 w 7308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-15480" y="2492280"/>
            <a:ext cx="11552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白兔和月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18"/>
          <p:cNvSpPr/>
          <p:nvPr/>
        </p:nvSpPr>
        <p:spPr>
          <a:xfrm>
            <a:off x="2987640" y="2492280"/>
            <a:ext cx="71640" cy="576360"/>
          </a:xfrm>
          <a:custGeom>
            <a:avLst/>
            <a:gdLst>
              <a:gd name="textAreaLeft" fmla="*/ 45720 w 71640"/>
              <a:gd name="textAreaRight" fmla="*/ 72000 w 71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AutoShape 19"/>
          <p:cNvSpPr/>
          <p:nvPr/>
        </p:nvSpPr>
        <p:spPr>
          <a:xfrm>
            <a:off x="2987640" y="3860640"/>
            <a:ext cx="71640" cy="576360"/>
          </a:xfrm>
          <a:custGeom>
            <a:avLst/>
            <a:gdLst>
              <a:gd name="textAreaLeft" fmla="*/ 45720 w 71640"/>
              <a:gd name="textAreaRight" fmla="*/ 72000 w 71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3995640" y="486900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求诸神之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撤销那个慷慨的决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AutoShape 21"/>
          <p:cNvSpPr/>
          <p:nvPr/>
        </p:nvSpPr>
        <p:spPr>
          <a:xfrm>
            <a:off x="3995640" y="4941720"/>
            <a:ext cx="71640" cy="71928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AutoShape 22"/>
          <p:cNvSpPr/>
          <p:nvPr/>
        </p:nvSpPr>
        <p:spPr>
          <a:xfrm>
            <a:off x="7236000" y="2421000"/>
            <a:ext cx="72720" cy="3166920"/>
          </a:xfrm>
          <a:custGeom>
            <a:avLst/>
            <a:gdLst>
              <a:gd name="textAreaLeft" fmla="*/ 0 w 72720"/>
              <a:gd name="textAreaRight" fmla="*/ 26280 w 72720"/>
              <a:gd name="textAreaTop" fmla="*/ 82440 h 3166920"/>
              <a:gd name="textAreaBottom" fmla="*/ 3084480 h 31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7380360" y="206064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拥有巨大的利益会勾起得失之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2411280" y="587700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（只叙述故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25"/>
          <p:cNvSpPr/>
          <p:nvPr/>
        </p:nvSpPr>
        <p:spPr>
          <a:xfrm>
            <a:off x="7308720" y="4292640"/>
            <a:ext cx="15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寓意留给读者体会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13:21:2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9:25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3</vt:r8>
  </property>
</Properties>
</file>