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png" ContentType="image/png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9.gif" ContentType="image/gif"/>
  <Override PartName="/ppt/media/image14.gif" ContentType="image/gif"/>
  <Override PartName="/ppt/media/type.wav" ContentType="audio/x-wav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24D8-5E1E-437B-BFC2-ABD762E8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F1E-F888-42A3-8CC1-BB21FBB9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EE8-02A8-4C31-9432-E7CD0B91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058-CEF2-47F7-A515-9D642C74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472-EEDD-4F21-A6DA-29149503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BD9-8D1E-47FB-8498-86EE4BD2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261-7E55-4D45-8315-16BF3113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4FD-614C-4850-B24C-829C7F5A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2BCF-8E52-43D6-BA14-D606402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E17C-D81B-45A2-BBA6-ABC58228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0886-B50F-4882-9439-01DAEC8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A033-BDAC-430B-A0BC-FF762CF1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3B8E-492F-46FA-8AC4-8BAD40AE7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gif"/><Relationship Id="rId4" Type="http://schemas.openxmlformats.org/officeDocument/2006/relationships/hyperlink" Target="file:///tmp/home/.config/libreoffice/4/user/gallery/breeze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gif"/><Relationship Id="rId5" Type="http://schemas.openxmlformats.org/officeDocument/2006/relationships/slide" Target="slide5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195640" y="1700280"/>
            <a:ext cx="66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ff"/>
                </a:solidFill>
                <a:latin typeface="Arial"/>
                <a:ea typeface="华文行楷"/>
              </a:rPr>
              <a:t>稍复杂的方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399400" y="5805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归纳总结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1116000" y="1557360"/>
            <a:ext cx="698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今天这节课你学到了什么知识？ 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8305920" y="6324480"/>
            <a:ext cx="838080" cy="533520"/>
            <a:chOff x="8305920" y="6324480"/>
            <a:chExt cx="838080" cy="533520"/>
          </a:xfrm>
        </p:grpSpPr>
        <p:pic>
          <p:nvPicPr>
            <p:cNvPr id="139" name="Picture 10" descr="D_020"/>
            <p:cNvPicPr/>
            <p:nvPr/>
          </p:nvPicPr>
          <p:blipFill>
            <a:blip r:embed="rId3"/>
            <a:stretch/>
          </p:blipFill>
          <p:spPr>
            <a:xfrm>
              <a:off x="8610840" y="6324480"/>
              <a:ext cx="5331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1">
              <a:hlinkClick r:id="" action="ppaction://hlinkshowjump?jump=endshow"/>
              <a:hlinkClick r:id="rId4"/>
            </p:cNvPr>
            <p:cNvSpPr/>
            <p:nvPr/>
          </p:nvSpPr>
          <p:spPr>
            <a:xfrm>
              <a:off x="8305920" y="6324480"/>
              <a:ext cx="304920" cy="525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9900cc"/>
                  </a:solidFill>
                  <a:latin typeface="Times New Roman"/>
                  <a:ea typeface="华文琥珀"/>
                </a:rPr>
                <a:t>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1"/>
          <p:cNvSpPr/>
          <p:nvPr/>
        </p:nvSpPr>
        <p:spPr>
          <a:xfrm>
            <a:off x="954000" y="584676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86C-E8F7-4527-8AB0-EC105052B9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11280" y="42775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公鸡有</a:t>
            </a:r>
            <a:r>
              <a:rPr b="1" lang="en-US" sz="2800" spc="-1" strike="noStrike">
                <a:solidFill>
                  <a:srgbClr val="000000"/>
                </a:solidFill>
                <a:latin typeface="Lucida Calligraphy"/>
                <a:ea typeface="华文楷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母鸡有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，比公鸡只数的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。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1"/>
          <p:cNvGrpSpPr/>
          <p:nvPr/>
        </p:nvGrpSpPr>
        <p:grpSpPr>
          <a:xfrm>
            <a:off x="324000" y="523800"/>
            <a:ext cx="6408720" cy="1034280"/>
            <a:chOff x="324000" y="523800"/>
            <a:chExt cx="6408720" cy="1034280"/>
          </a:xfrm>
        </p:grpSpPr>
        <p:sp>
          <p:nvSpPr>
            <p:cNvPr id="45" name="Text Box 5"/>
            <p:cNvSpPr/>
            <p:nvPr/>
          </p:nvSpPr>
          <p:spPr>
            <a:xfrm>
              <a:off x="324000" y="523800"/>
              <a:ext cx="374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一、解下列方程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6"/>
            <p:cNvSpPr/>
            <p:nvPr/>
          </p:nvSpPr>
          <p:spPr>
            <a:xfrm>
              <a:off x="5005440" y="10983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y</a:t>
              </a:r>
              <a:r>
                <a:rPr b="1" lang="zh-CN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－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4=7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7"/>
            <p:cNvSpPr/>
            <p:nvPr/>
          </p:nvSpPr>
          <p:spPr>
            <a:xfrm>
              <a:off x="1333800" y="1098360"/>
              <a:ext cx="17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3</a:t>
              </a:r>
              <a:r>
                <a:rPr b="1" lang="en-US" sz="2400" spc="-1" strike="noStrike">
                  <a:solidFill>
                    <a:srgbClr val="333399"/>
                  </a:solidFill>
                  <a:latin typeface="Lucida Calligraphy"/>
                  <a:ea typeface="隶书"/>
                </a:rPr>
                <a:t>x</a:t>
              </a:r>
              <a:r>
                <a:rPr b="1" lang="en-US" sz="2400" spc="-1" strike="noStrike">
                  <a:solidFill>
                    <a:srgbClr val="333399"/>
                  </a:solidFill>
                  <a:latin typeface="Monotype Corsiva"/>
                  <a:ea typeface="隶书"/>
                </a:rPr>
                <a:t>=1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9"/>
          <p:cNvSpPr/>
          <p:nvPr/>
        </p:nvSpPr>
        <p:spPr>
          <a:xfrm>
            <a:off x="250920" y="15318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147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÷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405080" y="19638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x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780000" y="1531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解：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34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=71</a:t>
            </a: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cc00ff"/>
                </a:solidFill>
                <a:latin typeface="Monotype Corsiva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5437080" y="19638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y =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95280" y="37018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二、根据下面叙述说说相等关系，并写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684360" y="490680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684360" y="548316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鸡的只数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684360" y="6058080"/>
            <a:ext cx="5113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母鸡的只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6013440" y="490680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13440" y="548316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6013440" y="6058080"/>
            <a:ext cx="2448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23"/>
          <p:cNvSpPr txBox="1"/>
          <p:nvPr/>
        </p:nvSpPr>
        <p:spPr>
          <a:xfrm>
            <a:off x="6084720" y="549360"/>
            <a:ext cx="18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4920" y="22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×49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47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3995640" y="2313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Lucida Calligraphy"/>
                <a:ea typeface="隶书"/>
              </a:rPr>
              <a:t>检验：左边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105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－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34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71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Monotype Corsiva"/>
                <a:ea typeface="隶书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9"/>
          <p:cNvSpPr/>
          <p:nvPr/>
        </p:nvSpPr>
        <p:spPr>
          <a:xfrm>
            <a:off x="4017960" y="654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7093080" y="62064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知识回顾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三、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9"/>
          <p:cNvGrpSpPr/>
          <p:nvPr/>
        </p:nvGrpSpPr>
        <p:grpSpPr>
          <a:xfrm>
            <a:off x="1187280" y="5443200"/>
            <a:ext cx="5977080" cy="1191240"/>
            <a:chOff x="1187280" y="5443200"/>
            <a:chExt cx="5977080" cy="1191240"/>
          </a:xfrm>
        </p:grpSpPr>
        <p:sp>
          <p:nvSpPr>
            <p:cNvPr id="66" name="Rectangle 8"/>
            <p:cNvSpPr/>
            <p:nvPr/>
          </p:nvSpPr>
          <p:spPr>
            <a:xfrm>
              <a:off x="1187280" y="5443200"/>
              <a:ext cx="295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解： 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12×2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4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－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＝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（块）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>
              <a:off x="3780000" y="6164640"/>
              <a:ext cx="33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答：共有</a:t>
              </a:r>
              <a:r>
                <a:rPr b="0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0</a:t>
              </a:r>
              <a:r>
                <a:rPr b="0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块白色皮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13"/>
          <p:cNvSpPr/>
          <p:nvPr/>
        </p:nvSpPr>
        <p:spPr>
          <a:xfrm>
            <a:off x="3635280" y="620640"/>
            <a:ext cx="2521080" cy="1035000"/>
          </a:xfrm>
          <a:prstGeom prst="wedgeRoundRectCallout">
            <a:avLst>
              <a:gd name="adj1" fmla="val 7555"/>
              <a:gd name="adj2" fmla="val 147240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黑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白色皮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6443640" y="1341360"/>
            <a:ext cx="2627280" cy="1035000"/>
          </a:xfrm>
          <a:prstGeom prst="wedgeRoundRectCallout">
            <a:avLst>
              <a:gd name="adj1" fmla="val -8550"/>
              <a:gd name="adj2" fmla="val 103375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5"/>
          <p:cNvSpPr/>
          <p:nvPr/>
        </p:nvSpPr>
        <p:spPr>
          <a:xfrm>
            <a:off x="0" y="3933720"/>
            <a:ext cx="1657440" cy="792360"/>
          </a:xfrm>
          <a:prstGeom prst="wedgeRoundRectCallout">
            <a:avLst>
              <a:gd name="adj1" fmla="val 39560"/>
              <a:gd name="adj2" fmla="val -9989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白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637236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780000" y="4976640"/>
            <a:ext cx="20872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401840" y="4976640"/>
            <a:ext cx="187308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0"/>
          <p:cNvGrpSpPr/>
          <p:nvPr/>
        </p:nvGrpSpPr>
        <p:grpSpPr>
          <a:xfrm>
            <a:off x="179280" y="836640"/>
            <a:ext cx="3311640" cy="581400"/>
            <a:chOff x="179280" y="836640"/>
            <a:chExt cx="3311640" cy="581400"/>
          </a:xfrm>
        </p:grpSpPr>
        <p:sp>
          <p:nvSpPr>
            <p:cNvPr id="75" name="Text Box 21"/>
            <p:cNvSpPr/>
            <p:nvPr/>
          </p:nvSpPr>
          <p:spPr>
            <a:xfrm>
              <a:off x="179280" y="8366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906560" y="8838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3" descr="ball2"/>
          <p:cNvPicPr/>
          <p:nvPr/>
        </p:nvPicPr>
        <p:blipFill>
          <a:blip r:embed="rId4"/>
          <a:stretch/>
        </p:blipFill>
        <p:spPr>
          <a:xfrm rot="10800000">
            <a:off x="3676680" y="2852280"/>
            <a:ext cx="75096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合作探究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79" name="Group 8"/>
          <p:cNvGrpSpPr/>
          <p:nvPr/>
        </p:nvGrpSpPr>
        <p:grpSpPr>
          <a:xfrm>
            <a:off x="108000" y="1481040"/>
            <a:ext cx="3311640" cy="581400"/>
            <a:chOff x="108000" y="1481040"/>
            <a:chExt cx="3311640" cy="581400"/>
          </a:xfrm>
        </p:grpSpPr>
        <p:sp>
          <p:nvSpPr>
            <p:cNvPr id="80" name="Text Box 6"/>
            <p:cNvSpPr/>
            <p:nvPr/>
          </p:nvSpPr>
          <p:spPr>
            <a:xfrm>
              <a:off x="108000" y="1481040"/>
              <a:ext cx="26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ff"/>
                  </a:solidFill>
                  <a:latin typeface="汉仪秀英体简"/>
                  <a:ea typeface="华文楷体"/>
                </a:rPr>
                <a:t>足球场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835280" y="152856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ff"/>
                  </a:solidFill>
                  <a:latin typeface="Arial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Picture 9" descr="ball2"/>
          <p:cNvPicPr/>
          <p:nvPr/>
        </p:nvPicPr>
        <p:blipFill>
          <a:blip r:embed="rId4"/>
          <a:stretch/>
        </p:blipFill>
        <p:spPr>
          <a:xfrm rot="10800000">
            <a:off x="3635280" y="3736800"/>
            <a:ext cx="750960" cy="771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0"/>
          <p:cNvSpPr/>
          <p:nvPr/>
        </p:nvSpPr>
        <p:spPr>
          <a:xfrm>
            <a:off x="3564000" y="1052640"/>
            <a:ext cx="2160360" cy="1035000"/>
          </a:xfrm>
          <a:prstGeom prst="wedgeRoundRectCallout">
            <a:avLst>
              <a:gd name="adj1" fmla="val 13481"/>
              <a:gd name="adj2" fmla="val 187578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色皮共有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，比黑色皮的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倍少</a:t>
            </a:r>
            <a:r>
              <a:rPr b="0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6516720" y="1773360"/>
            <a:ext cx="2627280" cy="1035000"/>
          </a:xfrm>
          <a:prstGeom prst="wedgeRoundRectCallout">
            <a:avLst>
              <a:gd name="adj1" fmla="val 2930"/>
              <a:gd name="adj2" fmla="val 135583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足球上黑色的皮都是五边形的，白色的皮都是六边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34920" y="4724280"/>
            <a:ext cx="1657440" cy="792360"/>
          </a:xfrm>
          <a:prstGeom prst="wedgeRoundRectCallout">
            <a:avLst>
              <a:gd name="adj1" fmla="val 55842"/>
              <a:gd name="adj2" fmla="val -78254"/>
              <a:gd name="adj3" fmla="val 16667"/>
            </a:avLst>
          </a:prstGeom>
          <a:solidFill>
            <a:srgbClr val="bbe0e3"/>
          </a:solidFill>
          <a:ln w="190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华文楷体"/>
              </a:rPr>
              <a:t>共有多少块黑色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615636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善于观察的小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3564000" y="6093000"/>
            <a:ext cx="20876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勤于研究的小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1185840" y="6093000"/>
            <a:ext cx="1873440" cy="398880"/>
          </a:xfrm>
          <a:prstGeom prst="rect">
            <a:avLst/>
          </a:prstGeom>
          <a:solidFill>
            <a:srgbClr val="e6e6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幼圆"/>
              </a:rPr>
              <a:t>爱提问的小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6" descr="图片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675640" y="649296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"/>
          <p:cNvGrpSpPr/>
          <p:nvPr/>
        </p:nvGrpSpPr>
        <p:grpSpPr>
          <a:xfrm>
            <a:off x="7596360" y="6021360"/>
            <a:ext cx="1547640" cy="503280"/>
            <a:chOff x="7596360" y="6021360"/>
            <a:chExt cx="1547640" cy="503280"/>
          </a:xfrm>
        </p:grpSpPr>
        <p:pic>
          <p:nvPicPr>
            <p:cNvPr id="91" name="Picture 5" descr="W_046"/>
            <p:cNvPicPr/>
            <p:nvPr/>
          </p:nvPicPr>
          <p:blipFill>
            <a:blip r:embed="rId2"/>
            <a:stretch/>
          </p:blipFill>
          <p:spPr>
            <a:xfrm>
              <a:off x="8028000" y="6048360"/>
              <a:ext cx="525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6">
              <a:hlinkClick r:id="rId3" action="ppaction://hlinksldjump"/>
            </p:cNvPr>
            <p:cNvSpPr/>
            <p:nvPr/>
          </p:nvSpPr>
          <p:spPr>
            <a:xfrm>
              <a:off x="7596360" y="6021360"/>
              <a:ext cx="15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00cc"/>
                  </a:solidFill>
                  <a:latin typeface="楷体_GB2312"/>
                  <a:ea typeface="楷体_GB2312"/>
                </a:rPr>
                <a:t>返    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变式练习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华文楷体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948360" y="1459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华文楷体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826920" y="1100160"/>
            <a:ext cx="6697800" cy="1251720"/>
            <a:chOff x="826920" y="1100160"/>
            <a:chExt cx="6697800" cy="1251720"/>
          </a:xfrm>
        </p:grpSpPr>
        <p:sp>
          <p:nvSpPr>
            <p:cNvPr id="97" name="Text Box 4"/>
            <p:cNvSpPr/>
            <p:nvPr/>
          </p:nvSpPr>
          <p:spPr>
            <a:xfrm>
              <a:off x="826920" y="1100160"/>
              <a:ext cx="66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    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足球上黑色的皮都是五边形的，白色的皮都是六边形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白色皮共有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0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，比黑色皮的 </a:t>
              </a: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2 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900000" y="1892160"/>
              <a:ext cx="39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400" spc="-1" strike="noStrike">
                  <a:solidFill>
                    <a:srgbClr val="cc00ff"/>
                  </a:solidFill>
                  <a:latin typeface="华文楷体"/>
                  <a:ea typeface="华文楷体"/>
                </a:rPr>
                <a:t>块。</a:t>
              </a:r>
              <a:r>
                <a:rPr b="1" lang="zh-CN" sz="2400" spc="-1" strike="noStrike">
                  <a:solidFill>
                    <a:srgbClr val="cc00ff"/>
                  </a:solidFill>
                  <a:latin typeface="宋体"/>
                  <a:ea typeface="华文楷体"/>
                </a:rPr>
                <a:t>共有多少块黑色皮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0"/>
          <p:cNvSpPr/>
          <p:nvPr/>
        </p:nvSpPr>
        <p:spPr>
          <a:xfrm>
            <a:off x="1763640" y="23734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：设共有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2484360" y="33814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195640" y="2805120"/>
            <a:ext cx="54007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色皮的块数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×2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白色皮的块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050920" y="37418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987640" y="41022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132000" y="44625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835280" y="48211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检验：左边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×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右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349800" y="59961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答：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块黑色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remove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RWHELP"/>
          <p:cNvPicPr/>
          <p:nvPr/>
        </p:nvPicPr>
        <p:blipFill>
          <a:blip r:embed="rId2"/>
          <a:stretch/>
        </p:blipFill>
        <p:spPr>
          <a:xfrm>
            <a:off x="6156360" y="260280"/>
            <a:ext cx="298764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1258920" y="3284640"/>
            <a:ext cx="6264360" cy="2520720"/>
          </a:xfrm>
          <a:prstGeom prst="rect">
            <a:avLst/>
          </a:prstGeom>
          <a:solidFill>
            <a:srgbClr val="e6e6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468360" y="549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总结思考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332000" y="39560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分析、找出数量之间的相等关系，列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301760" y="4532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③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1767960" y="51325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④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检验，写出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16"/>
          <p:cNvSpPr txBox="1"/>
          <p:nvPr/>
        </p:nvSpPr>
        <p:spPr>
          <a:xfrm>
            <a:off x="1521000" y="1628640"/>
            <a:ext cx="5787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列方程解决问题的一般步骤是什么？ 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332000" y="3500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弄清题意，找出未知数，用</a:t>
            </a:r>
            <a:r>
              <a:rPr b="1" lang="en-US" sz="2400" spc="-1" strike="noStrike">
                <a:solidFill>
                  <a:srgbClr val="cc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108000" y="2924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养鸡厂养母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公鸡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公鸡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24000" y="39337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学校饲养小组今年养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比去年养的只数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，去年养兔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26920" y="5300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个等腰三角形的周长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底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．它的腰是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20"/>
          <p:cNvGrpSpPr/>
          <p:nvPr/>
        </p:nvGrpSpPr>
        <p:grpSpPr>
          <a:xfrm>
            <a:off x="324000" y="1051560"/>
            <a:ext cx="8280360" cy="1036800"/>
            <a:chOff x="324000" y="1051560"/>
            <a:chExt cx="8280360" cy="1036800"/>
          </a:xfrm>
        </p:grpSpPr>
        <p:sp>
          <p:nvSpPr>
            <p:cNvPr id="119" name="Rectangle 5"/>
            <p:cNvSpPr/>
            <p:nvPr/>
          </p:nvSpPr>
          <p:spPr>
            <a:xfrm>
              <a:off x="466560" y="1051560"/>
              <a:ext cx="38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只列方程不解答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4"/>
            <p:cNvSpPr/>
            <p:nvPr/>
          </p:nvSpPr>
          <p:spPr>
            <a:xfrm>
              <a:off x="324000" y="1628640"/>
              <a:ext cx="82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图书室有文艺书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比科技书的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倍多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，科技书</a:t>
              </a:r>
              <a:r>
                <a:rPr b="1" lang="en-US" sz="2400" spc="-1" strike="noStrike">
                  <a:solidFill>
                    <a:srgbClr val="000000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本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15"/>
          <p:cNvSpPr txBox="1"/>
          <p:nvPr/>
        </p:nvSpPr>
        <p:spPr>
          <a:xfrm>
            <a:off x="5796000" y="47628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巩固应用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042920" y="2421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2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1042920" y="3476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0= 40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1042920" y="47721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= 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1042920" y="61405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Lucida Calligraphy"/>
                <a:ea typeface="楷体_GB2312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38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或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7"/>
          <p:cNvGrpSpPr/>
          <p:nvPr/>
        </p:nvGrpSpPr>
        <p:grpSpPr>
          <a:xfrm>
            <a:off x="1403280" y="548280"/>
            <a:ext cx="6624720" cy="1611720"/>
            <a:chOff x="1403280" y="548280"/>
            <a:chExt cx="6624720" cy="1611720"/>
          </a:xfrm>
        </p:grpSpPr>
        <p:sp>
          <p:nvSpPr>
            <p:cNvPr id="127" name="Rectangle 4"/>
            <p:cNvSpPr/>
            <p:nvPr/>
          </p:nvSpPr>
          <p:spPr>
            <a:xfrm>
              <a:off x="1708560" y="548280"/>
              <a:ext cx="7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cc00ff"/>
                  </a:solidFill>
                  <a:latin typeface="楷体_GB2312"/>
                  <a:ea typeface="楷体_GB2312"/>
                </a:rPr>
                <a:t>、解下列方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1403280" y="112536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4932360" y="1125360"/>
              <a:ext cx="216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7.5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8"/>
            <p:cNvSpPr/>
            <p:nvPr/>
          </p:nvSpPr>
          <p:spPr>
            <a:xfrm>
              <a:off x="1403280" y="170028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8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4932360" y="170028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x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＋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×9</a:t>
              </a:r>
              <a:r>
                <a:rPr b="1" lang="en-US" sz="2400" spc="-1" strike="noStrike">
                  <a:solidFill>
                    <a:srgbClr val="0000ff"/>
                  </a:solidFill>
                  <a:latin typeface="Lucida Calligraphy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4"/>
          <p:cNvSpPr/>
          <p:nvPr/>
        </p:nvSpPr>
        <p:spPr>
          <a:xfrm>
            <a:off x="971640" y="465300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共有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428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网球，每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装一筒，装完后还剩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个。一共装了多少筒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971640" y="2565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、北京故宫的面积是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，比天安门广场面积的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倍少</a:t>
            </a:r>
            <a:r>
              <a:rPr b="1" lang="en-US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平方米。天安门广场的面积是都是平方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2"/>
          <a:stretch/>
        </p:blipFill>
        <p:spPr>
          <a:xfrm>
            <a:off x="5796000" y="270972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"/>
          <p:cNvPicPr/>
          <p:nvPr/>
        </p:nvPicPr>
        <p:blipFill>
          <a:blip r:embed="rId3"/>
          <a:stretch/>
        </p:blipFill>
        <p:spPr>
          <a:xfrm>
            <a:off x="5796000" y="4581360"/>
            <a:ext cx="2232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0:51:5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40Z</dcterms:modified>
  <cp:revision>5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