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自定义放映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CCD3-E3EC-494A-9BAE-0603BA16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22B7-FB3C-4C8A-BE8F-76941B49E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1B8-50B0-4762-AFDB-120CEF72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924-E03E-4BDB-A239-B1F9D240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A3C-D720-47D0-B277-E01C0EAE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1D3-027E-41A9-940E-587D90F5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E0E-3C00-4FA2-89F9-5E66972D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A4B-C3D5-4890-B6E6-7DEA110C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72E-06BB-43C9-8883-105AC1D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D1F-F536-427B-B0E6-F818BD02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906-B6A5-4855-B7E3-59CAEDA0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3BA-26EC-4A1C-BBD3-777B4F7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ED0-4E3D-4A36-A7A6-DDF1C248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FF6-23A1-4A7E-AF06-A994E610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372-04A4-4743-B86E-6EEE9DAE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海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744680" y="4149720"/>
            <a:ext cx="1399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青岛海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158920" y="981000"/>
            <a:ext cx="4826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c3300"/>
                </a:solidFill>
                <a:latin typeface="Arial"/>
                <a:ea typeface="隶书"/>
              </a:rPr>
              <a:t>山  市 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564000" y="407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主讲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华文行楷"/>
              </a:rPr>
              <a:t>江启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草原之夜" descr=""/>
          <p:cNvPicPr/>
          <p:nvPr/>
        </p:nvPicPr>
        <p:blipFill>
          <a:blip r:embed="rId2"/>
          <a:stretch/>
        </p:blipFill>
        <p:spPr>
          <a:xfrm>
            <a:off x="8723160" y="6541920"/>
            <a:ext cx="420840" cy="316080"/>
          </a:xfrm>
          <a:prstGeom prst="rect">
            <a:avLst/>
          </a:prstGeom>
          <a:ln w="0">
            <a:noFill/>
          </a:ln>
        </p:spPr>
      </p:pic>
      <p:sp>
        <p:nvSpPr>
          <p:cNvPr id="55" name="矩形 11"/>
          <p:cNvSpPr/>
          <p:nvPr/>
        </p:nvSpPr>
        <p:spPr>
          <a:xfrm>
            <a:off x="2391480" y="62928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华文新魏"/>
              </a:rPr>
              <a:t>课堂作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一、抄写全文，并将生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二、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词语手册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第二大题及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基础训练册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第三大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三、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无何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始悟为山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中有楼若者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以亿万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既而风定天清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霄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而楼上人往来屑屑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不一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0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843280" y="2924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同学们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再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晚秋" descr=""/>
          <p:cNvPicPr/>
          <p:nvPr/>
        </p:nvPicPr>
        <p:blipFill>
          <a:blip r:embed="rId2"/>
          <a:stretch/>
        </p:blipFill>
        <p:spPr>
          <a:xfrm>
            <a:off x="8844120" y="765000"/>
            <a:ext cx="29988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DD7B-50E9-491F-84BE-B01D3CB781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天津海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-90360" y="4797360"/>
            <a:ext cx="12776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天津海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作者及作品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蒲松龄（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640—1715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留仙，一字剑臣，别号柳泉居士，世称聊斋先生，山东淄川（今淄博）人。早岁即有文名，但屡应省试皆落第，七十一岁才补为贡生。他用数十年的时间写成的短篇小说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聊斋志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白居易在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香山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／欧阳修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六一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欢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李清照号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易安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／王安石住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半山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苏轼爬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东坡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／李白采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青莲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华文行楷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聊斋志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文言短篇小说集，共收录作品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篇，以短篇小说为主，此外还有散记特写、随笔寓言等，主要写鬼狐精怪的故事，也收录一些奇特的事。构思奇妙，语言生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3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5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56000" y="90792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隶书"/>
              </a:rPr>
              <a:t>听读课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95280" y="486900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注意字音、停顿、语气和语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明月几时有曲" descr=""/>
          <p:cNvPicPr/>
          <p:nvPr/>
        </p:nvPicPr>
        <p:blipFill>
          <a:blip r:embed="rId2"/>
          <a:stretch/>
        </p:blipFill>
        <p:spPr>
          <a:xfrm>
            <a:off x="8604360" y="6597720"/>
            <a:ext cx="11736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3300"/>
                </a:solidFill>
                <a:latin typeface="Arial"/>
                <a:ea typeface="隶书"/>
              </a:rPr>
              <a:t>自读课文要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一、根据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词语手册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及课文下面的注解疏通全文内容，并画出自己难懂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二、小组交流难解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重点实虚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邑：县；然：但是，却；恒：经常；顾：看；念：想；无何：不久，不一会儿；悟：明白；为：是；未几：不久；垣：墙；居然：竟然；若：像；坊：街巷、店铺；计：计算；而已：罢了；既而：不久；乌：同“无”；危：高；扉：门；裁：同“才”；或：有的人；逾：超过；肆：店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山市全过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41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5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初生阶段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孤塔高耸、宫殿入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5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发展阶段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城郭历历在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高潮阶段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危楼参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457200" y="6300720"/>
            <a:ext cx="64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隶书"/>
              </a:rPr>
              <a:t>表示时间的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376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忽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无何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未几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忽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既而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逾时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倏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海市蜃楼的真正成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空气本身并不是一个均匀的。当光线穿过不同高度的空气层时，总会引起些折射，但这种折射现象在我们日常生活中已习惯了，所以不觉得有什么异样，可是当空气温度在垂直方向布反常时，就会引起密度垂直变化反常，并会导致与通常不同的折射和反射。这就会产生海市蜃楼的现象。总之，“海市”“山市”是一种折光反射而形成的自然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08:43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0:0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