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5c01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911F-F8EA-4A85-8146-2A2FAB066D20}" type="slidenum">
              <a:rPr b="1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843-E7BF-4628-9E8C-B11F83B7C32D}" type="slidenum">
              <a:rPr b="1" lang="zh-CN" sz="1200" spc="-1" strike="noStrike">
                <a:solidFill>
                  <a:srgbClr val="905c01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AD5-8705-4CD9-BF6F-1C026D06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A9B-3EB8-457B-B7B8-900A0491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482-36FC-45E6-B360-2700B1E7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8E1-D79D-43F5-88FF-AF9D0257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F10-5272-4118-A761-F940A851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0B3-6AC2-4E5B-B327-DB57F930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30F-E142-4D88-9AAC-752E2DB3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6EE-2552-4DF0-BB1F-D94DBC2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5F9-9184-4E30-9C4E-DB0C67C8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F27-CB41-4C0C-A04F-60E24E33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C0F-C1A1-4066-A498-02500295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B23-05F5-4D4E-A977-9E18A351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37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38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39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0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1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2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3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44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45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47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49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50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grpSp>
          <p:nvGrpSpPr>
            <p:cNvPr id="51" name="Group 17"/>
            <p:cNvGrpSpPr/>
            <p:nvPr/>
          </p:nvGrpSpPr>
          <p:grpSpPr>
            <a:xfrm>
              <a:off x="4148280" y="1031760"/>
              <a:ext cx="1015560" cy="1262520"/>
              <a:chOff x="4148280" y="1031760"/>
              <a:chExt cx="1015560" cy="1262520"/>
            </a:xfrm>
          </p:grpSpPr>
          <p:sp>
            <p:nvSpPr>
              <p:cNvPr id="52" name="Freeform 18"/>
              <p:cNvSpPr/>
              <p:nvPr/>
            </p:nvSpPr>
            <p:spPr>
              <a:xfrm rot="3220200">
                <a:off x="4562640" y="10695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53" name="Freeform 19"/>
              <p:cNvSpPr/>
              <p:nvPr/>
            </p:nvSpPr>
            <p:spPr>
              <a:xfrm rot="3220200">
                <a:off x="4647600" y="160272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54" name="Freeform 20"/>
              <p:cNvSpPr/>
              <p:nvPr/>
            </p:nvSpPr>
            <p:spPr>
              <a:xfrm rot="3220200">
                <a:off x="4108320" y="196056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55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56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57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59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60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2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63" name="Group 29"/>
            <p:cNvGrpSpPr/>
            <p:nvPr/>
          </p:nvGrpSpPr>
          <p:grpSpPr>
            <a:xfrm>
              <a:off x="374040" y="449640"/>
              <a:ext cx="1690200" cy="1146600"/>
              <a:chOff x="374040" y="449640"/>
              <a:chExt cx="1690200" cy="1146600"/>
            </a:xfrm>
          </p:grpSpPr>
          <p:sp>
            <p:nvSpPr>
              <p:cNvPr id="64" name="Freeform 30"/>
              <p:cNvSpPr/>
              <p:nvPr/>
            </p:nvSpPr>
            <p:spPr>
              <a:xfrm flipH="1" rot="4107000">
                <a:off x="1574280" y="10681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5" name="Freeform 31"/>
              <p:cNvSpPr/>
              <p:nvPr/>
            </p:nvSpPr>
            <p:spPr>
              <a:xfrm flipH="1" rot="4107000">
                <a:off x="1020960" y="5932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6" name="Freeform 32"/>
              <p:cNvSpPr/>
              <p:nvPr/>
            </p:nvSpPr>
            <p:spPr>
              <a:xfrm flipH="1" rot="4107000">
                <a:off x="276840" y="11070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67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68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70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71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2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3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4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5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6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77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5c01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5027-8C18-423C-BC7E-15E50A7B140C}" type="slidenum">
              <a:rPr b="0" lang="en-US" sz="1400" spc="-1" strike="noStrike">
                <a:solidFill>
                  <a:srgbClr val="905c01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&#21457;&#21160;&#36710;.wav" TargetMode="External"/><Relationship Id="rId3" Type="http://schemas.openxmlformats.org/officeDocument/2006/relationships/hyperlink" Target="file:///&#21457;&#21160;&#36710;.wav" TargetMode="External"/><Relationship Id="rId4" Type="http://schemas.openxmlformats.org/officeDocument/2006/relationships/hyperlink" Target="file:///&#40723;&#25484;.wav" TargetMode="External"/><Relationship Id="rId5" Type="http://schemas.openxmlformats.org/officeDocument/2006/relationships/hyperlink" Target="file:///&#40723;&#25484;.wav" TargetMode="External"/><Relationship Id="rId6" Type="http://schemas.openxmlformats.org/officeDocument/2006/relationships/hyperlink" Target="file:///&#38376;&#38083;.wav" TargetMode="External"/><Relationship Id="rId7" Type="http://schemas.openxmlformats.org/officeDocument/2006/relationships/hyperlink" Target="file:///&#38376;&#38083;.wav" TargetMode="External"/><Relationship Id="rId8" Type="http://schemas.openxmlformats.org/officeDocument/2006/relationships/hyperlink" Target="file:///&#39134;&#26426;.wav" TargetMode="External"/><Relationship Id="rId9" Type="http://schemas.openxmlformats.org/officeDocument/2006/relationships/hyperlink" Target="file:///&#39134;&#26426;.wav" TargetMode="External"/><Relationship Id="rId10" Type="http://schemas.openxmlformats.org/officeDocument/2006/relationships/hyperlink" Target="file:///&#28779;&#36710;.mp3" TargetMode="External"/><Relationship Id="rId11" Type="http://schemas.openxmlformats.org/officeDocument/2006/relationships/hyperlink" Target="file:///&#28779;&#36710;.mp3" TargetMode="External"/><Relationship Id="rId12" Type="http://schemas.openxmlformats.org/officeDocument/2006/relationships/hyperlink" Target="file:///&#23567;&#40479;.wav" TargetMode="External"/><Relationship Id="rId13" Type="http://schemas.openxmlformats.org/officeDocument/2006/relationships/hyperlink" Target="file:///&#23567;&#40479;.wav" TargetMode="External"/><Relationship Id="rId14" Type="http://schemas.openxmlformats.org/officeDocument/2006/relationships/hyperlink" Target="file:///&#29399;.wav" TargetMode="External"/><Relationship Id="rId15" Type="http://schemas.openxmlformats.org/officeDocument/2006/relationships/hyperlink" Target="file:///&#29399;.wav" TargetMode="External"/><Relationship Id="rId16" Type="http://schemas.openxmlformats.org/officeDocument/2006/relationships/hyperlink" Target="file:///&#27969;&#27700;.wav" TargetMode="External"/><Relationship Id="rId17" Type="http://schemas.openxmlformats.org/officeDocument/2006/relationships/hyperlink" Target="file:///&#27969;&#27700;.wav" TargetMode="External"/><Relationship Id="rId18" Type="http://schemas.openxmlformats.org/officeDocument/2006/relationships/hyperlink" Target="file:///&#35961;&#23376;.wav" TargetMode="External"/><Relationship Id="rId19" Type="http://schemas.openxmlformats.org/officeDocument/2006/relationships/hyperlink" Target="file:///&#35961;&#23376;.wav" TargetMode="Externa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93560" y="1498680"/>
            <a:ext cx="83836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905c01"/>
                </a:solidFill>
                <a:latin typeface="微软雅黑"/>
                <a:ea typeface="微软雅黑"/>
              </a:rPr>
              <a:t>听听声音</a:t>
            </a:r>
            <a:endParaRPr b="1" lang="en-US" sz="115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259360" y="56610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82e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482e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482e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43280" y="160020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05c0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轻轻地敲，声音（    ）。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5c0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用力地敲，声音（    ）。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5c0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用不同力度敲，声音有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（          ）不同。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0" name="Picture 4" descr="IMG0145A_光影_1"/>
          <p:cNvPicPr/>
          <p:nvPr/>
        </p:nvPicPr>
        <p:blipFill>
          <a:blip r:embed="rId1"/>
          <a:stretch/>
        </p:blipFill>
        <p:spPr>
          <a:xfrm>
            <a:off x="0" y="297000"/>
            <a:ext cx="2881440" cy="3852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6732720" y="173664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877080" y="1557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弱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912000" y="2205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强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743280" y="3608280"/>
            <a:ext cx="11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强弱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05c0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用相同的力敲击大小不同的两个音叉，大音叉发出的声音（       ），小音叉发出的声音（       ）。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7" name="Picture 4" descr="IMG0150A_光影_1"/>
          <p:cNvPicPr/>
          <p:nvPr/>
        </p:nvPicPr>
        <p:blipFill>
          <a:blip r:embed="rId1"/>
          <a:stretch/>
        </p:blipFill>
        <p:spPr>
          <a:xfrm>
            <a:off x="179280" y="0"/>
            <a:ext cx="4680000" cy="31478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6012000" y="378936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低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824360" y="432900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313"/>
                </a:solidFill>
                <a:latin typeface="Verdana"/>
              </a:rPr>
              <a:t>高</a:t>
            </a:r>
            <a:endParaRPr b="1" lang="en-US" sz="3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719280" y="2313000"/>
            <a:ext cx="31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比较这两种音叉发出的声音有什么不同？不同大小的力敲同一个音叉声音有什么不同？试用高，低，强，弱对这些声音进行描述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82" name="Picture 6" descr="IMG0150A_光影_1"/>
          <p:cNvPicPr/>
          <p:nvPr/>
        </p:nvPicPr>
        <p:blipFill>
          <a:blip r:embed="rId2"/>
          <a:stretch/>
        </p:blipFill>
        <p:spPr>
          <a:xfrm>
            <a:off x="3851280" y="2097000"/>
            <a:ext cx="4680000" cy="31482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934920" y="15415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实 验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934920" y="1592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ahoma"/>
                <a:ea typeface="楷体_GB2312"/>
              </a:rPr>
              <a:t>我们听到的声音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34920" y="2744640"/>
          <a:ext cx="7704000" cy="2916360"/>
        </p:xfrm>
        <a:graphic>
          <a:graphicData uri="http://schemas.openxmlformats.org/drawingml/2006/table">
            <a:tbl>
              <a:tblPr/>
              <a:tblGrid>
                <a:gridCol w="1655640"/>
                <a:gridCol w="3313080"/>
                <a:gridCol w="2735280"/>
              </a:tblGrid>
              <a:tr h="104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实验器材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轻轻敲打时对声音的描述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重一点击打时对声音的描述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大音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小音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22"/>
          <p:cNvSpPr/>
          <p:nvPr/>
        </p:nvSpPr>
        <p:spPr>
          <a:xfrm>
            <a:off x="2916360" y="4019400"/>
            <a:ext cx="194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低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6084720" y="3968640"/>
            <a:ext cx="20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低，强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2916360" y="4905360"/>
            <a:ext cx="194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高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084720" y="4919760"/>
            <a:ext cx="18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高，强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861840" y="1504800"/>
            <a:ext cx="17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实 验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50920" y="2039760"/>
            <a:ext cx="36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实验步骤：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116000" y="2673360"/>
            <a:ext cx="691344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１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用一旁的铁钉先后敲击大，中，小三只悬挂的铁钉；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２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实验保持安静，仔细听不同铁钉发出的声音，比较不同；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3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记录在本上作业；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轻轻敲击大铁钉，重一点敲击大铁钉子，找出不同，记录在作业本上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898560" y="2637000"/>
          <a:ext cx="7777080" cy="3709800"/>
        </p:xfrm>
        <a:graphic>
          <a:graphicData uri="http://schemas.openxmlformats.org/drawingml/2006/table">
            <a:tbl>
              <a:tblPr/>
              <a:tblGrid>
                <a:gridCol w="1657440"/>
                <a:gridCol w="3024000"/>
                <a:gridCol w="3095640"/>
              </a:tblGrid>
              <a:tr h="88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实验器材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轻轻敲击时对声音的描述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重一点击打时对声音的描述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1368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大铁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中铁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5760">
                      <a:solidFill>
                        <a:srgbClr val="905c01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905c01"/>
                          </a:solidFill>
                          <a:latin typeface="Verdana"/>
                          <a:ea typeface="楷体_GB2312"/>
                        </a:rPr>
                        <a:t>小铁钉</a:t>
                      </a:r>
                      <a:endParaRPr b="1" lang="en-US" sz="26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576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905c01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05c01"/>
                      </a:solidFill>
                    </a:lnL>
                    <a:lnR w="13680">
                      <a:solidFill>
                        <a:srgbClr val="905c01"/>
                      </a:solidFill>
                    </a:lnR>
                    <a:lnT w="5760">
                      <a:solidFill>
                        <a:srgbClr val="905c01"/>
                      </a:solidFill>
                    </a:lnT>
                    <a:lnB w="13680">
                      <a:solidFill>
                        <a:srgbClr val="905c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25"/>
          <p:cNvSpPr/>
          <p:nvPr/>
        </p:nvSpPr>
        <p:spPr>
          <a:xfrm>
            <a:off x="971640" y="1628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ahoma"/>
                <a:ea typeface="楷体_GB2312"/>
              </a:rPr>
              <a:t>实验记录表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5846760" y="350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5580000" y="350676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音高不变，声音更强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2698920" y="5430960"/>
            <a:ext cx="26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比中铁钉高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2735280" y="4494240"/>
            <a:ext cx="23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比大铁钉高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2736720" y="353700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声音低，弱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6551640" y="4653000"/>
            <a:ext cx="11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同上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6551640" y="5589720"/>
            <a:ext cx="11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同上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71640" y="1773360"/>
            <a:ext cx="37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巩固练习（判断对错）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63640" y="2565360"/>
            <a:ext cx="788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敲击大小不同的两支音叉，小的发出的声音高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861840" y="323388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用不同的力敲击同一支音叉，声音的高低会发生变化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63640" y="4221000"/>
            <a:ext cx="72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3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音叉是用来调试乐器和测试音高的一种发生仪器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0" name="文本框 1"/>
          <p:cNvSpPr/>
          <p:nvPr/>
        </p:nvSpPr>
        <p:spPr>
          <a:xfrm>
            <a:off x="463680" y="5599080"/>
            <a:ext cx="71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05c01"/>
                </a:solidFill>
                <a:latin typeface="Verdana"/>
              </a:rPr>
              <a:t>更多免费</a:t>
            </a:r>
            <a:r>
              <a:rPr b="1" lang="zh-CN" sz="1800" spc="-1" strike="noStrike">
                <a:solidFill>
                  <a:srgbClr val="905c01"/>
                </a:solidFill>
                <a:latin typeface="Verdana"/>
              </a:rPr>
              <a:t>PPT</a:t>
            </a:r>
            <a:r>
              <a:rPr b="1" lang="zh-CN" sz="1800" spc="-1" strike="noStrike">
                <a:solidFill>
                  <a:srgbClr val="905c01"/>
                </a:solidFill>
                <a:latin typeface="Verdana"/>
              </a:rPr>
              <a:t>模板下载：</a:t>
            </a:r>
            <a:r>
              <a:rPr b="1" lang="zh-CN" sz="1800" spc="-1" strike="noStrike">
                <a:solidFill>
                  <a:srgbClr val="905c01"/>
                </a:solidFill>
                <a:latin typeface="Verdana"/>
              </a:rPr>
              <a:t>http://www.eeppt.com</a:t>
            </a: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971640" y="1773360"/>
            <a:ext cx="37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巩固练习（判断对错）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63640" y="2565360"/>
            <a:ext cx="788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用不同的力敲击同一支音叉，轻轻地敲击时发出的声音弱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863640" y="4221000"/>
            <a:ext cx="76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5.</a:t>
            </a:r>
            <a:r>
              <a:rPr b="1" lang="en-US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哆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唻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咪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三个音阶中，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哆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的音最高。 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05c01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400" spc="-1" strike="noStrike" u="sng">
                <a:solidFill>
                  <a:srgbClr val="17cd00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7cd00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7cd00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05c01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0DCD-83A9-4221-9A3D-A80F008D97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0"/>
          <p:cNvSpPr/>
          <p:nvPr/>
        </p:nvSpPr>
        <p:spPr>
          <a:xfrm>
            <a:off x="3672000" y="5640480"/>
            <a:ext cx="223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流 水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27" name="Picture 60" descr="09081814510970ad818cc129a0"/>
          <p:cNvPicPr/>
          <p:nvPr/>
        </p:nvPicPr>
        <p:blipFill>
          <a:blip r:embed="rId1"/>
          <a:stretch/>
        </p:blipFill>
        <p:spPr>
          <a:xfrm>
            <a:off x="1871640" y="1492200"/>
            <a:ext cx="5616720" cy="4132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1" descr="未标题-1_03"/>
          <p:cNvPicPr/>
          <p:nvPr/>
        </p:nvPicPr>
        <p:blipFill>
          <a:blip r:embed="rId2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1"/>
          <p:cNvSpPr/>
          <p:nvPr/>
        </p:nvSpPr>
        <p:spPr>
          <a:xfrm>
            <a:off x="3384720" y="558972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火 车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31" name="Picture 36" descr="d785713e0adde71b71cf6ce8"/>
          <p:cNvPicPr/>
          <p:nvPr/>
        </p:nvPicPr>
        <p:blipFill>
          <a:blip r:embed="rId2"/>
          <a:stretch/>
        </p:blipFill>
        <p:spPr>
          <a:xfrm>
            <a:off x="1692360" y="1521000"/>
            <a:ext cx="5184720" cy="39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5"/>
          <p:cNvSpPr/>
          <p:nvPr/>
        </p:nvSpPr>
        <p:spPr>
          <a:xfrm>
            <a:off x="2533680" y="2270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33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3633840" y="5589720"/>
            <a:ext cx="212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飞  机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35" name="Picture 21" descr="d19961293e5c550a359bf71e"/>
          <p:cNvPicPr/>
          <p:nvPr/>
        </p:nvPicPr>
        <p:blipFill>
          <a:blip r:embed="rId2"/>
          <a:stretch/>
        </p:blipFill>
        <p:spPr>
          <a:xfrm>
            <a:off x="1871640" y="1555920"/>
            <a:ext cx="5616720" cy="39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8"/>
          <p:cNvSpPr/>
          <p:nvPr/>
        </p:nvSpPr>
        <p:spPr>
          <a:xfrm>
            <a:off x="971640" y="1665360"/>
            <a:ext cx="81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听听下面的声音，这些声音都是由什么物体发出的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8" name="Text Box 79"/>
          <p:cNvSpPr/>
          <p:nvPr/>
        </p:nvSpPr>
        <p:spPr>
          <a:xfrm>
            <a:off x="1692360" y="260028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2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3"/>
              </a:rPr>
              <a:t>1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9" name="Text Box 80"/>
          <p:cNvSpPr/>
          <p:nvPr/>
        </p:nvSpPr>
        <p:spPr>
          <a:xfrm>
            <a:off x="1727280" y="34592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4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5"/>
              </a:rPr>
              <a:t>2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0" name="Text Box 81"/>
          <p:cNvSpPr/>
          <p:nvPr/>
        </p:nvSpPr>
        <p:spPr>
          <a:xfrm>
            <a:off x="1727280" y="44672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6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7"/>
              </a:rPr>
              <a:t>3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1" name="Text Box 82"/>
          <p:cNvSpPr/>
          <p:nvPr/>
        </p:nvSpPr>
        <p:spPr>
          <a:xfrm>
            <a:off x="4319640" y="260028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8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9"/>
              </a:rPr>
              <a:t>4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2" name="Text Box 83"/>
          <p:cNvSpPr/>
          <p:nvPr/>
        </p:nvSpPr>
        <p:spPr>
          <a:xfrm>
            <a:off x="4319640" y="34592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0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1"/>
              </a:rPr>
              <a:t>5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3" name="Text Box 84"/>
          <p:cNvSpPr/>
          <p:nvPr/>
        </p:nvSpPr>
        <p:spPr>
          <a:xfrm>
            <a:off x="4313160" y="44672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2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3"/>
              </a:rPr>
              <a:t>6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6588000" y="257976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4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5"/>
              </a:rPr>
              <a:t>7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6618240" y="350028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6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7"/>
              </a:rPr>
              <a:t>8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6624720" y="4508640"/>
            <a:ext cx="12668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8"/>
              </a:rPr>
              <a:t>声音</a:t>
            </a:r>
            <a:r>
              <a:rPr b="1" lang="en-US" sz="2600" spc="-1" strike="noStrike" u="sng">
                <a:solidFill>
                  <a:srgbClr val="17cd00"/>
                </a:solidFill>
                <a:uFillTx/>
                <a:latin typeface="楷体_GB2312"/>
                <a:ea typeface="楷体_GB2312"/>
                <a:hlinkClick r:id="rId19"/>
              </a:rPr>
              <a:t>9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4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75"/>
          <p:cNvSpPr/>
          <p:nvPr/>
        </p:nvSpPr>
        <p:spPr>
          <a:xfrm>
            <a:off x="1008000" y="166536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你能把这些声音进行分类吗</a:t>
            </a:r>
            <a:r>
              <a:rPr b="1" lang="en-US" sz="28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?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9" name="Text Box 176"/>
          <p:cNvSpPr/>
          <p:nvPr/>
        </p:nvSpPr>
        <p:spPr>
          <a:xfrm>
            <a:off x="1008000" y="242100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人活动时发出的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: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0" name="Text Box 178"/>
          <p:cNvSpPr/>
          <p:nvPr/>
        </p:nvSpPr>
        <p:spPr>
          <a:xfrm>
            <a:off x="1042920" y="3500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自然界发出的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: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1" name="Text Box 179"/>
          <p:cNvSpPr/>
          <p:nvPr/>
        </p:nvSpPr>
        <p:spPr>
          <a:xfrm>
            <a:off x="1584360" y="28893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                        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2" name="Text Box 180"/>
          <p:cNvSpPr/>
          <p:nvPr/>
        </p:nvSpPr>
        <p:spPr>
          <a:xfrm>
            <a:off x="1584360" y="4184640"/>
            <a:ext cx="665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                        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3" name="Text Box 181"/>
          <p:cNvSpPr/>
          <p:nvPr/>
        </p:nvSpPr>
        <p:spPr>
          <a:xfrm>
            <a:off x="1150920" y="48340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楷体"/>
                <a:ea typeface="楷体_GB2312"/>
              </a:rPr>
              <a:t>……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发出的</a:t>
            </a:r>
            <a:r>
              <a:rPr b="1" lang="en-US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: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549440" y="5445000"/>
            <a:ext cx="665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05c01"/>
                </a:solidFill>
                <a:uFillTx/>
                <a:latin typeface="楷体_GB2312"/>
                <a:ea typeface="楷体_GB2312"/>
              </a:rPr>
              <a:t>                                 </a:t>
            </a: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IMG0119A_光影_1"/>
          <p:cNvPicPr/>
          <p:nvPr/>
        </p:nvPicPr>
        <p:blipFill>
          <a:blip r:embed="rId2"/>
          <a:stretch/>
        </p:blipFill>
        <p:spPr>
          <a:xfrm>
            <a:off x="1187280" y="2313000"/>
            <a:ext cx="2567160" cy="3541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5003640" y="76500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00000" y="150480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ahoma"/>
                <a:ea typeface="楷体_GB2312"/>
              </a:rPr>
              <a:t>音 叉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140360" y="2421000"/>
            <a:ext cx="46432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音叉是一种</a:t>
            </a:r>
            <a:r>
              <a:rPr b="1" lang="zh-CN" sz="2600" spc="-1" strike="noStrike">
                <a:solidFill>
                  <a:srgbClr val="cc0000"/>
                </a:solidFill>
                <a:latin typeface="Tahoma"/>
                <a:ea typeface="楷体_GB2312"/>
              </a:rPr>
              <a:t>发声仪器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用途：</a:t>
            </a:r>
            <a:r>
              <a:rPr b="1" lang="zh-CN" sz="2600" spc="-1" strike="noStrike">
                <a:solidFill>
                  <a:srgbClr val="cc0000"/>
                </a:solidFill>
                <a:latin typeface="Tahoma"/>
                <a:ea typeface="楷体_GB2312"/>
              </a:rPr>
              <a:t>调试乐器，测试音高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5364000" y="155736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4176720" y="3789360"/>
            <a:ext cx="363528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结构（３部分组成）：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带柄的Ｕ型金属叉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放大音量用的木盒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橡胶锤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IMG0145A_光影_1"/>
          <p:cNvPicPr/>
          <p:nvPr/>
        </p:nvPicPr>
        <p:blipFill>
          <a:blip r:embed="rId2"/>
          <a:stretch/>
        </p:blipFill>
        <p:spPr>
          <a:xfrm>
            <a:off x="1763640" y="2276640"/>
            <a:ext cx="2881440" cy="3852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5256360" y="2457360"/>
            <a:ext cx="32414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音叉上有字母和数字，字母代表的是</a:t>
            </a:r>
            <a:r>
              <a:rPr b="1" lang="zh-CN" sz="2600" spc="-1" strike="noStrike">
                <a:solidFill>
                  <a:srgbClr val="cc0000"/>
                </a:solidFill>
                <a:latin typeface="Tahoma"/>
                <a:ea typeface="楷体_GB2312"/>
              </a:rPr>
              <a:t>音调</a:t>
            </a: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，数字代表的是音叉</a:t>
            </a:r>
            <a:r>
              <a:rPr b="1" lang="zh-CN" sz="2600" spc="-1" strike="noStrike">
                <a:solidFill>
                  <a:srgbClr val="cc0000"/>
                </a:solidFill>
                <a:latin typeface="Tahoma"/>
                <a:ea typeface="楷体_GB2312"/>
              </a:rPr>
              <a:t>每秒钟振动的次数</a:t>
            </a:r>
            <a:r>
              <a:rPr b="1" lang="zh-CN" sz="2600" spc="-1" strike="noStrike">
                <a:solidFill>
                  <a:srgbClr val="905c01"/>
                </a:solidFill>
                <a:latin typeface="Tahoma"/>
                <a:ea typeface="楷体_GB2312"/>
              </a:rPr>
              <a:t>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00000" y="150480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5c01"/>
                </a:solidFill>
                <a:latin typeface="Tahoma"/>
                <a:ea typeface="楷体_GB2312"/>
              </a:rPr>
              <a:t>音 叉</a:t>
            </a:r>
            <a:endParaRPr b="1" lang="en-US" sz="28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456000" y="1600200"/>
            <a:ext cx="52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5c01"/>
                </a:solidFill>
                <a:latin typeface="Verdana"/>
              </a:rPr>
              <a:t>  </a:t>
            </a: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请保持安静。</a:t>
            </a:r>
            <a:r>
              <a:rPr b="0" lang="zh-CN" sz="3600" spc="-1" strike="noStrike">
                <a:solidFill>
                  <a:srgbClr val="cc0000"/>
                </a:solidFill>
                <a:latin typeface="Verdana"/>
              </a:rPr>
              <a:t>敲击同一个位置。先轻轻地敲一下，再用力地敲一下，</a:t>
            </a:r>
            <a:r>
              <a:rPr b="0" lang="zh-CN" sz="3600" spc="-1" strike="noStrike">
                <a:solidFill>
                  <a:srgbClr val="905c01"/>
                </a:solidFill>
                <a:latin typeface="Verdana"/>
              </a:rPr>
              <a:t>听听声音有什么不同？</a:t>
            </a:r>
            <a:endParaRPr b="0" lang="en-US" sz="3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67" name="Picture 4" descr="IMG0145A_光影_1"/>
          <p:cNvPicPr/>
          <p:nvPr/>
        </p:nvPicPr>
        <p:blipFill>
          <a:blip r:embed="rId1"/>
          <a:stretch/>
        </p:blipFill>
        <p:spPr>
          <a:xfrm>
            <a:off x="530280" y="1197000"/>
            <a:ext cx="28810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2:39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4:21Z</dcterms:modified>
  <cp:revision>1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