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5CDB-FCA3-4231-A03C-605DBC0734B2}" type="datetime"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/7/28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AF7D-9F07-4C4A-BE24-B4A43EE889CF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CD38-27B3-4F62-B956-6F2684F7FA95}" type="slidenum">
              <a:rPr b="1" lang="en-US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太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各楼名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这时再单击楼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会突出显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2EE9-8E2F-4653-A0FB-62B3D7AA5B43}" type="slidenum">
              <a:rPr b="1" lang="en-US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太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各楼名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这时再单击楼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会突出显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350A-401D-47A3-A88B-1DF43A115A2B}" type="slidenum">
              <a:rPr b="1" lang="en-US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太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各楼名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这时再单击楼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会突出显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9EE6-6D68-4CDF-929B-A3082126C80B}" type="slidenum">
              <a:rPr b="1" lang="en-US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太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各楼名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这时再单击楼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会突出显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5321-5DE3-48B7-BFA9-5BE897700879}" type="slidenum">
              <a:rPr b="1" lang="en-US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太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各楼名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这时再单击楼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会突出显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3A8B-4192-4448-8CC2-17383E187FC3}" type="slidenum">
              <a:rPr b="1" lang="en-US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太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各楼名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这时再单击楼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会突出显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6F17-688C-4D57-9CA0-E9D95E535FC1}" type="slidenum">
              <a:rPr b="1" lang="en-US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太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各楼名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这时再单击楼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会突出显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379B-397B-4588-B4AD-EF8380DEC2BB}" type="slidenum">
              <a:rPr b="1" lang="en-US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太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各楼名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这时再单击楼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会突出显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92B26-F24C-4CE7-8B67-4FFACF298134}" type="slidenum">
              <a:rPr b="1" lang="en-US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一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太阳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第二次单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出示各楼名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这时再单击楼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会突出显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1698480" y="2160720"/>
            <a:ext cx="4562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行走路线（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6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1208160" y="646200"/>
            <a:ext cx="55436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位置与方向（一）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8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3"/>
          <a:stretch/>
        </p:blipFill>
        <p:spPr>
          <a:xfrm>
            <a:off x="684360" y="843120"/>
            <a:ext cx="785520" cy="785520"/>
          </a:xfrm>
          <a:prstGeom prst="rect">
            <a:avLst/>
          </a:prstGeom>
          <a:ln w="0">
            <a:noFill/>
          </a:ln>
        </p:spPr>
      </p:pic>
      <p:sp>
        <p:nvSpPr>
          <p:cNvPr id="49" name="矩形 5"/>
          <p:cNvSpPr/>
          <p:nvPr/>
        </p:nvSpPr>
        <p:spPr>
          <a:xfrm>
            <a:off x="3759480" y="6093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Rectangle 51"/>
          <p:cNvSpPr/>
          <p:nvPr/>
        </p:nvSpPr>
        <p:spPr>
          <a:xfrm>
            <a:off x="1224000" y="5508720"/>
            <a:ext cx="5743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熊猫馆在长颈鹿馆的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方向，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长颈鹿馆在熊猫馆的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方向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4229280" y="5499000"/>
            <a:ext cx="1035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西北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矩形 8"/>
          <p:cNvSpPr/>
          <p:nvPr/>
        </p:nvSpPr>
        <p:spPr>
          <a:xfrm>
            <a:off x="4229280" y="5935680"/>
            <a:ext cx="1035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东南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矩形 8"/>
          <p:cNvSpPr/>
          <p:nvPr/>
        </p:nvSpPr>
        <p:spPr>
          <a:xfrm>
            <a:off x="611280" y="1695600"/>
            <a:ext cx="1584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8" name="Picture 12" descr="u1jx04_04"/>
          <p:cNvPicPr/>
          <p:nvPr/>
        </p:nvPicPr>
        <p:blipFill>
          <a:blip r:embed="rId1"/>
          <a:stretch/>
        </p:blipFill>
        <p:spPr>
          <a:xfrm>
            <a:off x="250920" y="1484280"/>
            <a:ext cx="5398920" cy="404964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20"/>
          <p:cNvGrpSpPr/>
          <p:nvPr/>
        </p:nvGrpSpPr>
        <p:grpSpPr>
          <a:xfrm>
            <a:off x="5508720" y="2349360"/>
            <a:ext cx="2851200" cy="2664000"/>
            <a:chOff x="5508720" y="2349360"/>
            <a:chExt cx="2851200" cy="2664000"/>
          </a:xfrm>
        </p:grpSpPr>
        <p:sp>
          <p:nvSpPr>
            <p:cNvPr id="110" name="AutoShape 27"/>
            <p:cNvSpPr/>
            <p:nvPr/>
          </p:nvSpPr>
          <p:spPr>
            <a:xfrm>
              <a:off x="5508720" y="2349360"/>
              <a:ext cx="2540160" cy="865440"/>
            </a:xfrm>
            <a:prstGeom prst="wedgeRoundRectCallout">
              <a:avLst>
                <a:gd name="adj1" fmla="val 41134"/>
                <a:gd name="adj2" fmla="val 804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对比两个问题，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有什么发现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11" name="Picture 16" descr="107"/>
            <p:cNvPicPr/>
            <p:nvPr/>
          </p:nvPicPr>
          <p:blipFill>
            <a:blip r:embed="rId2"/>
            <a:stretch/>
          </p:blipFill>
          <p:spPr>
            <a:xfrm>
              <a:off x="6918480" y="3573360"/>
              <a:ext cx="144144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Rectangle 51"/>
          <p:cNvSpPr/>
          <p:nvPr/>
        </p:nvSpPr>
        <p:spPr>
          <a:xfrm>
            <a:off x="1224000" y="5508720"/>
            <a:ext cx="5111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海洋馆在大门的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方向，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大门在海洋馆的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方向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" name="矩形 7"/>
          <p:cNvSpPr/>
          <p:nvPr/>
        </p:nvSpPr>
        <p:spPr>
          <a:xfrm>
            <a:off x="3500280" y="5456160"/>
            <a:ext cx="1081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东北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矩形 8"/>
          <p:cNvSpPr/>
          <p:nvPr/>
        </p:nvSpPr>
        <p:spPr>
          <a:xfrm>
            <a:off x="3506760" y="5956200"/>
            <a:ext cx="10684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西南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6" name="矩形 8"/>
          <p:cNvSpPr/>
          <p:nvPr/>
        </p:nvSpPr>
        <p:spPr>
          <a:xfrm>
            <a:off x="611280" y="1695600"/>
            <a:ext cx="1584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7" name="Picture 12" descr="u1jx04_04"/>
          <p:cNvPicPr/>
          <p:nvPr/>
        </p:nvPicPr>
        <p:blipFill>
          <a:blip r:embed="rId1"/>
          <a:stretch/>
        </p:blipFill>
        <p:spPr>
          <a:xfrm>
            <a:off x="250920" y="1484280"/>
            <a:ext cx="5398920" cy="404964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20"/>
          <p:cNvGrpSpPr/>
          <p:nvPr/>
        </p:nvGrpSpPr>
        <p:grpSpPr>
          <a:xfrm>
            <a:off x="5508720" y="2349360"/>
            <a:ext cx="2851200" cy="2664000"/>
            <a:chOff x="5508720" y="2349360"/>
            <a:chExt cx="2851200" cy="2664000"/>
          </a:xfrm>
        </p:grpSpPr>
        <p:sp>
          <p:nvSpPr>
            <p:cNvPr id="119" name="AutoShape 27"/>
            <p:cNvSpPr/>
            <p:nvPr/>
          </p:nvSpPr>
          <p:spPr>
            <a:xfrm>
              <a:off x="5508720" y="2349360"/>
              <a:ext cx="2540160" cy="865440"/>
            </a:xfrm>
            <a:prstGeom prst="wedgeRoundRectCallout">
              <a:avLst>
                <a:gd name="adj1" fmla="val 41134"/>
                <a:gd name="adj2" fmla="val 8045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对比两个问题，你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有什么发现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20" name="Picture 16" descr="107"/>
            <p:cNvPicPr/>
            <p:nvPr/>
          </p:nvPicPr>
          <p:blipFill>
            <a:blip r:embed="rId2"/>
            <a:stretch/>
          </p:blipFill>
          <p:spPr>
            <a:xfrm>
              <a:off x="6918480" y="3573360"/>
              <a:ext cx="144144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9" descr="松鼠6"/>
          <p:cNvPicPr/>
          <p:nvPr/>
        </p:nvPicPr>
        <p:blipFill>
          <a:blip r:embed="rId1"/>
          <a:stretch/>
        </p:blipFill>
        <p:spPr>
          <a:xfrm>
            <a:off x="179280" y="5445000"/>
            <a:ext cx="8604360" cy="1086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u1jx04_06"/>
          <p:cNvPicPr/>
          <p:nvPr/>
        </p:nvPicPr>
        <p:blipFill>
          <a:blip r:embed="rId2"/>
          <a:stretch/>
        </p:blipFill>
        <p:spPr>
          <a:xfrm>
            <a:off x="1042920" y="907920"/>
            <a:ext cx="6121440" cy="4591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Rectangle 51"/>
          <p:cNvSpPr/>
          <p:nvPr/>
        </p:nvSpPr>
        <p:spPr>
          <a:xfrm>
            <a:off x="611280" y="4567320"/>
            <a:ext cx="770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森林中的小动物各住在什么位置？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AutoShape 27"/>
          <p:cNvSpPr/>
          <p:nvPr/>
        </p:nvSpPr>
        <p:spPr>
          <a:xfrm>
            <a:off x="4394160" y="765000"/>
            <a:ext cx="2644920" cy="865440"/>
          </a:xfrm>
          <a:prstGeom prst="wedgeRoundRectCallout">
            <a:avLst>
              <a:gd name="adj1" fmla="val -37527"/>
              <a:gd name="adj2" fmla="val 16027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松鼠住在森林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北角，我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611280" y="5059440"/>
            <a:ext cx="5545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）小熊的送货路线是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3263760" y="5772240"/>
            <a:ext cx="93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东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5249880" y="5772240"/>
            <a:ext cx="574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南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7095960" y="5772240"/>
            <a:ext cx="50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西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矩形 8"/>
          <p:cNvSpPr/>
          <p:nvPr/>
        </p:nvSpPr>
        <p:spPr>
          <a:xfrm>
            <a:off x="611280" y="1695600"/>
            <a:ext cx="1584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楷体_GB2312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标题 5"/>
          <p:cNvSpPr/>
          <p:nvPr/>
        </p:nvSpPr>
        <p:spPr>
          <a:xfrm>
            <a:off x="988920" y="2521080"/>
            <a:ext cx="7010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作业：</a:t>
            </a: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楷体_GB2312"/>
              </a:rPr>
              <a:t>9</a:t>
            </a: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页练习二，第</a:t>
            </a: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1c1c1c"/>
                </a:solidFill>
                <a:latin typeface="楷体_GB2312"/>
                <a:ea typeface="楷体_GB2312"/>
              </a:rPr>
              <a:t>题。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1DA6-2B3C-471F-B30E-8E4C4D8BA47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情境导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4240080" y="2421000"/>
            <a:ext cx="79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cxnSp>
        <p:nvCxnSpPr>
          <p:cNvPr id="52" name="直接箭头连接符 2"/>
          <p:cNvCxnSpPr/>
          <p:nvPr/>
        </p:nvCxnSpPr>
        <p:spPr>
          <a:xfrm>
            <a:off x="2019240" y="4615920"/>
            <a:ext cx="5106240" cy="1080"/>
          </a:xfrm>
          <a:prstGeom prst="straightConnector1">
            <a:avLst/>
          </a:prstGeom>
          <a:ln w="28440">
            <a:solidFill>
              <a:srgbClr val="000000"/>
            </a:solidFill>
            <a:round/>
            <a:headEnd len="med" type="arrow" w="med"/>
            <a:tailEnd len="med" type="arrow" w="med"/>
          </a:ln>
        </p:spPr>
      </p:cxnSp>
      <p:cxnSp>
        <p:nvCxnSpPr>
          <p:cNvPr id="53" name="直接箭头连接符 4"/>
          <p:cNvCxnSpPr/>
          <p:nvPr/>
        </p:nvCxnSpPr>
        <p:spPr>
          <a:xfrm>
            <a:off x="4627080" y="2997000"/>
            <a:ext cx="1080" cy="3107160"/>
          </a:xfrm>
          <a:prstGeom prst="straightConnector1">
            <a:avLst/>
          </a:prstGeom>
          <a:ln w="28440">
            <a:solidFill>
              <a:srgbClr val="000000"/>
            </a:solidFill>
            <a:round/>
            <a:headEnd len="med" type="arrow" w="med"/>
            <a:tailEnd len="med" type="arrow" w="med"/>
          </a:ln>
        </p:spPr>
      </p:cxnSp>
      <p:sp>
        <p:nvSpPr>
          <p:cNvPr id="54" name="Text Box 22"/>
          <p:cNvSpPr/>
          <p:nvPr/>
        </p:nvSpPr>
        <p:spPr>
          <a:xfrm>
            <a:off x="3117960" y="3789360"/>
            <a:ext cx="115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西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4851360" y="3789360"/>
            <a:ext cx="115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东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4851360" y="4800600"/>
            <a:ext cx="1152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东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7" name="Text Box 25"/>
          <p:cNvSpPr/>
          <p:nvPr/>
        </p:nvSpPr>
        <p:spPr>
          <a:xfrm>
            <a:off x="3117960" y="4800600"/>
            <a:ext cx="115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西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1274760" y="4295880"/>
            <a:ext cx="79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西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7016760" y="4295880"/>
            <a:ext cx="792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东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4240080" y="6049800"/>
            <a:ext cx="792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楷体_GB2312"/>
              </a:rPr>
              <a:t>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61" name="Group 36"/>
          <p:cNvGrpSpPr/>
          <p:nvPr/>
        </p:nvGrpSpPr>
        <p:grpSpPr>
          <a:xfrm>
            <a:off x="3708360" y="1601640"/>
            <a:ext cx="4641840" cy="1441080"/>
            <a:chOff x="3708360" y="1601640"/>
            <a:chExt cx="4641840" cy="1441080"/>
          </a:xfrm>
        </p:grpSpPr>
        <p:sp>
          <p:nvSpPr>
            <p:cNvPr id="62" name="AutoShape 27"/>
            <p:cNvSpPr/>
            <p:nvPr/>
          </p:nvSpPr>
          <p:spPr>
            <a:xfrm>
              <a:off x="3708360" y="1744560"/>
              <a:ext cx="3205080" cy="557640"/>
            </a:xfrm>
            <a:prstGeom prst="wedgeRoundRectCallout">
              <a:avLst>
                <a:gd name="adj1" fmla="val 56365"/>
                <a:gd name="adj2" fmla="val -11125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看图确定其他七个方向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63" name="Picture 35" descr="107"/>
            <p:cNvPicPr/>
            <p:nvPr/>
          </p:nvPicPr>
          <p:blipFill>
            <a:blip r:embed="rId1"/>
            <a:stretch/>
          </p:blipFill>
          <p:spPr>
            <a:xfrm>
              <a:off x="6800760" y="1601640"/>
              <a:ext cx="1549440" cy="144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" name="Picture 37" descr="北和标志"/>
          <p:cNvPicPr/>
          <p:nvPr/>
        </p:nvPicPr>
        <p:blipFill>
          <a:blip r:embed="rId2"/>
          <a:stretch/>
        </p:blipFill>
        <p:spPr>
          <a:xfrm>
            <a:off x="1614600" y="2241720"/>
            <a:ext cx="44604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1"/>
          <p:cNvSpPr/>
          <p:nvPr/>
        </p:nvSpPr>
        <p:spPr>
          <a:xfrm>
            <a:off x="5400720" y="5137200"/>
            <a:ext cx="32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熊猫馆在西北角。去熊猫馆，可以先到狮山，再向西北走。也可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6" name="标题 5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67" name="Picture 6" descr="u1jx04_02"/>
          <p:cNvPicPr/>
          <p:nvPr/>
        </p:nvPicPr>
        <p:blipFill>
          <a:blip r:embed="rId1"/>
          <a:stretch/>
        </p:blipFill>
        <p:spPr>
          <a:xfrm>
            <a:off x="638280" y="1536840"/>
            <a:ext cx="6781680" cy="50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u1jx04_03"/>
          <p:cNvPicPr/>
          <p:nvPr/>
        </p:nvPicPr>
        <p:blipFill>
          <a:blip r:embed="rId1"/>
          <a:stretch/>
        </p:blipFill>
        <p:spPr>
          <a:xfrm>
            <a:off x="636480" y="1536840"/>
            <a:ext cx="6786720" cy="50911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Rectangle 51"/>
          <p:cNvSpPr/>
          <p:nvPr/>
        </p:nvSpPr>
        <p:spPr>
          <a:xfrm>
            <a:off x="5400720" y="53481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从长颈鹿馆先向西北走，到狮山，再向西南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452160" y="6394320"/>
            <a:ext cx="51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8" descr="u1jx04_04"/>
          <p:cNvPicPr/>
          <p:nvPr/>
        </p:nvPicPr>
        <p:blipFill>
          <a:blip r:embed="rId1"/>
          <a:srcRect l="18633" t="0" r="12066" b="0"/>
          <a:stretch/>
        </p:blipFill>
        <p:spPr>
          <a:xfrm>
            <a:off x="1143000" y="1530360"/>
            <a:ext cx="4705200" cy="50925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74" name="Group 13"/>
          <p:cNvGrpSpPr/>
          <p:nvPr/>
        </p:nvGrpSpPr>
        <p:grpSpPr>
          <a:xfrm>
            <a:off x="6227640" y="2133720"/>
            <a:ext cx="2449440" cy="3095640"/>
            <a:chOff x="6227640" y="2133720"/>
            <a:chExt cx="2449440" cy="3095640"/>
          </a:xfrm>
        </p:grpSpPr>
        <p:sp>
          <p:nvSpPr>
            <p:cNvPr id="75" name="AutoShape 27"/>
            <p:cNvSpPr/>
            <p:nvPr/>
          </p:nvSpPr>
          <p:spPr>
            <a:xfrm>
              <a:off x="6227640" y="2133720"/>
              <a:ext cx="2135160" cy="1376280"/>
            </a:xfrm>
            <a:prstGeom prst="wedgeRoundRectCallout">
              <a:avLst>
                <a:gd name="adj1" fmla="val 38833"/>
                <a:gd name="adj2" fmla="val 64574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说一说其他动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物分别在狮山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什么方向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76" name="Picture 12" descr="107"/>
            <p:cNvPicPr/>
            <p:nvPr/>
          </p:nvPicPr>
          <p:blipFill>
            <a:blip r:embed="rId2"/>
            <a:stretch/>
          </p:blipFill>
          <p:spPr>
            <a:xfrm>
              <a:off x="7235640" y="3789360"/>
              <a:ext cx="1441440" cy="14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78" name="Group 13"/>
          <p:cNvGrpSpPr/>
          <p:nvPr/>
        </p:nvGrpSpPr>
        <p:grpSpPr>
          <a:xfrm>
            <a:off x="6058080" y="2438280"/>
            <a:ext cx="2666880" cy="2791080"/>
            <a:chOff x="6058080" y="2438280"/>
            <a:chExt cx="2666880" cy="2791080"/>
          </a:xfrm>
        </p:grpSpPr>
        <p:sp>
          <p:nvSpPr>
            <p:cNvPr id="79" name="AutoShape 27"/>
            <p:cNvSpPr/>
            <p:nvPr/>
          </p:nvSpPr>
          <p:spPr>
            <a:xfrm>
              <a:off x="6058080" y="2438280"/>
              <a:ext cx="2666880" cy="990720"/>
            </a:xfrm>
            <a:prstGeom prst="wedgeRoundRectCallout">
              <a:avLst>
                <a:gd name="adj1" fmla="val 30976"/>
                <a:gd name="adj2" fmla="val 68421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同桌互相提出问题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并且试着解答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80" name="Picture 12" descr="107"/>
            <p:cNvPicPr/>
            <p:nvPr/>
          </p:nvPicPr>
          <p:blipFill>
            <a:blip r:embed="rId1"/>
            <a:stretch/>
          </p:blipFill>
          <p:spPr>
            <a:xfrm>
              <a:off x="7235640" y="3789360"/>
              <a:ext cx="1441080" cy="144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Picture 8" descr="u1jx04_04"/>
          <p:cNvPicPr/>
          <p:nvPr/>
        </p:nvPicPr>
        <p:blipFill>
          <a:blip r:embed="rId2"/>
          <a:srcRect l="18633" t="0" r="12066" b="0"/>
          <a:stretch/>
        </p:blipFill>
        <p:spPr>
          <a:xfrm>
            <a:off x="1143000" y="1530360"/>
            <a:ext cx="470520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2771640" y="3000240"/>
            <a:ext cx="4572000" cy="3237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611280" y="1695600"/>
            <a:ext cx="3889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生活中的数学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" name="AutoShape 27"/>
          <p:cNvSpPr/>
          <p:nvPr/>
        </p:nvSpPr>
        <p:spPr>
          <a:xfrm>
            <a:off x="4500720" y="1981080"/>
            <a:ext cx="2016000" cy="935280"/>
          </a:xfrm>
          <a:prstGeom prst="wedgeRoundRectCallout">
            <a:avLst>
              <a:gd name="adj1" fmla="val -37638"/>
              <a:gd name="adj2" fmla="val 67486"/>
              <a:gd name="adj3" fmla="val 16667"/>
            </a:avLst>
          </a:prstGeom>
          <a:noFill/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我能在夜空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找到北斗星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" name="AutoShape 27"/>
          <p:cNvSpPr/>
          <p:nvPr/>
        </p:nvSpPr>
        <p:spPr>
          <a:xfrm>
            <a:off x="565200" y="4378320"/>
            <a:ext cx="2020680" cy="1376280"/>
          </a:xfrm>
          <a:prstGeom prst="wedgeRoundRectCallout">
            <a:avLst>
              <a:gd name="adj1" fmla="val 62240"/>
              <a:gd name="adj2" fmla="val -3755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燕子每年都从北方飞往南方过冬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7" name="AutoShape 27"/>
          <p:cNvSpPr/>
          <p:nvPr/>
        </p:nvSpPr>
        <p:spPr>
          <a:xfrm>
            <a:off x="6588000" y="5626080"/>
            <a:ext cx="2146320" cy="560520"/>
          </a:xfrm>
          <a:prstGeom prst="wedgeRoundRectCallout">
            <a:avLst>
              <a:gd name="adj1" fmla="val -28875"/>
              <a:gd name="adj2" fmla="val -8592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刮西北风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1"/>
          <p:cNvSpPr/>
          <p:nvPr/>
        </p:nvSpPr>
        <p:spPr>
          <a:xfrm>
            <a:off x="1224000" y="5508720"/>
            <a:ext cx="59040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熊猫馆在动物园的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角，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飞禽馆在动物园的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角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3743280" y="5489640"/>
            <a:ext cx="136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西北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3708360" y="5956200"/>
            <a:ext cx="144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东北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92" name="Group 14"/>
          <p:cNvGrpSpPr/>
          <p:nvPr/>
        </p:nvGrpSpPr>
        <p:grpSpPr>
          <a:xfrm>
            <a:off x="5292720" y="2583000"/>
            <a:ext cx="3240000" cy="2693880"/>
            <a:chOff x="5292720" y="2583000"/>
            <a:chExt cx="3240000" cy="2693880"/>
          </a:xfrm>
        </p:grpSpPr>
        <p:sp>
          <p:nvSpPr>
            <p:cNvPr id="93" name="AutoShape 27"/>
            <p:cNvSpPr/>
            <p:nvPr/>
          </p:nvSpPr>
          <p:spPr>
            <a:xfrm>
              <a:off x="5292720" y="2583000"/>
              <a:ext cx="3046320" cy="865080"/>
            </a:xfrm>
            <a:prstGeom prst="wedgeRoundRectCallout">
              <a:avLst>
                <a:gd name="adj1" fmla="val 33972"/>
                <a:gd name="adj2" fmla="val 80458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根据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动物园导游图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回答问题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94" name="Picture 16" descr="107"/>
            <p:cNvPicPr/>
            <p:nvPr/>
          </p:nvPicPr>
          <p:blipFill>
            <a:blip r:embed="rId1"/>
            <a:stretch/>
          </p:blipFill>
          <p:spPr>
            <a:xfrm>
              <a:off x="7091280" y="3836880"/>
              <a:ext cx="1441440" cy="14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矩形 8"/>
          <p:cNvSpPr/>
          <p:nvPr/>
        </p:nvSpPr>
        <p:spPr>
          <a:xfrm>
            <a:off x="611280" y="1695600"/>
            <a:ext cx="1584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6" name="Picture 12" descr="u1jx04_04"/>
          <p:cNvPicPr/>
          <p:nvPr/>
        </p:nvPicPr>
        <p:blipFill>
          <a:blip r:embed="rId2"/>
          <a:stretch/>
        </p:blipFill>
        <p:spPr>
          <a:xfrm>
            <a:off x="250920" y="1484280"/>
            <a:ext cx="53989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1224000" y="5508720"/>
            <a:ext cx="68403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猴山在狮山的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方向，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长颈鹿馆在狮山的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_GB2312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方向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" name="矩形 7"/>
          <p:cNvSpPr/>
          <p:nvPr/>
        </p:nvSpPr>
        <p:spPr>
          <a:xfrm>
            <a:off x="3060720" y="5502240"/>
            <a:ext cx="1295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西南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" name="矩形 8"/>
          <p:cNvSpPr/>
          <p:nvPr/>
        </p:nvSpPr>
        <p:spPr>
          <a:xfrm>
            <a:off x="3586320" y="5950080"/>
            <a:ext cx="1584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Times New Roman"/>
              </a:rPr>
              <a:t>东南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1" name="矩形 8"/>
          <p:cNvSpPr/>
          <p:nvPr/>
        </p:nvSpPr>
        <p:spPr>
          <a:xfrm>
            <a:off x="611280" y="1695600"/>
            <a:ext cx="1584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2" name="Picture 9" descr="u1jx04_04"/>
          <p:cNvPicPr/>
          <p:nvPr/>
        </p:nvPicPr>
        <p:blipFill>
          <a:blip r:embed="rId1"/>
          <a:stretch/>
        </p:blipFill>
        <p:spPr>
          <a:xfrm>
            <a:off x="250920" y="1484280"/>
            <a:ext cx="53989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>第一PPT模板网-WWW.1PPT.COM</dc:description>
  <cp:keywords/>
  <dc:language>en-US</dc:language>
  <cp:lastModifiedBy>xinxing</cp:lastModifiedBy>
  <dcterms:modified xsi:type="dcterms:W3CDTF">2017-04-16T16:08:25Z</dcterms:modified>
  <cp:revision>66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