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EC9-90C1-4BEF-8766-B04249DE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3A0-BD28-44A8-B412-87845EA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144A0-35F8-4C4D-BBC1-0881A20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59257-D2EB-4685-90F1-4291CD11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DFE67-23C0-490F-AA02-E534A5B9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76674-7096-4E78-8CFC-C6143C9C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ECC0E-C6E4-46F3-A0BC-D3D5E718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CA495-1AAE-474C-963D-7BD291E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0862E-6E53-44BA-ACEF-65628170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7DA33-8AD4-47A4-919E-0C161468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1A8D4-64CC-4696-85C1-FEE6BDE3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F1DB8-C6D6-4CD7-96D0-B5422C50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DE3-7DA7-4450-A3F5-B46BCFE4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7EA1D-B07B-4212-821C-36C1608C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2B97A-D5A7-42F5-AF21-3EB35C60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DB0DB-D7C2-4435-827B-98C32A67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8FBEA-B8AD-417B-9E41-4856363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8CB58-2BE6-4B40-AB14-D0F4F562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8409B-7626-4CDA-A06A-C1DB15AA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28E13-D790-419B-A5D7-2F71EFBD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F0FF6-986F-4F58-875D-D99ED01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96AB5-5A1F-494C-9F67-B3B458F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DC700-2E22-4FB6-AF6F-E575A40F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977-26AA-4A41-9BCF-A1F7DB9A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F7D47-D4DC-4557-86CB-40A5E060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F3F8-1490-47FB-8AFB-B70E4318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E9EE7-0656-4428-B0F9-4D527F09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705F-C95F-4A43-9194-0DE6014A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53FA2-0DED-4CD6-954A-2025D233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740DB-AFF5-4B9F-BFEB-388BE152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EAD56-E392-4645-B4FA-56D4AFF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9630E-B5FB-4951-84BF-F3828BB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CF844-E224-499D-A35A-20C7567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2D076-00F4-4EF7-A44C-81C93F9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261A-A465-4245-8CC5-2075FA5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6092E-7893-476D-A781-46C2BF2C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53BF1-AD9A-4E5C-840B-7547DA12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D4DB1-6BAA-4B05-8D98-3775C204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46C92-2D0E-4E45-A1FE-C27A4F59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04AA5-C488-4D45-84AE-DC696F8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CC1F3-87FC-443D-9C69-5989F6EB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14744-AB91-4F6D-B16B-7B8343E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253AD-6C5C-40C3-8E74-9BEA31A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4C6B8-B4BF-4050-8466-C4A7302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6298B-BC4E-41C4-9970-9501D78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07C-A275-4409-85B9-2B1DEC92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37A07-88C8-4998-B6B7-F40B419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92501-5683-4888-A564-4A0853C8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83F23-E93E-4F6E-9C8F-EA482A03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8839E-4774-499A-ABA2-2DBE2BD6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E0FB9-1216-4B8A-95CA-C0876481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79916-B80C-45B7-9647-ADB28398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0384A-372E-4016-9093-E93167E2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10C44-A3B5-4033-9EDA-F581D52C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1B0FE-ABE2-49CA-970B-F2DE8E83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7FFC6-2CD4-4857-A215-57438741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198A-51F5-4B5B-ACA9-B224EF67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A3A25-1A23-4C24-9527-77C0AA7C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DABEA-4DB3-41CB-960C-330CBBB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DF278-4A83-4BA9-9934-A06124B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3C9B1-D420-45AD-A0F6-798FE78E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48E0E-B69A-4F79-8E1D-CD600A03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30ED5-CA24-43D9-B14C-DBDFC9A4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3F8C8-10E2-4521-86F6-1E144A5C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6C9E2-6205-4608-9D64-A2FA864E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DACAB-B3AE-4605-8138-22AEFA43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E1D5F-F8C5-4D7D-BD50-11BD4381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7CCA-17DC-496B-ACC9-A0768438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B68D2-8B4F-47C3-9C5B-4B70D33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BDFD4-E7AE-4FFD-8906-0F1B3D2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51026-2273-462F-B5FD-94C692BA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0AC4B-309D-40FB-B585-E7A4B29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98D09-BE5C-43B8-AF9C-9F91E37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9C9E3-C731-444F-9CD5-B59017F4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B3CF7-896A-4FD8-AC91-0E2EC703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446AA-9598-41AE-B57D-7F389A02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EAB6D-8271-4D2E-AE3A-438FE29E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E166D-8C74-4B51-ABC1-EC8A61A9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6065-E708-44BD-9F38-96F0BC4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CB1DF-7B6D-4B14-B609-BD1B8C2A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7A6AE-2EAF-4D60-96D8-DB425621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85179-871F-4640-AD6F-F56B0D1C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AE958-C76D-4179-B793-68B5558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23F39-4F2F-4FD1-9DE9-2CEF0C9F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326C5-4B9A-4C02-A90E-FA2223BB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E6DEA-AC64-4BC9-BA2C-0644F5E3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088F6-61FC-4D1A-A15A-989034EB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8090E7-23B4-4BA0-9F4B-515E0BD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96589-8D57-4AEA-8B8A-9D940C26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508C-61A4-47ED-BCD2-CB787D7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0971D-2CD1-4ED2-9E8F-3DD50FC1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D2C23-F42B-4398-B6C2-1EA1AE79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121E4-89E5-4CE3-A0B1-1719BA7A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F528E-606C-4D27-BB97-163B0074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D3ACB-B67F-46A7-ACB3-6984D98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65872-A85D-444E-AFE9-8DE31B9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798F4-D237-48EA-A281-88BF6F0E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24279-4861-4C28-9162-814DAF5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82F4C-5FB3-41EC-8CCF-DB35DFA3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117F3-E5FA-4868-994E-19C78FB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6301-BD60-4F66-A2F0-A9C12BC9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ADE6D-01B8-481C-9ECC-BF702B21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81A0C-7506-4517-B9C6-5D78CC0C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3C4C4-AD5C-4A72-9956-77B14A07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8EB2B-CB7A-4ADF-ADB7-554C1136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CF7E8-E0D0-4E33-9A89-2DD6ED73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6F967-C50D-4891-B572-7830C40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5EBD6-3D01-42EA-8BDC-A2983748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75E42-96C8-41A5-A572-14BCCCEC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F1C55-EFF9-43AF-ADA4-33A97537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5029D-2FA5-4FF9-A805-C517FCD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41A-725D-4DA9-9DD4-3A934CC8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78D4-2EC4-4A41-800A-CC36756A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29ED1-30B3-46EF-B557-9CDF2CF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FA462-5936-4266-85E5-DD7B5C9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ECA01-FBD7-443F-87E3-8C06CA37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7FB87-8A82-41EF-A402-0D619D88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FF790-C85E-40CF-B085-2667DB40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F7852-5AF9-4083-95B3-9CE203EC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F707F-09F7-42C0-8F0D-4D4871F0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A24ED-0A0F-4E7E-9874-2D89EA6F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A5884-1481-42D3-8DC7-FD4B2A87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45366-52D3-4DD2-8B4F-BA9A0C5B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9529-9253-46A2-B5AC-0289A92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65617-FDC4-4D20-A282-3CEF2183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91F6A-9335-4370-94F5-C8E475E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1C61E-7C97-46B6-8CEB-F0EA990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1924D-6A4A-40D6-A555-7EB0D79D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F3B04-6F41-4676-9851-BB172A6A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4F34F-6B89-47C4-AF8E-969E1920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890AD-6A38-4226-A298-B34E3900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3EE84-1A24-421F-8983-AD86603F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21008-B0E7-4B1C-8C4D-B0ECCD35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3231F8-8759-4D61-AA9C-AFDEB64A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DDA9-2F7F-48FC-A596-9BECF5B0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B44F3-882F-4328-B958-EB619C64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DFA94B-7E9D-4E91-BE03-80CE9E77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99B5D-BB5A-4084-8C8F-A9A8CC3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94C4E-94B1-4A4D-97C2-E51CFB45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91A28-E30D-4B48-BA0A-5D684B0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F3E30-1E32-4CDF-A8E6-2C41104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3902C-7B1F-4C69-AA45-2806EF6D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CB709-4708-4187-BF03-9766A938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F058BF-81A8-4A99-89C4-3082AE00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BC1D4-40D7-4F17-A31C-A4545C19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09A2-1DB8-4FAF-A759-D8DBA1DD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2D860-B1CD-4383-A025-3C48B3FD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D8EF9A-7427-4A39-A691-FD1B748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A4A10-EB9D-4D88-A5E1-009D432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56F6B-9B51-4B01-97D9-3F7CED2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D7691-6A6E-4A9E-B2E3-9A5C5CE9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8D663F-C30E-4D16-90D3-51EDF6DA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1447C-3E21-4345-99BF-9D6D75A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36CCC-4769-438D-ACD2-CB4ACBB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EDEA51-FAE7-47A3-8A9E-C39E1D1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B199D-ED9B-452B-A44B-F2E636C6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6581-BB01-441A-8487-21B50E5A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B97E4-F6C9-439E-9ED8-7240EF48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F522E8-B342-473F-8BCD-C0763956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D4B68-AD3C-404D-97EE-A2AA2CAD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E1A1B-5BC0-40CE-B644-B5D71DAB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AE281-3C6B-4944-8266-99A0367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24A44-2D92-48AD-A29C-6A712DFD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CAEFC-9C7D-4052-862C-6414888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9AB7C-A24D-4A46-94C2-58306D35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C8B79-27C4-41FB-B4FA-02C4356F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12EEA-FC68-46F8-A3A6-73198C7F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3A34-8A2D-4744-9237-93AB1030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E633E-D1E6-49C5-A913-D62D44E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0B278-78AE-4FB1-99F6-344353D9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A8DE0-080B-469E-9CBD-D1C99F62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011410-0507-4429-A2DB-B600524A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7D0C5-6C71-4F2C-9844-95A74EA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63EE9-FCA2-4CC9-B180-01C126F0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3C55EA-7FC3-4D2B-9A38-357BB19F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E6D628-1421-49B3-AC44-6F3F042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007AEF-3922-4C62-B9D0-068E0F6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C379A6-677C-402B-8BE7-7A2D0780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91F3-8635-432E-8288-CC54EE7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453EFB-33E4-428F-90BE-8BAA1A5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8BB908-47F4-4883-BB42-C520AAE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89B695-5D79-4368-96B8-D3D4F678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816535-C374-4B4C-B2DB-8AD800FD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4BCAD5-B200-4107-AAB0-E569FBC8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598AD8-D24D-4758-A1EB-EE84A263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BF8ECA-529E-4F17-9AC4-7F05FBAE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650538-84FF-4D5B-AD38-0B9CD4EB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7D204-AABA-48D1-BF3A-0BC0B274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CF5C08-9A40-451D-86BA-BB5B7304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003F-2656-40BD-BDBC-CD8CBC9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BCCAFE-1A80-429E-85B7-3EAB66C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3FE7F8-69BB-4E36-BECF-B5DF834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7AFD5E-91DC-40F1-9072-46FE0B0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67B85C-A097-4763-A709-6ADC93AF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49ED07-3319-49B3-8514-D601768D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7A4B94-3458-4F4F-8F11-17164595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72E5E1-B927-4E09-8AEA-9A4EB16B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F52954-7A8A-435B-92F7-6CD4EA0E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1387E0-60BA-455E-BF7F-FED87D6E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BE1AAB-647D-4386-AA0A-379B9A46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A0CC-2220-41E9-88BB-F1603C27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C0CCA1-C6F4-480C-81D4-199B6A96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D09E84-BAD6-4533-B846-9770C785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75C70-6833-4635-B1D9-2BF9B825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ACCD88-590F-45A5-B52D-49D795B1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812ACA-6EAE-4534-849F-E0CEAAC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258479-8D77-4765-8742-72D11ED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63DA10-AD1B-4F1A-8B3C-0F349AD9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326A90-6CF6-46FA-AF67-344020A4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5F0FA7-F461-4D5D-8817-7E5D4957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4371-69FF-4070-9114-A87B830C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45F-2724-416D-8CC2-A75817C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1CE9-CAC8-4333-9EC5-A9ED424C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32BC-51C7-4E8B-B52E-87E001D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7D2C-98AF-4FD5-B72E-83C98148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41E3-8F6C-475A-88B4-73E9F62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DBA5-21F0-430E-BDD0-240C84AD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BF10-D75C-4183-BEEE-6C41E721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8CBA-1257-4B82-8116-EDA962C6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6F78-77C6-4A92-BAC5-D2710EBC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ED86-61CD-46DA-BD55-6E75FCD8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3AE89-7F16-47EE-BADB-557D0A6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616-8965-4A7F-8949-2B309A34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90B32-E546-4408-8673-29C14D9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69AB-3995-40BF-8406-62E4AE0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6E6A-58DF-458E-A790-8140E4AE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F67A-752D-40D7-A7EA-2068855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9178-BE44-4E2E-87F1-EBCF006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FA28-F17F-4E14-9585-E5F56B0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A03A7-0EF0-4FBC-80FA-43C4F9B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A746-1D1F-4737-96E2-20CD20E2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B69D-7CB3-4284-B838-C0F05EF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F7E0-9766-4DFC-BA32-FD5977CB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5F9-06B9-4460-9BC8-B4329DF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85AA-1B41-4E82-B2B9-C9B3DDF7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024DA-E4E7-41FA-8AE7-E262A54E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BD4D-0AD3-4E6A-B390-AE1906AC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D8528-444E-4697-98F4-00F6B763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485B-B39C-4BA5-8F37-E2419AB0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8520-92D3-411D-B3CA-7BAC1184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2F7A-28EC-4040-AA63-B927010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2CB95-7C0C-43F1-BC18-8C152D7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2ADC-D773-4332-AD5A-6306ADE1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84764-7740-4CA0-835D-7B1FB8ED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8B1-8DE4-46F2-9704-8BFE562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2501D-371D-448B-A11E-2443FD4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B80D-4D09-4520-9349-6232FEC2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535AF-F162-424B-A966-F6432A5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2644A-263E-4FEF-8AB0-B651E528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E3DC-6BDE-4901-9DF2-97AF2BD3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28F06-A05D-498D-8680-570731F4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2BEB-ED34-429D-9FC8-FF54B010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C65E-1460-4464-92DB-94F2123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030B-C7BE-4C30-8754-57629A5D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9699-FEB8-42C3-A297-7A6E79C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663-C577-49EE-A3D0-111E284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E2BF-82F2-4881-9D06-D7A8332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386D-CBC3-4BAB-8CC5-B1D70561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ADA5-9B6C-40BD-9C26-813C2E05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EA305-96D9-4D3C-9F02-E695AE7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22E5C-8996-4228-A1F6-DFCE7BB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E353-AC2C-4050-930B-B7E9C77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3CAE-2F81-4B81-A404-6BDC33D6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60F2-84F7-4EA7-BEFC-C47CBD0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AD7AD-D6D6-42BF-ADA0-10977A42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7E48-974B-4CE6-BE72-8B7E9269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6B6-B496-4C6A-A47C-087A29C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D5A92-9D1B-425A-8900-49001EC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7291D-4584-48C1-82C7-33D8E70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8FEF5-6987-406D-B331-2C351AD0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1527B-6D62-4BF8-BBFD-F012CA20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DC7A2-8CA7-4A0C-B271-532F0979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3E864-AFDA-43F7-9EF2-74C2925B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E5559-9EEA-4513-AEF8-E91BA3D3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9199E-8366-4078-8BF5-EDC39BB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B345C-8BA1-4BAE-A429-1B83372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204E3-42AB-4FCA-B155-0DA7163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3F3-BDF9-4AED-A4B7-24F641A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F7F5E-AFF3-48DB-BED1-019BA563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41841-8254-4857-8A93-FA84ABE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FA6E6-A509-462E-A95F-62BABF8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BCFF-7736-4020-9AD6-59D2EC2E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3925-6188-488D-89AB-B0CE088D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A10D0-3C17-42CF-B5A8-31C11D5B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0885-9E4F-4B94-80AA-CA3A85CC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CCED3-421B-41C2-89E9-69019A46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134FF-457B-44B5-9474-528144BD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A609A-BB80-415F-9AAE-A757062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AA5D929-CD57-4E3C-A9BC-B25558673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3"/>
          <p:cNvPicPr/>
          <p:nvPr/>
        </p:nvPicPr>
        <p:blipFill>
          <a:blip r:embed="rId3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77673CA-EA2A-4B23-BCDA-2D3E4C1055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98DFA4D-D53D-4284-A516-F6472252B7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6B664AC-1E2B-45DA-918F-C33A348E4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08478DC-0598-4E9A-AA5A-1542AA086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20014A1-4044-431F-88DC-C0DAEB83D4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958CB4E-BBC6-4CF0-B24C-FA5DE3DAD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336755F-1692-4BA6-9F71-959538AEBE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102053A-88AC-4474-A1B8-4281A23AE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97A1F77-9474-4A73-BEC8-8644F510EA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0DC9F7C-138E-4AF9-9489-A26A47DCC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777F2B7-F22B-4120-BF51-88CFD282F9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3"/>
          <p:cNvPicPr/>
          <p:nvPr/>
        </p:nvPicPr>
        <p:blipFill>
          <a:blip r:embed="rId3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6000DD9-0E23-4259-8231-BFD486ED9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38B8DF7-9E05-4449-B15F-82C56B0768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5162A1C-45E2-46B5-A657-C2B94A330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98C5AB1-712F-4DCB-BDD4-729E477486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0AD0C67-1000-4DFC-A302-E2C855F35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6A2C006-70CB-4CEB-AAAA-8D03BF8A7C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DB49B40-61AA-4B75-909B-2F6FA53D4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8A2A185-FCC8-48CA-B04B-68EE81E23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16E65F5-A2B4-4DBB-BE00-B51134FEB8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A932484-0AB3-48EE-879F-3007FF508F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FDE48F1-38A4-48C9-B95A-5059462863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055FF46-E84F-434B-BEF6-D2ABD7C2D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5"/>
          <p:cNvSpPr/>
          <p:nvPr/>
        </p:nvSpPr>
        <p:spPr>
          <a:xfrm>
            <a:off x="162000" y="2076480"/>
            <a:ext cx="87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一次函数与一元一次方程课件</a:t>
            </a:r>
            <a:r>
              <a:rPr b="1" lang="en-US" sz="4000" spc="-1" strike="noStrike">
                <a:solidFill>
                  <a:srgbClr val="ff00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2308680" y="3236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2" descr="ws_2EB"/>
          <p:cNvPicPr/>
          <p:nvPr/>
        </p:nvPicPr>
        <p:blipFill>
          <a:blip r:embed="rId2"/>
          <a:stretch/>
        </p:blipFill>
        <p:spPr>
          <a:xfrm>
            <a:off x="673200" y="711360"/>
            <a:ext cx="3073320" cy="6346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3" descr="ws_2EC"/>
          <p:cNvPicPr/>
          <p:nvPr/>
        </p:nvPicPr>
        <p:blipFill>
          <a:blip r:embed="rId3"/>
          <a:stretch/>
        </p:blipFill>
        <p:spPr>
          <a:xfrm>
            <a:off x="4127400" y="4191120"/>
            <a:ext cx="1282680" cy="1498320"/>
          </a:xfrm>
          <a:prstGeom prst="rect">
            <a:avLst/>
          </a:prstGeom>
          <a:ln w="0">
            <a:noFill/>
          </a:ln>
        </p:spPr>
      </p:pic>
      <p:sp>
        <p:nvSpPr>
          <p:cNvPr id="991" name="Text Box 4"/>
          <p:cNvSpPr/>
          <p:nvPr/>
        </p:nvSpPr>
        <p:spPr>
          <a:xfrm>
            <a:off x="2775240" y="1527120"/>
            <a:ext cx="837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方正黑体_GBK"/>
              </a:rPr>
              <a:t>一次函数与一元一次方程的联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1400760" y="2070000"/>
            <a:ext cx="61610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探究：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求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交点，可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得到一元一次方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解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即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点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因此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就是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交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49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坐标，也是一元一次方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6"/>
          <p:cNvSpPr/>
          <p:nvPr/>
        </p:nvSpPr>
        <p:spPr>
          <a:xfrm>
            <a:off x="4542840" y="587520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7"/>
          <p:cNvSpPr/>
          <p:nvPr/>
        </p:nvSpPr>
        <p:spPr>
          <a:xfrm>
            <a:off x="960120" y="2556000"/>
            <a:ext cx="565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8"/>
          <p:cNvSpPr/>
          <p:nvPr/>
        </p:nvSpPr>
        <p:spPr>
          <a:xfrm>
            <a:off x="6560280" y="2584440"/>
            <a:ext cx="73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"/>
          <p:cNvSpPr/>
          <p:nvPr/>
        </p:nvSpPr>
        <p:spPr>
          <a:xfrm>
            <a:off x="1392120" y="3103560"/>
            <a:ext cx="838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,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0"/>
          <p:cNvSpPr/>
          <p:nvPr/>
        </p:nvSpPr>
        <p:spPr>
          <a:xfrm>
            <a:off x="1026000" y="3664080"/>
            <a:ext cx="1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4764960" y="3649680"/>
            <a:ext cx="1147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8199"/>
          <p:cNvSpPr/>
          <p:nvPr/>
        </p:nvSpPr>
        <p:spPr>
          <a:xfrm>
            <a:off x="2232000" y="96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2"/>
          <p:cNvSpPr/>
          <p:nvPr/>
        </p:nvSpPr>
        <p:spPr>
          <a:xfrm>
            <a:off x="1677240" y="1665360"/>
            <a:ext cx="573228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归纳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一次方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是一次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3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交点的横坐标，反过来，一次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的交点的横坐标是一元一次方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一次方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已知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，就是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点的横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2308680" y="3236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2" descr="ws_2ED"/>
          <p:cNvPicPr/>
          <p:nvPr/>
        </p:nvPicPr>
        <p:blipFill>
          <a:blip r:embed="rId2"/>
          <a:stretch/>
        </p:blipFill>
        <p:spPr>
          <a:xfrm>
            <a:off x="673200" y="711360"/>
            <a:ext cx="2781360" cy="6346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3" descr="ws_2EE"/>
          <p:cNvPicPr/>
          <p:nvPr/>
        </p:nvPicPr>
        <p:blipFill>
          <a:blip r:embed="rId3"/>
          <a:stretch/>
        </p:blipFill>
        <p:spPr>
          <a:xfrm>
            <a:off x="2019240" y="1666800"/>
            <a:ext cx="1400400" cy="4572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ws_2EF"/>
          <p:cNvPicPr/>
          <p:nvPr/>
        </p:nvPicPr>
        <p:blipFill>
          <a:blip r:embed="rId4"/>
          <a:stretch/>
        </p:blipFill>
        <p:spPr>
          <a:xfrm>
            <a:off x="6248520" y="3936960"/>
            <a:ext cx="1828800" cy="179064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5"/>
          <p:cNvSpPr/>
          <p:nvPr/>
        </p:nvSpPr>
        <p:spPr>
          <a:xfrm>
            <a:off x="1413720" y="4413240"/>
            <a:ext cx="437976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如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从函数图象上看，直线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交点坐标是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,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所以方程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909000" y="5999040"/>
            <a:ext cx="943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是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7"/>
          <p:cNvSpPr/>
          <p:nvPr/>
        </p:nvSpPr>
        <p:spPr>
          <a:xfrm>
            <a:off x="6957360" y="593892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8"/>
          <p:cNvSpPr/>
          <p:nvPr/>
        </p:nvSpPr>
        <p:spPr>
          <a:xfrm>
            <a:off x="1620000" y="1814400"/>
            <a:ext cx="62625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一元一次方程的关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题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画出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，并根据图象回答方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49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是什么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85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程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解就是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交点的横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ws_2F0"/>
          <p:cNvPicPr/>
          <p:nvPr/>
        </p:nvPicPr>
        <p:blipFill>
          <a:blip r:embed="rId2"/>
          <a:stretch/>
        </p:blipFill>
        <p:spPr>
          <a:xfrm>
            <a:off x="673200" y="711360"/>
            <a:ext cx="1676160" cy="4316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ws_2F1"/>
          <p:cNvPicPr/>
          <p:nvPr/>
        </p:nvPicPr>
        <p:blipFill>
          <a:blip r:embed="rId3"/>
          <a:stretch/>
        </p:blipFill>
        <p:spPr>
          <a:xfrm>
            <a:off x="4152960" y="3174840"/>
            <a:ext cx="1206360" cy="165132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4"/>
          <p:cNvSpPr/>
          <p:nvPr/>
        </p:nvSpPr>
        <p:spPr>
          <a:xfrm>
            <a:off x="4560120" y="1332000"/>
            <a:ext cx="541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2050200" y="1792440"/>
            <a:ext cx="5126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(3,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4758840" y="1763640"/>
            <a:ext cx="893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－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7"/>
          <p:cNvSpPr/>
          <p:nvPr/>
        </p:nvSpPr>
        <p:spPr>
          <a:xfrm>
            <a:off x="682560" y="1360440"/>
            <a:ext cx="7561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方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则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与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8"/>
          <p:cNvSpPr/>
          <p:nvPr/>
        </p:nvSpPr>
        <p:spPr>
          <a:xfrm>
            <a:off x="1862280" y="2238480"/>
            <a:ext cx="54021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如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已知一次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图象如图，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求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9"/>
          <p:cNvSpPr/>
          <p:nvPr/>
        </p:nvSpPr>
        <p:spPr>
          <a:xfrm>
            <a:off x="4268520" y="4968720"/>
            <a:ext cx="4287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10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0"/>
          <p:cNvSpPr/>
          <p:nvPr/>
        </p:nvSpPr>
        <p:spPr>
          <a:xfrm>
            <a:off x="1450800" y="5506920"/>
            <a:ext cx="6182280" cy="8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由图象可知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也就是解方程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60080" y="189000"/>
            <a:ext cx="807876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106200" y="1266480"/>
            <a:ext cx="8786880" cy="52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7170840" y="331920"/>
            <a:ext cx="13683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灯片编号占位符 1"/>
          <p:cNvSpPr/>
          <p:nvPr/>
        </p:nvSpPr>
        <p:spPr>
          <a:xfrm>
            <a:off x="64501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2D2BD44-3121-4DF2-B264-132570FDF4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5:15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5:5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e803000000000001024120</vt:lpwstr>
  </property>
</Properties>
</file>