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D982-03CE-461F-A8BF-4101A9C2B8B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4ECC-4299-4A48-8795-DC30F2B37C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B024-346B-4E44-BAC5-735A48492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014C-BF93-436C-B206-19A1C42C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24AB-5849-486D-81F4-674B1C36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5760-B5BF-48E0-86F1-DA8F742B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B398-1C19-4F09-8F3F-319F75F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09D5-1760-42C3-AA6A-85060420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CD3A-F01C-411E-B04A-3B59CFF2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463-8F7D-404B-9033-616C2B8F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263-29D2-4AC1-AEF3-5A4F2E57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E01-B5E9-4883-82AA-A046B411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FB2-62B5-4D36-896B-37178E1F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6A5-A0C8-4DB3-B226-EC526793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67EB-7E43-473C-BAE5-2553655C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35000" y="57240"/>
            <a:ext cx="8834400" cy="6696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332000" y="2060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22440" y="765000"/>
            <a:ext cx="7920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华文琥珀"/>
              </a:rPr>
              <a:t>证明地球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3300"/>
                </a:solidFill>
                <a:latin typeface="Arial"/>
                <a:ea typeface="华文琥珀"/>
              </a:rPr>
              <a:t>自转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6396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傅科摆foucault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8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6960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32000" y="40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疑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u=2415235194,206824528&amp;fm=0&amp;gp=0"/>
          <p:cNvPicPr/>
          <p:nvPr/>
        </p:nvPicPr>
        <p:blipFill>
          <a:blip r:embed="rId1"/>
          <a:stretch/>
        </p:blipFill>
        <p:spPr>
          <a:xfrm>
            <a:off x="1042920" y="1844640"/>
            <a:ext cx="2544840" cy="3600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140360" y="620640"/>
            <a:ext cx="475272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傅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国物理学家。在家里研究摆的规律时偶然发现摆的特性。为此他开始着手实验证明哥白尼日心学说的关键：地球是否自转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傅科完成了举世瞩目的傅科摆实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从而使人类第一次亲眼看到了地球是在自转，从而使更多的人开始接受哥白尼的日心学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952720" cy="80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252360" y="1484280"/>
            <a:ext cx="9396360" cy="5140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11280" y="9079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916360" y="227664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684360" y="4508640"/>
            <a:ext cx="8208720" cy="72720"/>
          </a:xfrm>
          <a:prstGeom prst="line">
            <a:avLst/>
          </a:prstGeom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179280" y="5229360"/>
            <a:ext cx="2737080" cy="71280"/>
          </a:xfrm>
          <a:prstGeom prst="line">
            <a:avLst/>
          </a:prstGeom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835280" y="6021360"/>
            <a:ext cx="3744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11280" y="9079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付科摆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43000" y="1981080"/>
            <a:ext cx="358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殊的悬挂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43000" y="281952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摆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43000" y="36576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摆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143000" y="4495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有度数的圆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6248520" y="760320"/>
            <a:ext cx="1066680" cy="839880"/>
            <a:chOff x="6248520" y="760320"/>
            <a:chExt cx="1066680" cy="839880"/>
          </a:xfrm>
        </p:grpSpPr>
        <p:grpSp>
          <p:nvGrpSpPr>
            <p:cNvPr id="105" name="Group 8"/>
            <p:cNvGrpSpPr/>
            <p:nvPr/>
          </p:nvGrpSpPr>
          <p:grpSpPr>
            <a:xfrm>
              <a:off x="6248520" y="760320"/>
              <a:ext cx="1066680" cy="76320"/>
              <a:chOff x="6248520" y="760320"/>
              <a:chExt cx="1066680" cy="76320"/>
            </a:xfrm>
          </p:grpSpPr>
          <p:sp>
            <p:nvSpPr>
              <p:cNvPr id="106" name="Line 9"/>
              <p:cNvSpPr/>
              <p:nvPr/>
            </p:nvSpPr>
            <p:spPr>
              <a:xfrm>
                <a:off x="6248520" y="836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0"/>
              <p:cNvGrpSpPr/>
              <p:nvPr/>
            </p:nvGrpSpPr>
            <p:grpSpPr>
              <a:xfrm>
                <a:off x="6400800" y="760320"/>
                <a:ext cx="838080" cy="76320"/>
                <a:chOff x="6400800" y="760320"/>
                <a:chExt cx="838080" cy="76320"/>
              </a:xfrm>
            </p:grpSpPr>
            <p:grpSp>
              <p:nvGrpSpPr>
                <p:cNvPr id="108" name="Group 11"/>
                <p:cNvGrpSpPr/>
                <p:nvPr/>
              </p:nvGrpSpPr>
              <p:grpSpPr>
                <a:xfrm>
                  <a:off x="6400800" y="760320"/>
                  <a:ext cx="380880" cy="76320"/>
                  <a:chOff x="6400800" y="760320"/>
                  <a:chExt cx="380880" cy="76320"/>
                </a:xfrm>
              </p:grpSpPr>
              <p:sp>
                <p:nvSpPr>
                  <p:cNvPr id="109" name="Line 12"/>
                  <p:cNvSpPr/>
                  <p:nvPr/>
                </p:nvSpPr>
                <p:spPr>
                  <a:xfrm flipV="1">
                    <a:off x="640080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3"/>
                  <p:cNvSpPr/>
                  <p:nvPr/>
                </p:nvSpPr>
                <p:spPr>
                  <a:xfrm flipV="1">
                    <a:off x="655308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14"/>
                  <p:cNvSpPr/>
                  <p:nvPr/>
                </p:nvSpPr>
                <p:spPr>
                  <a:xfrm flipV="1">
                    <a:off x="6705720" y="760320"/>
                    <a:ext cx="7596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15"/>
                <p:cNvGrpSpPr/>
                <p:nvPr/>
              </p:nvGrpSpPr>
              <p:grpSpPr>
                <a:xfrm>
                  <a:off x="6858000" y="760320"/>
                  <a:ext cx="380880" cy="76320"/>
                  <a:chOff x="6858000" y="760320"/>
                  <a:chExt cx="380880" cy="76320"/>
                </a:xfrm>
              </p:grpSpPr>
              <p:sp>
                <p:nvSpPr>
                  <p:cNvPr id="113" name="Line 16"/>
                  <p:cNvSpPr/>
                  <p:nvPr/>
                </p:nvSpPr>
                <p:spPr>
                  <a:xfrm flipV="1">
                    <a:off x="685800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17"/>
                  <p:cNvSpPr/>
                  <p:nvPr/>
                </p:nvSpPr>
                <p:spPr>
                  <a:xfrm flipV="1">
                    <a:off x="701028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8"/>
                  <p:cNvSpPr/>
                  <p:nvPr/>
                </p:nvSpPr>
                <p:spPr>
                  <a:xfrm flipV="1">
                    <a:off x="7162920" y="760320"/>
                    <a:ext cx="7596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Line 19"/>
            <p:cNvSpPr/>
            <p:nvPr/>
          </p:nvSpPr>
          <p:spPr>
            <a:xfrm>
              <a:off x="6782040" y="8366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rc 20"/>
            <p:cNvSpPr/>
            <p:nvPr/>
          </p:nvSpPr>
          <p:spPr>
            <a:xfrm>
              <a:off x="6728040" y="1143000"/>
              <a:ext cx="284040" cy="457200"/>
            </a:xfrm>
            <a:custGeom>
              <a:avLst/>
              <a:gdLst/>
              <a:ahLst/>
              <a:rect l="l" t="t" r="r" b="b"/>
              <a:pathLst>
                <a:path fill="none" w="26839" h="43200">
                  <a:moveTo>
                    <a:pt x="5238" y="0"/>
                  </a:moveTo>
                  <a:cubicBezTo>
                    <a:pt x="17168" y="0"/>
                    <a:pt x="26839" y="9670"/>
                    <a:pt x="26839" y="21600"/>
                  </a:cubicBezTo>
                  <a:cubicBezTo>
                    <a:pt x="26839" y="33529"/>
                    <a:pt x="17168" y="43200"/>
                    <a:pt x="5239" y="43200"/>
                  </a:cubicBezTo>
                  <a:cubicBezTo>
                    <a:pt x="3472" y="43200"/>
                    <a:pt x="1713" y="42983"/>
                    <a:pt x="-1" y="42555"/>
                  </a:cubicBezTo>
                </a:path>
                <a:path stroke="0" w="26839" h="43200">
                  <a:moveTo>
                    <a:pt x="5238" y="0"/>
                  </a:moveTo>
                  <a:cubicBezTo>
                    <a:pt x="17168" y="0"/>
                    <a:pt x="26839" y="9670"/>
                    <a:pt x="26839" y="21600"/>
                  </a:cubicBezTo>
                  <a:cubicBezTo>
                    <a:pt x="26839" y="33529"/>
                    <a:pt x="17168" y="43200"/>
                    <a:pt x="5239" y="43200"/>
                  </a:cubicBezTo>
                  <a:cubicBezTo>
                    <a:pt x="3472" y="43200"/>
                    <a:pt x="1713" y="42983"/>
                    <a:pt x="-1" y="42555"/>
                  </a:cubicBezTo>
                  <a:lnTo>
                    <a:pt x="5239" y="21600"/>
                  </a:lnTo>
                  <a:lnTo>
                    <a:pt x="5238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"/>
          <p:cNvGrpSpPr/>
          <p:nvPr/>
        </p:nvGrpSpPr>
        <p:grpSpPr>
          <a:xfrm>
            <a:off x="6625080" y="1369440"/>
            <a:ext cx="291960" cy="3507480"/>
            <a:chOff x="6625080" y="1369440"/>
            <a:chExt cx="291960" cy="3507480"/>
          </a:xfrm>
        </p:grpSpPr>
        <p:grpSp>
          <p:nvGrpSpPr>
            <p:cNvPr id="119" name="Group 22"/>
            <p:cNvGrpSpPr/>
            <p:nvPr/>
          </p:nvGrpSpPr>
          <p:grpSpPr>
            <a:xfrm>
              <a:off x="6625080" y="1369440"/>
              <a:ext cx="291960" cy="3354840"/>
              <a:chOff x="6625080" y="1369440"/>
              <a:chExt cx="291960" cy="3354840"/>
            </a:xfrm>
          </p:grpSpPr>
          <p:sp>
            <p:nvSpPr>
              <p:cNvPr id="120" name="Arc 23"/>
              <p:cNvSpPr/>
              <p:nvPr/>
            </p:nvSpPr>
            <p:spPr>
              <a:xfrm rot="10858800">
                <a:off x="6628680" y="1371600"/>
                <a:ext cx="284040" cy="457200"/>
              </a:xfrm>
              <a:custGeom>
                <a:avLst/>
                <a:gdLst/>
                <a:ahLst/>
                <a:rect l="l" t="t" r="r" b="b"/>
                <a:pathLst>
                  <a:path fill="none" w="26839" h="43200">
                    <a:moveTo>
                      <a:pt x="5238" y="0"/>
                    </a:moveTo>
                    <a:cubicBezTo>
                      <a:pt x="17168" y="0"/>
                      <a:pt x="26839" y="9670"/>
                      <a:pt x="26839" y="21600"/>
                    </a:cubicBezTo>
                    <a:cubicBezTo>
                      <a:pt x="26839" y="33529"/>
                      <a:pt x="17168" y="43200"/>
                      <a:pt x="5239" y="43200"/>
                    </a:cubicBezTo>
                    <a:cubicBezTo>
                      <a:pt x="3472" y="43200"/>
                      <a:pt x="1713" y="42983"/>
                      <a:pt x="-1" y="42555"/>
                    </a:cubicBezTo>
                  </a:path>
                  <a:path stroke="0" w="26839" h="43200">
                    <a:moveTo>
                      <a:pt x="5238" y="0"/>
                    </a:moveTo>
                    <a:cubicBezTo>
                      <a:pt x="17168" y="0"/>
                      <a:pt x="26839" y="9670"/>
                      <a:pt x="26839" y="21600"/>
                    </a:cubicBezTo>
                    <a:cubicBezTo>
                      <a:pt x="26839" y="33529"/>
                      <a:pt x="17168" y="43200"/>
                      <a:pt x="5239" y="43200"/>
                    </a:cubicBezTo>
                    <a:cubicBezTo>
                      <a:pt x="3472" y="43200"/>
                      <a:pt x="1713" y="42983"/>
                      <a:pt x="-1" y="42555"/>
                    </a:cubicBezTo>
                    <a:lnTo>
                      <a:pt x="5239" y="21600"/>
                    </a:lnTo>
                    <a:lnTo>
                      <a:pt x="5238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>
                <a:off x="68374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Oval 25"/>
            <p:cNvSpPr/>
            <p:nvPr/>
          </p:nvSpPr>
          <p:spPr>
            <a:xfrm>
              <a:off x="6761160" y="4724280"/>
              <a:ext cx="152280" cy="152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6"/>
          <p:cNvGrpSpPr/>
          <p:nvPr/>
        </p:nvGrpSpPr>
        <p:grpSpPr>
          <a:xfrm>
            <a:off x="5867280" y="4419720"/>
            <a:ext cx="1905120" cy="1066680"/>
            <a:chOff x="5867280" y="4419720"/>
            <a:chExt cx="1905120" cy="1066680"/>
          </a:xfrm>
        </p:grpSpPr>
        <p:sp>
          <p:nvSpPr>
            <p:cNvPr id="124" name="Oval 27"/>
            <p:cNvSpPr/>
            <p:nvPr/>
          </p:nvSpPr>
          <p:spPr>
            <a:xfrm>
              <a:off x="5867280" y="441972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 rot="20569800">
              <a:off x="6251040" y="4898880"/>
              <a:ext cx="1143000" cy="152280"/>
            </a:xfrm>
            <a:custGeom>
              <a:avLst/>
              <a:gdLst/>
              <a:ahLst/>
              <a:rect l="l" t="t" r="r" b="b"/>
              <a:pathLst>
                <a:path w="624" h="224">
                  <a:moveTo>
                    <a:pt x="0" y="192"/>
                  </a:moveTo>
                  <a:cubicBezTo>
                    <a:pt x="92" y="208"/>
                    <a:pt x="184" y="224"/>
                    <a:pt x="288" y="192"/>
                  </a:cubicBezTo>
                  <a:cubicBezTo>
                    <a:pt x="392" y="160"/>
                    <a:pt x="508" y="80"/>
                    <a:pt x="6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248160" y="4800600"/>
              <a:ext cx="1067040" cy="3049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cubicBezTo>
                    <a:pt x="64" y="16"/>
                    <a:pt x="128" y="32"/>
                    <a:pt x="240" y="48"/>
                  </a:cubicBezTo>
                  <a:cubicBezTo>
                    <a:pt x="352" y="64"/>
                    <a:pt x="592" y="88"/>
                    <a:pt x="67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710400" y="4633920"/>
              <a:ext cx="28440" cy="17172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0" y="0"/>
                  </a:moveTo>
                  <a:cubicBezTo>
                    <a:pt x="6" y="35"/>
                    <a:pt x="18" y="73"/>
                    <a:pt x="18" y="1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6838920" y="501984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0"/>
                  </a:moveTo>
                  <a:cubicBezTo>
                    <a:pt x="31" y="46"/>
                    <a:pt x="32" y="104"/>
                    <a:pt x="72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32"/>
          <p:cNvSpPr/>
          <p:nvPr/>
        </p:nvSpPr>
        <p:spPr>
          <a:xfrm>
            <a:off x="6781680" y="137160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讨论：傅科摆有什么特别之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傅科摆摆动后发生可什么现象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它为什么能证明地球在自转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傅科摆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08584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5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傅科在巴黎万神庙用单摆成功的作了一次著名的实验，用以证明地球自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图为万神庙外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巴黎万神庙(国葬院)"/>
          <p:cNvPicPr/>
          <p:nvPr/>
        </p:nvPicPr>
        <p:blipFill>
          <a:blip r:embed="rId1"/>
          <a:stretch/>
        </p:blipFill>
        <p:spPr>
          <a:xfrm>
            <a:off x="4191120" y="1905120"/>
            <a:ext cx="4321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940360" y="1523880"/>
            <a:ext cx="838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摆绳长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626160" y="1523880"/>
            <a:ext cx="838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摆锤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311960" y="1523880"/>
            <a:ext cx="838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方为直径６米的沙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92520" y="465120"/>
            <a:ext cx="13993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悬挂于大厅的傅科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万神庙大厅的傅科摆"/>
          <p:cNvPicPr/>
          <p:nvPr/>
        </p:nvPicPr>
        <p:blipFill>
          <a:blip r:embed="rId4"/>
          <a:stretch/>
        </p:blipFill>
        <p:spPr>
          <a:xfrm>
            <a:off x="2340000" y="457200"/>
            <a:ext cx="3600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当年傅科摆实验用的标尺和沙盘"/>
          <p:cNvPicPr/>
          <p:nvPr/>
        </p:nvPicPr>
        <p:blipFill>
          <a:blip r:embed="rId1"/>
          <a:stretch/>
        </p:blipFill>
        <p:spPr>
          <a:xfrm>
            <a:off x="4267080" y="990720"/>
            <a:ext cx="3846600" cy="4538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371600" y="16002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前傅科摆实验所用的 沙盘和标尺 现仍保存于巴黎万神庙大厅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19280" y="390600"/>
            <a:ext cx="5697360" cy="3633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412920" y="4581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傅科摆”作为地球自转的有力证据，现已为世界所公认。我国北京天文馆的大厅就有一个“傅科摆”，一个金属球吊在高高的圆穹顶上，摆下面是一个有刻度的大圆盘。摆摆动时人们可以在刻度盘上读取旋转的度数。前去参观的人们都喜欢在这里停留一段时间，亲眼看看地球是怎样自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76720" y="40766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天文馆“傅科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414440" y="57240"/>
            <a:ext cx="61722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古希腊天文学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地球的运动，提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理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波兰天文学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地球的运动，提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理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564000" y="76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托勒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68360" y="1341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地心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59280" y="220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哥白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7928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日心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blog.kxsy.net/UploadFiles/2008-6/261434321851.bmp"/>
          <p:cNvPicPr/>
          <p:nvPr/>
        </p:nvPicPr>
        <p:blipFill>
          <a:blip r:embed="rId1"/>
          <a:srcRect l="28234" t="18095" r="29410" b="27662"/>
          <a:stretch/>
        </p:blipFill>
        <p:spPr>
          <a:xfrm>
            <a:off x="2214720" y="2286000"/>
            <a:ext cx="3962160" cy="3438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华从地球自转的方向中判断，认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点表示的北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55640" y="692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由于地球自转发生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62864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河流的偏移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由北向南流的河，右边的河岸被河水洗刷的要严重一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00000" y="263700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00000" y="306864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深井测量法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从井的中心抛下一个物体，总在 一定的深度与井的东壁相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042920" y="4941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吹塑纸条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16360" cy="284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3941640" cy="2751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456000" cy="32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672000" cy="2824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3059280" y="3213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那种观点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钟摆摆动时，在没有外力的作用下，它将保持固定的摆动方向。如果地球在转动，那么钟摆下方的地面将旋转，而悬在空中的摆具有保持原来摆动方向的趋势，对于观察者来说，钟摆的摆动方向将会相对于地面发生变化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法国物理学家傅科为证明地球自转所设计的一种摆，称为博科摆。傅科摆绳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，绳端摆锤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，这种摆自由摆动时间较长，便于人们观察。摆下有一个有刻度的圆盘，盘上刻有通过圆心的直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11253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（一）探井测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1892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球时刻不停地自转，那么，由于自转速度随高度的增加而增大，自高处下降的物体，在下落过程中，必然具有较高的向东的自转速度，因而必然坠落在偏东的地点为了证实这一点，有人曾在很深的矿井中进行实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是：自井口中心下落物体，总在一定的深度同矿井东壁相撞。这从另一侧面证实了地球的自转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0"/>
            <a:ext cx="78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证明地球在自转的其他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148428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球时刻不停地自转，那么，地面上水平运动的物体，必然相对地发生持续的右边（北半球）或左边（南半球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这种观点，人们分析射出炮弹运动的方向，结果证实了上诉观点的正确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炮弹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1604880" y="5195880"/>
            <a:ext cx="51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阅读课文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92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页资料库中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地球自转会产生哪些突出现象？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518C-DBAD-48DA-BEDF-EEFF9995A7B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地心说的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35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日心说的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1197000"/>
            <a:ext cx="838836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地球是球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地球处于宇宙中心，而且静止不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所有的日月星辰都围绕地球转，并且 每天都做一次圆周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9640" y="4292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认为地球是球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9640" y="4941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地球是在运动，并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自转一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9640" y="5516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太阳是不动的，而且处于宇宙的中心，地球以及其他行星都一起围绕太阳做圆周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16000" y="98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球在自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160720" y="213372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怀疑？怀疑？怀疑？怀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059280" y="3500280"/>
            <a:ext cx="33843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拿什么证明？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79280" y="2571840"/>
            <a:ext cx="8715600" cy="1942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878120" y="68436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探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4427640" y="706320"/>
            <a:ext cx="2519280" cy="61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900000" y="170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验步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836640"/>
            <a:ext cx="20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95280" y="1890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实验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280" y="1125360"/>
            <a:ext cx="74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把转盘放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端正 ，放平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把摆放上去以后，调整好，不要让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它晃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每一次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实验做好以后，必须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重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回到静止时的位置，继续下一次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835280" y="3789360"/>
            <a:ext cx="64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平稳、缓慢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转动底盘，减         少外力对摆方向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不可以对着摆吹气，不可以碰着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95280" y="620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小组分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71640" y="3141720"/>
            <a:ext cx="62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55640" y="141300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由于摆动的范围比较大，加上旋摆架范围更大     建议：组员们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都站在摆架的后两侧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以免碰着它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个人拉动摆，一个人按住下面的底轮，另一人转动上一个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转轮，还有一人记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家一起观察摆的方向有没有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4941720"/>
            <a:ext cx="2665440" cy="630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73120" y="5857920"/>
            <a:ext cx="85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验证明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摆具有保持摆方向不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1484280"/>
          <a:ext cx="8064360" cy="2762280"/>
        </p:xfrm>
        <a:graphic>
          <a:graphicData uri="http://schemas.openxmlformats.org/drawingml/2006/table">
            <a:tbl>
              <a:tblPr/>
              <a:tblGrid>
                <a:gridCol w="4033800"/>
                <a:gridCol w="40305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盘和摆架转动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摆摆动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转动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缓慢而平稳地转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度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缓慢而平稳地转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度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缓慢而平稳地转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度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结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34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3887640" cy="606240"/>
          </a:xfrm>
          <a:prstGeom prst="rect">
            <a:avLst/>
          </a:prstGeom>
          <a:ln w="0">
            <a:noFill/>
          </a:ln>
        </p:spPr>
      </p:pic>
      <p:cxnSp>
        <p:nvCxnSpPr>
          <p:cNvPr id="84" name="直接箭头连接符 6"/>
          <p:cNvCxnSpPr/>
          <p:nvPr/>
        </p:nvCxnSpPr>
        <p:spPr>
          <a:xfrm flipV="1">
            <a:off x="4357800" y="4071240"/>
            <a:ext cx="2071800" cy="1857960"/>
          </a:xfrm>
          <a:prstGeom prst="straightConnector1">
            <a:avLst/>
          </a:prstGeom>
          <a:ln w="76320">
            <a:solidFill>
              <a:srgbClr val="b6dcd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如果地球表面竖立一个巨大的摆，当地球这个圆盘转动后（自转），会出现什么现象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过来，如果真的有这样一个摆，而且摆动的方向发生了偏移，又说明了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9:16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55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