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5.wmf" ContentType="image/x-wmf"/>
  <Override PartName="/ppt/media/applause.wav" ContentType="audio/x-wav"/>
  <Override PartName="/ppt/media/image27.jpeg" ContentType="image/jpeg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26.gif" ContentType="image/gif"/>
  <Override PartName="/ppt/media/image15.jpeg" ContentType="image/jpeg"/>
  <Override PartName="/ppt/media/image25.wmf" ContentType="image/x-wmf"/>
  <Override PartName="/ppt/media/image24.wmf" ContentType="image/x-wmf"/>
  <Override PartName="/ppt/media/image19.gif" ContentType="image/gif"/>
  <Override PartName="/ppt/media/image1.jpeg" ContentType="image/jpeg"/>
  <Override PartName="/ppt/media/chimes.wav" ContentType="audio/x-wav"/>
  <Override PartName="/ppt/media/image16.png" ContentType="image/png"/>
  <Override PartName="/ppt/media/image21.jpeg" ContentType="image/jpeg"/>
  <Override PartName="/ppt/media/image17.gif" ContentType="image/gif"/>
  <Override PartName="/ppt/media/image14.jpeg" ContentType="image/jpeg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  <p:custShowLst>
    <p:custShow name="自定义放映1" id="0">
      <p:sldLst>
        <p:sld r:id="rId9"/>
      </p:sldLst>
    </p:custShow>
    <p:custShow name="自定义放映2" id="1">
      <p:sldLst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1DA-0645-4613-8462-6D041AD4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FE3-09F3-490B-AABC-E3190B3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652-3C65-41B9-86A6-00A451D7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990-26CA-4272-A838-CDE80D69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1F55-8A3B-4DAA-8F3A-8426E580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BCC9-B08C-48FC-A31B-B893FA6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CFF2-8270-48C3-BB13-277AFC8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A720-759E-4107-BCFE-A711C93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893E-E2B1-46E0-801F-1F0E99C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AD3E-BF46-4A1F-8D64-7FE2C460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E977-6053-44D2-B5E8-9B92FDC5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B28-C04E-4AB8-AA03-CB0C5C1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7676-8A86-4031-98EF-142A43EC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13F3-929D-40A4-A6FD-3947E2B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120-5952-48F5-84C2-AF7EDE57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5211-98A7-4EC3-A716-95FCD1DC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DB6C-5FD4-4DC7-8839-61DC55AC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CB3-1AE8-4AEE-A359-D0A1F39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7A7-B223-4B86-9C44-B7DA2293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7B2-D72A-4512-B855-59E8A1BA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31D-F1BD-40CA-AA51-2124AD73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884-5166-4E49-A43F-8BB7AD0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A91-BAA5-47DF-8713-57F1A0E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E1B-7EAB-4422-988A-DCF210D6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2F1-27D8-4262-8E9A-61DCA5671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30DA-417C-45AA-8857-D3D4BAECEC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2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8.gif"/><Relationship Id="rId3" Type="http://schemas.openxmlformats.org/officeDocument/2006/relationships/slide" Target="slide2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.xml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2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9718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幼圆"/>
                <a:ea typeface="幼圆"/>
              </a:rPr>
              <a:t>　 </a:t>
            </a:r>
            <a:r>
              <a:rPr b="1" lang="en-US" sz="5400" spc="-1" strike="noStrike">
                <a:solidFill>
                  <a:srgbClr val="ffcc66"/>
                </a:solidFill>
                <a:latin typeface="幼圆"/>
                <a:ea typeface="幼圆"/>
              </a:rPr>
              <a:t>1</a:t>
            </a:r>
            <a:r>
              <a:rPr b="1" lang="zh-CN" sz="5400" spc="-1" strike="noStrike">
                <a:solidFill>
                  <a:srgbClr val="ffcc66"/>
                </a:solidFill>
                <a:latin typeface="幼圆"/>
                <a:ea typeface="幼圆"/>
              </a:rPr>
              <a:t>　在山的那边　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　　　　　　王家新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Picture 6" descr="图片1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350028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1968840" y="5877000"/>
            <a:ext cx="6143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6" descr="图片7"/>
          <p:cNvPicPr/>
          <p:nvPr/>
        </p:nvPicPr>
        <p:blipFill>
          <a:blip r:embed="rId1"/>
          <a:stretch/>
        </p:blipFill>
        <p:spPr>
          <a:xfrm>
            <a:off x="1116000" y="3357720"/>
            <a:ext cx="3960720" cy="351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图片8"/>
          <p:cNvPicPr/>
          <p:nvPr/>
        </p:nvPicPr>
        <p:blipFill>
          <a:blip r:embed="rId2"/>
          <a:stretch/>
        </p:blipFill>
        <p:spPr>
          <a:xfrm>
            <a:off x="5076720" y="3311640"/>
            <a:ext cx="406728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图片6"/>
          <p:cNvPicPr/>
          <p:nvPr/>
        </p:nvPicPr>
        <p:blipFill>
          <a:blip r:embed="rId3"/>
          <a:stretch/>
        </p:blipFill>
        <p:spPr>
          <a:xfrm>
            <a:off x="5040360" y="0"/>
            <a:ext cx="4140000" cy="3551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图片5"/>
          <p:cNvPicPr/>
          <p:nvPr/>
        </p:nvPicPr>
        <p:blipFill>
          <a:blip r:embed="rId4"/>
          <a:stretch/>
        </p:blipFill>
        <p:spPr>
          <a:xfrm>
            <a:off x="1116000" y="0"/>
            <a:ext cx="3960720" cy="35733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4"/>
          <p:cNvSpPr txBox="1"/>
          <p:nvPr/>
        </p:nvSpPr>
        <p:spPr>
          <a:xfrm>
            <a:off x="1143000" y="2133720"/>
            <a:ext cx="2819520" cy="12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惊涛骇浪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5181480" y="2133720"/>
            <a:ext cx="29718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风平浪静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5181480" y="5486400"/>
            <a:ext cx="30862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水天一色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1143000" y="5562720"/>
            <a:ext cx="30862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碧水红花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6" name="MTS_898.WAV" descr=""/>
          <p:cNvPicPr/>
          <p:nvPr/>
        </p:nvPicPr>
        <p:blipFill>
          <a:blip r:embed="rId5"/>
          <a:stretch/>
        </p:blipFill>
        <p:spPr>
          <a:xfrm>
            <a:off x="45720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MTS_002.WAV" descr=""/>
          <p:cNvPicPr/>
          <p:nvPr/>
        </p:nvPicPr>
        <p:blipFill>
          <a:blip r:embed="rId6"/>
          <a:stretch/>
        </p:blipFill>
        <p:spPr>
          <a:xfrm>
            <a:off x="46483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MTS_899.WAV" descr=""/>
          <p:cNvPicPr/>
          <p:nvPr/>
        </p:nvPicPr>
        <p:blipFill>
          <a:blip r:embed="rId7"/>
          <a:stretch/>
        </p:blipFill>
        <p:spPr>
          <a:xfrm>
            <a:off x="86868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MTS_914.WAV" descr=""/>
          <p:cNvPicPr/>
          <p:nvPr/>
        </p:nvPicPr>
        <p:blipFill>
          <a:blip r:embed="rId8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373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1"/>
                            </p:stCondLst>
                            <p:childTnLst>
                              <p:par>
                                <p:cTn id="26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45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590920" y="304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幼圆"/>
              </a:rPr>
              <a:t>作者说的海是什么样子的呢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371600" y="53341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幼圆"/>
              </a:rPr>
              <a:t>你和作者的描述一样吗</a:t>
            </a:r>
            <a:r>
              <a:rPr b="1" i="1" lang="zh-CN" sz="60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3733920" y="121932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—</a:t>
            </a:r>
            <a:r>
              <a:rPr b="1" lang="zh-CN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信念凝成的海</a:t>
            </a:r>
            <a:endParaRPr b="1" lang="en-US" sz="4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2743200" y="2514600"/>
            <a:ext cx="601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—</a:t>
            </a:r>
            <a:r>
              <a:rPr b="1" lang="zh-CN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一个全新的世界</a:t>
            </a:r>
            <a:endParaRPr b="1" lang="en-US" sz="4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1371600" y="3962520"/>
            <a:ext cx="7543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—</a:t>
            </a:r>
            <a:r>
              <a:rPr b="1" lang="zh-CN" sz="4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在一瞬间照亮你的眼睛</a:t>
            </a:r>
            <a:endParaRPr b="1" lang="en-US" sz="4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666880" y="228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他说怎样才能见到这样的海呢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4038480" y="990720"/>
            <a:ext cx="1752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371600" y="3276720"/>
            <a:ext cx="7467480" cy="297180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981080" y="40384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828800" y="40384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经过无数座山，一次次战胜失望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895480" y="10666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幼圆"/>
              </a:rPr>
              <a:t>请你来讲述一下诗的内容，把寻海的过程尽量描述得细致一些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524701.mp3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523880" y="1905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觉得作者小时候为什么那么想见山那边的大海？他是不是嫌山区太穷、不美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523880" y="30481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对大海还有好奇吗？为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523880" y="3809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觉得诗中寻海的孩子有什么特点？成年之后的他，是真的在寻找海吗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523880" y="4952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幼圆"/>
              </a:rPr>
              <a:t>你觉得作者找到那个海了吗？说出理由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WordArt 14"/>
          <p:cNvSpPr txBox="1"/>
          <p:nvPr/>
        </p:nvSpPr>
        <p:spPr>
          <a:xfrm>
            <a:off x="2590920" y="685800"/>
            <a:ext cx="3114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深入体会</a:t>
            </a:r>
            <a:endParaRPr b="1" lang="en-US" sz="80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ffff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1" name="WordArt 16"/>
          <p:cNvSpPr txBox="1"/>
          <p:nvPr/>
        </p:nvSpPr>
        <p:spPr>
          <a:xfrm>
            <a:off x="6029280" y="685800"/>
            <a:ext cx="3114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经验碰撞</a:t>
            </a:r>
            <a:endParaRPr b="1" lang="en-US" sz="80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ffff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2" name="AutoShape 17"/>
          <p:cNvSpPr/>
          <p:nvPr/>
        </p:nvSpPr>
        <p:spPr>
          <a:xfrm>
            <a:off x="5334120" y="380880"/>
            <a:ext cx="1143000" cy="1600200"/>
          </a:xfrm>
          <a:prstGeom prst="irregularSeal2">
            <a:avLst/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gril1"/>
          <p:cNvPicPr/>
          <p:nvPr/>
        </p:nvPicPr>
        <p:blipFill>
          <a:blip r:embed="rId1"/>
          <a:stretch/>
        </p:blipFill>
        <p:spPr>
          <a:xfrm>
            <a:off x="1143000" y="0"/>
            <a:ext cx="2057400" cy="4068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3200400" y="12952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没见过，好奇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00400" y="2819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想知道山外边的世界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00400" y="43434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不满意与不满足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ril1"/>
          <p:cNvPicPr/>
          <p:nvPr/>
        </p:nvPicPr>
        <p:blipFill>
          <a:blip r:embed="rId1"/>
          <a:stretch/>
        </p:blipFill>
        <p:spPr>
          <a:xfrm>
            <a:off x="1143000" y="0"/>
            <a:ext cx="2057400" cy="4068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276720" y="16002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保持对未知世界的好奇，这是进取心，是追求进步的原动力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惊奇动画"/>
          <p:cNvPicPr/>
          <p:nvPr/>
        </p:nvPicPr>
        <p:blipFill>
          <a:blip r:embed="rId1"/>
          <a:stretch/>
        </p:blipFill>
        <p:spPr>
          <a:xfrm>
            <a:off x="1143000" y="0"/>
            <a:ext cx="1859040" cy="22096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2971800" y="762120"/>
            <a:ext cx="5695920" cy="13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9360">
                  <a:solidFill>
                    <a:srgbClr val="ff3300"/>
                  </a:solidFill>
                  <a:round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好问，爱思考</a:t>
            </a:r>
            <a:endParaRPr b="1" lang="en-US" sz="8000" spc="1" strike="noStrike">
              <a:ln cap="sq" w="9360">
                <a:solidFill>
                  <a:srgbClr val="ff3300"/>
                </a:solidFill>
                <a:round/>
              </a:ln>
              <a:solidFill>
                <a:srgbClr val="ffff66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81" name="Picture 8" descr="D10"/>
          <p:cNvPicPr/>
          <p:nvPr/>
        </p:nvPicPr>
        <p:blipFill>
          <a:blip r:embed="rId2"/>
          <a:stretch/>
        </p:blipFill>
        <p:spPr>
          <a:xfrm>
            <a:off x="1143000" y="3505320"/>
            <a:ext cx="1676520" cy="2361960"/>
          </a:xfrm>
          <a:prstGeom prst="rect">
            <a:avLst/>
          </a:prstGeom>
          <a:ln w="0">
            <a:noFill/>
          </a:ln>
        </p:spPr>
      </p:pic>
      <p:sp>
        <p:nvSpPr>
          <p:cNvPr id="182" name="WordArt 9"/>
          <p:cNvSpPr txBox="1"/>
          <p:nvPr/>
        </p:nvSpPr>
        <p:spPr>
          <a:xfrm>
            <a:off x="2895480" y="3733920"/>
            <a:ext cx="6096240" cy="13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9360">
                  <a:solidFill>
                    <a:srgbClr val="ff3300"/>
                  </a:solidFill>
                  <a:round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努力奋斗实现理想</a:t>
            </a:r>
            <a:endParaRPr b="1" lang="en-US" sz="8000" spc="1" strike="noStrike">
              <a:ln cap="sq" w="9360">
                <a:solidFill>
                  <a:srgbClr val="ff3300"/>
                </a:solidFill>
                <a:round/>
              </a:ln>
              <a:solidFill>
                <a:srgbClr val="ffff66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t002-01"/>
          <p:cNvPicPr/>
          <p:nvPr/>
        </p:nvPicPr>
        <p:blipFill>
          <a:blip r:embed="rId1"/>
          <a:stretch/>
        </p:blipFill>
        <p:spPr>
          <a:xfrm>
            <a:off x="1143000" y="3352680"/>
            <a:ext cx="4038480" cy="35053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232480" y="0"/>
            <a:ext cx="911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奋斗的目的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7319520" y="685800"/>
            <a:ext cx="911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成功的彼岸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176520" y="1371600"/>
            <a:ext cx="91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幸福的家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455000" y="2057400"/>
            <a:ext cx="164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美丽新世界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……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12" descr="图片10"/>
          <p:cNvPicPr/>
          <p:nvPr/>
        </p:nvPicPr>
        <p:blipFill>
          <a:blip r:embed="rId2"/>
          <a:stretch/>
        </p:blipFill>
        <p:spPr>
          <a:xfrm>
            <a:off x="1116000" y="44280"/>
            <a:ext cx="410364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371600" y="228600"/>
            <a:ext cx="47242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25560">
                  <a:solidFill>
                    <a:srgbClr val="996600"/>
                  </a:solidFill>
                  <a:round/>
                </a:ln>
                <a:solidFill>
                  <a:srgbClr val="eeb00b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幼圆"/>
              </a:rPr>
              <a:t>朗读大比拼</a:t>
            </a:r>
            <a:endParaRPr b="1" lang="en-US" sz="6600" spc="1" strike="noStrike">
              <a:ln cap="sq" w="25560">
                <a:solidFill>
                  <a:srgbClr val="996600"/>
                </a:solidFill>
                <a:round/>
              </a:ln>
              <a:solidFill>
                <a:srgbClr val="eeb00b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90" name="4427腰鼓声.wav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BD06982_"/>
          <p:cNvPicPr/>
          <p:nvPr/>
        </p:nvPicPr>
        <p:blipFill>
          <a:blip r:embed="rId2"/>
          <a:stretch/>
        </p:blipFill>
        <p:spPr>
          <a:xfrm>
            <a:off x="2057400" y="2514600"/>
            <a:ext cx="5638680" cy="30225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6"/>
          <p:cNvSpPr/>
          <p:nvPr/>
        </p:nvSpPr>
        <p:spPr>
          <a:xfrm>
            <a:off x="609480" y="190512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eeb00b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95280" y="3124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　　</a:t>
            </a:r>
            <a:r>
              <a:rPr b="0" lang="zh-CN" sz="3600" spc="-1" strike="noStrike">
                <a:solidFill>
                  <a:srgbClr val="200b5b"/>
                </a:solidFill>
                <a:latin typeface="Times New Roman"/>
                <a:ea typeface="华文琥珀"/>
              </a:rPr>
              <a:t>乙组齐读，丙组打分，丁组朗读，甲组打分。班长统计各组成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幼圆"/>
              </a:rPr>
              <a:t>本课任务：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4284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幼圆"/>
              </a:rPr>
              <a:t>朗读芳草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幼圆"/>
              </a:rPr>
              <a:t>蓝色起跑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探究研讨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思维宽带网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创作运动场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617220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66ff33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AutoShape 5">
            <a:hlinkClick r:id="rId2" action="ppaction://hlinksldjump"/>
          </p:cNvPr>
          <p:cNvSpPr/>
          <p:nvPr/>
        </p:nvSpPr>
        <p:spPr>
          <a:xfrm>
            <a:off x="6248520" y="2666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AutoShape 6">
            <a:hlinkClick r:id="rId3" action="ppaction://hlinksldjump"/>
          </p:cNvPr>
          <p:cNvSpPr/>
          <p:nvPr/>
        </p:nvSpPr>
        <p:spPr>
          <a:xfrm>
            <a:off x="6248520" y="35053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33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AutoShape 7">
            <a:hlinkClick r:id="rId4" action="ppaction://hlinksldjump"/>
          </p:cNvPr>
          <p:cNvSpPr/>
          <p:nvPr/>
        </p:nvSpPr>
        <p:spPr>
          <a:xfrm>
            <a:off x="624852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AutoShape 8">
            <a:hlinkClick r:id="rId5" action="ppaction://hlinksldjump"/>
          </p:cNvPr>
          <p:cNvSpPr/>
          <p:nvPr/>
        </p:nvSpPr>
        <p:spPr>
          <a:xfrm>
            <a:off x="6248520" y="5105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439560" y="6095880"/>
            <a:ext cx="67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1371600" y="228600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幼圆"/>
              </a:rPr>
              <a:t>思考：在寻海的过程中“我”的心情有什么变化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Picture 4" descr="question动画"/>
          <p:cNvPicPr/>
          <p:nvPr/>
        </p:nvPicPr>
        <p:blipFill>
          <a:blip r:embed="rId1"/>
          <a:stretch/>
        </p:blipFill>
        <p:spPr>
          <a:xfrm>
            <a:off x="3429000" y="1676520"/>
            <a:ext cx="2819520" cy="3657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惊奇动画"/>
          <p:cNvPicPr/>
          <p:nvPr/>
        </p:nvPicPr>
        <p:blipFill>
          <a:blip r:embed="rId2"/>
          <a:stretch/>
        </p:blipFill>
        <p:spPr>
          <a:xfrm>
            <a:off x="1143000" y="0"/>
            <a:ext cx="1859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1219320" y="1447920"/>
            <a:ext cx="15429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好奇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3886200" y="4038120"/>
            <a:ext cx="457200" cy="30492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828800" y="2819520"/>
            <a:ext cx="380880" cy="38088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1523880" y="2666880"/>
            <a:ext cx="15433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失望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2514600" y="3962520"/>
            <a:ext cx="380880" cy="38088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2286000" y="3886200"/>
            <a:ext cx="1542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委屈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4343400" y="2743200"/>
            <a:ext cx="1542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疑惑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5181480" y="4114800"/>
            <a:ext cx="381240" cy="38088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WordArt 12"/>
          <p:cNvSpPr txBox="1"/>
          <p:nvPr/>
        </p:nvSpPr>
        <p:spPr>
          <a:xfrm>
            <a:off x="4876920" y="4191120"/>
            <a:ext cx="15429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失望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6" name="WordArt 14"/>
          <p:cNvSpPr txBox="1"/>
          <p:nvPr/>
        </p:nvSpPr>
        <p:spPr>
          <a:xfrm>
            <a:off x="7315200" y="3581280"/>
            <a:ext cx="1542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坚定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 flipV="1">
            <a:off x="7924680" y="3504960"/>
            <a:ext cx="0" cy="53316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WordArt 17"/>
          <p:cNvSpPr txBox="1"/>
          <p:nvPr/>
        </p:nvSpPr>
        <p:spPr>
          <a:xfrm>
            <a:off x="7162920" y="2362320"/>
            <a:ext cx="13906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欣喜</a:t>
            </a:r>
            <a:endParaRPr b="1" lang="en-US" sz="54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sp>
        <p:nvSpPr>
          <p:cNvPr id="210" name="Line 18"/>
          <p:cNvSpPr/>
          <p:nvPr/>
        </p:nvSpPr>
        <p:spPr>
          <a:xfrm flipV="1">
            <a:off x="7848720" y="2133360"/>
            <a:ext cx="0" cy="533160"/>
          </a:xfrm>
          <a:prstGeom prst="line">
            <a:avLst/>
          </a:prstGeom>
          <a:ln cap="sq" w="7632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WordArt 19"/>
          <p:cNvSpPr txBox="1"/>
          <p:nvPr/>
        </p:nvSpPr>
        <p:spPr>
          <a:xfrm>
            <a:off x="7010280" y="762120"/>
            <a:ext cx="1543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幼圆"/>
              </a:rPr>
              <a:t>自豪</a:t>
            </a:r>
            <a:endParaRPr b="1" lang="en-US" sz="6000" spc="1" strike="noStrike">
              <a:ln cap="sq"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幼圆"/>
              <a:ea typeface="幼圆"/>
            </a:endParaRPr>
          </a:p>
        </p:txBody>
      </p:sp>
      <p:pic>
        <p:nvPicPr>
          <p:cNvPr id="212" name="Picture 21" descr="飘国旗"/>
          <p:cNvPicPr/>
          <p:nvPr/>
        </p:nvPicPr>
        <p:blipFill>
          <a:blip r:embed="rId1"/>
          <a:stretch/>
        </p:blipFill>
        <p:spPr>
          <a:xfrm>
            <a:off x="7315200" y="3808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惊奇动画"/>
          <p:cNvPicPr/>
          <p:nvPr/>
        </p:nvPicPr>
        <p:blipFill>
          <a:blip r:embed="rId2"/>
          <a:stretch/>
        </p:blipFill>
        <p:spPr>
          <a:xfrm>
            <a:off x="838080" y="-228600"/>
            <a:ext cx="1859040" cy="2209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a00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48640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981080" y="2209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幼圆"/>
              </a:rPr>
              <a:t>你有什么梦想？该怎样实现它呢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7" name="Picture 4" descr="question动画"/>
          <p:cNvPicPr/>
          <p:nvPr/>
        </p:nvPicPr>
        <p:blipFill>
          <a:blip r:embed="rId2"/>
          <a:stretch/>
        </p:blipFill>
        <p:spPr>
          <a:xfrm>
            <a:off x="4648320" y="990720"/>
            <a:ext cx="28191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ject 1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幼圆"/>
              </a:rPr>
              <a:t>谁是</a:t>
            </a:r>
            <a:r>
              <a:rPr b="1" i="1" lang="zh-CN" sz="8000" spc="-1" strike="noStrike">
                <a:solidFill>
                  <a:srgbClr val="ff3300"/>
                </a:solidFill>
                <a:latin typeface="Times New Roman"/>
                <a:ea typeface="幼圆"/>
              </a:rPr>
              <a:t>冠军</a:t>
            </a: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16" descr="飘国旗"/>
          <p:cNvPicPr/>
          <p:nvPr/>
        </p:nvPicPr>
        <p:blipFill>
          <a:blip r:embed="rId2"/>
          <a:stretch/>
        </p:blipFill>
        <p:spPr>
          <a:xfrm>
            <a:off x="5638680" y="10666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BD05545_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>
            <a:off x="685800" y="11430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eeb00b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600200" y="25146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00b5b"/>
                </a:solidFill>
                <a:latin typeface="Times New Roman"/>
                <a:ea typeface="华文琥珀"/>
              </a:rPr>
              <a:t>我们大家一起把这首诗再来读一遍吧！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4" name="4427腰鼓声.wav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00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548640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3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227" name="WordArt 3"/>
          <p:cNvSpPr txBox="1"/>
          <p:nvPr/>
        </p:nvSpPr>
        <p:spPr>
          <a:xfrm>
            <a:off x="2971800" y="533520"/>
            <a:ext cx="358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课后练笔</a:t>
            </a:r>
            <a:endParaRPr b="1" lang="en-US" sz="6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743200" y="2514600"/>
            <a:ext cx="525780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幼圆"/>
              </a:rPr>
              <a:t>写一段话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幼圆"/>
              </a:rPr>
              <a:t>我终于见到了大海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再见"/>
          <p:cNvPicPr/>
          <p:nvPr/>
        </p:nvPicPr>
        <p:blipFill>
          <a:blip r:embed="rId1"/>
          <a:stretch/>
        </p:blipFill>
        <p:spPr>
          <a:xfrm>
            <a:off x="3048120" y="3809880"/>
            <a:ext cx="5121000" cy="2194200"/>
          </a:xfrm>
          <a:prstGeom prst="rect">
            <a:avLst/>
          </a:prstGeom>
          <a:ln w="0">
            <a:noFill/>
          </a:ln>
        </p:spPr>
      </p:pic>
      <p:pic>
        <p:nvPicPr>
          <p:cNvPr id="230" name="0208听松.mid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图片11 拷贝"/>
          <p:cNvPicPr/>
          <p:nvPr/>
        </p:nvPicPr>
        <p:blipFill>
          <a:blip r:embed="rId3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3E3-3EEC-4A16-A5C0-B650DB26C4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356400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Picture 2" descr="PE01561_"/>
          <p:cNvPicPr/>
          <p:nvPr/>
        </p:nvPicPr>
        <p:blipFill>
          <a:blip r:embed="rId1"/>
          <a:stretch/>
        </p:blipFill>
        <p:spPr>
          <a:xfrm>
            <a:off x="1143000" y="0"/>
            <a:ext cx="403848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295280" y="25909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　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大家都读过课文或者看过演讲，怎样才算读得好，请同学们把自己认为必要的评价标准说出来，看看谁说得最好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幼圆"/>
              </a:rPr>
              <a:t>我们来看看同学们自己订的标准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读出感情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2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要有自己对课文的理解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3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注意语气、语调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4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读准字音，不读错别字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ffcc66"/>
                </a:solidFill>
                <a:latin typeface="幼圆"/>
                <a:ea typeface="幼圆"/>
              </a:rPr>
              <a:t>、声音适中，能让人听清楚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5" descr="BD06990_"/>
          <p:cNvPicPr/>
          <p:nvPr/>
        </p:nvPicPr>
        <p:blipFill>
          <a:blip r:embed="rId1"/>
          <a:stretch/>
        </p:blipFill>
        <p:spPr>
          <a:xfrm>
            <a:off x="1219320" y="2230560"/>
            <a:ext cx="281916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371600" y="228600"/>
            <a:ext cx="47242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25560">
                  <a:solidFill>
                    <a:srgbClr val="996600"/>
                  </a:solidFill>
                  <a:round/>
                </a:ln>
                <a:solidFill>
                  <a:srgbClr val="eeb00b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幼圆"/>
              </a:rPr>
              <a:t>朗读大比拼</a:t>
            </a:r>
            <a:endParaRPr b="1" lang="en-US" sz="6600" spc="1" strike="noStrike">
              <a:ln cap="sq" w="25560">
                <a:solidFill>
                  <a:srgbClr val="996600"/>
                </a:solidFill>
                <a:round/>
              </a:ln>
              <a:solidFill>
                <a:srgbClr val="eeb00b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09" name="Picture 3" descr="BD06982_"/>
          <p:cNvPicPr/>
          <p:nvPr/>
        </p:nvPicPr>
        <p:blipFill>
          <a:blip r:embed="rId1"/>
          <a:stretch/>
        </p:blipFill>
        <p:spPr>
          <a:xfrm>
            <a:off x="1828800" y="2211480"/>
            <a:ext cx="6324480" cy="30430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609480" y="16002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eeb00b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371600" y="2743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　　</a:t>
            </a:r>
            <a:r>
              <a:rPr b="0" lang="zh-CN" sz="3600" spc="-1" strike="noStrike">
                <a:solidFill>
                  <a:srgbClr val="200b5b"/>
                </a:solidFill>
                <a:latin typeface="Times New Roman"/>
                <a:ea typeface="华文琥珀"/>
              </a:rPr>
              <a:t>甲组齐读，乙组按刚才制定的标准给甲组打分，丙组朗读，丁组打分。班长统计各组成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9" descr="a0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486400"/>
            <a:ext cx="1143000" cy="1162080"/>
          </a:xfrm>
          <a:prstGeom prst="rect">
            <a:avLst/>
          </a:prstGeom>
          <a:ln w="0">
            <a:noFill/>
          </a:ln>
        </p:spPr>
      </p:pic>
      <p:pic>
        <p:nvPicPr>
          <p:cNvPr id="113" name="524701.mp3" descr=""/>
          <p:cNvPicPr/>
          <p:nvPr/>
        </p:nvPicPr>
        <p:blipFill>
          <a:blip r:embed="rId4"/>
          <a:stretch/>
        </p:blipFill>
        <p:spPr>
          <a:xfrm>
            <a:off x="1295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78168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看一看，本课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生字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你掌握了多少</a:t>
            </a:r>
            <a:r>
              <a:rPr b="1" i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Picture 3" descr="disk_0018"/>
          <p:cNvPicPr/>
          <p:nvPr/>
        </p:nvPicPr>
        <p:blipFill>
          <a:blip r:embed="rId1"/>
          <a:stretch/>
        </p:blipFill>
        <p:spPr>
          <a:xfrm>
            <a:off x="1295280" y="380880"/>
            <a:ext cx="106704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295280" y="19051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痴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想（　　）　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秘（　　）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铁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青（　　）　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凝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成（　　）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诱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惑（　　）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喧腾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（　　　　）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瞬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间（　　）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>
            <a:hlinkClick r:id="" action="ppaction://hlinkshowjump?jump=nextslide"/>
          </p:cNvPr>
          <p:cNvSpPr/>
          <p:nvPr/>
        </p:nvSpPr>
        <p:spPr>
          <a:xfrm>
            <a:off x="3200400" y="19810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1981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ǐ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352680" y="2666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iě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20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í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12408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ò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47712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uān té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657600" y="4038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ù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Picture 15" descr="a0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48640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2666880" y="6094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幼圆"/>
              </a:rPr>
              <a:t>诗分两节，你能说说为什么吗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3962520" y="1447920"/>
            <a:ext cx="1752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447920" y="3429000"/>
            <a:ext cx="7238880" cy="259092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57400" y="419112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时间不同了，长大前与长大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没找到海／找到了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66688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幼圆"/>
              </a:rPr>
              <a:t>作者小时候有一个愿望：看到山那边的海，在当时，他的愿望实现了吗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5029200" y="762120"/>
            <a:ext cx="2438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371600" y="2819520"/>
            <a:ext cx="7543800" cy="320040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133720" y="3809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没有，哭着回来了／依然是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TNgif299"/>
          <p:cNvPicPr/>
          <p:nvPr/>
        </p:nvPicPr>
        <p:blipFill>
          <a:blip r:embed="rId1"/>
          <a:stretch/>
        </p:blipFill>
        <p:spPr>
          <a:xfrm>
            <a:off x="1143000" y="0"/>
            <a:ext cx="1450800" cy="17146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5257800" y="1295280"/>
            <a:ext cx="1828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447920" y="22860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幼圆"/>
              </a:rPr>
              <a:t>如果要你来描述大海，是什么样子</a:t>
            </a:r>
            <a:endParaRPr b="1" lang="en-US" sz="24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16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6:43Z</dcterms:modified>
  <cp:revision>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