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BEA8-C23C-456F-9077-42D15628BB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C299-FA8A-4A27-A33C-4794507779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B5E-D716-4648-BEA1-BFD21005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FB9-461D-4E90-95D7-67FDA436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E0B-ADCA-473A-B24B-8E1B7320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844-E78A-40D7-BCBC-1832B5A8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FCD-2DFB-4C5B-9577-CEF92A24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9D1-7705-4D80-A27A-485EF069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744-19BD-4328-BE20-6AB347DC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55E-D153-49BE-8DC7-D853821D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352-BAA0-4E57-B22D-D4FC4905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4F1-092F-426B-B963-ED39F51E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E9C-A260-4274-B70A-F7686AE8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330-8A73-4519-86E3-AA4764DA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6200-2B63-477E-ACC7-86FD83852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9.png"/><Relationship Id="rId3" Type="http://schemas.openxmlformats.org/officeDocument/2006/relationships/image" Target="../media/image34.jpeg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089000" y="1700280"/>
            <a:ext cx="72010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中宋"/>
              </a:rPr>
              <a:t>放大镜下的昆虫世界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900000" y="6206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科版六年级下册第一单元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2325960" y="5877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e2ae215dc6510394b90a79d"/>
          <p:cNvPicPr/>
          <p:nvPr/>
        </p:nvPicPr>
        <p:blipFill>
          <a:blip r:embed="rId1"/>
          <a:stretch/>
        </p:blipFill>
        <p:spPr>
          <a:xfrm>
            <a:off x="0" y="19080"/>
            <a:ext cx="4356000" cy="3247920"/>
          </a:xfrm>
          <a:prstGeom prst="rect">
            <a:avLst/>
          </a:prstGeom>
          <a:ln w="0">
            <a:noFill/>
          </a:ln>
        </p:spPr>
      </p:pic>
      <p:sp>
        <p:nvSpPr>
          <p:cNvPr id="121" name="标题 1"/>
          <p:cNvSpPr/>
          <p:nvPr/>
        </p:nvSpPr>
        <p:spPr>
          <a:xfrm>
            <a:off x="0" y="0"/>
            <a:ext cx="18288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蚜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d8eb8ccd2f2b3605f9dc6199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200957152545752"/>
          <p:cNvPicPr/>
          <p:nvPr/>
        </p:nvPicPr>
        <p:blipFill>
          <a:blip r:embed="rId3"/>
          <a:stretch/>
        </p:blipFill>
        <p:spPr>
          <a:xfrm>
            <a:off x="0" y="3656160"/>
            <a:ext cx="4356000" cy="3201840"/>
          </a:xfrm>
          <a:prstGeom prst="rect">
            <a:avLst/>
          </a:prstGeom>
          <a:ln w="0">
            <a:noFill/>
          </a:ln>
        </p:spPr>
      </p:pic>
      <p:sp>
        <p:nvSpPr>
          <p:cNvPr id="124" name="标题 1"/>
          <p:cNvSpPr/>
          <p:nvPr/>
        </p:nvSpPr>
        <p:spPr>
          <a:xfrm>
            <a:off x="0" y="3716280"/>
            <a:ext cx="414036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蚜虫天敌：草铃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200957152647118"/>
          <p:cNvPicPr/>
          <p:nvPr/>
        </p:nvPicPr>
        <p:blipFill>
          <a:blip r:embed="rId4"/>
          <a:stretch/>
        </p:blipFill>
        <p:spPr>
          <a:xfrm>
            <a:off x="4859280" y="364500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26" name="标题 1"/>
          <p:cNvSpPr/>
          <p:nvPr/>
        </p:nvSpPr>
        <p:spPr>
          <a:xfrm>
            <a:off x="4932360" y="3716280"/>
            <a:ext cx="35244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蚜虫天敌：瓢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815742078"/>
          <p:cNvPicPr/>
          <p:nvPr/>
        </p:nvPicPr>
        <p:blipFill>
          <a:blip r:embed="rId1"/>
          <a:stretch/>
        </p:blipFill>
        <p:spPr>
          <a:xfrm>
            <a:off x="2487600" y="0"/>
            <a:ext cx="66564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462960" y="167688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瓢虫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蚜虫的天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蚂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蚜虫的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0" y="0"/>
            <a:ext cx="2286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昆虫之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0" t="0" r="0" b="-136"/>
          <a:stretch/>
        </p:blipFill>
        <p:spPr>
          <a:xfrm>
            <a:off x="0" y="0"/>
            <a:ext cx="3922560" cy="4076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1" name="Rectangle 4"/>
          <p:cNvSpPr/>
          <p:nvPr/>
        </p:nvSpPr>
        <p:spPr>
          <a:xfrm>
            <a:off x="1476360" y="49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63_9256_2bb48bfcde8be2f"/>
          <p:cNvPicPr/>
          <p:nvPr/>
        </p:nvPicPr>
        <p:blipFill>
          <a:blip r:embed="rId2"/>
          <a:stretch/>
        </p:blipFill>
        <p:spPr>
          <a:xfrm>
            <a:off x="4032360" y="181080"/>
            <a:ext cx="5076720" cy="2816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5132520" y="321300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蚜虫与草蛉（草蛉幼虫蚜狮吃蚜虫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20071030-2199-3-7935"/>
          <p:cNvPicPr/>
          <p:nvPr/>
        </p:nvPicPr>
        <p:blipFill>
          <a:blip r:embed="rId3"/>
          <a:stretch/>
        </p:blipFill>
        <p:spPr>
          <a:xfrm>
            <a:off x="468360" y="4292640"/>
            <a:ext cx="2556000" cy="24591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313200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草蛉捕食蚜虫，它把蚜虫的体液吸干后，还会把蚜虫的空壳粘在自己的背上作为伪装，成了披着蚜壳的“狮子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59F85D1A45414C5E9BE5FA87FB0C1816"/>
          <p:cNvPicPr/>
          <p:nvPr/>
        </p:nvPicPr>
        <p:blipFill>
          <a:blip r:embed="rId4"/>
          <a:stretch/>
        </p:blipFill>
        <p:spPr>
          <a:xfrm>
            <a:off x="6012000" y="3860640"/>
            <a:ext cx="29527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ZP9}YC9`1SNNNI@C0AIIRX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79280" y="1916280"/>
            <a:ext cx="87138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、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在放大镜下蝴蝶的翅膀都由许多彩色的（       ）组成，这些其实是（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蝇的眼睛是（     ），由许多（        ）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蟋蟀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耳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足的（      ）侧。不同的昆虫的触角形状不同，研究表明昆虫头上的触角就是它们的（      ）。它们嗅觉很（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蚜虫喜欢吸食嫩枝上的（     ），蚜虫的大小如（       ）。蚜虫的天敌是（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221960" y="243036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99"/>
                </a:solidFill>
                <a:latin typeface="Tahoma"/>
              </a:rPr>
              <a:t>小鳞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484360" y="692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放大镜下的昆虫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467880" y="292428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99"/>
                </a:solidFill>
                <a:latin typeface="Tahoma"/>
              </a:rPr>
              <a:t>扁平的细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978640" y="3429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99"/>
                </a:solidFill>
                <a:latin typeface="Tahoma"/>
              </a:rPr>
              <a:t>复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786640" y="3429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99"/>
                </a:solidFill>
                <a:latin typeface="Tahoma"/>
              </a:rPr>
              <a:t>小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569120" y="393372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99"/>
                </a:solidFill>
                <a:latin typeface="Tahoma"/>
              </a:rPr>
              <a:t>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746640" y="4869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99"/>
                </a:solidFill>
                <a:latin typeface="Tahoma"/>
              </a:rPr>
              <a:t>鼻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4202640" y="494172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99"/>
                </a:solidFill>
                <a:latin typeface="Tahoma"/>
              </a:rPr>
              <a:t>灵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778640" y="537372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99"/>
                </a:solidFill>
                <a:latin typeface="Tahoma"/>
              </a:rPr>
              <a:t>汁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75000" y="58928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99"/>
                </a:solidFill>
                <a:latin typeface="Tahoma"/>
              </a:rPr>
              <a:t>针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4723200" y="5877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99"/>
                </a:solidFill>
                <a:latin typeface="Tahoma"/>
              </a:rPr>
              <a:t>草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79280" y="1773360"/>
            <a:ext cx="89647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ahoma"/>
              </a:rPr>
              <a:t>、苍蝇在光滑的玻璃上不掉落和它脚上的构造有关。（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ahoma"/>
              </a:rPr>
              <a:t>、很多昆虫的嗅觉灵敏和它们的触角有关。（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ahoma"/>
              </a:rPr>
              <a:t>、一般观察蚜虫在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ahoma"/>
              </a:rPr>
              <a:t>月份比较合适。 （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ahoma"/>
              </a:rPr>
              <a:t>、借助放大镜，我们观察到了昆虫世界更多的秘密。（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ahoma"/>
              </a:rPr>
              <a:t>、在放大镜下，我们发现不同昆虫的触角形状不同（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ahoma"/>
              </a:rPr>
              <a:t>、蟋蟀的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Tahoma"/>
              </a:rPr>
              <a:t>耳朵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Tahoma"/>
              </a:rPr>
              <a:t>跟我们人的耳朵一样，都长在头部。（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ahoma"/>
              </a:rPr>
              <a:t>、在放大镜下，我们发现蜻蜓的眼睛是复眼。（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Tahoma"/>
              </a:rPr>
              <a:t>、蝴蝶翅膀上布满彩色小鳞片，其实是扁平的细毛。（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305760" y="2795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8379000" y="1787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7082280" y="2290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8379000" y="3298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8395200" y="4307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8018640" y="3803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700360" y="4046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放大镜下的昆虫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7371000" y="4781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845064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73080" y="549360"/>
            <a:ext cx="56512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蟋蟀              膝状触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蝗虫              棒状触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蚂蚁              羽毛状触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蝴蝶              鞭状触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蚕蛾              丝状触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牛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009800" y="1123920"/>
            <a:ext cx="1728720" cy="2521080"/>
          </a:xfrm>
          <a:prstGeom prst="line">
            <a:avLst/>
          </a:prstGeom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1009800" y="1773360"/>
            <a:ext cx="1728720" cy="1871640"/>
          </a:xfrm>
          <a:prstGeom prst="line">
            <a:avLst/>
          </a:prstGeom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 flipV="1">
            <a:off x="1009800" y="1052640"/>
            <a:ext cx="1655640" cy="1296720"/>
          </a:xfrm>
          <a:prstGeom prst="line">
            <a:avLst/>
          </a:prstGeom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 flipV="1">
            <a:off x="1009800" y="1773360"/>
            <a:ext cx="1655640" cy="1295280"/>
          </a:xfrm>
          <a:prstGeom prst="line">
            <a:avLst/>
          </a:prstGeom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1009800" y="2349000"/>
            <a:ext cx="1655640" cy="1366920"/>
          </a:xfrm>
          <a:prstGeom prst="line">
            <a:avLst/>
          </a:prstGeom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 flipV="1">
            <a:off x="1009800" y="2997360"/>
            <a:ext cx="1655640" cy="1295280"/>
          </a:xfrm>
          <a:prstGeom prst="line">
            <a:avLst/>
          </a:prstGeom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JC[(N1LJY{U0QHB_YFQ$M8B"/>
          <p:cNvPicPr/>
          <p:nvPr/>
        </p:nvPicPr>
        <p:blipFill>
          <a:blip r:embed="rId1"/>
          <a:stretch/>
        </p:blipFill>
        <p:spPr>
          <a:xfrm>
            <a:off x="4716360" y="0"/>
            <a:ext cx="2160720" cy="1930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312124593873"/>
          <p:cNvPicPr/>
          <p:nvPr/>
        </p:nvPicPr>
        <p:blipFill>
          <a:blip r:embed="rId2"/>
          <a:stretch/>
        </p:blipFill>
        <p:spPr>
          <a:xfrm>
            <a:off x="4643280" y="5025960"/>
            <a:ext cx="2233800" cy="1832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W020050613355318555999"/>
          <p:cNvPicPr/>
          <p:nvPr/>
        </p:nvPicPr>
        <p:blipFill>
          <a:blip r:embed="rId3"/>
          <a:stretch/>
        </p:blipFill>
        <p:spPr>
          <a:xfrm>
            <a:off x="4643280" y="2637000"/>
            <a:ext cx="2305080" cy="178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@]LY1~NU0%YI[J0]NXJ~3_P"/>
          <p:cNvPicPr/>
          <p:nvPr/>
        </p:nvPicPr>
        <p:blipFill>
          <a:blip r:embed="rId4"/>
          <a:stretch/>
        </p:blipFill>
        <p:spPr>
          <a:xfrm>
            <a:off x="7020000" y="0"/>
            <a:ext cx="2124000" cy="196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8" descr="%VQJB7CL{_[W3E[9TPJ65VE"/>
          <p:cNvPicPr/>
          <p:nvPr/>
        </p:nvPicPr>
        <p:blipFill>
          <a:blip r:embed="rId5"/>
          <a:stretch/>
        </p:blipFill>
        <p:spPr>
          <a:xfrm>
            <a:off x="7164360" y="2708280"/>
            <a:ext cx="1979640" cy="1757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9" descr="20090824_13b556ccb81c51216cdaPKnPJd4NsziB"/>
          <p:cNvPicPr/>
          <p:nvPr/>
        </p:nvPicPr>
        <p:blipFill>
          <a:blip r:embed="rId6"/>
          <a:srcRect l="0" t="0" r="0" b="-157"/>
          <a:stretch/>
        </p:blipFill>
        <p:spPr>
          <a:xfrm>
            <a:off x="6948360" y="5021280"/>
            <a:ext cx="2195640" cy="183672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1"/>
          <p:cNvSpPr/>
          <p:nvPr/>
        </p:nvSpPr>
        <p:spPr>
          <a:xfrm>
            <a:off x="1800360" y="540396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57E3-7371-4E9A-97AE-1E0C139CA4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@417SZ)R71~MA)YAEMBJI30"/>
          <p:cNvPicPr/>
          <p:nvPr/>
        </p:nvPicPr>
        <p:blipFill>
          <a:blip r:embed="rId1"/>
          <a:stretch/>
        </p:blipFill>
        <p:spPr>
          <a:xfrm>
            <a:off x="0" y="1150920"/>
            <a:ext cx="2340000" cy="207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Y2K6[61]%7@LET[03O_VAA5"/>
          <p:cNvPicPr/>
          <p:nvPr/>
        </p:nvPicPr>
        <p:blipFill>
          <a:blip r:embed="rId2"/>
          <a:stretch/>
        </p:blipFill>
        <p:spPr>
          <a:xfrm>
            <a:off x="2340000" y="1150920"/>
            <a:ext cx="2303280" cy="2062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XW@HJ_O_PK2%KLI(30_9~}X"/>
          <p:cNvPicPr/>
          <p:nvPr/>
        </p:nvPicPr>
        <p:blipFill>
          <a:blip r:embed="rId3"/>
          <a:stretch/>
        </p:blipFill>
        <p:spPr>
          <a:xfrm>
            <a:off x="6948360" y="1150920"/>
            <a:ext cx="2195640" cy="213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NY%}UJ[$Y21WOJ}8{G270SN"/>
          <p:cNvPicPr/>
          <p:nvPr/>
        </p:nvPicPr>
        <p:blipFill>
          <a:blip r:embed="rId4"/>
          <a:stretch/>
        </p:blipFill>
        <p:spPr>
          <a:xfrm>
            <a:off x="4643280" y="1150920"/>
            <a:ext cx="2305080" cy="2103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4JVFQL0TPH87L}DT${MLNY8"/>
          <p:cNvPicPr/>
          <p:nvPr/>
        </p:nvPicPr>
        <p:blipFill>
          <a:blip r:embed="rId5"/>
          <a:stretch/>
        </p:blipFill>
        <p:spPr>
          <a:xfrm>
            <a:off x="6948360" y="3284640"/>
            <a:ext cx="2195640" cy="172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{ZI[1$%~DJ7J5P_C2RYS6]3"/>
          <p:cNvPicPr/>
          <p:nvPr/>
        </p:nvPicPr>
        <p:blipFill>
          <a:blip r:embed="rId6"/>
          <a:stretch/>
        </p:blipFill>
        <p:spPr>
          <a:xfrm>
            <a:off x="4643280" y="3284640"/>
            <a:ext cx="2305080" cy="18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8L`$`TEHQ8UJ2~R3CF_YXS8"/>
          <p:cNvPicPr/>
          <p:nvPr/>
        </p:nvPicPr>
        <p:blipFill>
          <a:blip r:embed="rId7"/>
          <a:stretch/>
        </p:blipFill>
        <p:spPr>
          <a:xfrm>
            <a:off x="0" y="3211560"/>
            <a:ext cx="2340000" cy="184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NX7JLH6K65_KP~Q(5YR@7PX"/>
          <p:cNvPicPr/>
          <p:nvPr/>
        </p:nvPicPr>
        <p:blipFill>
          <a:blip r:embed="rId8"/>
          <a:stretch/>
        </p:blipFill>
        <p:spPr>
          <a:xfrm>
            <a:off x="2340000" y="3211560"/>
            <a:ext cx="230328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9(MS6}U(8_MN_~R668%NROH"/>
          <p:cNvPicPr/>
          <p:nvPr/>
        </p:nvPicPr>
        <p:blipFill>
          <a:blip r:embed="rId9"/>
          <a:stretch/>
        </p:blipFill>
        <p:spPr>
          <a:xfrm>
            <a:off x="0" y="5084640"/>
            <a:ext cx="2340000" cy="1724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%8P27SH)5(L}WDKAJK]A}[9"/>
          <p:cNvPicPr/>
          <p:nvPr/>
        </p:nvPicPr>
        <p:blipFill>
          <a:blip r:embed="rId10"/>
          <a:stretch/>
        </p:blipFill>
        <p:spPr>
          <a:xfrm>
            <a:off x="2340000" y="5084640"/>
            <a:ext cx="2303280" cy="1784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)%YN16}2NX[4Y`M~5OZ3AQT"/>
          <p:cNvPicPr/>
          <p:nvPr/>
        </p:nvPicPr>
        <p:blipFill>
          <a:blip r:embed="rId11"/>
          <a:stretch/>
        </p:blipFill>
        <p:spPr>
          <a:xfrm>
            <a:off x="4643280" y="5084640"/>
            <a:ext cx="230508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([53S1_GO$]R3_9H5EBRSAD"/>
          <p:cNvPicPr/>
          <p:nvPr/>
        </p:nvPicPr>
        <p:blipFill>
          <a:blip r:embed="rId12"/>
          <a:stretch/>
        </p:blipFill>
        <p:spPr>
          <a:xfrm>
            <a:off x="6948360" y="5011560"/>
            <a:ext cx="2195640" cy="18734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7"/>
          <p:cNvSpPr/>
          <p:nvPr/>
        </p:nvSpPr>
        <p:spPr>
          <a:xfrm>
            <a:off x="2772720" y="260280"/>
            <a:ext cx="33811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火眼金睛：找出以下图片中的昆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3866040" y="227664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5"/>
          <p:cNvSpPr/>
          <p:nvPr/>
        </p:nvSpPr>
        <p:spPr>
          <a:xfrm>
            <a:off x="1622160" y="227664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6"/>
          <p:cNvSpPr/>
          <p:nvPr/>
        </p:nvSpPr>
        <p:spPr>
          <a:xfrm>
            <a:off x="6169680" y="227664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7"/>
          <p:cNvSpPr/>
          <p:nvPr/>
        </p:nvSpPr>
        <p:spPr>
          <a:xfrm>
            <a:off x="8428680" y="234936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8"/>
          <p:cNvSpPr/>
          <p:nvPr/>
        </p:nvSpPr>
        <p:spPr>
          <a:xfrm>
            <a:off x="1634040" y="414972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"/>
          <p:cNvSpPr/>
          <p:nvPr/>
        </p:nvSpPr>
        <p:spPr>
          <a:xfrm>
            <a:off x="3925800" y="407664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0"/>
          <p:cNvSpPr/>
          <p:nvPr/>
        </p:nvSpPr>
        <p:spPr>
          <a:xfrm>
            <a:off x="6230520" y="407664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8416800" y="407664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1634040" y="594360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3937680" y="594360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6242760" y="594360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8416800" y="59436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95280" y="333360"/>
            <a:ext cx="813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昆虫是动物界中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无脊椎动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节肢动物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昆虫纲的动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所有生物中种类及数量最多的一群，已发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万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体躯三段头胸腹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对翅膀三对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触角头上生，骨骼包在体外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生形态多变化，遍布全球旺家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e9445a451f74e6058694731a"/>
          <p:cNvPicPr/>
          <p:nvPr/>
        </p:nvPicPr>
        <p:blipFill>
          <a:blip r:embed="rId1"/>
          <a:stretch/>
        </p:blipFill>
        <p:spPr>
          <a:xfrm>
            <a:off x="6012000" y="2708280"/>
            <a:ext cx="1931760" cy="357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YNNT~JS[ADRU2{J8EW]4[FK"/>
          <p:cNvPicPr/>
          <p:nvPr/>
        </p:nvPicPr>
        <p:blipFill>
          <a:blip r:embed="rId2"/>
          <a:stretch/>
        </p:blipFill>
        <p:spPr>
          <a:xfrm>
            <a:off x="755640" y="5084640"/>
            <a:ext cx="4608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图片点击可在新窗口打开查看"/>
          <p:cNvPicPr/>
          <p:nvPr/>
        </p:nvPicPr>
        <p:blipFill>
          <a:blip r:embed="rId1"/>
          <a:stretch/>
        </p:blipFill>
        <p:spPr>
          <a:xfrm>
            <a:off x="5219640" y="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5219640" y="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蝇的复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复眼3.jpg"/>
          <p:cNvPicPr/>
          <p:nvPr/>
        </p:nvPicPr>
        <p:blipFill>
          <a:blip r:embed="rId2"/>
          <a:stretch/>
        </p:blipFill>
        <p:spPr>
          <a:xfrm>
            <a:off x="5254560" y="3867120"/>
            <a:ext cx="3889440" cy="299088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5219640" y="393372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蜻蜓的复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U5385P2DT20110212075107"/>
          <p:cNvPicPr/>
          <p:nvPr/>
        </p:nvPicPr>
        <p:blipFill>
          <a:blip r:embed="rId3"/>
          <a:stretch/>
        </p:blipFill>
        <p:spPr>
          <a:xfrm>
            <a:off x="0" y="3929040"/>
            <a:ext cx="3780000" cy="292896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0" y="400536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蚊子的复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2771640" cy="83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5"/>
          <a:stretch/>
        </p:blipFill>
        <p:spPr>
          <a:xfrm>
            <a:off x="611280" y="765000"/>
            <a:ext cx="3384360" cy="2471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3"/>
          <p:cNvSpPr/>
          <p:nvPr/>
        </p:nvSpPr>
        <p:spPr>
          <a:xfrm>
            <a:off x="4369320" y="31417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许多结构相同的小眼组成称之为复眼。复眼对光和闪烁特敏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835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3284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N6VOEL337S`XL~O[H]H_S2F"/>
          <p:cNvPicPr/>
          <p:nvPr/>
        </p:nvPicPr>
        <p:blipFill>
          <a:blip r:embed="rId3"/>
          <a:stretch/>
        </p:blipFill>
        <p:spPr>
          <a:xfrm>
            <a:off x="0" y="3946680"/>
            <a:ext cx="3348000" cy="2911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JC[(N1LJY{U0QHB_YFQ$M8B"/>
          <p:cNvPicPr/>
          <p:nvPr/>
        </p:nvPicPr>
        <p:blipFill>
          <a:blip r:embed="rId4"/>
          <a:stretch/>
        </p:blipFill>
        <p:spPr>
          <a:xfrm>
            <a:off x="0" y="765000"/>
            <a:ext cx="3348000" cy="2990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3635280" y="1306800"/>
            <a:ext cx="2303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蟋蟀的“ 耳朵”在足的内侧，可以感知震动，听到声音，侦察敌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T82]0_89X894F(LW3ZN$6@A"/>
          <p:cNvPicPr/>
          <p:nvPr/>
        </p:nvPicPr>
        <p:blipFill>
          <a:blip r:embed="rId5"/>
          <a:stretch/>
        </p:blipFill>
        <p:spPr>
          <a:xfrm>
            <a:off x="3492360" y="3357720"/>
            <a:ext cx="2880000" cy="3500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6804000" y="4508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知了的耳朵，在腹部下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83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7CBE2010C8699F1058713EAA6FB5331F"/>
          <p:cNvPicPr/>
          <p:nvPr/>
        </p:nvPicPr>
        <p:blipFill>
          <a:blip r:embed="rId2"/>
          <a:stretch/>
        </p:blipFill>
        <p:spPr>
          <a:xfrm>
            <a:off x="3276720" y="260280"/>
            <a:ext cx="3240000" cy="331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2952720" cy="3097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0" y="4149720"/>
            <a:ext cx="32767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苍蝇的脚上有 “爪”，下面有被一排茸毛遮住的爪垫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苍蝇为什么总是蹭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4"/>
          <a:stretch/>
        </p:blipFill>
        <p:spPr>
          <a:xfrm>
            <a:off x="3419640" y="3789360"/>
            <a:ext cx="3528720" cy="2800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0"/>
          <p:cNvSpPr/>
          <p:nvPr/>
        </p:nvSpPr>
        <p:spPr>
          <a:xfrm>
            <a:off x="7164360" y="4005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蝴蝶的翅膀上布满彩色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鳞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这些鳞片其实是扁平的细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2" descr="1_201012152039451wmny"/>
          <p:cNvPicPr/>
          <p:nvPr/>
        </p:nvPicPr>
        <p:blipFill>
          <a:blip r:embed="rId5"/>
          <a:stretch/>
        </p:blipFill>
        <p:spPr>
          <a:xfrm>
            <a:off x="6659640" y="260280"/>
            <a:ext cx="2484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2187720" cy="295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83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20171853301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32148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6395760" y="-360"/>
            <a:ext cx="2100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蝴蝶的棒状触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312124593873"/>
          <p:cNvPicPr/>
          <p:nvPr/>
        </p:nvPicPr>
        <p:blipFill>
          <a:blip r:embed="rId4"/>
          <a:stretch/>
        </p:blipFill>
        <p:spPr>
          <a:xfrm>
            <a:off x="4859280" y="364500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1"/>
          <p:cNvSpPr/>
          <p:nvPr/>
        </p:nvSpPr>
        <p:spPr>
          <a:xfrm>
            <a:off x="6028920" y="3644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蚕蛾的羽毛状触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W020050613355318555999"/>
          <p:cNvPicPr/>
          <p:nvPr/>
        </p:nvPicPr>
        <p:blipFill>
          <a:blip r:embed="rId5"/>
          <a:stretch/>
        </p:blipFill>
        <p:spPr>
          <a:xfrm>
            <a:off x="0" y="3700440"/>
            <a:ext cx="4067280" cy="3157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3"/>
          <p:cNvSpPr/>
          <p:nvPr/>
        </p:nvSpPr>
        <p:spPr>
          <a:xfrm>
            <a:off x="647280" y="3715920"/>
            <a:ext cx="2100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蚂蚁的膝状触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016-4"/>
          <p:cNvPicPr/>
          <p:nvPr/>
        </p:nvPicPr>
        <p:blipFill>
          <a:blip r:embed="rId1"/>
          <a:stretch/>
        </p:blipFill>
        <p:spPr>
          <a:xfrm>
            <a:off x="5183280" y="692280"/>
            <a:ext cx="3960720" cy="2639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6395760" y="-360"/>
            <a:ext cx="2100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蝗虫的线状触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835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20090824_13b556ccb81c51216cdaPKnPJd4NsziB"/>
          <p:cNvPicPr/>
          <p:nvPr/>
        </p:nvPicPr>
        <p:blipFill>
          <a:blip r:embed="rId3"/>
          <a:srcRect l="0" t="0" r="0" b="-166"/>
          <a:stretch/>
        </p:blipFill>
        <p:spPr>
          <a:xfrm>
            <a:off x="5472000" y="3789360"/>
            <a:ext cx="3672000" cy="3068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2"/>
          <p:cNvSpPr/>
          <p:nvPr/>
        </p:nvSpPr>
        <p:spPr>
          <a:xfrm>
            <a:off x="6395760" y="6216120"/>
            <a:ext cx="2100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牛的鞭状触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4284720" cy="36417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4"/>
          <p:cNvSpPr/>
          <p:nvPr/>
        </p:nvSpPr>
        <p:spPr>
          <a:xfrm>
            <a:off x="324000" y="501336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科学研究表明昆虫头上的触角就是它们的“鼻子”，这个鼻子能分辨各种气味，比人的鼻子灵敏得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趣的昆虫世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e9445a451f74e6058694731a"/>
          <p:cNvPicPr/>
          <p:nvPr/>
        </p:nvPicPr>
        <p:blipFill>
          <a:blip r:embed="rId1"/>
          <a:stretch/>
        </p:blipFill>
        <p:spPr>
          <a:xfrm>
            <a:off x="6443640" y="2060640"/>
            <a:ext cx="1932120" cy="3573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D%8D59MM06CCL~ZM4UB{K[M"/>
          <p:cNvPicPr/>
          <p:nvPr/>
        </p:nvPicPr>
        <p:blipFill>
          <a:blip r:embed="rId2"/>
          <a:stretch/>
        </p:blipFill>
        <p:spPr>
          <a:xfrm>
            <a:off x="468360" y="1557360"/>
            <a:ext cx="54720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0:35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37Z</dcterms:modified>
  <cp:revision>5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