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300-3D09-46DE-9798-450633CA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372-7A32-407F-91C4-4FB04965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C1F-F612-48A5-A0BA-2DB420C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488-50C9-4D7E-984E-24F58249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A2ED-7F01-4010-B770-46F5B975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9B4-C01A-46CC-A952-81D7C0DB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C0F-3F5C-4E5B-BCD2-AE4A942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9A5-5A5E-4961-B78F-2717B73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D1B-C32E-454E-B156-C2A369E4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028A-F5E1-4F10-9123-3A1EC52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8D2C-69AD-40C7-9380-DA137DC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366-373E-44C9-85C2-F709FFEA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E9F-978A-42F4-8BCF-53DFE57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8A8-355A-4515-9084-C09A11C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3E3-9709-473D-9E82-9AFA017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55A-D923-4468-AE15-113F2358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77C8-B285-4C2C-87F0-C4444659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0B8-530F-494F-A522-E75EB66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B5E-3F45-4E6F-8D21-9C63397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4C4-F809-47C7-A650-69BEAEA0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F3D-7E05-47AB-91A5-2DEF2AB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255-26BC-4F13-BE9A-901BF80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712-370D-45DD-9DC3-8856A37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2CA-548E-4AE0-94BF-2152DFA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68F2-886C-42AB-A420-819A1CB29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43"/>
          <p:cNvPicPr/>
          <p:nvPr/>
        </p:nvPicPr>
        <p:blipFill>
          <a:blip r:embed="rId2"/>
          <a:stretch/>
        </p:blipFill>
        <p:spPr>
          <a:xfrm>
            <a:off x="457200" y="709560"/>
            <a:ext cx="815328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FF6A-0015-4F11-93C9-8B662B9F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>
            <a:off x="4648320" y="3962520"/>
            <a:ext cx="396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宋体"/>
              </a:rPr>
              <a:t>连加 连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505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71360" y="5600880"/>
            <a:ext cx="73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257040" y="6022800"/>
            <a:ext cx="50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47"/>
          <p:cNvPicPr/>
          <p:nvPr/>
        </p:nvPicPr>
        <p:blipFill>
          <a:blip r:embed="rId1"/>
          <a:stretch/>
        </p:blipFill>
        <p:spPr>
          <a:xfrm>
            <a:off x="5003640" y="2852640"/>
            <a:ext cx="3337200" cy="270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246"/>
          <p:cNvPicPr/>
          <p:nvPr/>
        </p:nvPicPr>
        <p:blipFill>
          <a:blip r:embed="rId2"/>
          <a:stretch/>
        </p:blipFill>
        <p:spPr>
          <a:xfrm>
            <a:off x="762120" y="3049560"/>
            <a:ext cx="3213000" cy="24987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466560" y="1644480"/>
            <a:ext cx="1971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184480" y="5041800"/>
            <a:ext cx="92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89160" y="5043600"/>
            <a:ext cx="92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6572160" y="5040360"/>
            <a:ext cx="92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469280" y="5025960"/>
            <a:ext cx="92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7148520" y="1143000"/>
            <a:ext cx="158436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4193640" y="1052640"/>
            <a:ext cx="4699080" cy="1449360"/>
            <a:chOff x="4193640" y="1052640"/>
            <a:chExt cx="4699080" cy="1449360"/>
          </a:xfrm>
        </p:grpSpPr>
        <p:pic>
          <p:nvPicPr>
            <p:cNvPr id="216" name="Picture 52" descr="P-055"/>
            <p:cNvPicPr/>
            <p:nvPr/>
          </p:nvPicPr>
          <p:blipFill>
            <a:blip r:embed="rId3"/>
            <a:stretch/>
          </p:blipFill>
          <p:spPr>
            <a:xfrm flipH="1">
              <a:off x="7507080" y="1125360"/>
              <a:ext cx="1385640" cy="137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oup 13"/>
            <p:cNvGrpSpPr/>
            <p:nvPr/>
          </p:nvGrpSpPr>
          <p:grpSpPr>
            <a:xfrm>
              <a:off x="4193640" y="1052640"/>
              <a:ext cx="3762720" cy="1103040"/>
              <a:chOff x="4193640" y="1052640"/>
              <a:chExt cx="3762720" cy="1103040"/>
            </a:xfrm>
          </p:grpSpPr>
          <p:pic>
            <p:nvPicPr>
              <p:cNvPr id="218" name="Picture 96" descr="023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93640" y="1052640"/>
                <a:ext cx="3568680" cy="110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Text Box 15"/>
              <p:cNvSpPr/>
              <p:nvPr/>
            </p:nvSpPr>
            <p:spPr>
              <a:xfrm>
                <a:off x="4698720" y="1185840"/>
                <a:ext cx="3257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先说一说图的意思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再填一填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0" name="Picture 16" descr=""/>
          <p:cNvPicPr/>
          <p:nvPr/>
        </p:nvPicPr>
        <p:blipFill>
          <a:blip r:embed="rId5"/>
          <a:srcRect l="26391" t="28888" r="25696" b="40005"/>
          <a:stretch/>
        </p:blipFill>
        <p:spPr>
          <a:xfrm>
            <a:off x="380880" y="457200"/>
            <a:ext cx="22100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15278" t="22309" r="23292" b="30691"/>
          <a:stretch/>
        </p:blipFill>
        <p:spPr>
          <a:xfrm>
            <a:off x="0" y="1417680"/>
            <a:ext cx="9144000" cy="437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rcRect l="35562" t="7769" r="38777" b="79418"/>
          <a:stretch/>
        </p:blipFill>
        <p:spPr>
          <a:xfrm>
            <a:off x="2994120" y="76320"/>
            <a:ext cx="3127320" cy="9745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228600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812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80988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9272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93720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7689960" y="50166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35562" t="7769" r="38777" b="79418"/>
          <a:stretch/>
        </p:blipFill>
        <p:spPr>
          <a:xfrm>
            <a:off x="2994120" y="76320"/>
            <a:ext cx="3127320" cy="974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rcRect l="16338" t="71020" r="22210" b="15537"/>
          <a:stretch/>
        </p:blipFill>
        <p:spPr>
          <a:xfrm>
            <a:off x="34920" y="1447920"/>
            <a:ext cx="9070920" cy="1239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rcRect l="15973" t="11112" r="21468" b="57561"/>
          <a:stretch/>
        </p:blipFill>
        <p:spPr>
          <a:xfrm>
            <a:off x="0" y="2895480"/>
            <a:ext cx="9144000" cy="2862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2371680" y="4976640"/>
            <a:ext cx="75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133800" y="4976640"/>
            <a:ext cx="75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61240" y="4976640"/>
            <a:ext cx="75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575480" y="4976640"/>
            <a:ext cx="75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rcRect l="35562" t="7769" r="38777" b="79418"/>
          <a:stretch/>
        </p:blipFill>
        <p:spPr>
          <a:xfrm>
            <a:off x="2994120" y="76320"/>
            <a:ext cx="3127320" cy="9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2"/>
          <a:srcRect l="15973" t="44187" r="29086" b="37547"/>
          <a:stretch/>
        </p:blipFill>
        <p:spPr>
          <a:xfrm>
            <a:off x="0" y="1295280"/>
            <a:ext cx="914400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0" y="3276720"/>
            <a:ext cx="8381880" cy="2984400"/>
            <a:chOff x="0" y="3276720"/>
            <a:chExt cx="8381880" cy="2984400"/>
          </a:xfrm>
        </p:grpSpPr>
        <p:pic>
          <p:nvPicPr>
            <p:cNvPr id="242" name="Picture 5" descr=""/>
            <p:cNvPicPr/>
            <p:nvPr/>
          </p:nvPicPr>
          <p:blipFill>
            <a:blip r:embed="rId3"/>
            <a:srcRect l="15977" t="64196" r="33649" b="28481"/>
            <a:stretch/>
          </p:blipFill>
          <p:spPr>
            <a:xfrm>
              <a:off x="0" y="3276720"/>
              <a:ext cx="83818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7" descr=""/>
            <p:cNvPicPr/>
            <p:nvPr/>
          </p:nvPicPr>
          <p:blipFill>
            <a:blip r:embed="rId4"/>
            <a:srcRect l="65895" t="64196" r="20369" b="14435"/>
            <a:stretch/>
          </p:blipFill>
          <p:spPr>
            <a:xfrm>
              <a:off x="3352680" y="4038480"/>
              <a:ext cx="22860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Rectangle 4"/>
          <p:cNvSpPr/>
          <p:nvPr/>
        </p:nvSpPr>
        <p:spPr>
          <a:xfrm>
            <a:off x="4114800" y="5245200"/>
            <a:ext cx="75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651200" y="4711680"/>
            <a:ext cx="75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720" y="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6D9D-AB4D-4C7F-AFD0-068E71C7F8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468360" y="2492280"/>
            <a:ext cx="8316720" cy="1944720"/>
            <a:chOff x="468360" y="2492280"/>
            <a:chExt cx="8316720" cy="1944720"/>
          </a:xfrm>
        </p:grpSpPr>
        <p:sp>
          <p:nvSpPr>
            <p:cNvPr id="88" name="Rectangle 14"/>
            <p:cNvSpPr/>
            <p:nvPr/>
          </p:nvSpPr>
          <p:spPr>
            <a:xfrm>
              <a:off x="468360" y="2492280"/>
              <a:ext cx="1942920" cy="1944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ff99ff">
                    <a:alpha val="49019"/>
                  </a:srgbClr>
                </a:gs>
              </a:gsLst>
              <a:lin ang="5400000"/>
            </a:gradFill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8"/>
            <p:cNvSpPr/>
            <p:nvPr/>
          </p:nvSpPr>
          <p:spPr>
            <a:xfrm>
              <a:off x="2557440" y="2492280"/>
              <a:ext cx="1943280" cy="1944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ff99ff">
                    <a:alpha val="49019"/>
                  </a:srgbClr>
                </a:gs>
              </a:gsLst>
              <a:lin ang="5400000"/>
            </a:gradFill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"/>
            <p:cNvSpPr/>
            <p:nvPr/>
          </p:nvSpPr>
          <p:spPr>
            <a:xfrm>
              <a:off x="6732720" y="2492280"/>
              <a:ext cx="1942920" cy="1944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ff99ff">
                    <a:alpha val="49019"/>
                  </a:srgbClr>
                </a:gs>
              </a:gsLst>
              <a:lin ang="5400000"/>
            </a:gradFill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4643280" y="2492280"/>
              <a:ext cx="1943280" cy="1944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ff99ff">
                    <a:alpha val="49019"/>
                  </a:srgbClr>
                </a:gs>
              </a:gsLst>
              <a:lin ang="5400000"/>
            </a:gradFill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39640" y="278136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"/>
            <p:cNvSpPr/>
            <p:nvPr/>
          </p:nvSpPr>
          <p:spPr>
            <a:xfrm>
              <a:off x="541440" y="3514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2625840" y="278136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2627280" y="3514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"/>
            <p:cNvSpPr/>
            <p:nvPr/>
          </p:nvSpPr>
          <p:spPr>
            <a:xfrm>
              <a:off x="4711680" y="278136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>
              <a:off x="4713120" y="3514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"/>
            <p:cNvSpPr/>
            <p:nvPr/>
          </p:nvSpPr>
          <p:spPr>
            <a:xfrm>
              <a:off x="6769080" y="278136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6770520" y="3514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复习旧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口算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76440" y="28004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566720" y="35132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635280" y="278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624120" y="35179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24360" y="2790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724360" y="3508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753320" y="2790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7763040" y="35035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042920" y="4869000"/>
            <a:ext cx="5738760" cy="1569960"/>
            <a:chOff x="1042920" y="4869000"/>
            <a:chExt cx="5738760" cy="1569960"/>
          </a:xfrm>
        </p:grpSpPr>
        <p:pic>
          <p:nvPicPr>
            <p:cNvPr id="111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1042920" y="4869000"/>
              <a:ext cx="1602000" cy="15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27"/>
            <p:cNvGrpSpPr/>
            <p:nvPr/>
          </p:nvGrpSpPr>
          <p:grpSpPr>
            <a:xfrm>
              <a:off x="2308320" y="4871880"/>
              <a:ext cx="4473360" cy="1079640"/>
              <a:chOff x="2308320" y="4871880"/>
              <a:chExt cx="4473360" cy="1079640"/>
            </a:xfrm>
          </p:grpSpPr>
          <p:pic>
            <p:nvPicPr>
              <p:cNvPr id="113" name="Picture 96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2308320" y="4871880"/>
                <a:ext cx="38545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29"/>
              <p:cNvSpPr/>
              <p:nvPr/>
            </p:nvSpPr>
            <p:spPr>
              <a:xfrm>
                <a:off x="3016440" y="5138640"/>
                <a:ext cx="376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每组两题有什么关系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4794120" y="184464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eeece1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eeece1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243"/>
          <p:cNvPicPr/>
          <p:nvPr/>
        </p:nvPicPr>
        <p:blipFill>
          <a:blip r:embed="rId14"/>
          <a:stretch/>
        </p:blipFill>
        <p:spPr>
          <a:xfrm>
            <a:off x="1936800" y="1143000"/>
            <a:ext cx="543384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4"/>
          <p:cNvSpPr/>
          <p:nvPr/>
        </p:nvSpPr>
        <p:spPr>
          <a:xfrm>
            <a:off x="1144440" y="4346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你看到了什么？能提出一个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1143000" y="4849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小鸡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"/>
          <p:cNvSpPr/>
          <p:nvPr/>
        </p:nvSpPr>
        <p:spPr>
          <a:xfrm>
            <a:off x="3755880" y="4782960"/>
            <a:ext cx="20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243-1"/>
          <p:cNvPicPr/>
          <p:nvPr/>
        </p:nvPicPr>
        <p:blipFill>
          <a:blip r:embed="rId15"/>
          <a:stretch/>
        </p:blipFill>
        <p:spPr>
          <a:xfrm>
            <a:off x="4878360" y="3230640"/>
            <a:ext cx="1014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243"/>
          <p:cNvPicPr/>
          <p:nvPr/>
        </p:nvPicPr>
        <p:blipFill>
          <a:blip r:embed="rId1"/>
          <a:stretch/>
        </p:blipFill>
        <p:spPr>
          <a:xfrm>
            <a:off x="1936800" y="1219320"/>
            <a:ext cx="543384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4"/>
          <p:cNvSpPr/>
          <p:nvPr/>
        </p:nvSpPr>
        <p:spPr>
          <a:xfrm>
            <a:off x="1144440" y="45306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你又看到了什么？能提出一个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1143000" y="50338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小鸡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3755880" y="4967280"/>
            <a:ext cx="28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243-1"/>
          <p:cNvPicPr/>
          <p:nvPr/>
        </p:nvPicPr>
        <p:blipFill>
          <a:blip r:embed="rId2"/>
          <a:stretch/>
        </p:blipFill>
        <p:spPr>
          <a:xfrm>
            <a:off x="4878360" y="3306600"/>
            <a:ext cx="1014480" cy="7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243-2"/>
          <p:cNvPicPr/>
          <p:nvPr/>
        </p:nvPicPr>
        <p:blipFill>
          <a:blip r:embed="rId3"/>
          <a:stretch/>
        </p:blipFill>
        <p:spPr>
          <a:xfrm>
            <a:off x="6132600" y="3517920"/>
            <a:ext cx="68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580000" y="207792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小鸡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88960" y="30492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对  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244-2"/>
          <p:cNvPicPr/>
          <p:nvPr/>
        </p:nvPicPr>
        <p:blipFill>
          <a:blip r:embed="rId1"/>
          <a:stretch/>
        </p:blipFill>
        <p:spPr>
          <a:xfrm>
            <a:off x="700200" y="4005360"/>
            <a:ext cx="4232160" cy="22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244-1"/>
          <p:cNvPicPr/>
          <p:nvPr/>
        </p:nvPicPr>
        <p:blipFill>
          <a:blip r:embed="rId2"/>
          <a:stretch/>
        </p:blipFill>
        <p:spPr>
          <a:xfrm>
            <a:off x="700200" y="1351080"/>
            <a:ext cx="4232160" cy="2243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6"/>
          <p:cNvSpPr/>
          <p:nvPr/>
        </p:nvSpPr>
        <p:spPr>
          <a:xfrm>
            <a:off x="5595840" y="2765520"/>
            <a:ext cx="20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580000" y="47656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小鸡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5595840" y="5452920"/>
            <a:ext cx="30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124080" y="2901960"/>
            <a:ext cx="33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3398760" y="3594240"/>
            <a:ext cx="863640" cy="282240"/>
            <a:chOff x="3398760" y="3594240"/>
            <a:chExt cx="863640" cy="282240"/>
          </a:xfrm>
        </p:grpSpPr>
        <p:sp>
          <p:nvSpPr>
            <p:cNvPr id="140" name="Line 6"/>
            <p:cNvSpPr/>
            <p:nvPr/>
          </p:nvSpPr>
          <p:spPr>
            <a:xfrm>
              <a:off x="3398760" y="38764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398760" y="3594240"/>
              <a:ext cx="0" cy="2822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4262400" y="3594240"/>
              <a:ext cx="0" cy="2822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3395520" y="38098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3992400" y="3597120"/>
            <a:ext cx="1157040" cy="676080"/>
            <a:chOff x="3992400" y="3597120"/>
            <a:chExt cx="1157040" cy="676080"/>
          </a:xfrm>
        </p:grpSpPr>
        <p:sp>
          <p:nvSpPr>
            <p:cNvPr id="145" name="Line 11"/>
            <p:cNvSpPr/>
            <p:nvPr/>
          </p:nvSpPr>
          <p:spPr>
            <a:xfrm>
              <a:off x="3992400" y="4273200"/>
              <a:ext cx="1157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5149440" y="3597120"/>
              <a:ext cx="0" cy="676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4"/>
          <p:cNvSpPr/>
          <p:nvPr/>
        </p:nvSpPr>
        <p:spPr>
          <a:xfrm>
            <a:off x="5627520" y="2903400"/>
            <a:ext cx="8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976320" y="1066680"/>
            <a:ext cx="5670720" cy="1054080"/>
            <a:chOff x="976320" y="1066680"/>
            <a:chExt cx="5670720" cy="1054080"/>
          </a:xfrm>
        </p:grpSpPr>
        <p:pic>
          <p:nvPicPr>
            <p:cNvPr id="149" name="Picture 16" descr="泡泡框"/>
            <p:cNvPicPr/>
            <p:nvPr/>
          </p:nvPicPr>
          <p:blipFill>
            <a:blip r:embed="rId1"/>
            <a:srcRect l="0" t="58389" r="0" b="0"/>
            <a:stretch/>
          </p:blipFill>
          <p:spPr>
            <a:xfrm>
              <a:off x="976320" y="1066680"/>
              <a:ext cx="45262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矩形 7"/>
            <p:cNvSpPr/>
            <p:nvPr/>
          </p:nvSpPr>
          <p:spPr>
            <a:xfrm>
              <a:off x="1494000" y="1361880"/>
              <a:ext cx="5153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你们会计算这个算式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1116000" y="46227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你又看到了什么？能提出一个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1114560" y="51260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剩几只小鸡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3727440" y="5059440"/>
            <a:ext cx="28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1547640" y="1238400"/>
            <a:ext cx="6129360" cy="2666880"/>
            <a:chOff x="1547640" y="1238400"/>
            <a:chExt cx="6129360" cy="2666880"/>
          </a:xfrm>
        </p:grpSpPr>
        <p:pic>
          <p:nvPicPr>
            <p:cNvPr id="156" name="Picture 7" descr="245-3"/>
            <p:cNvPicPr/>
            <p:nvPr/>
          </p:nvPicPr>
          <p:blipFill>
            <a:blip r:embed="rId1"/>
            <a:stretch/>
          </p:blipFill>
          <p:spPr>
            <a:xfrm>
              <a:off x="1547640" y="1238400"/>
              <a:ext cx="61293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245-1"/>
            <p:cNvPicPr/>
            <p:nvPr/>
          </p:nvPicPr>
          <p:blipFill>
            <a:blip r:embed="rId2"/>
            <a:stretch/>
          </p:blipFill>
          <p:spPr>
            <a:xfrm>
              <a:off x="5041800" y="3240000"/>
              <a:ext cx="847800" cy="49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245-2"/>
            <p:cNvPicPr/>
            <p:nvPr/>
          </p:nvPicPr>
          <p:blipFill>
            <a:blip r:embed="rId3"/>
            <a:stretch/>
          </p:blipFill>
          <p:spPr>
            <a:xfrm>
              <a:off x="6300720" y="3144600"/>
              <a:ext cx="120024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3246480" y="3556080"/>
            <a:ext cx="863640" cy="286920"/>
            <a:chOff x="3246480" y="3556080"/>
            <a:chExt cx="863640" cy="286920"/>
          </a:xfrm>
        </p:grpSpPr>
        <p:grpSp>
          <p:nvGrpSpPr>
            <p:cNvPr id="161" name="Group 10"/>
            <p:cNvGrpSpPr/>
            <p:nvPr/>
          </p:nvGrpSpPr>
          <p:grpSpPr>
            <a:xfrm>
              <a:off x="3246480" y="3596040"/>
              <a:ext cx="863640" cy="246240"/>
              <a:chOff x="3246480" y="3596040"/>
              <a:chExt cx="863640" cy="246240"/>
            </a:xfrm>
          </p:grpSpPr>
          <p:sp>
            <p:nvSpPr>
              <p:cNvPr id="162" name="Line 5"/>
              <p:cNvSpPr/>
              <p:nvPr/>
            </p:nvSpPr>
            <p:spPr>
              <a:xfrm>
                <a:off x="3246480" y="3842280"/>
                <a:ext cx="86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3246480" y="3596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4110120" y="3596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16"/>
            <p:cNvSpPr/>
            <p:nvPr/>
          </p:nvSpPr>
          <p:spPr>
            <a:xfrm>
              <a:off x="4110120" y="3556080"/>
              <a:ext cx="0" cy="286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3835440" y="3560760"/>
            <a:ext cx="1149480" cy="674640"/>
            <a:chOff x="3835440" y="3560760"/>
            <a:chExt cx="1149480" cy="674640"/>
          </a:xfrm>
        </p:grpSpPr>
        <p:sp>
          <p:nvSpPr>
            <p:cNvPr id="167" name="Line 10"/>
            <p:cNvSpPr/>
            <p:nvPr/>
          </p:nvSpPr>
          <p:spPr>
            <a:xfrm>
              <a:off x="3835440" y="4224240"/>
              <a:ext cx="1149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4978800" y="3560760"/>
              <a:ext cx="0" cy="674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2"/>
          <p:cNvGrpSpPr/>
          <p:nvPr/>
        </p:nvGrpSpPr>
        <p:grpSpPr>
          <a:xfrm>
            <a:off x="1111320" y="1143000"/>
            <a:ext cx="5670000" cy="1054080"/>
            <a:chOff x="1111320" y="1143000"/>
            <a:chExt cx="5670000" cy="1054080"/>
          </a:xfrm>
        </p:grpSpPr>
        <p:pic>
          <p:nvPicPr>
            <p:cNvPr id="170" name="Picture 16" descr="泡泡框"/>
            <p:cNvPicPr/>
            <p:nvPr/>
          </p:nvPicPr>
          <p:blipFill>
            <a:blip r:embed="rId1"/>
            <a:srcRect l="0" t="58389" r="0" b="0"/>
            <a:stretch/>
          </p:blipFill>
          <p:spPr>
            <a:xfrm>
              <a:off x="1111320" y="1143000"/>
              <a:ext cx="45259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1628640" y="1438200"/>
              <a:ext cx="5152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你们会计算这个算式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5"/>
          <p:cNvSpPr/>
          <p:nvPr/>
        </p:nvSpPr>
        <p:spPr>
          <a:xfrm>
            <a:off x="2971800" y="2895480"/>
            <a:ext cx="33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243240" y="38037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475240" y="2897280"/>
            <a:ext cx="8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"/>
          <p:cNvSpPr/>
          <p:nvPr/>
        </p:nvSpPr>
        <p:spPr>
          <a:xfrm>
            <a:off x="182520" y="5934240"/>
            <a:ext cx="54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696960" y="1022400"/>
            <a:ext cx="532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1778040" y="2246400"/>
            <a:ext cx="302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3146400" y="22464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1709640" y="306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7"/>
          <p:cNvSpPr/>
          <p:nvPr/>
        </p:nvSpPr>
        <p:spPr>
          <a:xfrm>
            <a:off x="3144960" y="3068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2055960" y="46879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3884760" y="387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1994040" y="4478400"/>
            <a:ext cx="707760" cy="239400"/>
            <a:chOff x="1994040" y="4478400"/>
            <a:chExt cx="707760" cy="239400"/>
          </a:xfrm>
        </p:grpSpPr>
        <p:sp>
          <p:nvSpPr>
            <p:cNvPr id="185" name="Line 41"/>
            <p:cNvSpPr/>
            <p:nvPr/>
          </p:nvSpPr>
          <p:spPr>
            <a:xfrm>
              <a:off x="1994040" y="4717800"/>
              <a:ext cx="707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2"/>
            <p:cNvSpPr/>
            <p:nvPr/>
          </p:nvSpPr>
          <p:spPr>
            <a:xfrm>
              <a:off x="1994040" y="4478400"/>
              <a:ext cx="0" cy="2394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43"/>
            <p:cNvSpPr/>
            <p:nvPr/>
          </p:nvSpPr>
          <p:spPr>
            <a:xfrm>
              <a:off x="2701800" y="4478400"/>
              <a:ext cx="0" cy="2394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"/>
          <p:cNvGrpSpPr/>
          <p:nvPr/>
        </p:nvGrpSpPr>
        <p:grpSpPr>
          <a:xfrm>
            <a:off x="2541600" y="4478400"/>
            <a:ext cx="891720" cy="561600"/>
            <a:chOff x="2541600" y="4478400"/>
            <a:chExt cx="891720" cy="561600"/>
          </a:xfrm>
        </p:grpSpPr>
        <p:sp>
          <p:nvSpPr>
            <p:cNvPr id="189" name="Line 45"/>
            <p:cNvSpPr/>
            <p:nvPr/>
          </p:nvSpPr>
          <p:spPr>
            <a:xfrm>
              <a:off x="2541600" y="5040000"/>
              <a:ext cx="891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6"/>
            <p:cNvSpPr/>
            <p:nvPr/>
          </p:nvSpPr>
          <p:spPr>
            <a:xfrm>
              <a:off x="3433320" y="4478400"/>
              <a:ext cx="0" cy="561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47"/>
          <p:cNvSpPr/>
          <p:nvPr/>
        </p:nvSpPr>
        <p:spPr>
          <a:xfrm>
            <a:off x="5292720" y="2266920"/>
            <a:ext cx="3470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6670800" y="22654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226120" y="30909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6670800" y="3087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5594400" y="4692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7362720" y="3906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3"/>
          <p:cNvGrpSpPr/>
          <p:nvPr/>
        </p:nvGrpSpPr>
        <p:grpSpPr>
          <a:xfrm>
            <a:off x="5518080" y="4471920"/>
            <a:ext cx="730440" cy="245520"/>
            <a:chOff x="5518080" y="4471920"/>
            <a:chExt cx="730440" cy="245520"/>
          </a:xfrm>
        </p:grpSpPr>
        <p:grpSp>
          <p:nvGrpSpPr>
            <p:cNvPr id="198" name="Group 24"/>
            <p:cNvGrpSpPr/>
            <p:nvPr/>
          </p:nvGrpSpPr>
          <p:grpSpPr>
            <a:xfrm>
              <a:off x="5518080" y="4523040"/>
              <a:ext cx="730440" cy="194400"/>
              <a:chOff x="5518080" y="4523040"/>
              <a:chExt cx="730440" cy="194400"/>
            </a:xfrm>
          </p:grpSpPr>
          <p:sp>
            <p:nvSpPr>
              <p:cNvPr id="199" name="Line 61"/>
              <p:cNvSpPr/>
              <p:nvPr/>
            </p:nvSpPr>
            <p:spPr>
              <a:xfrm>
                <a:off x="5518080" y="4717440"/>
                <a:ext cx="73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62"/>
              <p:cNvSpPr/>
              <p:nvPr/>
            </p:nvSpPr>
            <p:spPr>
              <a:xfrm>
                <a:off x="5518080" y="4523040"/>
                <a:ext cx="0" cy="19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63"/>
              <p:cNvSpPr/>
              <p:nvPr/>
            </p:nvSpPr>
            <p:spPr>
              <a:xfrm>
                <a:off x="6248520" y="4523040"/>
                <a:ext cx="0" cy="19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64"/>
            <p:cNvSpPr/>
            <p:nvPr/>
          </p:nvSpPr>
          <p:spPr>
            <a:xfrm>
              <a:off x="6245280" y="4471920"/>
              <a:ext cx="1080" cy="225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9"/>
          <p:cNvGrpSpPr/>
          <p:nvPr/>
        </p:nvGrpSpPr>
        <p:grpSpPr>
          <a:xfrm>
            <a:off x="6026040" y="4457880"/>
            <a:ext cx="914400" cy="590040"/>
            <a:chOff x="6026040" y="4457880"/>
            <a:chExt cx="914400" cy="590040"/>
          </a:xfrm>
        </p:grpSpPr>
        <p:sp>
          <p:nvSpPr>
            <p:cNvPr id="204" name="Line 67"/>
            <p:cNvSpPr/>
            <p:nvPr/>
          </p:nvSpPr>
          <p:spPr>
            <a:xfrm>
              <a:off x="6026040" y="5040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9"/>
            <p:cNvSpPr/>
            <p:nvPr/>
          </p:nvSpPr>
          <p:spPr>
            <a:xfrm>
              <a:off x="6937200" y="4457880"/>
              <a:ext cx="0" cy="590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6:34:30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6:11:24Z</dcterms:modified>
  <cp:revision>14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