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png" ContentType="image/png"/>
  <Override PartName="/ppt/media/image18.gif" ContentType="image/gif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76B-DD0A-4EA2-9ED8-853D69E3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EBD-E5B3-4338-ACAE-DEEBD7E1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617-35B8-4BA6-A9B0-D01B9292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540-6241-4E2F-9036-8AA965FB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B46-290D-4C6B-9E4A-70F58BF1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524-A7D8-46D5-9026-F36FEE09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E73-4A9A-4AC3-B9ED-07AEA12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00B-6B04-4E62-A84E-35643F72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450-5EA6-48ED-BC57-1AE82A66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058-D37E-492E-8E01-DDA3887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CEE-DD5B-473E-9ACE-D30577C8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F16-43B0-4715-BE6D-9093A86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CD39-D8FA-4F9F-8549-1F88EA2ED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130042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900000" y="1628640"/>
            <a:ext cx="64803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00000">
                      <a:alpha val="32000"/>
                    </a:srgbClr>
                  </a:outerShdw>
                </a:effectLst>
                <a:latin typeface="华文新魏"/>
              </a:rPr>
              <a:t>你一定会听见的</a:t>
            </a:r>
            <a:endParaRPr b="1" lang="en-US" sz="6600" spc="1" strike="noStrike">
              <a:ln w="9360">
                <a:solidFill>
                  <a:srgbClr val="008000"/>
                </a:solidFill>
                <a:round/>
              </a:ln>
              <a:solidFill>
                <a:srgbClr val="ffffff"/>
              </a:solidFill>
              <a:effectLst>
                <a:outerShdw dist="153753" dir="2700000" blurRad="0" rotWithShape="0">
                  <a:srgbClr val="000000">
                    <a:alpha val="32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219640" y="2421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桂文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水声97.WAV" descr=""/>
          <p:cNvPicPr/>
          <p:nvPr/>
        </p:nvPicPr>
        <p:blipFill>
          <a:blip r:embed="rId2"/>
          <a:stretch/>
        </p:blipFill>
        <p:spPr>
          <a:xfrm>
            <a:off x="831708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页脚占位符 2"/>
          <p:cNvSpPr/>
          <p:nvPr/>
        </p:nvSpPr>
        <p:spPr>
          <a:xfrm>
            <a:off x="2627280" y="580536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f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26370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华文行楷"/>
                <a:ea typeface="华文行楷"/>
              </a:rPr>
              <a:t>是的，我一定会听到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华文行楷"/>
                <a:ea typeface="华文行楷"/>
              </a:rPr>
              <a:t>如果</a:t>
            </a:r>
            <a:r>
              <a:rPr b="1" lang="en-US" sz="4400" spc="-1" strike="noStrike">
                <a:solidFill>
                  <a:srgbClr val="00cc00"/>
                </a:solidFill>
                <a:latin typeface="宋体"/>
                <a:ea typeface="华文行楷"/>
              </a:rPr>
              <a:t>……</a:t>
            </a:r>
            <a:r>
              <a:rPr b="1" lang="en-US" sz="4400" spc="-1" strike="noStrike">
                <a:solidFill>
                  <a:srgbClr val="00cc00"/>
                </a:solidFill>
                <a:latin typeface="华文行楷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00cc00"/>
                </a:solidFill>
                <a:latin typeface="华文行楷"/>
                <a:ea typeface="华文行楷"/>
              </a:rPr>
              <a:t>就会发现</a:t>
            </a:r>
            <a:r>
              <a:rPr b="1" lang="en-US" sz="4400" spc="-1" strike="noStrike">
                <a:solidFill>
                  <a:srgbClr val="00cc00"/>
                </a:solidFill>
                <a:latin typeface="宋体"/>
                <a:ea typeface="华文行楷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love-098"/>
          <p:cNvPicPr/>
          <p:nvPr/>
        </p:nvPicPr>
        <p:blipFill>
          <a:blip r:embed="rId1"/>
          <a:stretch/>
        </p:blipFill>
        <p:spPr>
          <a:xfrm>
            <a:off x="-106668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918320" y="765000"/>
            <a:ext cx="27270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ff"/>
                </a:solidFill>
                <a:latin typeface="Times New Roman"/>
                <a:ea typeface="华文行楷"/>
              </a:rPr>
              <a:t>你听到了花儿绽放的声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3800" y="620640"/>
            <a:ext cx="1521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ff"/>
                </a:solidFill>
                <a:latin typeface="Arial"/>
                <a:ea typeface="华文行楷"/>
              </a:rPr>
              <a:t>你听了春笋破土而出的声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430520" y="692280"/>
            <a:ext cx="1521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ff"/>
                </a:solidFill>
                <a:latin typeface="Arial"/>
                <a:ea typeface="华文行楷"/>
              </a:rPr>
              <a:t>你听到了禾苗抽穗的声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198520" y="549360"/>
            <a:ext cx="1521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ff"/>
                </a:solidFill>
                <a:latin typeface="Arial"/>
                <a:ea typeface="华文行楷"/>
              </a:rPr>
              <a:t>你听到了树木拔节的声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2050920" y="5516640"/>
            <a:ext cx="6624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请用你的笔写出你的生活发现吧！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dur="indefinite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28600" y="1371600"/>
            <a:ext cx="8610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 Black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476360" y="170028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轻舞飞扬</a:t>
            </a:r>
            <a:r>
              <a:rPr b="1" i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i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绘一瓣心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692360" y="2739960"/>
            <a:ext cx="653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模仿课文</a:t>
            </a:r>
            <a:r>
              <a:rPr b="1" lang="en-US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-3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自然段的写法，运用一定的修辞手法，描绘出你心中的声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7"/>
          <p:cNvSpPr txBox="1"/>
          <p:nvPr/>
        </p:nvSpPr>
        <p:spPr>
          <a:xfrm>
            <a:off x="1476360" y="260280"/>
            <a:ext cx="324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绘声篇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ransition>
    <p:cover dir="l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蜻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826920" y="1197000"/>
            <a:ext cx="7775640" cy="6426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你听过蜻蜓点水的声音吗？蜻蜓看见一面极亮极亮的大镜子，照出了蓝天白云，照出了红花绿叶，于是它朝那面镜子俯冲下去，近了，近了，它用尾巴轻轻一点，想停在上面照一照，“轰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……”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声，镜子碎了，世界摇晃了，蜻蜓慌忙逃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ic121"/>
          <p:cNvPicPr/>
          <p:nvPr/>
        </p:nvPicPr>
        <p:blipFill>
          <a:blip r:embed="rId1"/>
          <a:srcRect l="0" t="0" r="0" b="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611280" y="1125360"/>
            <a:ext cx="7488000" cy="163044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你听过杜鹃怒放的声音吗？整整一个冬季，杜鹃都在聚集精华等待着。当春风不断加温，花骨朵开始突突突地翻滚起来，终于有一天，她达到了沸点，掀翻了花盖子，咕噜噜地一个个粉红色的泡泡全冒了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zao4"/>
          <p:cNvPicPr/>
          <p:nvPr/>
        </p:nvPicPr>
        <p:blipFill>
          <a:blip r:embed="rId2"/>
          <a:stretch/>
        </p:blipFill>
        <p:spPr>
          <a:xfrm>
            <a:off x="3276720" y="5373720"/>
            <a:ext cx="4038480" cy="1484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900000" y="476280"/>
            <a:ext cx="720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你听过空气摇曳的声音吗？如果你对着前面重重地吹一口气，空气立刻像多米诺骨牌一样倒了下去，“哗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——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地一声撞到了墙壁，然后，又摇摇晃晃地弹了回来，发出“哐呛哐呛”的声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华文行楷"/>
              </a:rPr>
              <a:t>      </a:t>
            </a: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华文行楷"/>
              </a:rPr>
              <a:t>生活乐趣的大小是随着你对生活的关心程度而定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780000" y="4437000"/>
            <a:ext cx="50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66"/>
                </a:solidFill>
                <a:latin typeface="Arial"/>
              </a:rPr>
              <a:t>—</a:t>
            </a: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华文行楷"/>
              </a:rPr>
              <a:t>法国   蒙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41120" y="93600"/>
            <a:ext cx="32068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结声篇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395280" y="692280"/>
            <a:ext cx="80294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Arial"/>
                <a:ea typeface="黑体"/>
              </a:rPr>
              <a:t>   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生活中不是缺少美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而是缺少发现美的眼睛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生活中不是缺少音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而是缺少捕捉音乐的耳朵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生活中不是缺少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而是缺少感受爱的心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把眼睛叫醒，把耳朵叫醒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把心灵叫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kix"/>
          <p:cNvPicPr/>
          <p:nvPr/>
        </p:nvPicPr>
        <p:blipFill>
          <a:blip r:embed="rId2"/>
          <a:stretch/>
        </p:blipFill>
        <p:spPr>
          <a:xfrm>
            <a:off x="7812000" y="4986360"/>
            <a:ext cx="1322640" cy="1322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1680" y="368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cc"/>
                </a:solidFill>
                <a:latin typeface="Arial"/>
              </a:rPr>
              <a:t>怀着一颗热爱生活的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403280" y="2565360"/>
            <a:ext cx="60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去听    去看      去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16360" y="422100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黑体"/>
                <a:ea typeface="黑体"/>
              </a:rPr>
              <a:t>我们的生活就会变得充实而有滋有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D28A-F7B0-4D4F-98A5-FFB83A1A27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9"/>
          <p:cNvSpPr/>
          <p:nvPr/>
        </p:nvSpPr>
        <p:spPr>
          <a:xfrm>
            <a:off x="250920" y="1916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130041769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晨歌.mp3" descr=""/>
          <p:cNvPicPr/>
          <p:nvPr/>
        </p:nvPicPr>
        <p:blipFill>
          <a:blip r:embed="rId2"/>
          <a:stretch/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鸟0281141.WAV" descr=""/>
          <p:cNvPicPr/>
          <p:nvPr/>
        </p:nvPicPr>
        <p:blipFill>
          <a:blip r:embed="rId3"/>
          <a:stretch/>
        </p:blipFill>
        <p:spPr>
          <a:xfrm>
            <a:off x="-152280" y="670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WordArt 9"/>
          <p:cNvSpPr txBox="1"/>
          <p:nvPr/>
        </p:nvSpPr>
        <p:spPr>
          <a:xfrm>
            <a:off x="179280" y="0"/>
            <a:ext cx="2486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听声篇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pic>
        <p:nvPicPr>
          <p:cNvPr id="53" name="水声011188.WAV" descr=""/>
          <p:cNvPicPr/>
          <p:nvPr/>
        </p:nvPicPr>
        <p:blipFill>
          <a:blip r:embed="rId4"/>
          <a:stretch/>
        </p:blipFill>
        <p:spPr>
          <a:xfrm>
            <a:off x="450072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1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1"/>
                            </p:stCondLst>
                            <p:childTnLst>
                              <p:par>
                                <p:cTn id="3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4420216"/>
          <p:cNvPicPr/>
          <p:nvPr/>
        </p:nvPicPr>
        <p:blipFill>
          <a:blip r:embed="rId1"/>
          <a:srcRect l="0" t="0" r="-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1"/>
          <p:cNvSpPr/>
          <p:nvPr/>
        </p:nvSpPr>
        <p:spPr>
          <a:xfrm>
            <a:off x="98280" y="2774880"/>
            <a:ext cx="125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130034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13003456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3003457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130034545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24000" y="2349360"/>
            <a:ext cx="8424720" cy="22874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华文行楷"/>
              </a:rPr>
              <a:t>请大家听课文录音，然后思考：课文描写哪些“声音”，你用心听过哪些，有什么感受？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324000" y="260280"/>
            <a:ext cx="2846160" cy="15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知声篇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130034545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611280" y="1700280"/>
            <a:ext cx="8137440" cy="8251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华文行楷"/>
              </a:rPr>
              <a:t>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行楷"/>
              </a:rPr>
              <a:t>课文描述了丰富多彩的声音世界，给我们带来美的享受。结合自己的阅读体验，找出本文你最喜欢的词语、句子或段落，并说说理由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141120" y="93600"/>
            <a:ext cx="3567240" cy="13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品声篇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13003460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900000" y="2565360"/>
            <a:ext cx="7993080" cy="155628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你认为作者为什么能听到如此丰富的声音，描写出如此动听的声音</a:t>
            </a:r>
            <a:r>
              <a:rPr b="0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 </a:t>
            </a:r>
            <a:r>
              <a:rPr b="1" lang="en-US" sz="28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试从文中寻找理由</a:t>
            </a:r>
            <a:r>
              <a:rPr b="1" lang="en-US" sz="28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41120" y="93600"/>
            <a:ext cx="3567240" cy="16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悟声篇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4:29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0:04Z</dcterms:modified>
  <cp:revision>4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