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chimes.wav" ContentType="audio/x-wav"/>
  <Override PartName="/ppt/media/camera.wav" ContentType="audio/x-wav"/>
  <Override PartName="/ppt/media/image7.jpeg" ContentType="image/jpeg"/>
  <Override PartName="/ppt/media/image12.png" ContentType="image/png"/>
  <Override PartName="/ppt/media/image11.jpeg" ContentType="image/jpeg"/>
  <Override PartName="/ppt/media/image1.jpeg" ContentType="image/jpeg"/>
  <Override PartName="/ppt/media/glass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CLAP.WAV" ContentType="audio/x-wav"/>
  <Override PartName="/ppt/media/image3.jpeg" ContentType="image/jpeg"/>
  <Override PartName="/ppt/media/image4.png" ContentType="image/png"/>
  <Override PartName="/ppt/media/image6.gif" ContentType="image/gif"/>
  <Override PartName="/ppt/media/image9.png" ContentType="image/png"/>
  <Override PartName="/ppt/media/projctor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8999538" cy="6591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15E-F852-4B54-A417-203C7DEB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765180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4280" y="3968640"/>
            <a:ext cx="765180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FFF-549E-45FA-8644-0E2BF04E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540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4280" y="396864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5400" y="396864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5DA-261A-44B4-A30C-CF4F693B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1240" y="190296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8200" y="190296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4280" y="396864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1240" y="396864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8200" y="3968640"/>
            <a:ext cx="246348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CDB-CED4-4F17-8EDB-85E480DE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4280" y="1902960"/>
            <a:ext cx="765180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EEF-6EA0-4CBF-988F-6D9C4F32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765180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4FF-BCE7-47E5-A3B4-06E132FD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373392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5400" y="1902960"/>
            <a:ext cx="373392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F5A-B271-459A-A327-4FE002C7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C9D-2413-4F4D-BE6B-53AEC78C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4280" y="585720"/>
            <a:ext cx="765180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04C-6E82-44CB-BCF6-90257D7C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5400" y="1902960"/>
            <a:ext cx="373392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4280" y="396864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5BF-5923-48C3-86E5-C56B95EA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373392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540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5400" y="396864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58E-81C5-4DD7-B976-5E0685BE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28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5400" y="1902960"/>
            <a:ext cx="373392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4280" y="3968640"/>
            <a:ext cx="7651800" cy="188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53E-2EAB-4A36-ABB6-15ABC675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4280" y="585720"/>
            <a:ext cx="7651800" cy="1098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4280" y="1902960"/>
            <a:ext cx="7651800" cy="395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 fontScale="99000"/>
          </a:bodyPr>
          <a:p>
            <a:pPr marL="329760" indent="-3297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400" indent="-2750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1600" indent="-219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219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4680" indent="-22104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4680" indent="-22104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4680" indent="-22104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4640" y="6003720"/>
            <a:ext cx="1876320" cy="439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003720"/>
            <a:ext cx="2850840" cy="439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6003720"/>
            <a:ext cx="1874880" cy="439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33BFB8A5-0CA8-461E-B180-E6F884795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glas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glas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2" name="Picture 57" descr="5300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001080" cy="6589800"/>
          </a:xfrm>
          <a:prstGeom prst="rect">
            <a:avLst/>
          </a:prstGeom>
          <a:ln w="0">
            <a:noFill/>
          </a:ln>
        </p:spPr>
      </p:pic>
      <p:sp>
        <p:nvSpPr>
          <p:cNvPr id="43" name="Line 26"/>
          <p:cNvSpPr/>
          <p:nvPr/>
        </p:nvSpPr>
        <p:spPr>
          <a:xfrm>
            <a:off x="1200240" y="731880"/>
            <a:ext cx="4800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Line 28"/>
          <p:cNvSpPr/>
          <p:nvPr/>
        </p:nvSpPr>
        <p:spPr>
          <a:xfrm>
            <a:off x="450720" y="1463760"/>
            <a:ext cx="2700360" cy="0"/>
          </a:xfrm>
          <a:prstGeom prst="line">
            <a:avLst/>
          </a:prstGeom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Line 31"/>
          <p:cNvSpPr/>
          <p:nvPr/>
        </p:nvSpPr>
        <p:spPr>
          <a:xfrm>
            <a:off x="1351080" y="439560"/>
            <a:ext cx="0" cy="24894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Line 32"/>
          <p:cNvSpPr/>
          <p:nvPr/>
        </p:nvSpPr>
        <p:spPr>
          <a:xfrm>
            <a:off x="8326440" y="3220920"/>
            <a:ext cx="0" cy="2784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Line 33"/>
          <p:cNvSpPr/>
          <p:nvPr/>
        </p:nvSpPr>
        <p:spPr>
          <a:xfrm>
            <a:off x="8101080" y="2928960"/>
            <a:ext cx="0" cy="248904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Text Box 35"/>
          <p:cNvSpPr/>
          <p:nvPr/>
        </p:nvSpPr>
        <p:spPr>
          <a:xfrm rot="1200000">
            <a:off x="2481480" y="1904760"/>
            <a:ext cx="96336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10300" spc="-1" strike="noStrike">
                <a:solidFill>
                  <a:srgbClr val="ff0000"/>
                </a:solidFill>
                <a:latin typeface="Tahoma"/>
                <a:ea typeface="隶书"/>
              </a:rPr>
              <a:t>年</a:t>
            </a:r>
            <a:endParaRPr b="1" lang="en-US" sz="103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Text Box 36"/>
          <p:cNvSpPr/>
          <p:nvPr/>
        </p:nvSpPr>
        <p:spPr>
          <a:xfrm rot="21075000">
            <a:off x="4556160" y="971280"/>
            <a:ext cx="96336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 algn="ctr"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10300" spc="-1" strike="noStrike">
                <a:solidFill>
                  <a:srgbClr val="ff0000"/>
                </a:solidFill>
                <a:latin typeface="Times New Roman"/>
                <a:ea typeface="隶书"/>
              </a:rPr>
              <a:t>月</a:t>
            </a:r>
            <a:endParaRPr b="1" lang="en-US" sz="103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Text Box 68"/>
          <p:cNvSpPr/>
          <p:nvPr/>
        </p:nvSpPr>
        <p:spPr>
          <a:xfrm>
            <a:off x="6397560" y="2168640"/>
            <a:ext cx="120492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5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9400" spc="-1" strike="noStrike">
                <a:solidFill>
                  <a:srgbClr val="ff0000"/>
                </a:solidFill>
                <a:latin typeface="Times New Roman"/>
                <a:ea typeface="隶书"/>
              </a:rPr>
              <a:t>日</a:t>
            </a:r>
            <a:endParaRPr b="1" lang="en-US" sz="9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Text Box 70"/>
          <p:cNvSpPr/>
          <p:nvPr/>
        </p:nvSpPr>
        <p:spPr>
          <a:xfrm>
            <a:off x="971640" y="2109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九义教材（人教版）三年级下册  数学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矩形 15"/>
          <p:cNvSpPr/>
          <p:nvPr/>
        </p:nvSpPr>
        <p:spPr>
          <a:xfrm>
            <a:off x="2251440" y="58024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40000" y="1062000"/>
            <a:ext cx="4175280" cy="36734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(     )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秒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4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时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）日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时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 (    )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）时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）月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8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个月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）年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日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 ）时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星期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   ）时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76560" y="343080"/>
            <a:ext cx="19458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 vert="eaVer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i="1" lang="zh-CN" sz="5800" spc="-1" strike="noStrike" u="sng">
                <a:solidFill>
                  <a:srgbClr val="0000ff"/>
                </a:solidFill>
                <a:uFillTx/>
                <a:latin typeface="华文彩云"/>
              </a:rPr>
              <a:t>练习大本营</a:t>
            </a:r>
            <a:endParaRPr b="1" lang="en-US" sz="5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780000" y="703440"/>
            <a:ext cx="792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720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995640" y="1206360"/>
            <a:ext cx="792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4140360" y="3151080"/>
            <a:ext cx="792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429080" y="1638360"/>
            <a:ext cx="792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80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492360" y="2646360"/>
            <a:ext cx="792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780000" y="2143080"/>
            <a:ext cx="792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3924360" y="3654360"/>
            <a:ext cx="792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288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4159080"/>
            <a:ext cx="792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imes New Roman"/>
              </a:rPr>
              <a:t>168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9400" y="596880"/>
            <a:ext cx="6166080" cy="4842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53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脑筋转转转</a:t>
            </a:r>
            <a:br>
              <a:rPr sz="5300"/>
            </a:br>
            <a:br>
              <a:rPr sz="5300"/>
            </a:br>
            <a:r>
              <a:rPr b="1" lang="zh-CN" sz="53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900" spc="-1" strike="noStrike">
                <a:solidFill>
                  <a:srgbClr val="3366ff"/>
                </a:solidFill>
                <a:latin typeface="宋体"/>
              </a:rPr>
              <a:t>小红今年</a:t>
            </a:r>
            <a:r>
              <a:rPr b="1" lang="en-US" sz="3900" spc="-1" strike="noStrike">
                <a:solidFill>
                  <a:srgbClr val="3366ff"/>
                </a:solidFill>
                <a:latin typeface="宋体"/>
              </a:rPr>
              <a:t>12</a:t>
            </a:r>
            <a:r>
              <a:rPr b="1" lang="zh-CN" sz="3900" spc="-1" strike="noStrike">
                <a:solidFill>
                  <a:srgbClr val="3366ff"/>
                </a:solidFill>
                <a:latin typeface="宋体"/>
              </a:rPr>
              <a:t>岁，却只过了</a:t>
            </a:r>
            <a:r>
              <a:rPr b="1" lang="en-US" sz="3900" spc="-1" strike="noStrike">
                <a:solidFill>
                  <a:srgbClr val="3366ff"/>
                </a:solidFill>
                <a:latin typeface="宋体"/>
              </a:rPr>
              <a:t>3 </a:t>
            </a:r>
            <a:r>
              <a:rPr b="1" lang="zh-CN" sz="3900" spc="-1" strike="noStrike">
                <a:solidFill>
                  <a:srgbClr val="3366ff"/>
                </a:solidFill>
                <a:latin typeface="宋体"/>
              </a:rPr>
              <a:t>个生日，小红的生日是哪一天？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00" name="Picture 14" descr="5300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001080" cy="658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fabl116"/>
          <p:cNvPicPr/>
          <p:nvPr/>
        </p:nvPicPr>
        <p:blipFill>
          <a:blip r:embed="rId2"/>
          <a:stretch/>
        </p:blipFill>
        <p:spPr>
          <a:xfrm>
            <a:off x="225360" y="366840"/>
            <a:ext cx="4105440" cy="59306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1"/>
          <p:cNvSpPr/>
          <p:nvPr/>
        </p:nvSpPr>
        <p:spPr>
          <a:xfrm rot="1170600">
            <a:off x="5644080" y="282960"/>
            <a:ext cx="89496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 algn="ctr"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9400" spc="-1" strike="noStrike">
                <a:solidFill>
                  <a:srgbClr val="ff0000"/>
                </a:solidFill>
                <a:latin typeface="Times New Roman"/>
              </a:rPr>
              <a:t>再</a:t>
            </a:r>
            <a:endParaRPr b="1" lang="en-US" sz="9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 rot="21075000">
            <a:off x="6074280" y="2079720"/>
            <a:ext cx="89496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 algn="ctr"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9400" spc="-1" strike="noStrike">
                <a:solidFill>
                  <a:srgbClr val="ff0000"/>
                </a:solidFill>
                <a:latin typeface="Times New Roman"/>
              </a:rPr>
              <a:t>见</a:t>
            </a:r>
            <a:endParaRPr b="1" lang="en-US" sz="9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4125960" y="5491080"/>
            <a:ext cx="464976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二○○八年元月五日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05" name="QXHE241.MID" descr=""/>
          <p:cNvPicPr/>
          <p:nvPr/>
        </p:nvPicPr>
        <p:blipFill>
          <a:blip r:embed="rId3"/>
          <a:stretch/>
        </p:blipFill>
        <p:spPr>
          <a:xfrm>
            <a:off x="603360" y="804960"/>
            <a:ext cx="293400" cy="293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0080" y="181080"/>
            <a:ext cx="8080200" cy="552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5840" y="1220760"/>
            <a:ext cx="8788680" cy="50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3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172280" y="320760"/>
            <a:ext cx="1368360" cy="33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9" name="灯片编号占位符 1"/>
          <p:cNvSpPr/>
          <p:nvPr/>
        </p:nvSpPr>
        <p:spPr>
          <a:xfrm>
            <a:off x="6451560" y="6107040"/>
            <a:ext cx="2100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70FC06F1-E4A4-4957-88E7-CE8DA53242B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WordArt 2"/>
          <p:cNvSpPr txBox="1"/>
          <p:nvPr/>
        </p:nvSpPr>
        <p:spPr>
          <a:xfrm>
            <a:off x="1311120" y="1206360"/>
            <a:ext cx="1700280" cy="6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猜一猜</a:t>
            </a:r>
            <a:endParaRPr b="1" lang="en-US" sz="31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090240" y="2187720"/>
            <a:ext cx="2312280" cy="22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有个宝宝真稀奇，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身穿三百多件衣，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天天都要脱一件，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等到年底剩张皮。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6" name="Picture 4" descr="t2"/>
          <p:cNvPicPr/>
          <p:nvPr/>
        </p:nvPicPr>
        <p:blipFill>
          <a:blip r:embed="rId1"/>
          <a:srcRect l="10863" t="9596" r="11379" b="15346"/>
          <a:stretch/>
        </p:blipFill>
        <p:spPr>
          <a:xfrm>
            <a:off x="6084720" y="3943440"/>
            <a:ext cx="1657440" cy="1334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960440" y="5337000"/>
            <a:ext cx="17791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500" spc="-1" strike="noStrike">
                <a:solidFill>
                  <a:srgbClr val="ff3300"/>
                </a:solidFill>
                <a:latin typeface="Times New Roman"/>
                <a:ea typeface="宋体"/>
              </a:rPr>
              <a:t>谜底（</a:t>
            </a:r>
            <a:r>
              <a:rPr b="0" lang="zh-CN" sz="3500" spc="-1" strike="noStrike">
                <a:solidFill>
                  <a:srgbClr val="ff3300"/>
                </a:solidFill>
                <a:latin typeface="Times New Roman"/>
                <a:ea typeface="隶书"/>
              </a:rPr>
              <a:t>日历</a:t>
            </a:r>
            <a:r>
              <a:rPr b="0" lang="zh-CN" sz="3500" spc="-1" strike="noStrike">
                <a:solidFill>
                  <a:srgbClr val="ff3300"/>
                </a:solidFill>
                <a:latin typeface="Times New Roman"/>
                <a:ea typeface="宋体"/>
              </a:rPr>
              <a:t>）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955800" y="1274760"/>
            <a:ext cx="6207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年有  个月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个月有  天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有</a:t>
            </a:r>
            <a:r>
              <a:rPr b="0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1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天的月份叫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有</a:t>
            </a:r>
            <a:r>
              <a:rPr b="0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0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天或</a:t>
            </a:r>
            <a:r>
              <a:rPr b="0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8 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天的月份叫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00000" y="1365120"/>
            <a:ext cx="788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12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673440" y="1728720"/>
            <a:ext cx="177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420720" y="2114640"/>
            <a:ext cx="788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31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746960" y="2041560"/>
            <a:ext cx="1422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天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229440" y="1665360"/>
            <a:ext cx="177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235920" y="2041560"/>
            <a:ext cx="1811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或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28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天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607360" y="2833560"/>
            <a:ext cx="910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大月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935720" y="4273560"/>
            <a:ext cx="910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小月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482560" y="4778280"/>
            <a:ext cx="2543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日有</a:t>
            </a:r>
            <a:r>
              <a:rPr b="0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4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小时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65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8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025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25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25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175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630000"/>
            <a:ext cx="7651800" cy="10983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br>
              <a:rPr sz="5800"/>
            </a:br>
            <a:r>
              <a:rPr b="0" lang="en-US" sz="5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br>
              <a:rPr sz="5800"/>
            </a:br>
            <a:br>
              <a:rPr sz="8800"/>
            </a:b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174760" y="5345280"/>
            <a:ext cx="4800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2700360" y="2430360"/>
            <a:ext cx="5256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2629080" y="1711440"/>
            <a:ext cx="4103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月小月歌谣口诀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一三五七八十腊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三十一天永不差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四六九冬三十整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二月二十八或二十九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5" name="Picture 1026" descr="321"/>
          <p:cNvPicPr/>
          <p:nvPr/>
        </p:nvPicPr>
        <p:blipFill>
          <a:blip r:embed="rId1"/>
          <a:stretch/>
        </p:blipFill>
        <p:spPr>
          <a:xfrm>
            <a:off x="0" y="0"/>
            <a:ext cx="9001080" cy="658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27"/>
          <p:cNvSpPr/>
          <p:nvPr/>
        </p:nvSpPr>
        <p:spPr>
          <a:xfrm>
            <a:off x="5326200" y="658800"/>
            <a:ext cx="674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一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Text Box 1028"/>
          <p:cNvSpPr/>
          <p:nvPr/>
        </p:nvSpPr>
        <p:spPr>
          <a:xfrm>
            <a:off x="4651200" y="952560"/>
            <a:ext cx="675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二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Text Box 1029"/>
          <p:cNvSpPr/>
          <p:nvPr/>
        </p:nvSpPr>
        <p:spPr>
          <a:xfrm>
            <a:off x="4051440" y="878040"/>
            <a:ext cx="7491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三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Text Box 1030"/>
          <p:cNvSpPr/>
          <p:nvPr/>
        </p:nvSpPr>
        <p:spPr>
          <a:xfrm>
            <a:off x="3451320" y="1317600"/>
            <a:ext cx="674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四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Text Box 1031"/>
          <p:cNvSpPr/>
          <p:nvPr/>
        </p:nvSpPr>
        <p:spPr>
          <a:xfrm>
            <a:off x="3000240" y="1390680"/>
            <a:ext cx="6001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五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Text Box 1032"/>
          <p:cNvSpPr/>
          <p:nvPr/>
        </p:nvSpPr>
        <p:spPr>
          <a:xfrm>
            <a:off x="2475000" y="1785960"/>
            <a:ext cx="1050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六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Text Box 1033"/>
          <p:cNvSpPr/>
          <p:nvPr/>
        </p:nvSpPr>
        <p:spPr>
          <a:xfrm>
            <a:off x="2025720" y="1859040"/>
            <a:ext cx="7491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七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Text Box 1034"/>
          <p:cNvSpPr/>
          <p:nvPr/>
        </p:nvSpPr>
        <p:spPr>
          <a:xfrm>
            <a:off x="5326200" y="1171440"/>
            <a:ext cx="825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八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Text Box 1035"/>
          <p:cNvSpPr/>
          <p:nvPr/>
        </p:nvSpPr>
        <p:spPr>
          <a:xfrm>
            <a:off x="4726080" y="1785960"/>
            <a:ext cx="674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九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Text Box 1036"/>
          <p:cNvSpPr/>
          <p:nvPr/>
        </p:nvSpPr>
        <p:spPr>
          <a:xfrm>
            <a:off x="4125960" y="1566720"/>
            <a:ext cx="674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十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Text Box 1037"/>
          <p:cNvSpPr/>
          <p:nvPr/>
        </p:nvSpPr>
        <p:spPr>
          <a:xfrm>
            <a:off x="3075120" y="1976400"/>
            <a:ext cx="750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十二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Text Box 1038"/>
          <p:cNvSpPr/>
          <p:nvPr/>
        </p:nvSpPr>
        <p:spPr>
          <a:xfrm>
            <a:off x="3525840" y="2049480"/>
            <a:ext cx="674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ahoma"/>
                <a:ea typeface="华文琥珀"/>
              </a:rPr>
              <a:t>十一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Oval 1039"/>
          <p:cNvSpPr/>
          <p:nvPr/>
        </p:nvSpPr>
        <p:spPr>
          <a:xfrm>
            <a:off x="5551560" y="1098720"/>
            <a:ext cx="1490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Oval 1040"/>
          <p:cNvSpPr/>
          <p:nvPr/>
        </p:nvSpPr>
        <p:spPr>
          <a:xfrm>
            <a:off x="5551560" y="1098720"/>
            <a:ext cx="1490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Oval 1041"/>
          <p:cNvSpPr/>
          <p:nvPr/>
        </p:nvSpPr>
        <p:spPr>
          <a:xfrm>
            <a:off x="4875120" y="1611360"/>
            <a:ext cx="1508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Oval 1042"/>
          <p:cNvSpPr/>
          <p:nvPr/>
        </p:nvSpPr>
        <p:spPr>
          <a:xfrm>
            <a:off x="4875120" y="1611360"/>
            <a:ext cx="1508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Oval 1043"/>
          <p:cNvSpPr/>
          <p:nvPr/>
        </p:nvSpPr>
        <p:spPr>
          <a:xfrm>
            <a:off x="4275000" y="1463760"/>
            <a:ext cx="150840" cy="147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Oval 1044"/>
          <p:cNvSpPr/>
          <p:nvPr/>
        </p:nvSpPr>
        <p:spPr>
          <a:xfrm>
            <a:off x="4275000" y="1463760"/>
            <a:ext cx="150840" cy="147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Oval 1045"/>
          <p:cNvSpPr/>
          <p:nvPr/>
        </p:nvSpPr>
        <p:spPr>
          <a:xfrm>
            <a:off x="3751200" y="1903320"/>
            <a:ext cx="14940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Oval 1046"/>
          <p:cNvSpPr/>
          <p:nvPr/>
        </p:nvSpPr>
        <p:spPr>
          <a:xfrm>
            <a:off x="3751200" y="1903320"/>
            <a:ext cx="14940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Oval 1047"/>
          <p:cNvSpPr/>
          <p:nvPr/>
        </p:nvSpPr>
        <p:spPr>
          <a:xfrm>
            <a:off x="3225960" y="1903320"/>
            <a:ext cx="1490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Oval 1048"/>
          <p:cNvSpPr/>
          <p:nvPr/>
        </p:nvSpPr>
        <p:spPr>
          <a:xfrm>
            <a:off x="3225960" y="1903320"/>
            <a:ext cx="1490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Oval 1049"/>
          <p:cNvSpPr/>
          <p:nvPr/>
        </p:nvSpPr>
        <p:spPr>
          <a:xfrm>
            <a:off x="2774880" y="2343240"/>
            <a:ext cx="1508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Oval 1050"/>
          <p:cNvSpPr/>
          <p:nvPr/>
        </p:nvSpPr>
        <p:spPr>
          <a:xfrm>
            <a:off x="2774880" y="2343240"/>
            <a:ext cx="1508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Oval 1051"/>
          <p:cNvSpPr/>
          <p:nvPr/>
        </p:nvSpPr>
        <p:spPr>
          <a:xfrm>
            <a:off x="2251080" y="2416320"/>
            <a:ext cx="14940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Oval 1052"/>
          <p:cNvSpPr/>
          <p:nvPr/>
        </p:nvSpPr>
        <p:spPr>
          <a:xfrm>
            <a:off x="2251080" y="2416320"/>
            <a:ext cx="14940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Oval 1053"/>
          <p:cNvSpPr/>
          <p:nvPr/>
        </p:nvSpPr>
        <p:spPr>
          <a:xfrm>
            <a:off x="5551560" y="1098720"/>
            <a:ext cx="1490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Oval 1054"/>
          <p:cNvSpPr/>
          <p:nvPr/>
        </p:nvSpPr>
        <p:spPr>
          <a:xfrm>
            <a:off x="5551560" y="1098720"/>
            <a:ext cx="149040" cy="14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Oval 1055"/>
          <p:cNvSpPr/>
          <p:nvPr/>
        </p:nvSpPr>
        <p:spPr>
          <a:xfrm>
            <a:off x="4875120" y="1611360"/>
            <a:ext cx="1508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Oval 1056"/>
          <p:cNvSpPr/>
          <p:nvPr/>
        </p:nvSpPr>
        <p:spPr>
          <a:xfrm>
            <a:off x="4875120" y="1611360"/>
            <a:ext cx="1508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Oval 1057"/>
          <p:cNvSpPr/>
          <p:nvPr/>
        </p:nvSpPr>
        <p:spPr>
          <a:xfrm>
            <a:off x="4275000" y="1463760"/>
            <a:ext cx="150840" cy="147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Oval 1058"/>
          <p:cNvSpPr/>
          <p:nvPr/>
        </p:nvSpPr>
        <p:spPr>
          <a:xfrm>
            <a:off x="4275000" y="1463760"/>
            <a:ext cx="150840" cy="147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Oval 1059"/>
          <p:cNvSpPr/>
          <p:nvPr/>
        </p:nvSpPr>
        <p:spPr>
          <a:xfrm>
            <a:off x="3751200" y="1903320"/>
            <a:ext cx="14940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Oval 1060"/>
          <p:cNvSpPr/>
          <p:nvPr/>
        </p:nvSpPr>
        <p:spPr>
          <a:xfrm>
            <a:off x="3751200" y="1903320"/>
            <a:ext cx="14940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Oval 1061"/>
          <p:cNvSpPr/>
          <p:nvPr/>
        </p:nvSpPr>
        <p:spPr>
          <a:xfrm>
            <a:off x="3225960" y="1903320"/>
            <a:ext cx="1490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Oval 1062"/>
          <p:cNvSpPr/>
          <p:nvPr/>
        </p:nvSpPr>
        <p:spPr>
          <a:xfrm>
            <a:off x="3225960" y="1903320"/>
            <a:ext cx="14904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Text Box 1064"/>
          <p:cNvSpPr/>
          <p:nvPr/>
        </p:nvSpPr>
        <p:spPr>
          <a:xfrm>
            <a:off x="7351560" y="439560"/>
            <a:ext cx="16495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Text Box 1065"/>
          <p:cNvSpPr/>
          <p:nvPr/>
        </p:nvSpPr>
        <p:spPr>
          <a:xfrm>
            <a:off x="2100240" y="3807000"/>
            <a:ext cx="487512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要记住哪个月是大月，哪个月是小月，可以像上图那样，在左手的拳头上从一月数到七月，再从八月数到凸起的地方，那个月就是大月，有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1</a:t>
            </a:r>
            <a:r>
              <a:rPr b="1" lang="zh-CN" sz="1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；数到凹的地方，除了二月外，那个月就是小月，只有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</a:t>
            </a:r>
            <a:r>
              <a:rPr b="1" lang="zh-CN" sz="1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。</a:t>
            </a:r>
            <a:endParaRPr b="1" lang="en-US" sz="19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19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Text Box 1067"/>
          <p:cNvSpPr/>
          <p:nvPr/>
        </p:nvSpPr>
        <p:spPr>
          <a:xfrm>
            <a:off x="150840" y="0"/>
            <a:ext cx="224964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6437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5" name="Text Box 1068"/>
          <p:cNvSpPr/>
          <p:nvPr/>
        </p:nvSpPr>
        <p:spPr>
          <a:xfrm>
            <a:off x="1874880" y="2928960"/>
            <a:ext cx="34891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53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左拳法：</a:t>
            </a:r>
            <a:endParaRPr b="1" lang="en-US" sz="53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16" name="Group 1074"/>
          <p:cNvGrpSpPr/>
          <p:nvPr/>
        </p:nvGrpSpPr>
        <p:grpSpPr>
          <a:xfrm>
            <a:off x="825480" y="585720"/>
            <a:ext cx="1949040" cy="756720"/>
            <a:chOff x="825480" y="585720"/>
            <a:chExt cx="1949040" cy="756720"/>
          </a:xfrm>
        </p:grpSpPr>
        <p:sp>
          <p:nvSpPr>
            <p:cNvPr id="117" name="Oval 1075"/>
            <p:cNvSpPr/>
            <p:nvPr/>
          </p:nvSpPr>
          <p:spPr>
            <a:xfrm>
              <a:off x="825480" y="585720"/>
              <a:ext cx="1949040" cy="732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8" name="Text Box 1076"/>
            <p:cNvSpPr/>
            <p:nvPr/>
          </p:nvSpPr>
          <p:spPr>
            <a:xfrm>
              <a:off x="825480" y="658440"/>
              <a:ext cx="19490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640" bIns="44640" anchor="t">
              <a:spAutoFit/>
            </a:bodyPr>
            <a:p>
              <a:pPr algn="ctr">
                <a:spcBef>
                  <a:spcPts val="2438"/>
                </a:spcBef>
                <a:tabLst>
                  <a:tab algn="l" pos="0"/>
                  <a:tab algn="l" pos="890640"/>
                  <a:tab algn="l" pos="1781280"/>
                  <a:tab algn="l" pos="2671920"/>
                  <a:tab algn="l" pos="3562200"/>
                  <a:tab algn="l" pos="4452840"/>
                  <a:tab algn="l" pos="5343480"/>
                  <a:tab algn="l" pos="6234120"/>
                  <a:tab algn="l" pos="7124760"/>
                  <a:tab algn="l" pos="8015400"/>
                  <a:tab algn="l" pos="8906040"/>
                  <a:tab algn="l" pos="9796320"/>
                  <a:tab algn="l" pos="10686960"/>
                </a:tabLst>
              </a:pPr>
              <a:r>
                <a:rPr b="1" lang="zh-CN" sz="39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试一试</a:t>
              </a:r>
              <a:endParaRPr b="1" lang="en-US" sz="39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38840" y="630360"/>
            <a:ext cx="728856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2000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年       </a:t>
            </a:r>
            <a:r>
              <a:rPr b="1" lang="en-US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1996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年   </a:t>
            </a:r>
            <a:r>
              <a:rPr b="1" lang="en-US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1992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年     </a:t>
            </a:r>
            <a:r>
              <a:rPr b="1" lang="en-US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1988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年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1984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年</a:t>
            </a:r>
            <a:r>
              <a:rPr b="1" lang="en-US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……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都是</a:t>
            </a:r>
            <a:r>
              <a:rPr b="1" lang="zh-CN" sz="4300" spc="-1" strike="noStrike">
                <a:solidFill>
                  <a:srgbClr val="ff0000"/>
                </a:solidFill>
                <a:latin typeface="Times New Roman"/>
                <a:ea typeface="宋体"/>
              </a:rPr>
              <a:t>闰年</a:t>
            </a:r>
            <a:r>
              <a:rPr b="1" lang="zh-CN" sz="3500" spc="-1" strike="noStrike">
                <a:solidFill>
                  <a:srgbClr val="3333cc"/>
                </a:solidFill>
                <a:latin typeface="Times New Roman"/>
                <a:ea typeface="宋体"/>
              </a:rPr>
              <a:t>。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204920" y="2065320"/>
            <a:ext cx="1778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920960" y="2184480"/>
            <a:ext cx="1778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" name="Freeform 5"/>
          <p:cNvSpPr/>
          <p:nvPr/>
        </p:nvSpPr>
        <p:spPr>
          <a:xfrm>
            <a:off x="1055520" y="2430360"/>
            <a:ext cx="889200" cy="435240"/>
          </a:xfrm>
          <a:custGeom>
            <a:avLst/>
            <a:gdLst/>
            <a:ahLst/>
            <a:rect l="l" t="t" r="r" b="b"/>
            <a:pathLst>
              <a:path w="568" h="286">
                <a:moveTo>
                  <a:pt x="568" y="0"/>
                </a:moveTo>
                <a:cubicBezTo>
                  <a:pt x="501" y="107"/>
                  <a:pt x="434" y="214"/>
                  <a:pt x="339" y="250"/>
                </a:cubicBezTo>
                <a:cubicBezTo>
                  <a:pt x="244" y="286"/>
                  <a:pt x="49" y="221"/>
                  <a:pt x="0" y="21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90680" y="1779480"/>
            <a:ext cx="360180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宋体"/>
                <a:ea typeface="宋体"/>
              </a:rPr>
              <a:t>2000÷4=500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宋体"/>
                <a:ea typeface="宋体"/>
              </a:rPr>
              <a:t>1996÷4=499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宋体"/>
                <a:ea typeface="宋体"/>
              </a:rPr>
              <a:t>1992÷4=498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宋体"/>
                <a:ea typeface="宋体"/>
              </a:rPr>
              <a:t>1988÷4=497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Times New Roman"/>
                <a:ea typeface="宋体"/>
              </a:rPr>
              <a:t>1984</a:t>
            </a:r>
            <a:r>
              <a:rPr b="1" lang="en-US" sz="4300" spc="-1" strike="noStrike">
                <a:solidFill>
                  <a:srgbClr val="ff3300"/>
                </a:solidFill>
                <a:latin typeface="宋体"/>
                <a:ea typeface="宋体"/>
              </a:rPr>
              <a:t>÷4=496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300" spc="-1" strike="noStrike">
                <a:solidFill>
                  <a:srgbClr val="ff3300"/>
                </a:solidFill>
                <a:latin typeface="Times New Roman"/>
                <a:ea typeface="宋体"/>
              </a:rPr>
              <a:t>……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021560" y="1581120"/>
            <a:ext cx="4706280" cy="46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Times New Roman"/>
                <a:ea typeface="宋体"/>
              </a:rPr>
              <a:t>1999</a:t>
            </a:r>
            <a:r>
              <a:rPr b="1" lang="en-US" sz="4300" spc="-1" strike="noStrike">
                <a:solidFill>
                  <a:srgbClr val="336600"/>
                </a:solidFill>
                <a:latin typeface="宋体"/>
                <a:ea typeface="宋体"/>
              </a:rPr>
              <a:t>÷4=499</a:t>
            </a:r>
            <a:r>
              <a:rPr b="1" lang="en-US" sz="4300" spc="-1" strike="noStrike">
                <a:solidFill>
                  <a:srgbClr val="336600"/>
                </a:solidFill>
                <a:latin typeface="Times New Roman"/>
                <a:ea typeface="宋体"/>
              </a:rPr>
              <a:t>……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宋体"/>
                <a:ea typeface="宋体"/>
              </a:rPr>
              <a:t>1998÷4=499</a:t>
            </a:r>
            <a:r>
              <a:rPr b="1" lang="en-US" sz="4300" spc="-1" strike="noStrike">
                <a:solidFill>
                  <a:srgbClr val="336600"/>
                </a:solidFill>
                <a:latin typeface="Times New Roman"/>
                <a:ea typeface="宋体"/>
              </a:rPr>
              <a:t>……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宋体"/>
                <a:ea typeface="宋体"/>
              </a:rPr>
              <a:t>1997÷4=499</a:t>
            </a:r>
            <a:r>
              <a:rPr b="1" lang="en-US" sz="4300" spc="-1" strike="noStrike">
                <a:solidFill>
                  <a:srgbClr val="336600"/>
                </a:solidFill>
                <a:latin typeface="Times New Roman"/>
                <a:ea typeface="宋体"/>
              </a:rPr>
              <a:t>……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宋体"/>
                <a:ea typeface="宋体"/>
              </a:rPr>
              <a:t>1995÷4=498</a:t>
            </a:r>
            <a:r>
              <a:rPr b="1" lang="en-US" sz="4300" spc="-1" strike="noStrike">
                <a:solidFill>
                  <a:srgbClr val="336600"/>
                </a:solidFill>
                <a:latin typeface="Times New Roman"/>
                <a:ea typeface="宋体"/>
              </a:rPr>
              <a:t>……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宋体"/>
                <a:ea typeface="宋体"/>
              </a:rPr>
              <a:t>1994÷4=498</a:t>
            </a:r>
            <a:r>
              <a:rPr b="1" lang="en-US" sz="4300" spc="-1" strike="noStrike">
                <a:solidFill>
                  <a:srgbClr val="ff0000"/>
                </a:solidFill>
                <a:latin typeface="Times New Roman"/>
                <a:ea typeface="宋体"/>
              </a:rPr>
              <a:t>……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4300" spc="-1" strike="noStrike">
                <a:solidFill>
                  <a:srgbClr val="336600"/>
                </a:solidFill>
                <a:latin typeface="宋体"/>
                <a:ea typeface="宋体"/>
              </a:rPr>
              <a:t>1993÷4=498</a:t>
            </a:r>
            <a:r>
              <a:rPr b="1" lang="en-US" sz="4300" spc="-1" strike="noStrike">
                <a:solidFill>
                  <a:srgbClr val="ff0000"/>
                </a:solidFill>
                <a:latin typeface="Times New Roman"/>
                <a:ea typeface="宋体"/>
              </a:rPr>
              <a:t>……</a:t>
            </a:r>
            <a:r>
              <a:rPr b="1" lang="en-US" sz="43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4300" spc="-1" strike="noStrike">
                <a:solidFill>
                  <a:srgbClr val="336600"/>
                </a:solidFill>
                <a:latin typeface="Times New Roman"/>
                <a:ea typeface="宋体"/>
              </a:rPr>
              <a:t>……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013200" y="5443560"/>
            <a:ext cx="29523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43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公历年份是</a:t>
            </a:r>
            <a:r>
              <a:rPr b="1" lang="en-US" sz="43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4</a:t>
            </a:r>
            <a:r>
              <a:rPr b="1" lang="zh-CN" sz="43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的倍数的一般都是闰年</a:t>
            </a:r>
            <a:endParaRPr b="1" lang="en-US" sz="43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9"/>
          <p:cNvSpPr/>
          <p:nvPr/>
        </p:nvSpPr>
        <p:spPr>
          <a:xfrm>
            <a:off x="1351080" y="27115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9" name="Picture 2" descr="5300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001080" cy="65898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3"/>
          <p:cNvGrpSpPr/>
          <p:nvPr/>
        </p:nvGrpSpPr>
        <p:grpSpPr>
          <a:xfrm>
            <a:off x="600120" y="291960"/>
            <a:ext cx="1950480" cy="756720"/>
            <a:chOff x="600120" y="291960"/>
            <a:chExt cx="1950480" cy="756720"/>
          </a:xfrm>
        </p:grpSpPr>
        <p:sp>
          <p:nvSpPr>
            <p:cNvPr id="131" name="Oval 4"/>
            <p:cNvSpPr/>
            <p:nvPr/>
          </p:nvSpPr>
          <p:spPr>
            <a:xfrm>
              <a:off x="600120" y="291960"/>
              <a:ext cx="1950480" cy="732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2" name="Text Box 5"/>
            <p:cNvSpPr/>
            <p:nvPr/>
          </p:nvSpPr>
          <p:spPr>
            <a:xfrm>
              <a:off x="600120" y="364680"/>
              <a:ext cx="19504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640" bIns="44640" anchor="t">
              <a:spAutoFit/>
            </a:bodyPr>
            <a:p>
              <a:pPr algn="ctr">
                <a:spcBef>
                  <a:spcPts val="2438"/>
                </a:spcBef>
                <a:tabLst>
                  <a:tab algn="l" pos="0"/>
                  <a:tab algn="l" pos="890640"/>
                  <a:tab algn="l" pos="1781280"/>
                  <a:tab algn="l" pos="2671920"/>
                  <a:tab algn="l" pos="3562200"/>
                  <a:tab algn="l" pos="4452840"/>
                  <a:tab algn="l" pos="5343480"/>
                  <a:tab algn="l" pos="6234120"/>
                  <a:tab algn="l" pos="7124760"/>
                  <a:tab algn="l" pos="8015400"/>
                  <a:tab algn="l" pos="8906040"/>
                  <a:tab algn="l" pos="9796320"/>
                  <a:tab algn="l" pos="10686960"/>
                </a:tabLst>
              </a:pPr>
              <a:r>
                <a:rPr b="1" lang="zh-CN" sz="39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玩一玩</a:t>
              </a:r>
              <a:endParaRPr b="1" lang="en-US" sz="39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33" name="Text Box 6"/>
          <p:cNvSpPr/>
          <p:nvPr/>
        </p:nvSpPr>
        <p:spPr>
          <a:xfrm>
            <a:off x="900000" y="1098720"/>
            <a:ext cx="6451560" cy="9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Times New Roman"/>
                <a:ea typeface="幼圆"/>
              </a:rPr>
              <a:t>用手势来表示</a:t>
            </a:r>
            <a:r>
              <a:rPr b="1" lang="zh-CN" sz="2300" spc="-1" strike="noStrike">
                <a:solidFill>
                  <a:srgbClr val="ff0000"/>
                </a:solidFill>
                <a:latin typeface="幼圆"/>
                <a:ea typeface="幼圆"/>
              </a:rPr>
              <a:t>：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437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Times New Roman"/>
                <a:ea typeface="幼圆"/>
              </a:rPr>
              <a:t>是大月的举右手，是小月的举左手。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351080" y="218448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638440" y="2184480"/>
            <a:ext cx="97488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900600" y="219708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251320" y="2197080"/>
            <a:ext cx="97488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600960" y="219708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1351080" y="387972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2625840" y="387972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3900600" y="3879720"/>
            <a:ext cx="97452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-95400" y="2827440"/>
            <a:ext cx="900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43" name="Picture 21" descr="gif008"/>
          <p:cNvPicPr/>
          <p:nvPr/>
        </p:nvPicPr>
        <p:blipFill>
          <a:blip r:embed="rId2"/>
          <a:stretch/>
        </p:blipFill>
        <p:spPr>
          <a:xfrm>
            <a:off x="6451560" y="1171440"/>
            <a:ext cx="1170000" cy="84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45" name="Picture 2" descr="important[1]"/>
          <p:cNvPicPr/>
          <p:nvPr/>
        </p:nvPicPr>
        <p:blipFill>
          <a:blip r:embed="rId1"/>
          <a:stretch/>
        </p:blipFill>
        <p:spPr>
          <a:xfrm>
            <a:off x="6826320" y="4832280"/>
            <a:ext cx="1725480" cy="1465200"/>
          </a:xfrm>
          <a:prstGeom prst="rect">
            <a:avLst/>
          </a:prstGeom>
          <a:ln w="0">
            <a:noFill/>
          </a:ln>
        </p:spPr>
      </p:pic>
      <p:sp>
        <p:nvSpPr>
          <p:cNvPr id="146" name="Line 4"/>
          <p:cNvSpPr/>
          <p:nvPr/>
        </p:nvSpPr>
        <p:spPr>
          <a:xfrm>
            <a:off x="525600" y="6149880"/>
            <a:ext cx="4800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825720" y="6222960"/>
            <a:ext cx="48006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2174760" y="6076800"/>
            <a:ext cx="4800600" cy="0"/>
          </a:xfrm>
          <a:prstGeom prst="line">
            <a:avLst/>
          </a:prstGeom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50840" y="1728720"/>
            <a:ext cx="855036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1985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2000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endParaRPr b="1" lang="en-US" sz="7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2004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2400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endParaRPr b="1" lang="en-US" sz="7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1900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1700</a:t>
            </a:r>
            <a:r>
              <a:rPr b="1" lang="zh-CN" sz="70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endParaRPr b="1" lang="en-US" sz="7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50" name="Group 10"/>
          <p:cNvGrpSpPr/>
          <p:nvPr/>
        </p:nvGrpSpPr>
        <p:grpSpPr>
          <a:xfrm>
            <a:off x="600120" y="512640"/>
            <a:ext cx="1950480" cy="756720"/>
            <a:chOff x="600120" y="512640"/>
            <a:chExt cx="1950480" cy="756720"/>
          </a:xfrm>
        </p:grpSpPr>
        <p:sp>
          <p:nvSpPr>
            <p:cNvPr id="151" name="Oval 11"/>
            <p:cNvSpPr/>
            <p:nvPr/>
          </p:nvSpPr>
          <p:spPr>
            <a:xfrm>
              <a:off x="600120" y="512640"/>
              <a:ext cx="1950480" cy="732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2" name="Text Box 12"/>
            <p:cNvSpPr/>
            <p:nvPr/>
          </p:nvSpPr>
          <p:spPr>
            <a:xfrm>
              <a:off x="600120" y="585360"/>
              <a:ext cx="19504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640" bIns="44640" anchor="t">
              <a:spAutoFit/>
            </a:bodyPr>
            <a:p>
              <a:pPr algn="ctr">
                <a:spcBef>
                  <a:spcPts val="2438"/>
                </a:spcBef>
                <a:tabLst>
                  <a:tab algn="l" pos="0"/>
                  <a:tab algn="l" pos="890640"/>
                  <a:tab algn="l" pos="1781280"/>
                  <a:tab algn="l" pos="2671920"/>
                  <a:tab algn="l" pos="3562200"/>
                  <a:tab algn="l" pos="4452840"/>
                  <a:tab algn="l" pos="5343480"/>
                  <a:tab algn="l" pos="6234120"/>
                  <a:tab algn="l" pos="7124760"/>
                  <a:tab algn="l" pos="8015400"/>
                  <a:tab algn="l" pos="8906040"/>
                  <a:tab algn="l" pos="9796320"/>
                  <a:tab algn="l" pos="10686960"/>
                </a:tabLst>
              </a:pPr>
              <a:r>
                <a:rPr b="1" lang="zh-CN" sz="39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找闰年</a:t>
              </a:r>
              <a:endParaRPr b="1" lang="en-US" sz="39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53" name="Freeform 13"/>
          <p:cNvSpPr/>
          <p:nvPr/>
        </p:nvSpPr>
        <p:spPr>
          <a:xfrm>
            <a:off x="2925720" y="3147840"/>
            <a:ext cx="974880" cy="51300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48"/>
                </a:moveTo>
                <a:lnTo>
                  <a:pt x="192" y="336"/>
                </a:lnTo>
                <a:lnTo>
                  <a:pt x="62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54" name="Group 14"/>
          <p:cNvGrpSpPr/>
          <p:nvPr/>
        </p:nvGrpSpPr>
        <p:grpSpPr>
          <a:xfrm>
            <a:off x="2850840" y="1976400"/>
            <a:ext cx="824040" cy="733320"/>
            <a:chOff x="2850840" y="1976400"/>
            <a:chExt cx="824040" cy="733320"/>
          </a:xfrm>
        </p:grpSpPr>
        <p:sp>
          <p:nvSpPr>
            <p:cNvPr id="155" name="Line 15"/>
            <p:cNvSpPr/>
            <p:nvPr/>
          </p:nvSpPr>
          <p:spPr>
            <a:xfrm>
              <a:off x="2925720" y="1976400"/>
              <a:ext cx="674280" cy="733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 flipH="1">
              <a:off x="2850840" y="1976400"/>
              <a:ext cx="824040" cy="733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57" name="Group 17"/>
          <p:cNvGrpSpPr/>
          <p:nvPr/>
        </p:nvGrpSpPr>
        <p:grpSpPr>
          <a:xfrm>
            <a:off x="2925360" y="4100400"/>
            <a:ext cx="825480" cy="731880"/>
            <a:chOff x="2925360" y="4100400"/>
            <a:chExt cx="825480" cy="731880"/>
          </a:xfrm>
        </p:grpSpPr>
        <p:sp>
          <p:nvSpPr>
            <p:cNvPr id="158" name="Line 18"/>
            <p:cNvSpPr/>
            <p:nvPr/>
          </p:nvSpPr>
          <p:spPr>
            <a:xfrm>
              <a:off x="3000240" y="4100400"/>
              <a:ext cx="675360" cy="731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9" name="Line 19"/>
            <p:cNvSpPr/>
            <p:nvPr/>
          </p:nvSpPr>
          <p:spPr>
            <a:xfrm flipH="1">
              <a:off x="2925360" y="4100400"/>
              <a:ext cx="825480" cy="731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60" name="Freeform 20"/>
          <p:cNvSpPr/>
          <p:nvPr/>
        </p:nvSpPr>
        <p:spPr>
          <a:xfrm>
            <a:off x="7426440" y="2049480"/>
            <a:ext cx="974520" cy="51264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48"/>
                </a:moveTo>
                <a:lnTo>
                  <a:pt x="192" y="336"/>
                </a:lnTo>
                <a:lnTo>
                  <a:pt x="62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Freeform 21"/>
          <p:cNvSpPr/>
          <p:nvPr/>
        </p:nvSpPr>
        <p:spPr>
          <a:xfrm>
            <a:off x="7500960" y="3147840"/>
            <a:ext cx="974880" cy="51300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48"/>
                </a:moveTo>
                <a:lnTo>
                  <a:pt x="192" y="336"/>
                </a:lnTo>
                <a:lnTo>
                  <a:pt x="62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2" name="Group 23"/>
          <p:cNvGrpSpPr/>
          <p:nvPr/>
        </p:nvGrpSpPr>
        <p:grpSpPr>
          <a:xfrm>
            <a:off x="7426080" y="4027320"/>
            <a:ext cx="825480" cy="731880"/>
            <a:chOff x="7426080" y="4027320"/>
            <a:chExt cx="825480" cy="731880"/>
          </a:xfrm>
        </p:grpSpPr>
        <p:sp>
          <p:nvSpPr>
            <p:cNvPr id="163" name="Line 24"/>
            <p:cNvSpPr/>
            <p:nvPr/>
          </p:nvSpPr>
          <p:spPr>
            <a:xfrm>
              <a:off x="7500960" y="4027320"/>
              <a:ext cx="675360" cy="731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>
              <a:off x="7426080" y="4027320"/>
              <a:ext cx="825480" cy="731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f7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4"/>
          <p:cNvSpPr/>
          <p:nvPr/>
        </p:nvSpPr>
        <p:spPr>
          <a:xfrm>
            <a:off x="3075120" y="6004080"/>
            <a:ext cx="2850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74760" y="1463760"/>
            <a:ext cx="887868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、每年都有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365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天。             （    ）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年有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个大月、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个小月。（    ）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是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年零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。   （    ）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、二、三、四月是第一季度。（　）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1992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年的上半年有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182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宋体"/>
              </a:rPr>
              <a:t>天。（　）</a:t>
            </a:r>
            <a:endParaRPr b="1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6525720" y="1611360"/>
            <a:ext cx="226080" cy="438120"/>
            <a:chOff x="6525720" y="1611360"/>
            <a:chExt cx="226080" cy="438120"/>
          </a:xfrm>
        </p:grpSpPr>
        <p:sp>
          <p:nvSpPr>
            <p:cNvPr id="168" name="Line 4"/>
            <p:cNvSpPr/>
            <p:nvPr/>
          </p:nvSpPr>
          <p:spPr>
            <a:xfrm>
              <a:off x="6526080" y="1611360"/>
              <a:ext cx="225720" cy="438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H="1">
              <a:off x="6525720" y="1611360"/>
              <a:ext cx="225720" cy="438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70" name="Group 6"/>
          <p:cNvGrpSpPr/>
          <p:nvPr/>
        </p:nvGrpSpPr>
        <p:grpSpPr>
          <a:xfrm>
            <a:off x="7126200" y="2197080"/>
            <a:ext cx="225360" cy="438120"/>
            <a:chOff x="7126200" y="2197080"/>
            <a:chExt cx="225360" cy="438120"/>
          </a:xfrm>
        </p:grpSpPr>
        <p:sp>
          <p:nvSpPr>
            <p:cNvPr id="171" name="Line 7"/>
            <p:cNvSpPr/>
            <p:nvPr/>
          </p:nvSpPr>
          <p:spPr>
            <a:xfrm>
              <a:off x="7126200" y="2197080"/>
              <a:ext cx="225360" cy="438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 flipH="1">
              <a:off x="7126200" y="2197080"/>
              <a:ext cx="225360" cy="438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6525720" y="2855880"/>
            <a:ext cx="226080" cy="439920"/>
            <a:chOff x="6525720" y="2855880"/>
            <a:chExt cx="226080" cy="439920"/>
          </a:xfrm>
        </p:grpSpPr>
        <p:sp>
          <p:nvSpPr>
            <p:cNvPr id="174" name="Line 10"/>
            <p:cNvSpPr/>
            <p:nvPr/>
          </p:nvSpPr>
          <p:spPr>
            <a:xfrm>
              <a:off x="6526080" y="2855880"/>
              <a:ext cx="225720" cy="439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5" name="Line 11"/>
            <p:cNvSpPr/>
            <p:nvPr/>
          </p:nvSpPr>
          <p:spPr>
            <a:xfrm flipH="1">
              <a:off x="6525720" y="2855880"/>
              <a:ext cx="225720" cy="439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pic>
        <p:nvPicPr>
          <p:cNvPr id="176" name="Picture 12" descr="08223"/>
          <p:cNvPicPr/>
          <p:nvPr/>
        </p:nvPicPr>
        <p:blipFill>
          <a:blip r:embed="rId1"/>
          <a:stretch/>
        </p:blipFill>
        <p:spPr>
          <a:xfrm>
            <a:off x="6900840" y="5199120"/>
            <a:ext cx="1725480" cy="124452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3"/>
          <p:cNvGrpSpPr/>
          <p:nvPr/>
        </p:nvGrpSpPr>
        <p:grpSpPr>
          <a:xfrm>
            <a:off x="1500120" y="366840"/>
            <a:ext cx="1950840" cy="756720"/>
            <a:chOff x="1500120" y="366840"/>
            <a:chExt cx="1950840" cy="756720"/>
          </a:xfrm>
        </p:grpSpPr>
        <p:sp>
          <p:nvSpPr>
            <p:cNvPr id="178" name="Oval 14"/>
            <p:cNvSpPr/>
            <p:nvPr/>
          </p:nvSpPr>
          <p:spPr>
            <a:xfrm>
              <a:off x="1500120" y="366840"/>
              <a:ext cx="1950840" cy="730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1500120" y="439560"/>
              <a:ext cx="19508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640" bIns="44640" anchor="t">
              <a:spAutoFit/>
            </a:bodyPr>
            <a:p>
              <a:pPr algn="ctr">
                <a:spcBef>
                  <a:spcPts val="2438"/>
                </a:spcBef>
                <a:tabLst>
                  <a:tab algn="l" pos="0"/>
                  <a:tab algn="l" pos="890640"/>
                  <a:tab algn="l" pos="1781280"/>
                  <a:tab algn="l" pos="2671920"/>
                  <a:tab algn="l" pos="3562200"/>
                  <a:tab algn="l" pos="4452840"/>
                  <a:tab algn="l" pos="5343480"/>
                  <a:tab algn="l" pos="6234120"/>
                  <a:tab algn="l" pos="7124760"/>
                  <a:tab algn="l" pos="8015400"/>
                  <a:tab algn="l" pos="8906040"/>
                  <a:tab algn="l" pos="9796320"/>
                  <a:tab algn="l" pos="10686960"/>
                </a:tabLst>
              </a:pPr>
              <a:r>
                <a:rPr b="1" lang="zh-CN" sz="39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聪明的</a:t>
              </a:r>
              <a:endParaRPr b="1" lang="en-US" sz="39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80" name="Freeform 19"/>
          <p:cNvSpPr/>
          <p:nvPr/>
        </p:nvSpPr>
        <p:spPr>
          <a:xfrm>
            <a:off x="6588000" y="4159080"/>
            <a:ext cx="825480" cy="36684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48"/>
                </a:moveTo>
                <a:lnTo>
                  <a:pt x="192" y="336"/>
                </a:lnTo>
                <a:lnTo>
                  <a:pt x="62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2700360" y="504720"/>
            <a:ext cx="2625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小法官</a:t>
            </a:r>
            <a:endParaRPr b="1" lang="en-US" sz="31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82" name="Group 28"/>
          <p:cNvGrpSpPr/>
          <p:nvPr/>
        </p:nvGrpSpPr>
        <p:grpSpPr>
          <a:xfrm>
            <a:off x="7813800" y="3438360"/>
            <a:ext cx="225360" cy="439920"/>
            <a:chOff x="7813800" y="3438360"/>
            <a:chExt cx="225360" cy="439920"/>
          </a:xfrm>
        </p:grpSpPr>
        <p:sp>
          <p:nvSpPr>
            <p:cNvPr id="183" name="Line 29"/>
            <p:cNvSpPr/>
            <p:nvPr/>
          </p:nvSpPr>
          <p:spPr>
            <a:xfrm>
              <a:off x="7813800" y="3438360"/>
              <a:ext cx="225360" cy="439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 flipH="1">
              <a:off x="7813800" y="3438360"/>
              <a:ext cx="225360" cy="439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85" name="文本框 2"/>
          <p:cNvSpPr/>
          <p:nvPr/>
        </p:nvSpPr>
        <p:spPr>
          <a:xfrm>
            <a:off x="157320" y="6165720"/>
            <a:ext cx="65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更多免费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模板下载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07:13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8:46Z</dcterms:modified>
  <cp:revision>1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