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CEEE-3E14-4398-9A17-5DBB144DC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D115-EE93-4AE6-B4B9-AEC28D343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000D-E51C-4ED2-8682-CD9A95556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6F37-48D6-494A-91F5-DF13F48E6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00A7-39A4-4373-B81D-45D96F0C0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CF0B-221C-48FD-9A1B-49827B858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2033-9ADE-4880-8071-5A149E5EA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DE66-0C17-4729-9132-5A8E15C4C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CAE8-7F87-48BE-B7C6-A38D735B1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5271-5C1A-416E-A3C4-6DCB9245C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AFE8-90B3-413E-A0C5-341B433A8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B679-6391-4F72-B716-B3EF44D8D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cc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C5D30-E326-4615-8177-A090FCFB5D91}" type="slidenum">
              <a:rPr b="0" lang="zh-CN" sz="1400" spc="-1" strike="noStrike">
                <a:solidFill>
                  <a:srgbClr val="0000cc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xscf_swf01.exe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4"/>
          <p:cNvSpPr/>
          <p:nvPr/>
        </p:nvSpPr>
        <p:spPr>
          <a:xfrm>
            <a:off x="2686680" y="580536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ds情境创设"/>
          <p:cNvPicPr/>
          <p:nvPr/>
        </p:nvPicPr>
        <p:blipFill>
          <a:blip r:embed="rId1"/>
          <a:stretch/>
        </p:blipFill>
        <p:spPr>
          <a:xfrm>
            <a:off x="914400" y="911160"/>
            <a:ext cx="1771560" cy="536760"/>
          </a:xfrm>
          <a:prstGeom prst="rect">
            <a:avLst/>
          </a:prstGeom>
          <a:ln w="0">
            <a:noFill/>
          </a:ln>
        </p:spPr>
      </p:pic>
      <p:sp>
        <p:nvSpPr>
          <p:cNvPr id="43" name="Text Box 108"/>
          <p:cNvSpPr/>
          <p:nvPr/>
        </p:nvSpPr>
        <p:spPr>
          <a:xfrm>
            <a:off x="1579680" y="1614600"/>
            <a:ext cx="62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、口算：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4" name="Text Box 113"/>
          <p:cNvSpPr/>
          <p:nvPr/>
        </p:nvSpPr>
        <p:spPr>
          <a:xfrm>
            <a:off x="1515960" y="1981080"/>
            <a:ext cx="634680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0.8×0.5=                  1.6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＋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0.38=         </a:t>
            </a:r>
            <a:br>
              <a:rPr sz="2800"/>
            </a:b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－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0.75=                 0.48÷0.03=       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6÷1.2=                          4×2.5=              </a:t>
            </a:r>
            <a:br>
              <a:rPr sz="2800"/>
            </a:b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0.56÷14=                 0.92÷0.4=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5" name="Text Box 114"/>
          <p:cNvSpPr/>
          <p:nvPr/>
        </p:nvSpPr>
        <p:spPr>
          <a:xfrm>
            <a:off x="1714320" y="496728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630÷45÷2      280÷35        0.56÷14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6" name="Text Box 115"/>
          <p:cNvSpPr/>
          <p:nvPr/>
        </p:nvSpPr>
        <p:spPr>
          <a:xfrm>
            <a:off x="3433680" y="4433760"/>
            <a:ext cx="62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、这三道题有没有更简便的方法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7" name="Rectangle 119"/>
          <p:cNvSpPr/>
          <p:nvPr/>
        </p:nvSpPr>
        <p:spPr>
          <a:xfrm>
            <a:off x="3049560" y="2057400"/>
            <a:ext cx="676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0.4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Rectangle 120"/>
          <p:cNvSpPr/>
          <p:nvPr/>
        </p:nvSpPr>
        <p:spPr>
          <a:xfrm>
            <a:off x="6707520" y="2057400"/>
            <a:ext cx="874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1.98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9" name="Rectangle 121"/>
          <p:cNvSpPr/>
          <p:nvPr/>
        </p:nvSpPr>
        <p:spPr>
          <a:xfrm>
            <a:off x="2973600" y="2590920"/>
            <a:ext cx="874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0.25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Rectangle 122"/>
          <p:cNvSpPr/>
          <p:nvPr/>
        </p:nvSpPr>
        <p:spPr>
          <a:xfrm>
            <a:off x="2973600" y="3124080"/>
            <a:ext cx="3787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5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1" name="Rectangle 123"/>
          <p:cNvSpPr/>
          <p:nvPr/>
        </p:nvSpPr>
        <p:spPr>
          <a:xfrm>
            <a:off x="6631200" y="3124080"/>
            <a:ext cx="577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10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Rectangle 124"/>
          <p:cNvSpPr/>
          <p:nvPr/>
        </p:nvSpPr>
        <p:spPr>
          <a:xfrm>
            <a:off x="3202200" y="3581280"/>
            <a:ext cx="874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0.04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Rectangle 125"/>
          <p:cNvSpPr/>
          <p:nvPr/>
        </p:nvSpPr>
        <p:spPr>
          <a:xfrm>
            <a:off x="6630840" y="3581280"/>
            <a:ext cx="676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2.3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4" name="Rectangle 126"/>
          <p:cNvSpPr/>
          <p:nvPr/>
        </p:nvSpPr>
        <p:spPr>
          <a:xfrm>
            <a:off x="6707520" y="2590920"/>
            <a:ext cx="577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16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5" name="Rectangle 127"/>
          <p:cNvSpPr/>
          <p:nvPr/>
        </p:nvSpPr>
        <p:spPr>
          <a:xfrm>
            <a:off x="1526040" y="5410080"/>
            <a:ext cx="586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=7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6" name="Rectangle 128"/>
          <p:cNvSpPr/>
          <p:nvPr/>
        </p:nvSpPr>
        <p:spPr>
          <a:xfrm>
            <a:off x="4040640" y="5486400"/>
            <a:ext cx="586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=8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Rectangle 129"/>
          <p:cNvSpPr/>
          <p:nvPr/>
        </p:nvSpPr>
        <p:spPr>
          <a:xfrm>
            <a:off x="6250680" y="5486400"/>
            <a:ext cx="10814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=0.04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67" descr="ds新知学习"/>
          <p:cNvPicPr/>
          <p:nvPr/>
        </p:nvPicPr>
        <p:blipFill>
          <a:blip r:embed="rId1"/>
          <a:stretch/>
        </p:blipFill>
        <p:spPr>
          <a:xfrm>
            <a:off x="914400" y="922320"/>
            <a:ext cx="1692360" cy="5256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92"/>
          <p:cNvSpPr/>
          <p:nvPr/>
        </p:nvSpPr>
        <p:spPr>
          <a:xfrm>
            <a:off x="3587400" y="1876320"/>
            <a:ext cx="126720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5.6÷35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0" name="Text Box 104"/>
          <p:cNvSpPr/>
          <p:nvPr/>
        </p:nvSpPr>
        <p:spPr>
          <a:xfrm>
            <a:off x="3170520" y="2639880"/>
            <a:ext cx="17074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5.6÷35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61" name="Group 110"/>
          <p:cNvGrpSpPr/>
          <p:nvPr/>
        </p:nvGrpSpPr>
        <p:grpSpPr>
          <a:xfrm>
            <a:off x="3124080" y="3214800"/>
            <a:ext cx="2362320" cy="534960"/>
            <a:chOff x="3124080" y="3214800"/>
            <a:chExt cx="2362320" cy="534960"/>
          </a:xfrm>
        </p:grpSpPr>
        <p:sp>
          <p:nvSpPr>
            <p:cNvPr id="62" name="Rectangle 106"/>
            <p:cNvSpPr/>
            <p:nvPr/>
          </p:nvSpPr>
          <p:spPr>
            <a:xfrm>
              <a:off x="3124080" y="3216240"/>
              <a:ext cx="2362320" cy="533520"/>
            </a:xfrm>
            <a:prstGeom prst="rect">
              <a:avLst/>
            </a:prstGeom>
            <a:noFill/>
            <a:ln w="28440">
              <a:solidFill>
                <a:srgbClr val="cc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63" name="Text Box 107"/>
            <p:cNvSpPr/>
            <p:nvPr/>
          </p:nvSpPr>
          <p:spPr>
            <a:xfrm>
              <a:off x="3314880" y="3214800"/>
              <a:ext cx="176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＝</a:t>
              </a: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5.6÷7÷5</a:t>
              </a:r>
              <a:endParaRPr b="1" lang="en-US" sz="2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  <p:sp>
        <p:nvSpPr>
          <p:cNvPr id="64" name="Text Box 108"/>
          <p:cNvSpPr/>
          <p:nvPr/>
        </p:nvSpPr>
        <p:spPr>
          <a:xfrm>
            <a:off x="3234600" y="3962520"/>
            <a:ext cx="136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＝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0.8÷5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Text Box 109"/>
          <p:cNvSpPr/>
          <p:nvPr/>
        </p:nvSpPr>
        <p:spPr>
          <a:xfrm>
            <a:off x="3154320" y="4586400"/>
            <a:ext cx="117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＝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0.16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文本框 1"/>
          <p:cNvSpPr/>
          <p:nvPr/>
        </p:nvSpPr>
        <p:spPr>
          <a:xfrm>
            <a:off x="487440" y="5710320"/>
            <a:ext cx="948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更多免费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PPT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模板尽在：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http://www.eeppt.com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ds新知学习"/>
          <p:cNvPicPr/>
          <p:nvPr/>
        </p:nvPicPr>
        <p:blipFill>
          <a:blip r:embed="rId1"/>
          <a:stretch/>
        </p:blipFill>
        <p:spPr>
          <a:xfrm>
            <a:off x="914400" y="922320"/>
            <a:ext cx="1692360" cy="5256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3134160" y="1495440"/>
            <a:ext cx="20566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9.3÷0.5÷0.6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Text Box 21"/>
          <p:cNvSpPr/>
          <p:nvPr/>
        </p:nvSpPr>
        <p:spPr>
          <a:xfrm>
            <a:off x="3222360" y="548640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你认为哪种方法更简便？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70" name="Group 24"/>
          <p:cNvGrpSpPr/>
          <p:nvPr/>
        </p:nvGrpSpPr>
        <p:grpSpPr>
          <a:xfrm>
            <a:off x="971640" y="2333520"/>
            <a:ext cx="3047760" cy="2819160"/>
            <a:chOff x="971640" y="2333520"/>
            <a:chExt cx="3047760" cy="2819160"/>
          </a:xfrm>
        </p:grpSpPr>
        <p:sp>
          <p:nvSpPr>
            <p:cNvPr id="71" name="Text Box 17"/>
            <p:cNvSpPr/>
            <p:nvPr/>
          </p:nvSpPr>
          <p:spPr>
            <a:xfrm>
              <a:off x="1728720" y="242388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00"/>
                  </a:solidFill>
                  <a:latin typeface="Arial"/>
                </a:rPr>
                <a:t>方法一：</a:t>
              </a:r>
              <a:endParaRPr b="1" lang="en-US" sz="2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72" name="Text Box 18"/>
            <p:cNvSpPr/>
            <p:nvPr/>
          </p:nvSpPr>
          <p:spPr>
            <a:xfrm>
              <a:off x="1173600" y="3089160"/>
              <a:ext cx="2496960" cy="17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　</a:t>
              </a: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9.3÷0.5÷0.6</a:t>
              </a:r>
              <a:endParaRPr b="1" lang="en-US" sz="2800" spc="-1" strike="noStrike">
                <a:solidFill>
                  <a:srgbClr val="0000cc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＝</a:t>
              </a: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18.6÷0.6</a:t>
              </a:r>
              <a:endParaRPr b="1" lang="en-US" sz="2800" spc="-1" strike="noStrike">
                <a:solidFill>
                  <a:srgbClr val="0000cc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＝</a:t>
              </a: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31</a:t>
              </a:r>
              <a:endParaRPr b="1" lang="en-US" sz="2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73" name="Rectangle 22"/>
            <p:cNvSpPr/>
            <p:nvPr/>
          </p:nvSpPr>
          <p:spPr>
            <a:xfrm>
              <a:off x="971640" y="2333520"/>
              <a:ext cx="3047760" cy="28191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  <p:grpSp>
        <p:nvGrpSpPr>
          <p:cNvPr id="74" name="Group 25"/>
          <p:cNvGrpSpPr/>
          <p:nvPr/>
        </p:nvGrpSpPr>
        <p:grpSpPr>
          <a:xfrm>
            <a:off x="4476600" y="2333520"/>
            <a:ext cx="3429000" cy="2844720"/>
            <a:chOff x="4476600" y="2333520"/>
            <a:chExt cx="3429000" cy="2844720"/>
          </a:xfrm>
        </p:grpSpPr>
        <p:sp>
          <p:nvSpPr>
            <p:cNvPr id="75" name="Text Box 19"/>
            <p:cNvSpPr/>
            <p:nvPr/>
          </p:nvSpPr>
          <p:spPr>
            <a:xfrm>
              <a:off x="4751640" y="2866680"/>
              <a:ext cx="3050640" cy="231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　</a:t>
              </a: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9.3÷0.5÷0.6</a:t>
              </a:r>
              <a:endParaRPr b="1" lang="en-US" sz="2800" spc="-1" strike="noStrike">
                <a:solidFill>
                  <a:srgbClr val="0000cc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＝</a:t>
              </a: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9.3÷</a:t>
              </a: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（</a:t>
              </a: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0.5×0.6</a:t>
              </a: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）</a:t>
              </a:r>
              <a:endParaRPr b="1" lang="en-US" sz="2800" spc="-1" strike="noStrike">
                <a:solidFill>
                  <a:srgbClr val="0000cc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＝</a:t>
              </a: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9.3÷0.3</a:t>
              </a:r>
              <a:endParaRPr b="1" lang="en-US" sz="2800" spc="-1" strike="noStrike">
                <a:solidFill>
                  <a:srgbClr val="0000cc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＝</a:t>
              </a: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31</a:t>
              </a:r>
              <a:endParaRPr b="1" lang="en-US" sz="2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76" name="Text Box 20"/>
            <p:cNvSpPr/>
            <p:nvPr/>
          </p:nvSpPr>
          <p:spPr>
            <a:xfrm>
              <a:off x="4991400" y="24238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00"/>
                  </a:solidFill>
                  <a:latin typeface="Arial"/>
                </a:rPr>
                <a:t>方法二：</a:t>
              </a:r>
              <a:endParaRPr b="1" lang="en-US" sz="2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77" name="Rectangle 23"/>
            <p:cNvSpPr/>
            <p:nvPr/>
          </p:nvSpPr>
          <p:spPr>
            <a:xfrm>
              <a:off x="4476600" y="2333520"/>
              <a:ext cx="3429000" cy="28191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ds知识应用"/>
          <p:cNvPicPr/>
          <p:nvPr/>
        </p:nvPicPr>
        <p:blipFill>
          <a:blip r:embed="rId1"/>
          <a:stretch/>
        </p:blipFill>
        <p:spPr>
          <a:xfrm>
            <a:off x="914400" y="955800"/>
            <a:ext cx="1725480" cy="492120"/>
          </a:xfrm>
          <a:prstGeom prst="rect">
            <a:avLst/>
          </a:prstGeom>
          <a:ln w="0">
            <a:noFill/>
          </a:ln>
        </p:spPr>
      </p:pic>
      <p:sp>
        <p:nvSpPr>
          <p:cNvPr id="79" name="Text Box 145"/>
          <p:cNvSpPr/>
          <p:nvPr/>
        </p:nvSpPr>
        <p:spPr>
          <a:xfrm>
            <a:off x="777240" y="1676520"/>
            <a:ext cx="7316280" cy="29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用简便方法计算：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5.4÷4.8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　　　　　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7.2÷4.5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　　　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72÷4.8</a:t>
            </a:r>
            <a:br>
              <a:rPr sz="2800"/>
            </a:b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    0.42÷3.5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　　　　 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0.25÷4÷0.25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8.4÷1.25÷0.8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10.4÷0.25÷2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矩形 7"/>
          <p:cNvSpPr/>
          <p:nvPr/>
        </p:nvSpPr>
        <p:spPr>
          <a:xfrm>
            <a:off x="2373480" y="2492280"/>
            <a:ext cx="6602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1" lang="en-US" sz="100" spc="-1" strike="noStrike">
              <a:solidFill>
                <a:srgbClr val="00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1" lang="en-US" sz="100" spc="-1" strike="noStrike">
              <a:solidFill>
                <a:srgbClr val="00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1" lang="en-US" sz="100" spc="-1" strike="noStrike">
              <a:solidFill>
                <a:srgbClr val="00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1" lang="en-US" sz="100" spc="-1" strike="noStrike">
              <a:solidFill>
                <a:srgbClr val="00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1" lang="en-US" sz="100" spc="-1" strike="noStrike">
              <a:solidFill>
                <a:srgbClr val="00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1" lang="en-US" sz="100" spc="-1" strike="noStrike">
              <a:solidFill>
                <a:srgbClr val="00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1" lang="en-US" sz="100" spc="-1" strike="noStrike">
              <a:solidFill>
                <a:srgbClr val="00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1" lang="en-US" sz="100" spc="-1" strike="noStrike">
              <a:solidFill>
                <a:srgbClr val="00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81" name="Picture 79" descr="ds知识拓展"/>
          <p:cNvPicPr/>
          <p:nvPr/>
        </p:nvPicPr>
        <p:blipFill>
          <a:blip r:embed="rId1"/>
          <a:stretch/>
        </p:blipFill>
        <p:spPr>
          <a:xfrm>
            <a:off x="914400" y="1047600"/>
            <a:ext cx="1622520" cy="400320"/>
          </a:xfrm>
          <a:prstGeom prst="rect">
            <a:avLst/>
          </a:prstGeom>
          <a:ln w="0">
            <a:noFill/>
          </a:ln>
        </p:spPr>
      </p:pic>
      <p:sp>
        <p:nvSpPr>
          <p:cNvPr id="82" name="Text Box 104"/>
          <p:cNvSpPr/>
          <p:nvPr/>
        </p:nvSpPr>
        <p:spPr>
          <a:xfrm>
            <a:off x="1793880" y="161460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在括号里填上适当的数：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83" name="Picture 105" descr="">
            <a:hlinkClick r:id="rId2"/>
          </p:cNvPr>
          <p:cNvPicPr/>
          <p:nvPr/>
        </p:nvPicPr>
        <p:blipFill>
          <a:blip r:embed="rId3"/>
          <a:srcRect l="0" t="0" r="0" b="7598"/>
          <a:stretch/>
        </p:blipFill>
        <p:spPr>
          <a:xfrm>
            <a:off x="1905120" y="2286000"/>
            <a:ext cx="5181480" cy="359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333399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333399"/>
                </a:solidFill>
                <a:uFillTx/>
                <a:latin typeface="Times New Roman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99"/>
                </a:solidFill>
                <a:uFillTx/>
                <a:latin typeface="Times New Roman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333399"/>
                </a:solidFill>
                <a:uFillTx/>
                <a:latin typeface="Times New Roman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99"/>
                </a:solidFill>
                <a:uFillTx/>
                <a:latin typeface="Times New Roman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333399"/>
                </a:solidFill>
                <a:uFillTx/>
                <a:latin typeface="Times New Roman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99"/>
                </a:solidFill>
                <a:uFillTx/>
                <a:latin typeface="Times New Roman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333399"/>
                </a:solidFill>
                <a:uFillTx/>
                <a:latin typeface="Times New Roman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99"/>
                </a:solidFill>
                <a:uFillTx/>
                <a:latin typeface="Times New Roman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333399"/>
                </a:solidFill>
                <a:uFillTx/>
                <a:latin typeface="Times New Roman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99"/>
                </a:solidFill>
                <a:uFillTx/>
                <a:latin typeface="Times New Roman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333399"/>
                </a:solidFill>
                <a:uFillTx/>
                <a:latin typeface="Times New Roman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99"/>
                </a:solidFill>
                <a:uFillTx/>
                <a:latin typeface="Times New Roman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333399"/>
                </a:solidFill>
                <a:uFillTx/>
                <a:latin typeface="Times New Roman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99"/>
                </a:solidFill>
                <a:uFillTx/>
                <a:latin typeface="Times New Roman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333399"/>
                </a:solidFill>
                <a:uFillTx/>
                <a:latin typeface="Times New Roman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99"/>
                </a:solidFill>
                <a:uFillTx/>
                <a:latin typeface="Times New Roman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333399"/>
                </a:solidFill>
                <a:uFillTx/>
                <a:latin typeface="Times New Roman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cc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5EDE5-7A34-4E93-B607-33137F45A90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6T12:35:31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27:55Z</dcterms:modified>
  <cp:revision>34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