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3EAE-581E-4741-98A5-0C1B2ADA53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A86F-0C72-41FF-A771-A974CE67685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025-EB25-418D-B525-2D14035F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325-9231-4BB5-9095-6F40EEDA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7D6-23C6-45F3-835E-91037B8D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D1A-DF2E-4E1A-9FE7-B8ED402B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8385-F197-4185-981C-4CA66A86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2BAF-5C5F-4C58-91F2-4CFABE81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3DA5-4B30-4C3C-A340-6523B190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0D03-8BDC-4002-8E78-85DE2A2E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0F3F-5635-44F5-B290-9DDFF8C7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5184-1525-4DE1-B724-B9B94842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9DC1-259A-4299-8014-90C5C059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E17-2FDA-4A6A-A726-53621A83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80CB-154F-48FE-9A66-77B79563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5631-5CB5-4534-8722-051EF9ED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F4E2-11B3-4E65-A0E0-23D8E29F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A154-FA82-4C50-AE33-CC3F7893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EF8F-CE62-4235-952D-EAB300D9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FD8-3CA5-44E1-A477-8F2F62AC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1D2-97F7-49E9-93C7-38CB4038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848-4171-4C72-B72A-5F73718C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AE0-A217-45F7-9197-6F9E1FE1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0A1-D4E0-41E6-B464-517DE748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791E-5006-44E1-B42A-A299EECC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19A-856D-4A25-A672-C67FE717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B1F2-F4D3-4378-A742-0D4EA73BCA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2D43-A80E-4300-BAF9-3A670563DCA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2412000" y="10666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校园生物大搜索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2210040" y="6143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2171880" y="284004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20120314132524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066680" y="0"/>
            <a:ext cx="617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447920" y="1828800"/>
          <a:ext cx="6095880" cy="4267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植物名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生长地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31"/>
          <p:cNvSpPr/>
          <p:nvPr/>
        </p:nvSpPr>
        <p:spPr>
          <a:xfrm>
            <a:off x="311076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校园植物调查记录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447920" y="1828800"/>
          <a:ext cx="6095880" cy="4267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动物名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生长地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31"/>
          <p:cNvSpPr/>
          <p:nvPr/>
        </p:nvSpPr>
        <p:spPr>
          <a:xfrm>
            <a:off x="311076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校园动物调查记录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3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自然风景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国外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7F64-5FEF-4594-937D-0ED5309EE4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5333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让我们先认识一些校园生物吧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429000" cy="2262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343400" y="990720"/>
            <a:ext cx="3772080" cy="5029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2652840" cy="327672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1"/>
          <p:cNvSpPr/>
          <p:nvPr/>
        </p:nvSpPr>
        <p:spPr>
          <a:xfrm>
            <a:off x="1623960" y="601992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894040" y="33523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-396720"/>
            <a:ext cx="4572000" cy="3520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0" y="335268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4800600" y="0"/>
            <a:ext cx="4343400" cy="315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4"/>
          <a:stretch/>
        </p:blipFill>
        <p:spPr>
          <a:xfrm>
            <a:off x="4800600" y="3343320"/>
            <a:ext cx="43434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06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5479920" y="0"/>
            <a:ext cx="323388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5181480" y="3505320"/>
            <a:ext cx="3048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2"/>
          <p:cNvSpPr/>
          <p:nvPr/>
        </p:nvSpPr>
        <p:spPr>
          <a:xfrm>
            <a:off x="1643040" y="25146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苍蝇"/>
          <p:cNvPicPr/>
          <p:nvPr/>
        </p:nvPicPr>
        <p:blipFill>
          <a:blip r:embed="rId1"/>
          <a:stretch/>
        </p:blipFill>
        <p:spPr>
          <a:xfrm>
            <a:off x="5410080" y="304920"/>
            <a:ext cx="3048120" cy="205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麻雀"/>
          <p:cNvPicPr/>
          <p:nvPr/>
        </p:nvPicPr>
        <p:blipFill>
          <a:blip r:embed="rId2"/>
          <a:stretch/>
        </p:blipFill>
        <p:spPr>
          <a:xfrm>
            <a:off x="3429000" y="2133720"/>
            <a:ext cx="2371680" cy="3886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蚂蚁"/>
          <p:cNvPicPr/>
          <p:nvPr/>
        </p:nvPicPr>
        <p:blipFill>
          <a:blip r:embed="rId3"/>
          <a:stretch/>
        </p:blipFill>
        <p:spPr>
          <a:xfrm>
            <a:off x="2895480" y="228600"/>
            <a:ext cx="2286000" cy="1690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蚯蚓"/>
          <p:cNvPicPr/>
          <p:nvPr/>
        </p:nvPicPr>
        <p:blipFill>
          <a:blip r:embed="rId4"/>
          <a:stretch/>
        </p:blipFill>
        <p:spPr>
          <a:xfrm>
            <a:off x="0" y="0"/>
            <a:ext cx="2819520" cy="214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蜈蚣"/>
          <p:cNvPicPr/>
          <p:nvPr/>
        </p:nvPicPr>
        <p:blipFill>
          <a:blip r:embed="rId5"/>
          <a:stretch/>
        </p:blipFill>
        <p:spPr>
          <a:xfrm>
            <a:off x="0" y="4343400"/>
            <a:ext cx="3352680" cy="2166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蚱蜢"/>
          <p:cNvPicPr/>
          <p:nvPr/>
        </p:nvPicPr>
        <p:blipFill>
          <a:blip r:embed="rId6"/>
          <a:stretch/>
        </p:blipFill>
        <p:spPr>
          <a:xfrm>
            <a:off x="0" y="2133720"/>
            <a:ext cx="3313080" cy="1976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燕子"/>
          <p:cNvPicPr/>
          <p:nvPr/>
        </p:nvPicPr>
        <p:blipFill>
          <a:blip r:embed="rId7"/>
          <a:stretch/>
        </p:blipFill>
        <p:spPr>
          <a:xfrm>
            <a:off x="6095880" y="2362320"/>
            <a:ext cx="2700360" cy="2098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8"/>
          <a:stretch/>
        </p:blipFill>
        <p:spPr>
          <a:xfrm>
            <a:off x="5886360" y="4572000"/>
            <a:ext cx="32576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80880" y="685800"/>
            <a:ext cx="831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如果碰到不认识的动物或植物，我们怎么办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074320" y="16765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三年级时，我们叫它不知名的小草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知名的小虫。现在呢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074320" y="3429000"/>
            <a:ext cx="456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我们应该把它画下来，拍下来，描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下来，再通过寻找资料，询问老师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询问长着，询问专家，找到答案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104920" y="60948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查校园的动植物，我们应该注意什么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425680" y="2133720"/>
            <a:ext cx="440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带上工具帮助调查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伤害校园的动植物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量不要漏掉校园中的每一种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植物和动物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物的调查还可以从它们的痕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迹来判断，如：脚印、粪便、皮毛等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20120310204426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2012031311170915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31:01Z</dcterms:modified>
  <cp:revision>1</cp:revision>
  <dc:subject/>
  <dc:title>幻灯片 1</dc:title>
</cp:coreProperties>
</file>