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6.gif" ContentType="image/gif"/>
  <Override PartName="/ppt/media/image9.png" ContentType="image/png"/>
  <Override PartName="/ppt/media/image17.wmf" ContentType="image/x-wmf"/>
  <Override PartName="/ppt/media/image5.gif" ContentType="image/gif"/>
  <Override PartName="/ppt/media/image8.png" ContentType="image/png"/>
  <Override PartName="/ppt/media/image16.wmf" ContentType="image/x-wmf"/>
  <Override PartName="/ppt/media/wind.wav" ContentType="audio/x-wav"/>
  <Override PartName="/ppt/media/image13.gif" ContentType="image/gif"/>
  <Override PartName="/ppt/media/push.wav" ContentType="audio/x-wav"/>
  <Override PartName="/ppt/media/image2.wmf" ContentType="image/x-wmf"/>
  <Override PartName="/ppt/media/image7.wmf" ContentType="image/x-wmf"/>
  <Override PartName="/ppt/media/%E7%89%87%E5%A4%B4%E9%9F%B3%E4%B9%90011.wav" ContentType="audio/x-wav"/>
  <Override PartName="/ppt/media/coin.wav" ContentType="audio/x-wav"/>
  <Override PartName="/ppt/media/image20.gif" ContentType="image/gif"/>
  <Override PartName="/ppt/media/image21.gif" ContentType="image/gif"/>
  <Override PartName="/ppt/media/image19.gif" ContentType="image/gif"/>
  <Override PartName="/ppt/media/image18.wmf" ContentType="image/x-wmf"/>
  <Override PartName="/ppt/media/image11.wmf" ContentType="image/x-wmf"/>
  <Override PartName="/ppt/media/image22.gif" ContentType="image/gif"/>
  <Override PartName="/ppt/media/image10.wmf" ContentType="image/x-wmf"/>
  <Override PartName="/ppt/media/%E7%89%87%E5%A4%B4%E9%9F%B3%E4%B9%90010.wav" ContentType="audio/x-wav"/>
  <Override PartName="/ppt/media/camera.wav" ContentType="audio/x-wav"/>
  <Override PartName="/ppt/media/image12.gif" ContentType="image/gif"/>
  <Override PartName="/ppt/media/drumroll.wav" ContentType="audio/x-wav"/>
  <Override PartName="/ppt/media/image4.gif" ContentType="image/gif"/>
  <Override PartName="/ppt/media/image1.jpeg" ContentType="image/jpeg"/>
  <Override PartName="/ppt/media/image15.wmf" ContentType="image/x-wmf"/>
  <Override PartName="/ppt/media/image3.gif" ContentType="image/gi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4C7-9E50-49C2-AA38-C9E2E193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B64-8E19-4638-AA48-9B1E3EB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123-B86C-47C7-ADD9-6EDD147C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C76-3A67-4235-AFF0-5A0D7C1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BD4-EA19-48CB-9F57-54C9F30A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992-10D0-41F8-8200-FA49503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F80-C336-4848-94D7-3E13473A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F20-1AF2-4C3A-BDF8-7699507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CC8-892D-4B18-B6F3-9DEEF3B8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948-41F4-44CA-B1E8-9518D92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77C-D591-4607-BC58-046053AE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C18-8B92-42F0-BEE1-856E1F4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0D4-EBA1-45E2-A47D-3E2073F32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9255;&#22836;&#38899;&#20048;010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9255;&#22836;&#38899;&#20048;01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9.png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audio" Target="../media/push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66800" y="1219320"/>
            <a:ext cx="70261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次函数的图象和性质课件</a:t>
            </a:r>
            <a:r>
              <a:rPr b="1" lang="en-US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次函数通常选取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-b/k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)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点连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函数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= kx + b ( k ≠ 0 )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以下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当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k &gt; 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当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k &lt; 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447920" y="44956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37160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371600" y="5562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68360" y="18900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95280" y="0"/>
            <a:ext cx="79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当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k&gt;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增大而增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-7920" y="4581360"/>
            <a:ext cx="9151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 flipV="1">
            <a:off x="4356000" y="1341360"/>
            <a:ext cx="0" cy="5300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"/>
          <p:cNvSpPr/>
          <p:nvPr/>
        </p:nvSpPr>
        <p:spPr>
          <a:xfrm flipV="1">
            <a:off x="0" y="1196640"/>
            <a:ext cx="8532720" cy="5256360"/>
          </a:xfrm>
          <a:prstGeom prst="line">
            <a:avLst/>
          </a:prstGeom>
          <a:ln w="76320">
            <a:solidFill>
              <a:srgbClr val="2c0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780000" y="1268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8604360" y="4508640"/>
            <a:ext cx="3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250920" y="4581360"/>
            <a:ext cx="0" cy="172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250920" y="6308640"/>
            <a:ext cx="4105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0" y="6165720"/>
            <a:ext cx="32400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4284720" y="6237360"/>
            <a:ext cx="216000" cy="21600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179280" y="4437000"/>
            <a:ext cx="25092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9%87%E5%A4%B4%E9%9F%B3%E4%B9%90010.wav"/>
                                        </p:tgtEl>
                                      </p:cMediaNode>
                                    </p:audio>
                                    <p:animMotion origin="layout" path="M 1.66667E-006 -3.93064E-006 C 0.00989 -0.00462 0.02014 -0.00763 0.03021 -0.01179 C 0.0375 -0.02659 0.02934 -0.01341 0.03923 -0.02127 C 0.04548 -0.02659 0.05017 -0.03537 0.05694 -0.04 C 0.0651 -0.04555 0.075 -0.04832 0.08368 -0.05202 C 0.09062 -0.05526 0.09132 -0.06289 0.09618 -0.06844 C 0.10173 -0.07445 0.11389 -0.08647 0.12118 -0.08948 C 0.12292 -0.09133 0.12482 -0.09318 0.12656 -0.09456 C 0.12812 -0.09572 0.13038 -0.09572 0.13194 -0.09687 C 0.15156 -0.11098 0.13542 -0.10266 0.14792 -0.10867 C 0.15243 -0.11445 0.15729 -0.11514 0.16232 -0.12046 C 0.16875 -0.12716 0.17413 -0.13364 0.18177 -0.13687 C 0.18698 -0.14427 0.19548 -0.14797 0.20156 -0.15375 C 0.21024 -0.16092 0.19913 -0.15653 0.21042 -0.16277 C 0.21389 -0.16508 0.21753 -0.16624 0.22118 -0.16763 C 0.22292 -0.16832 0.22656 -0.16994 0.22656 -0.16971 C 0.23472 -0.1815 0.225 -0.16901 0.23524 -0.17687 C 0.24201 -0.18242 0.24566 -0.19052 0.2533 -0.19375 C 0.26562 -0.20416 0.26007 -0.20115 0.26944 -0.20531 C 0.27587 -0.21872 0.28142 -0.21294 0.28889 -0.22173 C 0.29635 -0.23005 0.30121 -0.24138 0.31024 -0.24555 C 0.31146 -0.24716 0.3125 -0.24924 0.31406 -0.24994 C 0.31736 -0.25225 0.32465 -0.25479 0.32465 -0.25456 C 0.33073 -0.26289 0.33785 -0.26219 0.34427 -0.27144 C 0.34496 -0.27213 0.35052 -0.28023 0.35156 -0.28069 C 0.35486 -0.283 0.36198 -0.28555 0.36198 -0.28531 C 0.37309 -0.30034 0.35764 -0.28115 0.37101 -0.29271 C 0.3783 -0.29896 0.38229 -0.30797 0.39062 -0.31144 C 0.39548 -0.32092 0.40278 -0.3237 0.41024 -0.3304 C 0.41337 -0.33318 0.42101 -0.33502 0.42101 -0.33479 C 0.42222 -0.33664 0.42292 -0.33896 0.42448 -0.33988 C 0.42778 -0.34219 0.43524 -0.34474 0.43524 -0.3445 C 0.43646 -0.34612 0.43732 -0.3482 0.43889 -0.34936 C 0.44219 -0.35144 0.44948 -0.35375 0.44948 -0.35352 C 0.45399 -0.35976 0.45764 -0.36323 0.46389 -0.36578 C 0.46996 -0.37109 0.46788 -0.36994 0.47448 -0.37318 C 0.47795 -0.37433 0.48524 -0.37757 0.48524 -0.37734 C 0.49028 -0.38404 0.49687 -0.39237 0.50312 -0.39653 C 0.50503 -0.39745 0.50677 -0.39745 0.50833 -0.39884 C 0.52673 -0.41248 0.5125 -0.40555 0.5243 -0.41086 C 0.53125 -0.41919 0.53871 -0.42797 0.54774 -0.4319 C 0.55434 -0.44023 0.56042 -0.44901 0.5691 -0.45294 C 0.575 -0.46104 0.58923 -0.4756 0.59757 -0.47907 C 0.60208 -0.48462 0.60573 -0.48832 0.61198 -0.49109 C 0.6243 -0.50659 0.63889 -0.52185 0.65486 -0.53086 C 0.65972 -0.53387 0.6658 -0.53502 0.67083 -0.53826 C 0.67274 -0.53942 0.6743 -0.54196 0.67639 -0.54289 C 0.67951 -0.54474 0.6868 -0.54751 0.6868 -0.54728 C 0.69132 -0.55306 0.69531 -0.55445 0.70121 -0.55722 C 0.71319 -0.56763 0.70764 -0.56462 0.71719 -0.56855 C 0.72743 -0.58266 0.71319 -0.56462 0.72621 -0.57595 C 0.73976 -0.58774 0.72378 -0.57965 0.7368 -0.5852 C 0.74114 -0.59121 0.74496 -0.59468 0.75121 -0.59699 C 0.75226 -0.5993 0.75295 -0.60231 0.75469 -0.60416 C 0.75607 -0.60578 0.75833 -0.60531 0.75989 -0.6067 C 0.76719 -0.61179 0.77205 -0.62011 0.77969 -0.62312 C 0.78489 -0.62774 0.78802 -0.63213 0.79392 -0.63468 C 0.79826 -0.64069 0.80035 -0.64416 0.80642 -0.64647 C 0.81094 -0.65294 0.81476 -0.65687 0.82083 -0.66057 E">
                                      <p:cBhvr>
                                        <p:cTn id="786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4971E-006 L -0.00399 -0.69734 E">
                                      <p:cBhvr>
                                        <p:cTn id="788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0.82101 0.00531 E">
                                      <p:cBhvr>
                                        <p:cTn id="790" dur="5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1320120" y="189000"/>
            <a:ext cx="57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088640" y="981000"/>
            <a:ext cx="56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当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k&lt;0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的增大而减小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 flipV="1">
            <a:off x="0" y="4211280"/>
            <a:ext cx="9144000" cy="1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 flipV="1">
            <a:off x="4465800" y="1628640"/>
            <a:ext cx="0" cy="5229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3853080" y="141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8622360" y="400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971640" y="1916280"/>
            <a:ext cx="7777080" cy="3600360"/>
          </a:xfrm>
          <a:prstGeom prst="line">
            <a:avLst/>
          </a:prstGeom>
          <a:ln w="76320">
            <a:solidFill>
              <a:srgbClr val="2c0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1332000" y="1989000"/>
            <a:ext cx="28728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1476360" y="2133720"/>
            <a:ext cx="0" cy="208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1476360" y="2133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332000" y="4149720"/>
            <a:ext cx="21564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4284720" y="1916280"/>
            <a:ext cx="287280" cy="28872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9%87%E5%A4%B4%E9%9F%B3%E4%B9%90011.wav"/>
                                        </p:tgtEl>
                                      </p:cMediaNode>
                                    </p:audio>
                                    <p:animMotion origin="layout" path="M 8.05556E-006 -3.06358E-006 C 0.0066 0.00301 0.0106 0.00971 0.01754 0.01272 C 0.02067 0.01549 0.02327 0.01966 0.02692 0.02127 C 0.03594 0.02521 0.04688 0.02798 0.05556 0.03399 C 0.0573 0.03515 0.05851 0.03723 0.06025 0.03815 C 0.06337 0.04 0.06702 0.04 0.0698 0.04232 C 0.07605 0.04763 0.0816 0.04971 0.0889 0.05295 C 0.09046 0.05364 0.09358 0.05503 0.09358 0.05503 C 0.1014 0.06497 0.09185 0.05411 0.10157 0.06127 C 0.10487 0.06382 0.10747 0.06821 0.11112 0.06983 C 0.11754 0.0726 0.12379 0.07538 0.13022 0.07838 C 0.13178 0.07908 0.13351 0.07931 0.1349 0.08047 C 0.13647 0.08185 0.13803 0.0837 0.13976 0.08463 C 0.14272 0.08648 0.14914 0.08879 0.14914 0.08879 C 0.15678 0.09573 0.15209 0.09226 0.16355 0.09734 C 0.16511 0.09804 0.16667 0.09873 0.16824 0.09943 C 0.1698 0.10012 0.1731 0.10151 0.1731 0.10151 C 0.17587 0.10405 0.17796 0.10798 0.18091 0.11006 C 0.18265 0.11122 0.19723 0.11931 0.20001 0.12047 C 0.20747 0.1274 0.20296 0.12417 0.21424 0.12902 C 0.21581 0.12971 0.2191 0.1311 0.2191 0.1311 C 0.22067 0.13249 0.22206 0.13411 0.22379 0.13526 C 0.22535 0.13619 0.22709 0.13642 0.22865 0.13758 C 0.23508 0.14243 0.23942 0.14914 0.24601 0.15237 C 0.25261 0.16093 0.26094 0.16532 0.2698 0.16925 C 0.27292 0.17064 0.27622 0.17203 0.27935 0.17341 C 0.28091 0.17411 0.28421 0.17549 0.28421 0.17549 C 0.29167 0.1822 0.29706 0.18312 0.30643 0.18613 C 0.30956 0.18706 0.31581 0.19029 0.31581 0.19029 C 0.3198 0.19538 0.32153 0.19862 0.32692 0.20093 C 0.33351 0.20925 0.33872 0.21388 0.34758 0.21781 C 0.34914 0.2185 0.35087 0.21919 0.35244 0.21989 C 0.354 0.22058 0.35556 0.22127 0.35712 0.22197 C 0.35869 0.22266 0.36199 0.22405 0.36199 0.22405 C 0.36737 0.23168 0.36372 0.22775 0.37466 0.2326 C 0.37622 0.2333 0.37778 0.23399 0.37935 0.23469 C 0.38091 0.23538 0.38421 0.23677 0.38421 0.23677 C 0.38924 0.24393 0.39584 0.24255 0.40157 0.2474 C 0.40782 0.25272 0.40452 0.25064 0.41112 0.25364 C 0.4231 0.26497 0.40869 0.25226 0.42067 0.26012 C 0.4224 0.26127 0.42379 0.26266 0.42535 0.26428 C 0.42657 0.26544 0.42709 0.26752 0.42865 0.26844 C 0.43976 0.27607 0.45313 0.27815 0.46511 0.28324 C 0.4698 0.28995 0.47605 0.2911 0.48247 0.29388 C 0.48403 0.29457 0.48577 0.29526 0.48733 0.29596 C 0.4889 0.29665 0.49202 0.29804 0.49202 0.29804 C 0.49306 0.29943 0.49393 0.30151 0.49532 0.30243 C 0.49827 0.30451 0.50469 0.30659 0.50469 0.30659 C 0.50817 0.31099 0.5132 0.31469 0.51754 0.31723 C 0.52032 0.31908 0.52692 0.32139 0.52692 0.32139 C 0.53647 0.33341 0.5231 0.31815 0.5349 0.32763 C 0.54532 0.33642 0.52969 0.32833 0.54289 0.33411 C 0.54445 0.33549 0.54584 0.33734 0.54758 0.33827 C 0.5507 0.34012 0.55712 0.34243 0.55712 0.34243 C 0.5632 0.35099 0.57275 0.35145 0.58091 0.35515 C 0.58942 0.36648 0.60574 0.37133 0.61754 0.37642 C 0.6191 0.37781 0.62049 0.37966 0.62223 0.38058 C 0.62535 0.38243 0.63178 0.38474 0.63178 0.38474 C 0.63716 0.39237 0.63351 0.38844 0.64445 0.3933 C 0.64601 0.39399 0.64914 0.39538 0.64914 0.39538 L 0.66199 0.40393 C 0.66633 0.40786 0.66997 0.41318 0.67466 0.41642 C 0.68074 0.42058 0.69046 0.4222 0.69688 0.42497 C 0.70365 0.42798 0.70903 0.4326 0.71581 0.43561 C 0.71737 0.4363 0.72067 0.43769 0.72067 0.43769 C 0.72709 0.45064 0.7198 0.43885 0.72865 0.44601 C 0.72987 0.44717 0.73039 0.44948 0.73178 0.45041 C 0.74584 0.45989 0.7382 0.45041 0.74289 0.45665 E">
                                      <p:cBhvr>
                                        <p:cTn id="796" dur="5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39306E-006 L 0.75208 -0.01573 E">
                                      <p:cBhvr>
                                        <p:cTn id="798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39306E-006 L -1.38889E-006 0.49294 E">
                                      <p:cBhvr>
                                        <p:cTn id="800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371600" y="304920"/>
            <a:ext cx="6095880" cy="539640"/>
          </a:xfrm>
          <a:prstGeom prst="rect">
            <a:avLst/>
          </a:prstGeom>
          <a:solidFill>
            <a:srgbClr val="f3fba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一次函数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24000" y="907920"/>
          <a:ext cx="8591400" cy="5035680"/>
        </p:xfrm>
        <a:graphic>
          <a:graphicData uri="http://schemas.openxmlformats.org/drawingml/2006/table">
            <a:tbl>
              <a:tblPr/>
              <a:tblGrid>
                <a:gridCol w="669960"/>
                <a:gridCol w="1368360"/>
                <a:gridCol w="1676520"/>
                <a:gridCol w="1828800"/>
                <a:gridCol w="1535040"/>
                <a:gridCol w="1512720"/>
              </a:tblGrid>
              <a:tr h="1479960">
                <a:tc rowSpan="4"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一次函数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y=kx+b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≠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过象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减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7" name="Group 37"/>
          <p:cNvGrpSpPr/>
          <p:nvPr/>
        </p:nvGrpSpPr>
        <p:grpSpPr>
          <a:xfrm>
            <a:off x="2438280" y="1143000"/>
            <a:ext cx="1593360" cy="1677240"/>
            <a:chOff x="2438280" y="1143000"/>
            <a:chExt cx="1593360" cy="1677240"/>
          </a:xfrm>
        </p:grpSpPr>
        <p:sp>
          <p:nvSpPr>
            <p:cNvPr id="338" name="Line 38"/>
            <p:cNvSpPr/>
            <p:nvPr/>
          </p:nvSpPr>
          <p:spPr>
            <a:xfrm flipH="1">
              <a:off x="2718000" y="1675440"/>
              <a:ext cx="434520" cy="87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9"/>
            <p:cNvSpPr/>
            <p:nvPr/>
          </p:nvSpPr>
          <p:spPr>
            <a:xfrm>
              <a:off x="3226320" y="1811880"/>
              <a:ext cx="1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0"/>
            <p:cNvSpPr/>
            <p:nvPr/>
          </p:nvSpPr>
          <p:spPr>
            <a:xfrm>
              <a:off x="2438280" y="2233800"/>
              <a:ext cx="13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1"/>
            <p:cNvSpPr/>
            <p:nvPr/>
          </p:nvSpPr>
          <p:spPr>
            <a:xfrm flipV="1">
              <a:off x="2994840" y="1345320"/>
              <a:ext cx="3240" cy="14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2"/>
            <p:cNvSpPr/>
            <p:nvPr/>
          </p:nvSpPr>
          <p:spPr>
            <a:xfrm>
              <a:off x="3672720" y="220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3"/>
            <p:cNvSpPr/>
            <p:nvPr/>
          </p:nvSpPr>
          <p:spPr>
            <a:xfrm>
              <a:off x="299268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4"/>
            <p:cNvSpPr/>
            <p:nvPr/>
          </p:nvSpPr>
          <p:spPr>
            <a:xfrm>
              <a:off x="2964960" y="2147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5"/>
            <p:cNvSpPr/>
            <p:nvPr/>
          </p:nvSpPr>
          <p:spPr>
            <a:xfrm>
              <a:off x="2967120" y="1953720"/>
              <a:ext cx="67680" cy="70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6"/>
            <p:cNvSpPr/>
            <p:nvPr/>
          </p:nvSpPr>
          <p:spPr>
            <a:xfrm>
              <a:off x="3071160" y="1580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4191120" y="1295280"/>
            <a:ext cx="1368000" cy="1665000"/>
            <a:chOff x="4191120" y="1295280"/>
            <a:chExt cx="1368000" cy="1665000"/>
          </a:xfrm>
        </p:grpSpPr>
        <p:sp>
          <p:nvSpPr>
            <p:cNvPr id="348" name="Line 48"/>
            <p:cNvSpPr/>
            <p:nvPr/>
          </p:nvSpPr>
          <p:spPr>
            <a:xfrm>
              <a:off x="4191120" y="2138400"/>
              <a:ext cx="123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49"/>
            <p:cNvSpPr/>
            <p:nvPr/>
          </p:nvSpPr>
          <p:spPr>
            <a:xfrm flipV="1">
              <a:off x="4713120" y="1431720"/>
              <a:ext cx="0" cy="14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0"/>
            <p:cNvSpPr/>
            <p:nvPr/>
          </p:nvSpPr>
          <p:spPr>
            <a:xfrm>
              <a:off x="5200200" y="2087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1"/>
            <p:cNvSpPr/>
            <p:nvPr/>
          </p:nvSpPr>
          <p:spPr>
            <a:xfrm>
              <a:off x="474912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2"/>
            <p:cNvSpPr/>
            <p:nvPr/>
          </p:nvSpPr>
          <p:spPr>
            <a:xfrm>
              <a:off x="4582440" y="194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3"/>
            <p:cNvSpPr/>
            <p:nvPr/>
          </p:nvSpPr>
          <p:spPr>
            <a:xfrm flipH="1">
              <a:off x="4407840" y="1915920"/>
              <a:ext cx="888840" cy="80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4728960" y="2317680"/>
              <a:ext cx="48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4679640" y="2377800"/>
              <a:ext cx="61560" cy="78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6019920" y="1295280"/>
            <a:ext cx="1569600" cy="1584000"/>
            <a:chOff x="6019920" y="1295280"/>
            <a:chExt cx="1569600" cy="1584000"/>
          </a:xfrm>
        </p:grpSpPr>
        <p:sp>
          <p:nvSpPr>
            <p:cNvPr id="357" name="Line 57"/>
            <p:cNvSpPr/>
            <p:nvPr/>
          </p:nvSpPr>
          <p:spPr>
            <a:xfrm>
              <a:off x="6254640" y="1702080"/>
              <a:ext cx="786960" cy="80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8"/>
            <p:cNvSpPr/>
            <p:nvPr/>
          </p:nvSpPr>
          <p:spPr>
            <a:xfrm>
              <a:off x="6835680" y="1843200"/>
              <a:ext cx="1836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9"/>
            <p:cNvSpPr/>
            <p:nvPr/>
          </p:nvSpPr>
          <p:spPr>
            <a:xfrm>
              <a:off x="6019920" y="2276280"/>
              <a:ext cx="130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0"/>
            <p:cNvSpPr/>
            <p:nvPr/>
          </p:nvSpPr>
          <p:spPr>
            <a:xfrm flipV="1">
              <a:off x="6570360" y="1363680"/>
              <a:ext cx="2880" cy="151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1"/>
            <p:cNvSpPr/>
            <p:nvPr/>
          </p:nvSpPr>
          <p:spPr>
            <a:xfrm>
              <a:off x="7230600" y="22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2"/>
            <p:cNvSpPr/>
            <p:nvPr/>
          </p:nvSpPr>
          <p:spPr>
            <a:xfrm>
              <a:off x="659700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3"/>
            <p:cNvSpPr/>
            <p:nvPr/>
          </p:nvSpPr>
          <p:spPr>
            <a:xfrm>
              <a:off x="6524280" y="2187360"/>
              <a:ext cx="38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4"/>
            <p:cNvSpPr/>
            <p:nvPr/>
          </p:nvSpPr>
          <p:spPr>
            <a:xfrm>
              <a:off x="6543360" y="1988280"/>
              <a:ext cx="6480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65"/>
            <p:cNvSpPr/>
            <p:nvPr/>
          </p:nvSpPr>
          <p:spPr>
            <a:xfrm>
              <a:off x="6165000" y="1722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66"/>
          <p:cNvGrpSpPr/>
          <p:nvPr/>
        </p:nvGrpSpPr>
        <p:grpSpPr>
          <a:xfrm>
            <a:off x="7543800" y="1219320"/>
            <a:ext cx="1439640" cy="1645560"/>
            <a:chOff x="7543800" y="1219320"/>
            <a:chExt cx="1439640" cy="1645560"/>
          </a:xfrm>
        </p:grpSpPr>
        <p:sp>
          <p:nvSpPr>
            <p:cNvPr id="367" name="Line 67"/>
            <p:cNvSpPr/>
            <p:nvPr/>
          </p:nvSpPr>
          <p:spPr>
            <a:xfrm>
              <a:off x="7543800" y="2184840"/>
              <a:ext cx="112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8"/>
            <p:cNvSpPr/>
            <p:nvPr/>
          </p:nvSpPr>
          <p:spPr>
            <a:xfrm flipV="1">
              <a:off x="8021880" y="1433160"/>
              <a:ext cx="0" cy="14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9"/>
            <p:cNvSpPr/>
            <p:nvPr/>
          </p:nvSpPr>
          <p:spPr>
            <a:xfrm>
              <a:off x="8624520" y="1943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70"/>
            <p:cNvSpPr/>
            <p:nvPr/>
          </p:nvSpPr>
          <p:spPr>
            <a:xfrm>
              <a:off x="7922880" y="121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1"/>
            <p:cNvSpPr/>
            <p:nvPr/>
          </p:nvSpPr>
          <p:spPr>
            <a:xfrm>
              <a:off x="8038440" y="196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72"/>
            <p:cNvSpPr/>
            <p:nvPr/>
          </p:nvSpPr>
          <p:spPr>
            <a:xfrm flipH="1" flipV="1">
              <a:off x="7651800" y="1778040"/>
              <a:ext cx="564840" cy="103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038440" y="2184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4"/>
            <p:cNvSpPr/>
            <p:nvPr/>
          </p:nvSpPr>
          <p:spPr>
            <a:xfrm>
              <a:off x="7991640" y="2403360"/>
              <a:ext cx="56520" cy="78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75"/>
          <p:cNvSpPr/>
          <p:nvPr/>
        </p:nvSpPr>
        <p:spPr>
          <a:xfrm>
            <a:off x="266688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441972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6095880" y="50292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20120" y="5029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9"/>
          <p:cNvSpPr/>
          <p:nvPr/>
        </p:nvSpPr>
        <p:spPr>
          <a:xfrm>
            <a:off x="266688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一、二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0"/>
          <p:cNvSpPr/>
          <p:nvPr/>
        </p:nvSpPr>
        <p:spPr>
          <a:xfrm>
            <a:off x="4191120" y="4343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、三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1"/>
          <p:cNvSpPr/>
          <p:nvPr/>
        </p:nvSpPr>
        <p:spPr>
          <a:xfrm>
            <a:off x="5943600" y="4267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一、二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2"/>
          <p:cNvSpPr/>
          <p:nvPr/>
        </p:nvSpPr>
        <p:spPr>
          <a:xfrm>
            <a:off x="748656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二、三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3"/>
          <p:cNvSpPr/>
          <p:nvPr/>
        </p:nvSpPr>
        <p:spPr>
          <a:xfrm>
            <a:off x="2895480" y="33526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4"/>
          <p:cNvSpPr/>
          <p:nvPr/>
        </p:nvSpPr>
        <p:spPr>
          <a:xfrm>
            <a:off x="4419720" y="3276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5"/>
          <p:cNvSpPr/>
          <p:nvPr/>
        </p:nvSpPr>
        <p:spPr>
          <a:xfrm>
            <a:off x="6248520" y="3276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6"/>
          <p:cNvSpPr/>
          <p:nvPr/>
        </p:nvSpPr>
        <p:spPr>
          <a:xfrm>
            <a:off x="7772400" y="3276720"/>
            <a:ext cx="9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942160" y="15606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457200" y="-19080"/>
            <a:ext cx="184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304920" y="4114800"/>
            <a:ext cx="732456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1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7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8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9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0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2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5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6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8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9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1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2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3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4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5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6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7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8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9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0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1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2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3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4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5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6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7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8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9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0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1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2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3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4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5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6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7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8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9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0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1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2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3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4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5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6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7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8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9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0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1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2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3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4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5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6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7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8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9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0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1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2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3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4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5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6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97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8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9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0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1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2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4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05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6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7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8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9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0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1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2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13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4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5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6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7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8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9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0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21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2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3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4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5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6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27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8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9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1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2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3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34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5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6"/>
          <p:cNvSpPr/>
          <p:nvPr/>
        </p:nvSpPr>
        <p:spPr>
          <a:xfrm>
            <a:off x="1817640" y="1938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7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38"/>
          <p:cNvSpPr/>
          <p:nvPr/>
        </p:nvSpPr>
        <p:spPr>
          <a:xfrm>
            <a:off x="6399360" y="1611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39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0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41"/>
          <p:cNvSpPr/>
          <p:nvPr/>
        </p:nvSpPr>
        <p:spPr>
          <a:xfrm>
            <a:off x="4383000" y="884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2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3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4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5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6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47"/>
          <p:cNvSpPr/>
          <p:nvPr/>
        </p:nvSpPr>
        <p:spPr>
          <a:xfrm>
            <a:off x="762120" y="15238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48"/>
          <p:cNvSpPr/>
          <p:nvPr/>
        </p:nvSpPr>
        <p:spPr>
          <a:xfrm>
            <a:off x="762120" y="23781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49"/>
          <p:cNvSpPr/>
          <p:nvPr/>
        </p:nvSpPr>
        <p:spPr>
          <a:xfrm>
            <a:off x="762120" y="36939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50"/>
          <p:cNvSpPr/>
          <p:nvPr/>
        </p:nvSpPr>
        <p:spPr>
          <a:xfrm>
            <a:off x="762120" y="32320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51"/>
          <p:cNvSpPr/>
          <p:nvPr/>
        </p:nvSpPr>
        <p:spPr>
          <a:xfrm>
            <a:off x="0" y="280980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52"/>
          <p:cNvSpPr/>
          <p:nvPr/>
        </p:nvSpPr>
        <p:spPr>
          <a:xfrm>
            <a:off x="762120" y="40863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53"/>
          <p:cNvSpPr/>
          <p:nvPr/>
        </p:nvSpPr>
        <p:spPr>
          <a:xfrm>
            <a:off x="762120" y="451332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54"/>
          <p:cNvSpPr/>
          <p:nvPr/>
        </p:nvSpPr>
        <p:spPr>
          <a:xfrm>
            <a:off x="762120" y="49402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5"/>
          <p:cNvSpPr/>
          <p:nvPr/>
        </p:nvSpPr>
        <p:spPr>
          <a:xfrm flipV="1">
            <a:off x="826920" y="5366880"/>
            <a:ext cx="6108840" cy="65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6"/>
          <p:cNvSpPr/>
          <p:nvPr/>
        </p:nvSpPr>
        <p:spPr>
          <a:xfrm>
            <a:off x="762120" y="579420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57"/>
          <p:cNvSpPr/>
          <p:nvPr/>
        </p:nvSpPr>
        <p:spPr>
          <a:xfrm>
            <a:off x="762120" y="624852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58"/>
          <p:cNvSpPr/>
          <p:nvPr/>
        </p:nvSpPr>
        <p:spPr>
          <a:xfrm>
            <a:off x="762120" y="1471680"/>
            <a:ext cx="0" cy="515124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59"/>
          <p:cNvSpPr/>
          <p:nvPr/>
        </p:nvSpPr>
        <p:spPr>
          <a:xfrm>
            <a:off x="12700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60"/>
          <p:cNvSpPr/>
          <p:nvPr/>
        </p:nvSpPr>
        <p:spPr>
          <a:xfrm>
            <a:off x="177804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61"/>
          <p:cNvSpPr/>
          <p:nvPr/>
        </p:nvSpPr>
        <p:spPr>
          <a:xfrm>
            <a:off x="22860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62"/>
          <p:cNvSpPr/>
          <p:nvPr/>
        </p:nvSpPr>
        <p:spPr>
          <a:xfrm>
            <a:off x="27432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63"/>
          <p:cNvSpPr/>
          <p:nvPr/>
        </p:nvSpPr>
        <p:spPr>
          <a:xfrm>
            <a:off x="330192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4"/>
          <p:cNvSpPr/>
          <p:nvPr/>
        </p:nvSpPr>
        <p:spPr>
          <a:xfrm>
            <a:off x="38098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5"/>
          <p:cNvSpPr/>
          <p:nvPr/>
        </p:nvSpPr>
        <p:spPr>
          <a:xfrm>
            <a:off x="43434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66"/>
          <p:cNvSpPr/>
          <p:nvPr/>
        </p:nvSpPr>
        <p:spPr>
          <a:xfrm>
            <a:off x="482616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67"/>
          <p:cNvSpPr/>
          <p:nvPr/>
        </p:nvSpPr>
        <p:spPr>
          <a:xfrm>
            <a:off x="533412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68"/>
          <p:cNvSpPr/>
          <p:nvPr/>
        </p:nvSpPr>
        <p:spPr>
          <a:xfrm>
            <a:off x="58420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69"/>
          <p:cNvSpPr/>
          <p:nvPr/>
        </p:nvSpPr>
        <p:spPr>
          <a:xfrm>
            <a:off x="635004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70"/>
          <p:cNvSpPr/>
          <p:nvPr/>
        </p:nvSpPr>
        <p:spPr>
          <a:xfrm>
            <a:off x="68580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71"/>
          <p:cNvSpPr/>
          <p:nvPr/>
        </p:nvSpPr>
        <p:spPr>
          <a:xfrm>
            <a:off x="762120" y="66754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72"/>
          <p:cNvSpPr/>
          <p:nvPr/>
        </p:nvSpPr>
        <p:spPr>
          <a:xfrm>
            <a:off x="3809880" y="1371600"/>
            <a:ext cx="0" cy="533412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3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4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5"/>
          <p:cNvSpPr/>
          <p:nvPr/>
        </p:nvSpPr>
        <p:spPr>
          <a:xfrm>
            <a:off x="304920" y="4114800"/>
            <a:ext cx="732456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76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77"/>
          <p:cNvSpPr/>
          <p:nvPr/>
        </p:nvSpPr>
        <p:spPr>
          <a:xfrm flipV="1">
            <a:off x="1378080" y="1910880"/>
            <a:ext cx="2817720" cy="325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78"/>
          <p:cNvSpPr/>
          <p:nvPr/>
        </p:nvSpPr>
        <p:spPr>
          <a:xfrm flipH="1">
            <a:off x="2080800" y="1839960"/>
            <a:ext cx="3691080" cy="4309920"/>
          </a:xfrm>
          <a:prstGeom prst="line">
            <a:avLst/>
          </a:prstGeom>
          <a:ln w="76320">
            <a:solidFill>
              <a:srgbClr val="ff3399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9"/>
          <p:cNvSpPr/>
          <p:nvPr/>
        </p:nvSpPr>
        <p:spPr>
          <a:xfrm>
            <a:off x="2502000" y="3021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180" descr=""/>
          <p:cNvPicPr/>
          <p:nvPr/>
        </p:nvPicPr>
        <p:blipFill>
          <a:blip r:embed="rId2"/>
          <a:stretch/>
        </p:blipFill>
        <p:spPr>
          <a:xfrm>
            <a:off x="1189080" y="2544840"/>
            <a:ext cx="828720" cy="466560"/>
          </a:xfrm>
          <a:prstGeom prst="rect">
            <a:avLst/>
          </a:prstGeom>
          <a:ln w="0">
            <a:noFill/>
          </a:ln>
        </p:spPr>
      </p:pic>
      <p:pic>
        <p:nvPicPr>
          <p:cNvPr id="567" name="矩形 6" descr=""/>
          <p:cNvPicPr/>
          <p:nvPr/>
        </p:nvPicPr>
        <p:blipFill>
          <a:blip r:embed="rId3"/>
          <a:stretch/>
        </p:blipFill>
        <p:spPr>
          <a:xfrm>
            <a:off x="471600" y="378000"/>
            <a:ext cx="7119720" cy="1145880"/>
          </a:xfrm>
          <a:prstGeom prst="rect">
            <a:avLst/>
          </a:prstGeom>
          <a:ln w="0">
            <a:noFill/>
          </a:ln>
        </p:spPr>
      </p:pic>
      <p:sp>
        <p:nvSpPr>
          <p:cNvPr id="568" name="Line 182"/>
          <p:cNvSpPr/>
          <p:nvPr/>
        </p:nvSpPr>
        <p:spPr>
          <a:xfrm flipH="1" flipV="1">
            <a:off x="3858840" y="1860480"/>
            <a:ext cx="2614680" cy="2805120"/>
          </a:xfrm>
          <a:prstGeom prst="line">
            <a:avLst/>
          </a:prstGeom>
          <a:ln w="76320">
            <a:solidFill>
              <a:srgbClr val="ff3399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7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1143000" y="838080"/>
            <a:ext cx="77724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下列函数：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2x+1,    ②y=-3x+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0.5x,       ④y=x-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5627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 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7150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572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867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4479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增大而增大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503360" y="2367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过原点的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线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447920" y="3962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增大而减小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1457280" y="4788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图象在第一、二、三象限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152280" y="380880"/>
            <a:ext cx="762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2"/>
          <p:cNvGrpSpPr/>
          <p:nvPr/>
        </p:nvGrpSpPr>
        <p:grpSpPr>
          <a:xfrm>
            <a:off x="5867280" y="4214880"/>
            <a:ext cx="2590560" cy="3070800"/>
            <a:chOff x="5867280" y="4214880"/>
            <a:chExt cx="2590560" cy="3070800"/>
          </a:xfrm>
        </p:grpSpPr>
        <p:sp>
          <p:nvSpPr>
            <p:cNvPr id="582" name="Text Box 3"/>
            <p:cNvSpPr/>
            <p:nvPr/>
          </p:nvSpPr>
          <p:spPr>
            <a:xfrm>
              <a:off x="7337520" y="4214880"/>
              <a:ext cx="3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"/>
            <p:cNvSpPr/>
            <p:nvPr/>
          </p:nvSpPr>
          <p:spPr>
            <a:xfrm>
              <a:off x="5867280" y="5861160"/>
              <a:ext cx="246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 flipV="1">
              <a:off x="7674840" y="4396680"/>
              <a:ext cx="1080" cy="20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6"/>
            <p:cNvSpPr/>
            <p:nvPr/>
          </p:nvSpPr>
          <p:spPr>
            <a:xfrm>
              <a:off x="8156160" y="576288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 flipV="1">
              <a:off x="6107760" y="4721760"/>
              <a:ext cx="2109240" cy="1356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7610400" y="581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7127640" y="6338520"/>
              <a:ext cx="63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10"/>
          <p:cNvSpPr/>
          <p:nvPr/>
        </p:nvSpPr>
        <p:spPr>
          <a:xfrm>
            <a:off x="1050840" y="213372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2743200" y="2514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2"/>
          <p:cNvGrpSpPr/>
          <p:nvPr/>
        </p:nvGrpSpPr>
        <p:grpSpPr>
          <a:xfrm>
            <a:off x="609480" y="1904760"/>
            <a:ext cx="2210040" cy="1997640"/>
            <a:chOff x="609480" y="1904760"/>
            <a:chExt cx="2210040" cy="1997640"/>
          </a:xfrm>
        </p:grpSpPr>
        <p:sp>
          <p:nvSpPr>
            <p:cNvPr id="592" name="Line 13"/>
            <p:cNvSpPr/>
            <p:nvPr/>
          </p:nvSpPr>
          <p:spPr>
            <a:xfrm flipV="1">
              <a:off x="609480" y="2659320"/>
              <a:ext cx="2210040" cy="1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4"/>
            <p:cNvSpPr/>
            <p:nvPr/>
          </p:nvSpPr>
          <p:spPr>
            <a:xfrm flipV="1">
              <a:off x="1393200" y="1904760"/>
              <a:ext cx="2880" cy="157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 flipV="1">
              <a:off x="965520" y="2218680"/>
              <a:ext cx="1639800" cy="1194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1321920" y="2621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7"/>
            <p:cNvSpPr/>
            <p:nvPr/>
          </p:nvSpPr>
          <p:spPr>
            <a:xfrm>
              <a:off x="1093680" y="338184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A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18"/>
          <p:cNvSpPr/>
          <p:nvPr/>
        </p:nvSpPr>
        <p:spPr>
          <a:xfrm>
            <a:off x="2590920" y="3505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3581280" y="464832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26683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21"/>
          <p:cNvGrpSpPr/>
          <p:nvPr/>
        </p:nvGrpSpPr>
        <p:grpSpPr>
          <a:xfrm>
            <a:off x="1371600" y="4038120"/>
            <a:ext cx="2209680" cy="2309760"/>
            <a:chOff x="1371600" y="4038120"/>
            <a:chExt cx="2209680" cy="2309760"/>
          </a:xfrm>
        </p:grpSpPr>
        <p:sp>
          <p:nvSpPr>
            <p:cNvPr id="601" name="Line 22"/>
            <p:cNvSpPr/>
            <p:nvPr/>
          </p:nvSpPr>
          <p:spPr>
            <a:xfrm flipV="1">
              <a:off x="1371600" y="4840200"/>
              <a:ext cx="220968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 flipV="1">
              <a:off x="2658960" y="4038120"/>
              <a:ext cx="67320" cy="18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4"/>
            <p:cNvSpPr/>
            <p:nvPr/>
          </p:nvSpPr>
          <p:spPr>
            <a:xfrm>
              <a:off x="1574640" y="4470120"/>
              <a:ext cx="1691280" cy="11653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25"/>
            <p:cNvSpPr/>
            <p:nvPr/>
          </p:nvSpPr>
          <p:spPr>
            <a:xfrm>
              <a:off x="2320200" y="5827320"/>
              <a:ext cx="10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 C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6"/>
          <p:cNvGrpSpPr/>
          <p:nvPr/>
        </p:nvGrpSpPr>
        <p:grpSpPr>
          <a:xfrm>
            <a:off x="5334120" y="2209680"/>
            <a:ext cx="2285640" cy="2610000"/>
            <a:chOff x="5334120" y="2209680"/>
            <a:chExt cx="2285640" cy="2610000"/>
          </a:xfrm>
        </p:grpSpPr>
        <p:sp>
          <p:nvSpPr>
            <p:cNvPr id="606" name="Text Box 27"/>
            <p:cNvSpPr/>
            <p:nvPr/>
          </p:nvSpPr>
          <p:spPr>
            <a:xfrm>
              <a:off x="5919120" y="2209680"/>
              <a:ext cx="3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5334120" y="3476520"/>
              <a:ext cx="219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9"/>
            <p:cNvSpPr/>
            <p:nvPr/>
          </p:nvSpPr>
          <p:spPr>
            <a:xfrm flipV="1">
              <a:off x="6253920" y="2361600"/>
              <a:ext cx="1080" cy="157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30"/>
            <p:cNvSpPr/>
            <p:nvPr/>
          </p:nvSpPr>
          <p:spPr>
            <a:xfrm>
              <a:off x="7315200" y="33858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1"/>
            <p:cNvSpPr/>
            <p:nvPr/>
          </p:nvSpPr>
          <p:spPr>
            <a:xfrm>
              <a:off x="6041520" y="2462760"/>
              <a:ext cx="919440" cy="1419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2"/>
            <p:cNvSpPr/>
            <p:nvPr/>
          </p:nvSpPr>
          <p:spPr>
            <a:xfrm>
              <a:off x="5971320" y="34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33"/>
            <p:cNvSpPr/>
            <p:nvPr/>
          </p:nvSpPr>
          <p:spPr>
            <a:xfrm>
              <a:off x="5919120" y="3872520"/>
              <a:ext cx="63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34"/>
          <p:cNvSpPr/>
          <p:nvPr/>
        </p:nvSpPr>
        <p:spPr>
          <a:xfrm>
            <a:off x="304920" y="0"/>
            <a:ext cx="8458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逆向思维    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小试牛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函数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k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在二、四象限，那么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kx-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可能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594360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10920" y="105264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已知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mx-(m-2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它的图象经过原点，则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点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它的图象上，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 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它的图象经过一、二、四象限，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2340000" y="220500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1908000" y="3573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6012000" y="4221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&lt;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mx-(m-2)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增大而增小，则其图象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过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象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直线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kx -3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过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, 5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k 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此直线平行于直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- 3x - 5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k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627280" y="1844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771640" y="33577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627280" y="479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199"/>
          <p:cNvSpPr/>
          <p:nvPr/>
        </p:nvSpPr>
        <p:spPr>
          <a:xfrm>
            <a:off x="1260360" y="58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385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385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9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1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385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385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38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38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385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9" dur="385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1" dur="385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3" dur="385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590920" y="380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228600" y="129528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平面直角坐标系中，函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=-2x+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图象经过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三象限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、三、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三、四象限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360360" y="3460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一次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=x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大致图像为 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"/>
          <p:cNvGrpSpPr/>
          <p:nvPr/>
        </p:nvGrpSpPr>
        <p:grpSpPr>
          <a:xfrm>
            <a:off x="225360" y="4210200"/>
            <a:ext cx="1041480" cy="1163160"/>
            <a:chOff x="225360" y="4210200"/>
            <a:chExt cx="1041480" cy="1163160"/>
          </a:xfrm>
        </p:grpSpPr>
        <p:sp>
          <p:nvSpPr>
            <p:cNvPr id="631" name="Line 6"/>
            <p:cNvSpPr/>
            <p:nvPr/>
          </p:nvSpPr>
          <p:spPr>
            <a:xfrm>
              <a:off x="225360" y="4844880"/>
              <a:ext cx="10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"/>
            <p:cNvSpPr/>
            <p:nvPr/>
          </p:nvSpPr>
          <p:spPr>
            <a:xfrm flipV="1">
              <a:off x="707040" y="4236120"/>
              <a:ext cx="0" cy="113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>
              <a:off x="569880" y="4315680"/>
              <a:ext cx="58824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Object 9" descr=""/>
            <p:cNvPicPr/>
            <p:nvPr/>
          </p:nvPicPr>
          <p:blipFill>
            <a:blip r:embed="rId2"/>
            <a:stretch/>
          </p:blipFill>
          <p:spPr>
            <a:xfrm>
              <a:off x="628560" y="4844880"/>
              <a:ext cx="78480" cy="1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Object 10" descr=""/>
            <p:cNvPicPr/>
            <p:nvPr/>
          </p:nvPicPr>
          <p:blipFill>
            <a:blip r:embed="rId3"/>
            <a:stretch/>
          </p:blipFill>
          <p:spPr>
            <a:xfrm>
              <a:off x="635400" y="4210200"/>
              <a:ext cx="824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Object 11" descr=""/>
            <p:cNvPicPr/>
            <p:nvPr/>
          </p:nvPicPr>
          <p:blipFill>
            <a:blip r:embed="rId4"/>
            <a:stretch/>
          </p:blipFill>
          <p:spPr>
            <a:xfrm>
              <a:off x="1186920" y="4844880"/>
              <a:ext cx="79920" cy="1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Group 12"/>
          <p:cNvGrpSpPr/>
          <p:nvPr/>
        </p:nvGrpSpPr>
        <p:grpSpPr>
          <a:xfrm>
            <a:off x="2122560" y="4160880"/>
            <a:ext cx="1132920" cy="1287000"/>
            <a:chOff x="2122560" y="4160880"/>
            <a:chExt cx="1132920" cy="1287000"/>
          </a:xfrm>
        </p:grpSpPr>
        <p:sp>
          <p:nvSpPr>
            <p:cNvPr id="638" name="Line 13"/>
            <p:cNvSpPr/>
            <p:nvPr/>
          </p:nvSpPr>
          <p:spPr>
            <a:xfrm>
              <a:off x="2122560" y="4862880"/>
              <a:ext cx="110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4"/>
            <p:cNvSpPr/>
            <p:nvPr/>
          </p:nvSpPr>
          <p:spPr>
            <a:xfrm flipV="1">
              <a:off x="2646720" y="4189680"/>
              <a:ext cx="0" cy="12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Object 15" descr=""/>
            <p:cNvPicPr/>
            <p:nvPr/>
          </p:nvPicPr>
          <p:blipFill>
            <a:blip r:embed="rId5"/>
            <a:stretch/>
          </p:blipFill>
          <p:spPr>
            <a:xfrm>
              <a:off x="2561040" y="4862880"/>
              <a:ext cx="8568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Object 16" descr=""/>
            <p:cNvPicPr/>
            <p:nvPr/>
          </p:nvPicPr>
          <p:blipFill>
            <a:blip r:embed="rId6"/>
            <a:stretch/>
          </p:blipFill>
          <p:spPr>
            <a:xfrm>
              <a:off x="2500200" y="4160880"/>
              <a:ext cx="89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Object 17" descr=""/>
            <p:cNvPicPr/>
            <p:nvPr/>
          </p:nvPicPr>
          <p:blipFill>
            <a:blip r:embed="rId7"/>
            <a:stretch/>
          </p:blipFill>
          <p:spPr>
            <a:xfrm>
              <a:off x="3168720" y="4933440"/>
              <a:ext cx="8676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18"/>
            <p:cNvSpPr/>
            <p:nvPr/>
          </p:nvSpPr>
          <p:spPr>
            <a:xfrm flipH="1">
              <a:off x="2273400" y="4224600"/>
              <a:ext cx="52884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9"/>
          <p:cNvGrpSpPr/>
          <p:nvPr/>
        </p:nvGrpSpPr>
        <p:grpSpPr>
          <a:xfrm>
            <a:off x="3936960" y="4133880"/>
            <a:ext cx="1000080" cy="1314000"/>
            <a:chOff x="3936960" y="4133880"/>
            <a:chExt cx="1000080" cy="1314000"/>
          </a:xfrm>
        </p:grpSpPr>
        <p:sp>
          <p:nvSpPr>
            <p:cNvPr id="645" name="Line 20"/>
            <p:cNvSpPr/>
            <p:nvPr/>
          </p:nvSpPr>
          <p:spPr>
            <a:xfrm flipV="1">
              <a:off x="4410720" y="416268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1"/>
            <p:cNvSpPr/>
            <p:nvPr/>
          </p:nvSpPr>
          <p:spPr>
            <a:xfrm>
              <a:off x="3936960" y="4827600"/>
              <a:ext cx="10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Object 22" descr=""/>
            <p:cNvPicPr/>
            <p:nvPr/>
          </p:nvPicPr>
          <p:blipFill>
            <a:blip r:embed="rId8"/>
            <a:stretch/>
          </p:blipFill>
          <p:spPr>
            <a:xfrm>
              <a:off x="4285440" y="4901760"/>
              <a:ext cx="7740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Object 23" descr=""/>
            <p:cNvPicPr/>
            <p:nvPr/>
          </p:nvPicPr>
          <p:blipFill>
            <a:blip r:embed="rId9"/>
            <a:stretch/>
          </p:blipFill>
          <p:spPr>
            <a:xfrm>
              <a:off x="4278600" y="4133880"/>
              <a:ext cx="8064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24" descr=""/>
            <p:cNvPicPr/>
            <p:nvPr/>
          </p:nvPicPr>
          <p:blipFill>
            <a:blip r:embed="rId10"/>
            <a:stretch/>
          </p:blipFill>
          <p:spPr>
            <a:xfrm>
              <a:off x="4850640" y="4898160"/>
              <a:ext cx="78480" cy="1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25"/>
            <p:cNvSpPr/>
            <p:nvPr/>
          </p:nvSpPr>
          <p:spPr>
            <a:xfrm flipH="1">
              <a:off x="4327920" y="4331880"/>
              <a:ext cx="408960" cy="11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5896080" y="4223880"/>
            <a:ext cx="1133280" cy="1350000"/>
            <a:chOff x="5896080" y="4223880"/>
            <a:chExt cx="1133280" cy="1350000"/>
          </a:xfrm>
        </p:grpSpPr>
        <p:pic>
          <p:nvPicPr>
            <p:cNvPr id="652" name="Object 27" descr=""/>
            <p:cNvPicPr/>
            <p:nvPr/>
          </p:nvPicPr>
          <p:blipFill>
            <a:blip r:embed="rId11"/>
            <a:stretch/>
          </p:blipFill>
          <p:spPr>
            <a:xfrm>
              <a:off x="6278760" y="4246200"/>
              <a:ext cx="918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Line 28"/>
            <p:cNvSpPr/>
            <p:nvPr/>
          </p:nvSpPr>
          <p:spPr>
            <a:xfrm flipV="1">
              <a:off x="6431760" y="422388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9"/>
            <p:cNvSpPr/>
            <p:nvPr/>
          </p:nvSpPr>
          <p:spPr>
            <a:xfrm>
              <a:off x="5896080" y="49464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Object 30" descr=""/>
            <p:cNvPicPr/>
            <p:nvPr/>
          </p:nvPicPr>
          <p:blipFill>
            <a:blip r:embed="rId12"/>
            <a:stretch/>
          </p:blipFill>
          <p:spPr>
            <a:xfrm>
              <a:off x="6931080" y="4989600"/>
              <a:ext cx="88560" cy="1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Line 31"/>
            <p:cNvSpPr/>
            <p:nvPr/>
          </p:nvSpPr>
          <p:spPr>
            <a:xfrm>
              <a:off x="5959440" y="4543560"/>
              <a:ext cx="648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Object 32" descr=""/>
            <p:cNvPicPr/>
            <p:nvPr/>
          </p:nvPicPr>
          <p:blipFill>
            <a:blip r:embed="rId13"/>
            <a:stretch/>
          </p:blipFill>
          <p:spPr>
            <a:xfrm>
              <a:off x="6492960" y="5018760"/>
              <a:ext cx="85680" cy="1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Rectangle 33"/>
          <p:cNvSpPr/>
          <p:nvPr/>
        </p:nvSpPr>
        <p:spPr>
          <a:xfrm>
            <a:off x="963720" y="546192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335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                     B                       C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4"/>
          <p:cNvGrpSpPr/>
          <p:nvPr/>
        </p:nvGrpSpPr>
        <p:grpSpPr>
          <a:xfrm>
            <a:off x="7086600" y="1219320"/>
            <a:ext cx="1062000" cy="795960"/>
            <a:chOff x="7086600" y="1219320"/>
            <a:chExt cx="1062000" cy="795960"/>
          </a:xfrm>
        </p:grpSpPr>
        <p:sp>
          <p:nvSpPr>
            <p:cNvPr id="660" name="AutoShape 35"/>
            <p:cNvSpPr/>
            <p:nvPr/>
          </p:nvSpPr>
          <p:spPr>
            <a:xfrm>
              <a:off x="7086600" y="12193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6"/>
            <p:cNvSpPr/>
            <p:nvPr/>
          </p:nvSpPr>
          <p:spPr>
            <a:xfrm>
              <a:off x="7157880" y="13726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37"/>
          <p:cNvGrpSpPr/>
          <p:nvPr/>
        </p:nvGrpSpPr>
        <p:grpSpPr>
          <a:xfrm>
            <a:off x="5410080" y="3276720"/>
            <a:ext cx="1062000" cy="734760"/>
            <a:chOff x="5410080" y="3276720"/>
            <a:chExt cx="1062000" cy="734760"/>
          </a:xfrm>
        </p:grpSpPr>
        <p:sp>
          <p:nvSpPr>
            <p:cNvPr id="663" name="AutoShape 38"/>
            <p:cNvSpPr/>
            <p:nvPr/>
          </p:nvSpPr>
          <p:spPr>
            <a:xfrm>
              <a:off x="5410080" y="32767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9"/>
            <p:cNvSpPr/>
            <p:nvPr/>
          </p:nvSpPr>
          <p:spPr>
            <a:xfrm>
              <a:off x="5481360" y="3430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Picture 40" descr="zhong"/>
          <p:cNvPicPr/>
          <p:nvPr/>
        </p:nvPicPr>
        <p:blipFill>
          <a:blip r:embed="rId14"/>
          <a:stretch/>
        </p:blipFill>
        <p:spPr>
          <a:xfrm>
            <a:off x="53352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1" descr="ARG-C-50-URL"/>
          <p:cNvPicPr/>
          <p:nvPr/>
        </p:nvPicPr>
        <p:blipFill>
          <a:blip r:embed="rId15"/>
          <a:stretch/>
        </p:blipFill>
        <p:spPr>
          <a:xfrm>
            <a:off x="3803760" y="5475240"/>
            <a:ext cx="103968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324000" y="189000"/>
            <a:ext cx="7777080" cy="14842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出一次函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y=2x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Y=2X+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177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列表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选取若干对自变量与函数的对应值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列成下表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501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描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以表中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横坐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纵坐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得到两组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写出这些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用坐标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再画一个平面直角坐标系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并在坐标系中画出这些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3021120"/>
          <a:ext cx="7632720" cy="1703160"/>
        </p:xfrm>
        <a:graphic>
          <a:graphicData uri="http://schemas.openxmlformats.org/drawingml/2006/table">
            <a:tbl>
              <a:tblPr/>
              <a:tblGrid>
                <a:gridCol w="1657440"/>
                <a:gridCol w="555480"/>
                <a:gridCol w="857160"/>
                <a:gridCol w="889200"/>
                <a:gridCol w="865080"/>
                <a:gridCol w="1008000"/>
                <a:gridCol w="863640"/>
                <a:gridCol w="93672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2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2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43"/>
          <p:cNvSpPr/>
          <p:nvPr/>
        </p:nvSpPr>
        <p:spPr>
          <a:xfrm>
            <a:off x="289548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4"/>
          <p:cNvSpPr/>
          <p:nvPr/>
        </p:nvSpPr>
        <p:spPr>
          <a:xfrm>
            <a:off x="2916360" y="4149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380988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38862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480060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48006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571500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7150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58800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66294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52280" y="501480"/>
            <a:ext cx="8610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一次函数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y=(1-2m)x+m-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满足下列条件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增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图象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的负半轴相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第二、三、四象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原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Object 3" descr=""/>
          <p:cNvPicPr/>
          <p:nvPr/>
        </p:nvPicPr>
        <p:blipFill>
          <a:blip r:embed="rId2"/>
          <a:stretch/>
        </p:blipFill>
        <p:spPr>
          <a:xfrm>
            <a:off x="6502320" y="2262240"/>
            <a:ext cx="1041480" cy="888840"/>
          </a:xfrm>
          <a:prstGeom prst="rect">
            <a:avLst/>
          </a:prstGeom>
          <a:ln w="0">
            <a:noFill/>
          </a:ln>
        </p:spPr>
      </p:pic>
      <p:pic>
        <p:nvPicPr>
          <p:cNvPr id="670" name="Object 4" descr=""/>
          <p:cNvPicPr/>
          <p:nvPr/>
        </p:nvPicPr>
        <p:blipFill>
          <a:blip r:embed="rId3"/>
          <a:stretch/>
        </p:blipFill>
        <p:spPr>
          <a:xfrm>
            <a:off x="6897600" y="3025800"/>
            <a:ext cx="2246400" cy="88884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5" descr=""/>
          <p:cNvPicPr/>
          <p:nvPr/>
        </p:nvPicPr>
        <p:blipFill>
          <a:blip r:embed="rId4"/>
          <a:stretch/>
        </p:blipFill>
        <p:spPr>
          <a:xfrm>
            <a:off x="7377120" y="3913200"/>
            <a:ext cx="1562040" cy="888840"/>
          </a:xfrm>
          <a:prstGeom prst="rect">
            <a:avLst/>
          </a:prstGeom>
          <a:ln w="0">
            <a:noFill/>
          </a:ln>
        </p:spPr>
      </p:pic>
      <p:pic>
        <p:nvPicPr>
          <p:cNvPr id="672" name="Object 6" descr=""/>
          <p:cNvPicPr/>
          <p:nvPr/>
        </p:nvPicPr>
        <p:blipFill>
          <a:blip r:embed="rId5"/>
          <a:stretch/>
        </p:blipFill>
        <p:spPr>
          <a:xfrm>
            <a:off x="5103720" y="4838760"/>
            <a:ext cx="911160" cy="401400"/>
          </a:xfrm>
          <a:prstGeom prst="rect">
            <a:avLst/>
          </a:prstGeom>
          <a:ln w="0">
            <a:noFill/>
          </a:ln>
        </p:spPr>
      </p:pic>
      <p:sp>
        <p:nvSpPr>
          <p:cNvPr id="673" name="WordArt 7"/>
          <p:cNvSpPr txBox="1"/>
          <p:nvPr/>
        </p:nvSpPr>
        <p:spPr>
          <a:xfrm>
            <a:off x="676440" y="547560"/>
            <a:ext cx="39607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38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摩拳擦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4" name="WordArt 4"/>
          <p:cNvSpPr txBox="1"/>
          <p:nvPr/>
        </p:nvSpPr>
        <p:spPr>
          <a:xfrm>
            <a:off x="5081760" y="36504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大显身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2"/>
          <p:cNvSpPr txBox="1"/>
          <p:nvPr/>
        </p:nvSpPr>
        <p:spPr>
          <a:xfrm rot="5400000">
            <a:off x="4914720" y="2247480"/>
            <a:ext cx="43434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以刻苦学习为荣</a:t>
            </a:r>
            <a:endParaRPr b="1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6" name="WordArt 3"/>
          <p:cNvSpPr txBox="1"/>
          <p:nvPr/>
        </p:nvSpPr>
        <p:spPr>
          <a:xfrm rot="5400000">
            <a:off x="6138360" y="2243160"/>
            <a:ext cx="43340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以放弃学习为耻</a:t>
            </a:r>
            <a:endParaRPr b="1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533520" y="137160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会画一次函数的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80880" y="2057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次函数的图象与性质，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数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意义和作用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3200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形结合的思想与方法，从特殊到一般的思想与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533520" y="4419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进一步体验研究函数的一般思路与方法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8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1873080" cy="1122480"/>
          </a:xfrm>
          <a:prstGeom prst="rect">
            <a:avLst/>
          </a:prstGeom>
          <a:ln w="0">
            <a:noFill/>
          </a:ln>
        </p:spPr>
      </p:pic>
      <p:sp>
        <p:nvSpPr>
          <p:cNvPr id="682" name="WordArt 9"/>
          <p:cNvSpPr txBox="1"/>
          <p:nvPr/>
        </p:nvSpPr>
        <p:spPr>
          <a:xfrm>
            <a:off x="838080" y="0"/>
            <a:ext cx="325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小结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3" name="Picture 10" descr="MMj01782970000[1]"/>
          <p:cNvPicPr/>
          <p:nvPr/>
        </p:nvPicPr>
        <p:blipFill>
          <a:blip r:embed="rId3"/>
          <a:stretch/>
        </p:blipFill>
        <p:spPr>
          <a:xfrm>
            <a:off x="0" y="13716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1" descr="MMj01782980000[1]"/>
          <p:cNvPicPr/>
          <p:nvPr/>
        </p:nvPicPr>
        <p:blipFill>
          <a:blip r:embed="rId4"/>
          <a:stretch/>
        </p:blipFill>
        <p:spPr>
          <a:xfrm>
            <a:off x="0" y="20574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2" descr="MMj01782990000[1]"/>
          <p:cNvPicPr/>
          <p:nvPr/>
        </p:nvPicPr>
        <p:blipFill>
          <a:blip r:embed="rId5"/>
          <a:stretch/>
        </p:blipFill>
        <p:spPr>
          <a:xfrm>
            <a:off x="0" y="32004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MMj01783000000[1]"/>
          <p:cNvPicPr/>
          <p:nvPr/>
        </p:nvPicPr>
        <p:blipFill>
          <a:blip r:embed="rId6"/>
          <a:stretch/>
        </p:blipFill>
        <p:spPr>
          <a:xfrm>
            <a:off x="0" y="4419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38E-2937-4F20-95B5-C4C116F41E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6227640" y="0"/>
            <a:ext cx="73080" cy="620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 flipV="1" rot="10502400">
            <a:off x="8495640" y="3356640"/>
            <a:ext cx="647640" cy="69840"/>
          </a:xfrm>
          <a:prstGeom prst="triangle">
            <a:avLst>
              <a:gd name="adj" fmla="val 10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227640" y="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67564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22764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5508720" y="4797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5867280" y="407664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6227640" y="3357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6588000" y="2637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6948360" y="1989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4859280" y="333360"/>
            <a:ext cx="2952720" cy="590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7343640" y="105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=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5508720" y="4437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5867280" y="3716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7"/>
          <p:cNvSpPr/>
          <p:nvPr/>
        </p:nvSpPr>
        <p:spPr>
          <a:xfrm>
            <a:off x="6227640" y="2997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6588000" y="2276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6948360" y="1557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V="1">
            <a:off x="4572000" y="476280"/>
            <a:ext cx="2952720" cy="590544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443640" y="26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=2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908000" y="3429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0  -9   -8  -7   -6  -5   -4 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227640" y="35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22764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22764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22764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227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622764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594036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4551480" y="2641680"/>
            <a:ext cx="81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594036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594036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594036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594036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5940360" y="10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51672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6877080" y="342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7164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745164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7812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8172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940360" y="76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5940360" y="40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4"/>
          <p:cNvSpPr/>
          <p:nvPr/>
        </p:nvSpPr>
        <p:spPr>
          <a:xfrm>
            <a:off x="622764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6227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533520" y="0"/>
            <a:ext cx="4267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两个函数的图象形状都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且倾斜程度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经过原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+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轴交于点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即它可以看作直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移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单位长度而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2438280" y="457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12193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9"/>
          <p:cNvSpPr/>
          <p:nvPr/>
        </p:nvSpPr>
        <p:spPr>
          <a:xfrm>
            <a:off x="121932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(0,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3809880" y="4648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1828800" y="5181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4915080" y="2351160"/>
            <a:ext cx="5225040" cy="2941200"/>
            <a:chOff x="4915080" y="2351160"/>
            <a:chExt cx="5225040" cy="2941200"/>
          </a:xfrm>
        </p:grpSpPr>
        <p:sp>
          <p:nvSpPr>
            <p:cNvPr id="111" name="Line 3"/>
            <p:cNvSpPr/>
            <p:nvPr/>
          </p:nvSpPr>
          <p:spPr>
            <a:xfrm>
              <a:off x="6750360" y="2351160"/>
              <a:ext cx="0" cy="29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5279760" y="3915720"/>
              <a:ext cx="354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8733600" y="3938040"/>
              <a:ext cx="140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6454440" y="2351160"/>
              <a:ext cx="130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4915080" y="2910600"/>
              <a:ext cx="500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65520" y="3098880"/>
              <a:ext cx="49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7071480" y="3817080"/>
              <a:ext cx="500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5528520" y="3938040"/>
              <a:ext cx="7322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6454440" y="3893400"/>
              <a:ext cx="49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6750360" y="41709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750360" y="391824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4"/>
            <p:cNvSpPr/>
            <p:nvPr/>
          </p:nvSpPr>
          <p:spPr>
            <a:xfrm>
              <a:off x="6750360" y="370548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6750360" y="34725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>
              <a:off x="6750360" y="323748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7"/>
            <p:cNvSpPr/>
            <p:nvPr/>
          </p:nvSpPr>
          <p:spPr>
            <a:xfrm>
              <a:off x="6750360" y="300492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8"/>
            <p:cNvSpPr/>
            <p:nvPr/>
          </p:nvSpPr>
          <p:spPr>
            <a:xfrm>
              <a:off x="6750360" y="487152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750360" y="46389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6750360" y="440604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699912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724608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74948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600588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5"/>
            <p:cNvSpPr/>
            <p:nvPr/>
          </p:nvSpPr>
          <p:spPr>
            <a:xfrm>
              <a:off x="62546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6"/>
            <p:cNvSpPr/>
            <p:nvPr/>
          </p:nvSpPr>
          <p:spPr>
            <a:xfrm>
              <a:off x="65030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7"/>
          <p:cNvSpPr/>
          <p:nvPr/>
        </p:nvSpPr>
        <p:spPr>
          <a:xfrm>
            <a:off x="6145200" y="326376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6388200" y="3021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627960" y="328788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40640" y="34113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240600" y="39117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483240" y="366876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5759280" y="438768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349200" y="144360"/>
            <a:ext cx="83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请比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下列函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+2,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图象有什么异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5889600" y="399096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870600" y="30751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384960" y="350208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6146640" y="37465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9"/>
          <p:cNvSpPr/>
          <p:nvPr/>
        </p:nvSpPr>
        <p:spPr>
          <a:xfrm flipV="1">
            <a:off x="5724360" y="3249720"/>
            <a:ext cx="1752840" cy="16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169040" y="2889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5907240" y="346860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6630840" y="279252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6888240" y="2535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4"/>
          <p:cNvSpPr/>
          <p:nvPr/>
        </p:nvSpPr>
        <p:spPr>
          <a:xfrm flipV="1">
            <a:off x="5630760" y="2889000"/>
            <a:ext cx="1752840" cy="1623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6012000" y="414648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6998760" y="22874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7"/>
          <p:cNvSpPr/>
          <p:nvPr/>
        </p:nvSpPr>
        <p:spPr>
          <a:xfrm flipV="1">
            <a:off x="5935680" y="3611520"/>
            <a:ext cx="1625760" cy="16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7433640" y="3230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225360" y="1335240"/>
            <a:ext cx="479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这几个函数的图象形状都是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并且倾斜程度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经过原点，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+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轴交于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平移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个单位长度而得到．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-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轴交于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_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向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平移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个单位长度而得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324000" y="1681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3587760" y="173988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-198360" y="2963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1268280" y="341640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2549520" y="346248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5"/>
          <p:cNvSpPr/>
          <p:nvPr/>
        </p:nvSpPr>
        <p:spPr>
          <a:xfrm>
            <a:off x="1411200" y="42451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3268800" y="46814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436680" y="521640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frog10"/>
          <p:cNvPicPr/>
          <p:nvPr/>
        </p:nvPicPr>
        <p:blipFill>
          <a:blip r:embed="rId2"/>
          <a:stretch/>
        </p:blipFill>
        <p:spPr>
          <a:xfrm>
            <a:off x="4221000" y="5340240"/>
            <a:ext cx="933480" cy="857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0" y="981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◆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y = kx+b  (k≠0)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它的图象是将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y =kx 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进行平移得到的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3492360" y="4653000"/>
            <a:ext cx="4902480" cy="1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H="1" flipV="1">
            <a:off x="5148360" y="2420640"/>
            <a:ext cx="71280" cy="443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27640" y="486900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3780000" y="2565360"/>
            <a:ext cx="2376360" cy="360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643280" y="249228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435640" y="5877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156360" y="4797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38032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52280" y="327672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特性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1547640" y="3068280"/>
            <a:ext cx="6409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 flipV="1">
            <a:off x="4427640" y="188640"/>
            <a:ext cx="0" cy="504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451640" y="2276640"/>
            <a:ext cx="7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572000" y="260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500720" y="306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71640" y="836640"/>
            <a:ext cx="3240360" cy="3960720"/>
          </a:xfrm>
          <a:prstGeom prst="line">
            <a:avLst/>
          </a:prstGeom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1908000" y="1484280"/>
            <a:ext cx="3095640" cy="381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419640" y="0"/>
            <a:ext cx="3168360" cy="38876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5724360" y="3429000"/>
            <a:ext cx="269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4920" y="4267080"/>
            <a:ext cx="2987640" cy="22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▲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三线平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796000" y="4149720"/>
            <a:ext cx="244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5148360" y="4869000"/>
            <a:ext cx="31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 flipV="1">
            <a:off x="2075040" y="2335320"/>
            <a:ext cx="2447640" cy="25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411480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679920" y="114948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444920" y="2673360"/>
            <a:ext cx="12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149640" y="110160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766880" y="2309760"/>
            <a:ext cx="663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697200" y="2589120"/>
            <a:ext cx="66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036960" y="3112920"/>
            <a:ext cx="66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208400" y="38019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1"/>
          <p:cNvGrpSpPr/>
          <p:nvPr/>
        </p:nvGrpSpPr>
        <p:grpSpPr>
          <a:xfrm>
            <a:off x="1084320" y="868320"/>
            <a:ext cx="6465960" cy="4357800"/>
            <a:chOff x="1084320" y="868320"/>
            <a:chExt cx="6465960" cy="4357800"/>
          </a:xfrm>
        </p:grpSpPr>
        <p:sp>
          <p:nvSpPr>
            <p:cNvPr id="202" name="Line 12"/>
            <p:cNvSpPr/>
            <p:nvPr/>
          </p:nvSpPr>
          <p:spPr>
            <a:xfrm>
              <a:off x="3040200" y="868320"/>
              <a:ext cx="0" cy="43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>
              <a:off x="1084320" y="3186000"/>
              <a:ext cx="472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676840" y="321948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3508560" y="3122640"/>
              <a:ext cx="666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1414440" y="3219480"/>
              <a:ext cx="9781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3040200" y="356400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3040200" y="2874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3040200" y="25304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3040200" y="21812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040200" y="183672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3040200" y="46022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040200" y="425772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3040200" y="391320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37176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370044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>
              <a:off x="403056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204948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238140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271152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31"/>
          <p:cNvSpPr/>
          <p:nvPr/>
        </p:nvSpPr>
        <p:spPr>
          <a:xfrm flipV="1">
            <a:off x="2103480" y="1615680"/>
            <a:ext cx="2448000" cy="2544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1709640" y="1990440"/>
            <a:ext cx="2448000" cy="25448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66840" y="347760"/>
            <a:ext cx="16542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比较它们的函数解析式与图象，你能解释这是为什么吗？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4"/>
          <p:cNvSpPr txBox="1"/>
          <p:nvPr/>
        </p:nvSpPr>
        <p:spPr>
          <a:xfrm>
            <a:off x="1393920" y="0"/>
            <a:ext cx="18288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7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班加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4222800" y="268200"/>
            <a:ext cx="3590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kx+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图象是经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且平行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一条直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3443400" y="3917880"/>
            <a:ext cx="625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称它为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+b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可以看作由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平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|b|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位长度得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g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向上平移；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l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向下平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2038320" y="5402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象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交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就是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轴交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纵坐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 flipH="1" flipV="1">
            <a:off x="7369200" y="-360"/>
            <a:ext cx="71280" cy="443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 flipV="1">
            <a:off x="4878360" y="2693520"/>
            <a:ext cx="4902120" cy="1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0"/>
          <p:cNvSpPr/>
          <p:nvPr/>
        </p:nvSpPr>
        <p:spPr>
          <a:xfrm>
            <a:off x="6772320" y="31104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732720" y="82548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０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,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2" descr="01-01-003-04"/>
          <p:cNvPicPr/>
          <p:nvPr/>
        </p:nvPicPr>
        <p:blipFill>
          <a:blip r:embed="rId2"/>
          <a:stretch/>
        </p:blipFill>
        <p:spPr>
          <a:xfrm>
            <a:off x="6392880" y="5173560"/>
            <a:ext cx="2419200" cy="1684440"/>
          </a:xfrm>
          <a:prstGeom prst="rect">
            <a:avLst/>
          </a:prstGeom>
          <a:ln w="0">
            <a:noFill/>
          </a:ln>
        </p:spPr>
      </p:pic>
      <p:sp>
        <p:nvSpPr>
          <p:cNvPr id="233" name="Line 43"/>
          <p:cNvSpPr/>
          <p:nvPr/>
        </p:nvSpPr>
        <p:spPr>
          <a:xfrm>
            <a:off x="6059520" y="73656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push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2616 L -0.0309 -0.0581 E">
                                      <p:cBhvr>
                                        <p:cTn id="58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-0.01388 L 0.0007 0.10903 E">
                                      <p:cBhvr>
                                        <p:cTn id="59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324480" y="19051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Q_013"/>
          <p:cNvPicPr/>
          <p:nvPr/>
        </p:nvPicPr>
        <p:blipFill>
          <a:blip r:embed="rId2"/>
          <a:stretch/>
        </p:blipFill>
        <p:spPr>
          <a:xfrm>
            <a:off x="0" y="209520"/>
            <a:ext cx="289548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3276720" y="5335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堂检测：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457200" y="190512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-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57200" y="365760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+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-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629400" y="17524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90720" y="2362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705720" y="3505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990720" y="41148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ccbear13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62040"/>
            <a:ext cx="11509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990720" y="380880"/>
            <a:ext cx="6248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同一坐标系作出下列函数的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y = 2x+1        (2)y = -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图象回答，当自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渐增大时，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怎样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2438280" y="1752480"/>
            <a:ext cx="6324480" cy="4876560"/>
            <a:chOff x="2438280" y="1752480"/>
            <a:chExt cx="6324480" cy="4876560"/>
          </a:xfrm>
        </p:grpSpPr>
        <p:grpSp>
          <p:nvGrpSpPr>
            <p:cNvPr id="247" name="Group 4"/>
            <p:cNvGrpSpPr/>
            <p:nvPr/>
          </p:nvGrpSpPr>
          <p:grpSpPr>
            <a:xfrm>
              <a:off x="2438280" y="1828440"/>
              <a:ext cx="6324480" cy="4800600"/>
              <a:chOff x="2438280" y="1828440"/>
              <a:chExt cx="6324480" cy="4800600"/>
            </a:xfrm>
          </p:grpSpPr>
          <p:sp>
            <p:nvSpPr>
              <p:cNvPr id="248" name="Line 5"/>
              <p:cNvSpPr/>
              <p:nvPr/>
            </p:nvSpPr>
            <p:spPr>
              <a:xfrm>
                <a:off x="2819160" y="4876920"/>
                <a:ext cx="56390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6"/>
              <p:cNvSpPr/>
              <p:nvPr/>
            </p:nvSpPr>
            <p:spPr>
              <a:xfrm>
                <a:off x="60958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7"/>
              <p:cNvSpPr/>
              <p:nvPr/>
            </p:nvSpPr>
            <p:spPr>
              <a:xfrm>
                <a:off x="67053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"/>
              <p:cNvSpPr/>
              <p:nvPr/>
            </p:nvSpPr>
            <p:spPr>
              <a:xfrm>
                <a:off x="731520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"/>
              <p:cNvSpPr/>
              <p:nvPr/>
            </p:nvSpPr>
            <p:spPr>
              <a:xfrm>
                <a:off x="79246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48765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42670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2"/>
              <p:cNvSpPr/>
              <p:nvPr/>
            </p:nvSpPr>
            <p:spPr>
              <a:xfrm>
                <a:off x="365760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3"/>
              <p:cNvSpPr/>
              <p:nvPr/>
            </p:nvSpPr>
            <p:spPr>
              <a:xfrm>
                <a:off x="30477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5486400" y="42670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5486400" y="365760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6"/>
              <p:cNvSpPr/>
              <p:nvPr/>
            </p:nvSpPr>
            <p:spPr>
              <a:xfrm>
                <a:off x="5486400" y="304812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"/>
              <p:cNvSpPr/>
              <p:nvPr/>
            </p:nvSpPr>
            <p:spPr>
              <a:xfrm>
                <a:off x="5486400" y="24382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8"/>
              <p:cNvSpPr/>
              <p:nvPr/>
            </p:nvSpPr>
            <p:spPr>
              <a:xfrm>
                <a:off x="5486400" y="548640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9"/>
              <p:cNvSpPr/>
              <p:nvPr/>
            </p:nvSpPr>
            <p:spPr>
              <a:xfrm>
                <a:off x="5486400" y="60958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0"/>
              <p:cNvSpPr/>
              <p:nvPr/>
            </p:nvSpPr>
            <p:spPr>
              <a:xfrm flipV="1">
                <a:off x="5486400" y="1828440"/>
                <a:ext cx="0" cy="4800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1"/>
              <p:cNvSpPr/>
              <p:nvPr/>
            </p:nvSpPr>
            <p:spPr>
              <a:xfrm>
                <a:off x="5562360" y="4952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2"/>
              <p:cNvSpPr/>
              <p:nvPr/>
            </p:nvSpPr>
            <p:spPr>
              <a:xfrm>
                <a:off x="8458200" y="4495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3"/>
              <p:cNvSpPr/>
              <p:nvPr/>
            </p:nvSpPr>
            <p:spPr>
              <a:xfrm>
                <a:off x="5965560" y="495288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24"/>
              <p:cNvSpPr/>
              <p:nvPr/>
            </p:nvSpPr>
            <p:spPr>
              <a:xfrm flipV="1">
                <a:off x="6537240" y="503064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5"/>
              <p:cNvSpPr/>
              <p:nvPr/>
            </p:nvSpPr>
            <p:spPr>
              <a:xfrm>
                <a:off x="655308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6"/>
              <p:cNvSpPr/>
              <p:nvPr/>
            </p:nvSpPr>
            <p:spPr>
              <a:xfrm>
                <a:off x="716256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7"/>
              <p:cNvSpPr/>
              <p:nvPr/>
            </p:nvSpPr>
            <p:spPr>
              <a:xfrm>
                <a:off x="77724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8"/>
              <p:cNvSpPr/>
              <p:nvPr/>
            </p:nvSpPr>
            <p:spPr>
              <a:xfrm>
                <a:off x="4647960" y="4952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9"/>
              <p:cNvSpPr/>
              <p:nvPr/>
            </p:nvSpPr>
            <p:spPr>
              <a:xfrm>
                <a:off x="4038480" y="4952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30"/>
              <p:cNvSpPr/>
              <p:nvPr/>
            </p:nvSpPr>
            <p:spPr>
              <a:xfrm flipV="1">
                <a:off x="3352680" y="47242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31"/>
              <p:cNvSpPr/>
              <p:nvPr/>
            </p:nvSpPr>
            <p:spPr>
              <a:xfrm>
                <a:off x="335268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32"/>
              <p:cNvSpPr/>
              <p:nvPr/>
            </p:nvSpPr>
            <p:spPr>
              <a:xfrm>
                <a:off x="2438280" y="49528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33"/>
              <p:cNvSpPr/>
              <p:nvPr/>
            </p:nvSpPr>
            <p:spPr>
              <a:xfrm>
                <a:off x="281916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34"/>
              <p:cNvSpPr/>
              <p:nvPr/>
            </p:nvSpPr>
            <p:spPr>
              <a:xfrm>
                <a:off x="59436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35"/>
              <p:cNvSpPr/>
              <p:nvPr/>
            </p:nvSpPr>
            <p:spPr>
              <a:xfrm>
                <a:off x="5181480" y="4038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51814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37"/>
              <p:cNvSpPr/>
              <p:nvPr/>
            </p:nvSpPr>
            <p:spPr>
              <a:xfrm>
                <a:off x="5181480" y="2895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38"/>
              <p:cNvSpPr/>
              <p:nvPr/>
            </p:nvSpPr>
            <p:spPr>
              <a:xfrm>
                <a:off x="5181480" y="2209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39"/>
              <p:cNvSpPr/>
              <p:nvPr/>
            </p:nvSpPr>
            <p:spPr>
              <a:xfrm>
                <a:off x="4876560" y="533412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40"/>
              <p:cNvSpPr/>
              <p:nvPr/>
            </p:nvSpPr>
            <p:spPr>
              <a:xfrm>
                <a:off x="5029200" y="5257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1"/>
              <p:cNvSpPr/>
              <p:nvPr/>
            </p:nvSpPr>
            <p:spPr>
              <a:xfrm>
                <a:off x="5029200" y="58672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42"/>
            <p:cNvSpPr/>
            <p:nvPr/>
          </p:nvSpPr>
          <p:spPr>
            <a:xfrm>
              <a:off x="5638680" y="17524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3"/>
          <p:cNvSpPr/>
          <p:nvPr/>
        </p:nvSpPr>
        <p:spPr>
          <a:xfrm>
            <a:off x="228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7772400" y="5638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68580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 -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60958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 =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38080" y="2362320"/>
          <a:ext cx="251460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533160"/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 Box 61"/>
          <p:cNvSpPr/>
          <p:nvPr/>
        </p:nvSpPr>
        <p:spPr>
          <a:xfrm>
            <a:off x="1219320" y="3733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838080" y="3505320"/>
          <a:ext cx="2438280" cy="914400"/>
        </p:xfrm>
        <a:graphic>
          <a:graphicData uri="http://schemas.openxmlformats.org/drawingml/2006/table">
            <a:tbl>
              <a:tblPr/>
              <a:tblGrid>
                <a:gridCol w="1295280"/>
                <a:gridCol w="439920"/>
                <a:gridCol w="70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-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Line 76"/>
          <p:cNvSpPr/>
          <p:nvPr/>
        </p:nvSpPr>
        <p:spPr>
          <a:xfrm flipH="1">
            <a:off x="4572000" y="3276720"/>
            <a:ext cx="144792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7"/>
          <p:cNvSpPr/>
          <p:nvPr/>
        </p:nvSpPr>
        <p:spPr>
          <a:xfrm>
            <a:off x="4800600" y="3048120"/>
            <a:ext cx="190512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8"/>
          <p:cNvSpPr/>
          <p:nvPr/>
        </p:nvSpPr>
        <p:spPr>
          <a:xfrm flipH="1">
            <a:off x="5410080" y="4191120"/>
            <a:ext cx="15264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9"/>
          <p:cNvSpPr/>
          <p:nvPr/>
        </p:nvSpPr>
        <p:spPr>
          <a:xfrm>
            <a:off x="5105520" y="480060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0"/>
          <p:cNvSpPr/>
          <p:nvPr/>
        </p:nvSpPr>
        <p:spPr>
          <a:xfrm flipV="1">
            <a:off x="5715000" y="479988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556272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38098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-1/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3"/>
          <p:cNvSpPr/>
          <p:nvPr/>
        </p:nvSpPr>
        <p:spPr>
          <a:xfrm>
            <a:off x="57913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/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8199"/>
          <p:cNvSpPr/>
          <p:nvPr/>
        </p:nvSpPr>
        <p:spPr>
          <a:xfrm>
            <a:off x="201600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2:23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6:01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