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8.gif" ContentType="image/gif"/>
  <Override PartName="/ppt/media/image18.jpeg" ContentType="image/jpeg"/>
  <Override PartName="/ppt/media/image12.wmf" ContentType="image/x-wmf"/>
  <Override PartName="/ppt/media/image7.wmf" ContentType="image/x-wmf"/>
  <Override PartName="/ppt/media/image10.wmf" ContentType="image/x-wmf"/>
  <Override PartName="/ppt/media/image19.gif" ContentType="image/gif"/>
  <Override PartName="/ppt/media/image1.jpeg" ContentType="image/jpeg"/>
  <Override PartName="/ppt/media/image4.wmf" ContentType="image/x-wmf"/>
  <Override PartName="/ppt/media/chimes.wav" ContentType="audio/x-wav"/>
  <Override PartName="/ppt/media/image17.wmf" ContentType="image/x-wmf"/>
  <Override PartName="/ppt/media/image16.wmf" ContentType="image/x-wmf"/>
  <Override PartName="/ppt/media/image15.png" ContentType="image/png"/>
  <Override PartName="/ppt/media/image2.jpeg" ContentType="image/jpeg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9C7-16F1-4045-B3C3-7FFD65FE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A41-EA70-40AC-A054-8B15813D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24C-4EB9-45C1-A682-787E5102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216F-AD79-4EC9-AFCF-C9EAD9A9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BA39-2870-4954-BCCA-8B5CA743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7D4E-8882-4DEC-A35A-72A31F41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9074-E8D8-4C34-B55B-D30C912C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7B81-E5E9-4641-9F9F-EC7CD4D0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06D6-8451-4DCE-ADA8-084A5EFE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0269-43B9-4ED8-92C6-BA8CF4BF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A609-1E79-47A1-BB6F-D52BC29B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EDF-37FA-4C8D-9F4D-0CEF2529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F7A6-6F0D-49FA-8EF9-C47950F9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4E67-055C-4D88-9682-4E90951D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4954-100D-4198-8C32-75470789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C752-7033-4755-BEA0-62387AB6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F2A8-736E-4422-81DB-C013AE9C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5EEAF-8DDF-4819-BBE3-29F344A3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31696-4047-4006-9A7B-9479EEFA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ACE2-4923-4311-AF52-D07699B7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55471-3C32-4762-8F5F-89673009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FB459-2DB7-4A2E-9913-6C3C29CB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88E-6B17-4425-AA77-38F511BF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7F3D5-F803-4ABC-BA96-2A0FD654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8F93E-30BF-40CA-A2D2-6A179626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9184-5DD0-4285-ABF5-55EDE91F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74CC-00B7-444A-8CD1-863848E6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057B-1866-4C98-AEAC-3667F568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B27C-C36E-4D5F-8808-D48F621F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A9933-885D-4035-9238-204A941A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2D389-39E4-4255-A677-2C5788EF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6F474-CFDD-45D8-8A4A-20C2081D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7B141-7AC2-4694-9389-4C19C750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C34-37A9-41D7-ADC4-B6A018F2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AE0DB-B4CD-4C26-BE13-46FE8D99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E6722-769D-43F9-AB04-B2C01592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0D68-09BD-491B-A7EA-EAD882CE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40B25-0D6F-4EEB-A9DA-47582105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E0549-2347-4DBA-82D3-6B62F103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B818D-D87D-4F7D-A934-C21722DA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8CF98-C591-4E2E-927E-DE81E28B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5DA06-2F1F-4091-A978-3D3A6964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210F6-C546-4CF8-8E7B-802C92E3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F59-28B8-41C3-83E8-76719C45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720-84F2-47BC-A0CA-B2FCAEE7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B13-620C-49E1-8902-7B952BC1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369-35ED-4617-A5E1-4095A616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227-8D4C-4C67-ACFA-5D013CF4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FF53-90B3-46C8-95D0-59968FB73D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4783-EA41-4D84-9232-5F70126DCC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0ED9-A0CA-4F22-A814-C1F7626CDC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06F6-52F0-4BF4-AED9-D1A9BA777C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5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gi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3"/>
          <p:cNvPicPr/>
          <p:nvPr/>
        </p:nvPicPr>
        <p:blipFill>
          <a:blip r:embed="rId1"/>
          <a:stretch/>
        </p:blipFill>
        <p:spPr>
          <a:xfrm>
            <a:off x="23760" y="0"/>
            <a:ext cx="9145800" cy="6859440"/>
          </a:xfrm>
          <a:prstGeom prst="rect">
            <a:avLst/>
          </a:prstGeom>
          <a:ln w="0">
            <a:noFill/>
          </a:ln>
        </p:spPr>
      </p:pic>
      <p:sp>
        <p:nvSpPr>
          <p:cNvPr id="165" name="WordArt 3"/>
          <p:cNvSpPr txBox="1"/>
          <p:nvPr/>
        </p:nvSpPr>
        <p:spPr>
          <a:xfrm>
            <a:off x="1849320" y="2581200"/>
            <a:ext cx="6121440" cy="10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cap="rnd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正比例函数</a:t>
            </a:r>
            <a:r>
              <a:rPr b="1" lang="en-US" sz="4000" spc="1" strike="noStrike">
                <a:ln cap="rnd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cap="rnd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课件模板下载</a:t>
            </a:r>
            <a:endParaRPr b="1" lang="en-US" sz="4000" spc="1" strike="noStrike">
              <a:ln cap="rnd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6" name="Picture 4" descr="飞舞的蝴蝶"/>
          <p:cNvPicPr/>
          <p:nvPr/>
        </p:nvPicPr>
        <p:blipFill>
          <a:blip r:embed="rId2"/>
          <a:stretch/>
        </p:blipFill>
        <p:spPr>
          <a:xfrm>
            <a:off x="7236000" y="5445000"/>
            <a:ext cx="952200" cy="1143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4438800" y="3200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9440" y="1600200"/>
            <a:ext cx="903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关系中的两个量成正比例的是（     ）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甲地到乙地，所用的时间和速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正方形的面积与边长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买同样的作业本所要的钱和作业本的数量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人的体重和身高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0" y="0"/>
            <a:ext cx="1979640" cy="1483920"/>
            <a:chOff x="0" y="0"/>
            <a:chExt cx="1979640" cy="1483920"/>
          </a:xfrm>
        </p:grpSpPr>
        <p:pic>
          <p:nvPicPr>
            <p:cNvPr id="255" name="Picture 4" descr="云朵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79640" cy="14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5"/>
            <p:cNvSpPr/>
            <p:nvPr/>
          </p:nvSpPr>
          <p:spPr>
            <a:xfrm>
              <a:off x="395280" y="3027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66"/>
                  </a:solidFill>
                  <a:latin typeface="Arial"/>
                </a:rPr>
                <a:t>练习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57" name="文本框 8199"/>
          <p:cNvSpPr/>
          <p:nvPr/>
        </p:nvSpPr>
        <p:spPr>
          <a:xfrm>
            <a:off x="1979640" y="1004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"/>
          <p:cNvSpPr/>
          <p:nvPr/>
        </p:nvSpPr>
        <p:spPr>
          <a:xfrm>
            <a:off x="1835280" y="4724280"/>
            <a:ext cx="433080" cy="1009800"/>
          </a:xfrm>
          <a:custGeom>
            <a:avLst/>
            <a:gdLst>
              <a:gd name="textAreaLeft" fmla="*/ 276840 w 433080"/>
              <a:gd name="textAreaRight" fmla="*/ 433440 w 433080"/>
              <a:gd name="textAreaTop" fmla="*/ 48600 h 1009800"/>
              <a:gd name="textAreaBottom" fmla="*/ 96120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64"/>
                  <a:pt x="10800" y="3327"/>
                </a:cubicBezTo>
                <a:lnTo>
                  <a:pt x="10800" y="8458"/>
                </a:lnTo>
                <a:cubicBezTo>
                  <a:pt x="10800" y="10122"/>
                  <a:pt x="5400" y="11785"/>
                  <a:pt x="0" y="11785"/>
                </a:cubicBezTo>
                <a:cubicBezTo>
                  <a:pt x="5400" y="11785"/>
                  <a:pt x="10800" y="13449"/>
                  <a:pt x="10800" y="15112"/>
                </a:cubicBezTo>
                <a:lnTo>
                  <a:pt x="10800" y="18273"/>
                </a:lnTo>
                <a:cubicBezTo>
                  <a:pt x="10800" y="19937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59" name="Group 3"/>
          <p:cNvGrpSpPr/>
          <p:nvPr/>
        </p:nvGrpSpPr>
        <p:grpSpPr>
          <a:xfrm>
            <a:off x="0" y="0"/>
            <a:ext cx="2124000" cy="1267920"/>
            <a:chOff x="0" y="0"/>
            <a:chExt cx="2124000" cy="1267920"/>
          </a:xfrm>
        </p:grpSpPr>
        <p:pic>
          <p:nvPicPr>
            <p:cNvPr id="260" name="Picture 4" descr="云朵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2400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5"/>
            <p:cNvSpPr/>
            <p:nvPr/>
          </p:nvSpPr>
          <p:spPr>
            <a:xfrm>
              <a:off x="538200" y="172080"/>
              <a:ext cx="131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66"/>
                  </a:solidFill>
                  <a:latin typeface="Arial"/>
                </a:rPr>
                <a:t>例题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62" name="Group 6"/>
          <p:cNvGrpSpPr/>
          <p:nvPr/>
        </p:nvGrpSpPr>
        <p:grpSpPr>
          <a:xfrm>
            <a:off x="252360" y="1196640"/>
            <a:ext cx="4249800" cy="2410200"/>
            <a:chOff x="252360" y="1196640"/>
            <a:chExt cx="4249800" cy="2410200"/>
          </a:xfrm>
        </p:grpSpPr>
        <p:sp>
          <p:nvSpPr>
            <p:cNvPr id="263" name="Rectangle 7"/>
            <p:cNvSpPr/>
            <p:nvPr/>
          </p:nvSpPr>
          <p:spPr>
            <a:xfrm>
              <a:off x="252360" y="1196640"/>
              <a:ext cx="4176720" cy="24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</a:rPr>
                <a:t>例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</a:rPr>
                <a:t>1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</a:rPr>
                <a:t>.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</a:rPr>
                <a:t>已知函数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</a:rPr>
                <a:t>是正比例函数，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</a:rPr>
                <a:t>求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</a:rPr>
                <a:t>的值。 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264" name="Object 8" descr=""/>
            <p:cNvPicPr/>
            <p:nvPr/>
          </p:nvPicPr>
          <p:blipFill>
            <a:blip r:embed="rId2"/>
            <a:stretch/>
          </p:blipFill>
          <p:spPr>
            <a:xfrm>
              <a:off x="541440" y="1527840"/>
              <a:ext cx="3960720" cy="100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Rectangle 9"/>
          <p:cNvSpPr/>
          <p:nvPr/>
        </p:nvSpPr>
        <p:spPr>
          <a:xfrm>
            <a:off x="179280" y="4508640"/>
            <a:ext cx="3957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函数是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正比例函数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1835280" y="5346360"/>
            <a:ext cx="5905440" cy="1252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函数解析式可转化为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y=kx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是常数，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</a:rPr>
              <a:t> ≠0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）的形式。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4645080" y="2735640"/>
            <a:ext cx="3255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即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宋体"/>
              </a:rPr>
              <a:t>m≠1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      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m=±1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4645080" y="4298760"/>
            <a:ext cx="29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∴ 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宋体"/>
              </a:rPr>
              <a:t>m=-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69" name="Group 13"/>
          <p:cNvGrpSpPr/>
          <p:nvPr/>
        </p:nvGrpSpPr>
        <p:grpSpPr>
          <a:xfrm>
            <a:off x="4572000" y="402480"/>
            <a:ext cx="4174920" cy="1739880"/>
            <a:chOff x="4572000" y="402480"/>
            <a:chExt cx="4174920" cy="1739880"/>
          </a:xfrm>
        </p:grpSpPr>
        <p:pic>
          <p:nvPicPr>
            <p:cNvPr id="270" name="Object 14" descr=""/>
            <p:cNvPicPr/>
            <p:nvPr/>
          </p:nvPicPr>
          <p:blipFill>
            <a:blip r:embed="rId3"/>
            <a:stretch/>
          </p:blipFill>
          <p:spPr>
            <a:xfrm>
              <a:off x="6012000" y="691200"/>
              <a:ext cx="2734920" cy="96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Rectangle 15"/>
            <p:cNvSpPr/>
            <p:nvPr/>
          </p:nvSpPr>
          <p:spPr>
            <a:xfrm>
              <a:off x="4572000" y="402480"/>
              <a:ext cx="3960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解：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∵</a:t>
              </a: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函数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是正比例函数，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72" name="AutoShape 16"/>
          <p:cNvSpPr/>
          <p:nvPr/>
        </p:nvSpPr>
        <p:spPr>
          <a:xfrm>
            <a:off x="5364000" y="242100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AutoShape 17"/>
          <p:cNvSpPr/>
          <p:nvPr/>
        </p:nvSpPr>
        <p:spPr>
          <a:xfrm>
            <a:off x="5364000" y="3573360"/>
            <a:ext cx="216000" cy="7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4500720" y="2132280"/>
            <a:ext cx="36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∴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宋体"/>
              </a:rPr>
              <a:t>m-1≠0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m</a:t>
            </a:r>
            <a:r>
              <a:rPr b="1" lang="zh-CN" sz="3600" spc="-1" strike="noStrike" baseline="30000">
                <a:solidFill>
                  <a:srgbClr val="0033cc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=1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052720" y="117360"/>
            <a:ext cx="7127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若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y =5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x 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m-2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正比例函数，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则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m =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34920" y="1590840"/>
            <a:ext cx="8534520" cy="1341360"/>
            <a:chOff x="34920" y="1590840"/>
            <a:chExt cx="8534520" cy="1341360"/>
          </a:xfrm>
        </p:grpSpPr>
        <p:sp>
          <p:nvSpPr>
            <p:cNvPr id="277" name="Text Box 4"/>
            <p:cNvSpPr/>
            <p:nvPr/>
          </p:nvSpPr>
          <p:spPr>
            <a:xfrm>
              <a:off x="34920" y="1674720"/>
              <a:ext cx="8534520" cy="12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若                             是正比例函数，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则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 =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278" name="Picture 5" descr=""/>
            <p:cNvPicPr/>
            <p:nvPr/>
          </p:nvPicPr>
          <p:blipFill>
            <a:blip r:embed="rId1"/>
            <a:stretch/>
          </p:blipFill>
          <p:spPr>
            <a:xfrm>
              <a:off x="1863720" y="1590840"/>
              <a:ext cx="312408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Text Box 6"/>
          <p:cNvSpPr/>
          <p:nvPr/>
        </p:nvSpPr>
        <p:spPr>
          <a:xfrm>
            <a:off x="4957920" y="692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2762280" y="21798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34920" y="3124080"/>
            <a:ext cx="8534520" cy="1392480"/>
            <a:chOff x="34920" y="3124080"/>
            <a:chExt cx="8534520" cy="1392480"/>
          </a:xfrm>
        </p:grpSpPr>
        <p:sp>
          <p:nvSpPr>
            <p:cNvPr id="282" name="Text Box 9"/>
            <p:cNvSpPr/>
            <p:nvPr/>
          </p:nvSpPr>
          <p:spPr>
            <a:xfrm>
              <a:off x="34920" y="3259080"/>
              <a:ext cx="8534520" cy="12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若                              是正比例函数，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则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 =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283" name="Picture 10" descr=""/>
            <p:cNvPicPr/>
            <p:nvPr/>
          </p:nvPicPr>
          <p:blipFill>
            <a:blip r:embed="rId2"/>
            <a:stretch/>
          </p:blipFill>
          <p:spPr>
            <a:xfrm>
              <a:off x="1692360" y="3124080"/>
              <a:ext cx="346716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Text Box 11"/>
          <p:cNvSpPr/>
          <p:nvPr/>
        </p:nvSpPr>
        <p:spPr>
          <a:xfrm>
            <a:off x="2843280" y="386064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5" name="Picture 12" descr="lanhua5"/>
          <p:cNvPicPr/>
          <p:nvPr/>
        </p:nvPicPr>
        <p:blipFill>
          <a:blip r:embed="rId3"/>
          <a:stretch/>
        </p:blipFill>
        <p:spPr>
          <a:xfrm>
            <a:off x="7162920" y="5272200"/>
            <a:ext cx="1981080" cy="1585800"/>
          </a:xfrm>
          <a:prstGeom prst="rect">
            <a:avLst/>
          </a:prstGeom>
          <a:ln w="0">
            <a:noFill/>
          </a:ln>
        </p:spPr>
      </p:pic>
      <p:grpSp>
        <p:nvGrpSpPr>
          <p:cNvPr id="286" name="Group 13"/>
          <p:cNvGrpSpPr/>
          <p:nvPr/>
        </p:nvGrpSpPr>
        <p:grpSpPr>
          <a:xfrm>
            <a:off x="73080" y="71280"/>
            <a:ext cx="1977840" cy="1484640"/>
            <a:chOff x="73080" y="71280"/>
            <a:chExt cx="1977840" cy="1484640"/>
          </a:xfrm>
        </p:grpSpPr>
        <p:pic>
          <p:nvPicPr>
            <p:cNvPr id="287" name="Picture 14" descr="云朵"/>
            <p:cNvPicPr/>
            <p:nvPr/>
          </p:nvPicPr>
          <p:blipFill>
            <a:blip r:embed="rId4"/>
            <a:stretch/>
          </p:blipFill>
          <p:spPr>
            <a:xfrm>
              <a:off x="73080" y="71280"/>
              <a:ext cx="1977840" cy="14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15"/>
            <p:cNvSpPr/>
            <p:nvPr/>
          </p:nvSpPr>
          <p:spPr>
            <a:xfrm>
              <a:off x="479520" y="436320"/>
              <a:ext cx="12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66"/>
                  </a:solidFill>
                  <a:latin typeface="Arial"/>
                </a:rPr>
                <a:t>练习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89" name="Rectangle 16"/>
          <p:cNvSpPr/>
          <p:nvPr/>
        </p:nvSpPr>
        <p:spPr>
          <a:xfrm>
            <a:off x="108000" y="4672080"/>
            <a:ext cx="84996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）若一个正比例函数的比例系数是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-5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， </a:t>
            </a:r>
            <a:endParaRPr b="1" lang="en-US" sz="3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则它的解析式为（            ）</a:t>
            </a:r>
            <a:endParaRPr b="1" lang="en-US" sz="3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4791240" y="519264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y=-5x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36360" y="644400"/>
            <a:ext cx="910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宋体"/>
              </a:rPr>
              <a:t>                       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宋体"/>
              </a:rPr>
              <a:t>例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成正比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且当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x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y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y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之间的函数关系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39640" y="2852640"/>
            <a:ext cx="807876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解：设解析式为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y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=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kx.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因为  当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x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=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－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时，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y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=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－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6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所以  有－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6=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－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k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,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          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k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=6.   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所以，函数解析式为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y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=6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x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0" y="0"/>
            <a:ext cx="2124000" cy="1268280"/>
            <a:chOff x="0" y="0"/>
            <a:chExt cx="2124000" cy="1268280"/>
          </a:xfrm>
        </p:grpSpPr>
        <p:pic>
          <p:nvPicPr>
            <p:cNvPr id="294" name="Picture 5" descr="云朵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2400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6"/>
            <p:cNvSpPr/>
            <p:nvPr/>
          </p:nvSpPr>
          <p:spPr>
            <a:xfrm>
              <a:off x="464040" y="222120"/>
              <a:ext cx="131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例题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2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2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2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07640" y="278136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设正比例函数解析式是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y=k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457200" y="33577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把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x =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4, y =2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代入上式，得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156360" y="34336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2 =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4k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99" name="Group 5"/>
          <p:cNvGrpSpPr/>
          <p:nvPr/>
        </p:nvGrpSpPr>
        <p:grpSpPr>
          <a:xfrm>
            <a:off x="974880" y="4653000"/>
            <a:ext cx="6981480" cy="901440"/>
            <a:chOff x="974880" y="4653000"/>
            <a:chExt cx="6981480" cy="901440"/>
          </a:xfrm>
        </p:grpSpPr>
        <p:sp>
          <p:nvSpPr>
            <p:cNvPr id="300" name="Text Box 6"/>
            <p:cNvSpPr/>
            <p:nvPr/>
          </p:nvSpPr>
          <p:spPr>
            <a:xfrm>
              <a:off x="974880" y="4714920"/>
              <a:ext cx="698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</a:rPr>
                <a:t>∴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</a:rPr>
                <a:t>所求的正比例函数解析式是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</a:rPr>
                <a:t>y=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</a:rPr>
                <a:t>-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7035840" y="5033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2" name="Rectangle 8"/>
            <p:cNvSpPr/>
            <p:nvPr/>
          </p:nvSpPr>
          <p:spPr>
            <a:xfrm>
              <a:off x="7016400" y="465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x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093800" y="5110200"/>
              <a:ext cx="235080" cy="360"/>
              <a:chOff x="7093800" y="5110200"/>
              <a:chExt cx="235080" cy="360"/>
            </a:xfrm>
          </p:grpSpPr>
          <p:sp>
            <p:nvSpPr>
              <p:cNvPr id="304" name="Line 9"/>
              <p:cNvSpPr/>
              <p:nvPr/>
            </p:nvSpPr>
            <p:spPr>
              <a:xfrm>
                <a:off x="7093800" y="5110200"/>
                <a:ext cx="235080" cy="0"/>
              </a:xfrm>
              <a:prstGeom prst="line">
                <a:avLst/>
              </a:prstGeom>
              <a:ln w="3492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7093800" y="5110200"/>
                <a:ext cx="23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Group 10"/>
          <p:cNvGrpSpPr/>
          <p:nvPr/>
        </p:nvGrpSpPr>
        <p:grpSpPr>
          <a:xfrm>
            <a:off x="1763640" y="3976560"/>
            <a:ext cx="3048120" cy="901440"/>
            <a:chOff x="1763640" y="3976560"/>
            <a:chExt cx="3048120" cy="901440"/>
          </a:xfrm>
        </p:grpSpPr>
        <p:sp>
          <p:nvSpPr>
            <p:cNvPr id="307" name="Text Box 11"/>
            <p:cNvSpPr/>
            <p:nvPr/>
          </p:nvSpPr>
          <p:spPr>
            <a:xfrm>
              <a:off x="1763640" y="4038480"/>
              <a:ext cx="304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解得 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k= 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-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>
              <a:off x="3670200" y="4357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>
              <a:off x="3651120" y="3976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3725640" y="4433760"/>
              <a:ext cx="228600" cy="360"/>
              <a:chOff x="3725640" y="4433760"/>
              <a:chExt cx="228600" cy="360"/>
            </a:xfrm>
          </p:grpSpPr>
          <p:sp>
            <p:nvSpPr>
              <p:cNvPr id="311" name="Line 14"/>
              <p:cNvSpPr/>
              <p:nvPr/>
            </p:nvSpPr>
            <p:spPr>
              <a:xfrm>
                <a:off x="3725640" y="4433760"/>
                <a:ext cx="228600" cy="0"/>
              </a:xfrm>
              <a:prstGeom prst="line">
                <a:avLst/>
              </a:prstGeom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>
                <a:off x="3725640" y="443376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313" name="Rectangle 15"/>
          <p:cNvSpPr/>
          <p:nvPr/>
        </p:nvSpPr>
        <p:spPr>
          <a:xfrm>
            <a:off x="1620000" y="5383080"/>
            <a:ext cx="25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x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为任何实数）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4" name="Rectangle 16"/>
          <p:cNvSpPr/>
          <p:nvPr/>
        </p:nvSpPr>
        <p:spPr>
          <a:xfrm>
            <a:off x="393840" y="5967360"/>
            <a:ext cx="5257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当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x=6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时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,  y =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3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2027160" y="117360"/>
            <a:ext cx="700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已知正比例函数当自变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等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-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时，函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值等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求正比例函数的解析式和自变量的取值范围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求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x=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时函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值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6" name="Group 18"/>
          <p:cNvGrpSpPr/>
          <p:nvPr/>
        </p:nvGrpSpPr>
        <p:grpSpPr>
          <a:xfrm>
            <a:off x="7543440" y="2743200"/>
            <a:ext cx="1371960" cy="703440"/>
            <a:chOff x="7543440" y="2743200"/>
            <a:chExt cx="1371960" cy="703440"/>
          </a:xfrm>
        </p:grpSpPr>
        <p:grpSp>
          <p:nvGrpSpPr>
            <p:cNvPr id="317" name=""/>
            <p:cNvGrpSpPr/>
            <p:nvPr/>
          </p:nvGrpSpPr>
          <p:grpSpPr>
            <a:xfrm>
              <a:off x="7543440" y="3139920"/>
              <a:ext cx="609840" cy="360"/>
              <a:chOff x="7543440" y="3139920"/>
              <a:chExt cx="609840" cy="360"/>
            </a:xfrm>
          </p:grpSpPr>
          <p:sp>
            <p:nvSpPr>
              <p:cNvPr id="318" name="Line 19"/>
              <p:cNvSpPr/>
              <p:nvPr/>
            </p:nvSpPr>
            <p:spPr>
              <a:xfrm flipH="1">
                <a:off x="7543440" y="3139920"/>
                <a:ext cx="609480" cy="0"/>
              </a:xfrm>
              <a:prstGeom prst="line">
                <a:avLst/>
              </a:prstGeom>
              <a:ln w="633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>
                <a:off x="7543800" y="313992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20"/>
            <p:cNvSpPr/>
            <p:nvPr/>
          </p:nvSpPr>
          <p:spPr>
            <a:xfrm>
              <a:off x="8153280" y="27432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设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21" name="Group 21"/>
          <p:cNvGrpSpPr/>
          <p:nvPr/>
        </p:nvGrpSpPr>
        <p:grpSpPr>
          <a:xfrm>
            <a:off x="7543440" y="3413160"/>
            <a:ext cx="1371960" cy="703440"/>
            <a:chOff x="7543440" y="3413160"/>
            <a:chExt cx="1371960" cy="703440"/>
          </a:xfrm>
        </p:grpSpPr>
        <p:grpSp>
          <p:nvGrpSpPr>
            <p:cNvPr id="322" name=""/>
            <p:cNvGrpSpPr/>
            <p:nvPr/>
          </p:nvGrpSpPr>
          <p:grpSpPr>
            <a:xfrm>
              <a:off x="7543440" y="3809880"/>
              <a:ext cx="609840" cy="360"/>
              <a:chOff x="7543440" y="3809880"/>
              <a:chExt cx="609840" cy="360"/>
            </a:xfrm>
          </p:grpSpPr>
          <p:sp>
            <p:nvSpPr>
              <p:cNvPr id="323" name="Line 22"/>
              <p:cNvSpPr/>
              <p:nvPr/>
            </p:nvSpPr>
            <p:spPr>
              <a:xfrm flipH="1">
                <a:off x="7543440" y="3809880"/>
                <a:ext cx="609480" cy="0"/>
              </a:xfrm>
              <a:prstGeom prst="line">
                <a:avLst/>
              </a:prstGeom>
              <a:ln w="633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7543800" y="380988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25" name="Text Box 23"/>
            <p:cNvSpPr/>
            <p:nvPr/>
          </p:nvSpPr>
          <p:spPr>
            <a:xfrm>
              <a:off x="8153280" y="3413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代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26" name="Group 24"/>
          <p:cNvGrpSpPr/>
          <p:nvPr/>
        </p:nvGrpSpPr>
        <p:grpSpPr>
          <a:xfrm>
            <a:off x="7543440" y="4098960"/>
            <a:ext cx="1371960" cy="703440"/>
            <a:chOff x="7543440" y="4098960"/>
            <a:chExt cx="1371960" cy="703440"/>
          </a:xfrm>
        </p:grpSpPr>
        <p:grpSp>
          <p:nvGrpSpPr>
            <p:cNvPr id="327" name=""/>
            <p:cNvGrpSpPr/>
            <p:nvPr/>
          </p:nvGrpSpPr>
          <p:grpSpPr>
            <a:xfrm>
              <a:off x="7543440" y="4495680"/>
              <a:ext cx="609840" cy="360"/>
              <a:chOff x="7543440" y="4495680"/>
              <a:chExt cx="609840" cy="360"/>
            </a:xfrm>
          </p:grpSpPr>
          <p:sp>
            <p:nvSpPr>
              <p:cNvPr id="328" name="Line 25"/>
              <p:cNvSpPr/>
              <p:nvPr/>
            </p:nvSpPr>
            <p:spPr>
              <a:xfrm flipH="1">
                <a:off x="7543440" y="4495680"/>
                <a:ext cx="609480" cy="0"/>
              </a:xfrm>
              <a:prstGeom prst="line">
                <a:avLst/>
              </a:prstGeom>
              <a:ln w="633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 txBox="1"/>
              <p:nvPr/>
            </p:nvSpPr>
            <p:spPr>
              <a:xfrm>
                <a:off x="7543800" y="449568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30" name="Text Box 26"/>
            <p:cNvSpPr/>
            <p:nvPr/>
          </p:nvSpPr>
          <p:spPr>
            <a:xfrm>
              <a:off x="8153280" y="40989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求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31" name="Group 27"/>
          <p:cNvGrpSpPr/>
          <p:nvPr/>
        </p:nvGrpSpPr>
        <p:grpSpPr>
          <a:xfrm>
            <a:off x="7543440" y="4724280"/>
            <a:ext cx="1371960" cy="703440"/>
            <a:chOff x="7543440" y="4724280"/>
            <a:chExt cx="1371960" cy="703440"/>
          </a:xfrm>
        </p:grpSpPr>
        <p:grpSp>
          <p:nvGrpSpPr>
            <p:cNvPr id="332" name=""/>
            <p:cNvGrpSpPr/>
            <p:nvPr/>
          </p:nvGrpSpPr>
          <p:grpSpPr>
            <a:xfrm>
              <a:off x="7543440" y="5121000"/>
              <a:ext cx="609840" cy="360"/>
              <a:chOff x="7543440" y="5121000"/>
              <a:chExt cx="609840" cy="360"/>
            </a:xfrm>
          </p:grpSpPr>
          <p:sp>
            <p:nvSpPr>
              <p:cNvPr id="333" name="Line 28"/>
              <p:cNvSpPr/>
              <p:nvPr/>
            </p:nvSpPr>
            <p:spPr>
              <a:xfrm flipH="1">
                <a:off x="7543440" y="5121000"/>
                <a:ext cx="609480" cy="0"/>
              </a:xfrm>
              <a:prstGeom prst="line">
                <a:avLst/>
              </a:prstGeom>
              <a:ln w="633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>
                <a:off x="7543800" y="512100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35" name="Text Box 29"/>
            <p:cNvSpPr/>
            <p:nvPr/>
          </p:nvSpPr>
          <p:spPr>
            <a:xfrm>
              <a:off x="8153280" y="47242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写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36" name="Group 30"/>
          <p:cNvGrpSpPr/>
          <p:nvPr/>
        </p:nvGrpSpPr>
        <p:grpSpPr>
          <a:xfrm>
            <a:off x="5410080" y="5638680"/>
            <a:ext cx="3733920" cy="1219320"/>
            <a:chOff x="5410080" y="5638680"/>
            <a:chExt cx="3733920" cy="1219320"/>
          </a:xfrm>
        </p:grpSpPr>
        <p:sp>
          <p:nvSpPr>
            <p:cNvPr id="337" name="AutoShape 31"/>
            <p:cNvSpPr/>
            <p:nvPr/>
          </p:nvSpPr>
          <p:spPr>
            <a:xfrm>
              <a:off x="5410080" y="5638680"/>
              <a:ext cx="3733920" cy="1219320"/>
            </a:xfrm>
            <a:prstGeom prst="wedgeEllipseCallout">
              <a:avLst>
                <a:gd name="adj1" fmla="val -60078"/>
                <a:gd name="adj2" fmla="val -6900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38" name="Text Box 32"/>
            <p:cNvSpPr/>
            <p:nvPr/>
          </p:nvSpPr>
          <p:spPr>
            <a:xfrm>
              <a:off x="5790960" y="5851440"/>
              <a:ext cx="289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待定系数法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39" name="Group 33"/>
          <p:cNvGrpSpPr/>
          <p:nvPr/>
        </p:nvGrpSpPr>
        <p:grpSpPr>
          <a:xfrm>
            <a:off x="34920" y="44280"/>
            <a:ext cx="1978200" cy="1484280"/>
            <a:chOff x="34920" y="44280"/>
            <a:chExt cx="1978200" cy="1484280"/>
          </a:xfrm>
        </p:grpSpPr>
        <p:pic>
          <p:nvPicPr>
            <p:cNvPr id="340" name="Picture 34" descr="云朵"/>
            <p:cNvPicPr/>
            <p:nvPr/>
          </p:nvPicPr>
          <p:blipFill>
            <a:blip r:embed="rId1"/>
            <a:stretch/>
          </p:blipFill>
          <p:spPr>
            <a:xfrm>
              <a:off x="34920" y="44280"/>
              <a:ext cx="197820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35"/>
            <p:cNvSpPr/>
            <p:nvPr/>
          </p:nvSpPr>
          <p:spPr>
            <a:xfrm>
              <a:off x="429840" y="347400"/>
              <a:ext cx="122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66"/>
                  </a:solidFill>
                  <a:latin typeface="Arial"/>
                </a:rPr>
                <a:t>练习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ransition>
    <p:checker dir="horz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304920" y="152280"/>
            <a:ext cx="8458200" cy="38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已知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底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=8c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边上     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高线从小到大变化时，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面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积也随之变化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写出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面积 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(cm</a:t>
            </a:r>
            <a:r>
              <a:rPr b="1" lang="zh-CN" sz="3200" spc="-1" strike="noStrike" baseline="30000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高线 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(cm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函数解析式，并指明它是什么函数；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当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=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时，求出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值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304920" y="3929040"/>
            <a:ext cx="22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解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2340000" y="3645000"/>
            <a:ext cx="5562720" cy="11444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1098720" y="5734080"/>
            <a:ext cx="72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x=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时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y=4x=4×7=28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46" name="Group 6"/>
          <p:cNvGrpSpPr/>
          <p:nvPr/>
        </p:nvGrpSpPr>
        <p:grpSpPr>
          <a:xfrm>
            <a:off x="2295360" y="4797360"/>
            <a:ext cx="2044440" cy="642600"/>
            <a:chOff x="2295360" y="4797360"/>
            <a:chExt cx="2044440" cy="642600"/>
          </a:xfrm>
        </p:grpSpPr>
        <p:pic>
          <p:nvPicPr>
            <p:cNvPr id="347" name="Picture 7" descr=""/>
            <p:cNvPicPr/>
            <p:nvPr/>
          </p:nvPicPr>
          <p:blipFill>
            <a:blip r:embed="rId2"/>
            <a:stretch/>
          </p:blipFill>
          <p:spPr>
            <a:xfrm>
              <a:off x="3057840" y="4851360"/>
              <a:ext cx="128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8"/>
            <p:cNvSpPr/>
            <p:nvPr/>
          </p:nvSpPr>
          <p:spPr>
            <a:xfrm>
              <a:off x="2295360" y="4797360"/>
              <a:ext cx="76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即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49" name="Text Box 9"/>
          <p:cNvSpPr/>
          <p:nvPr/>
        </p:nvSpPr>
        <p:spPr>
          <a:xfrm>
            <a:off x="4695840" y="4797360"/>
            <a:ext cx="37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正比例函数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50" name="Picture 10" descr="lanhua5"/>
          <p:cNvPicPr/>
          <p:nvPr/>
        </p:nvPicPr>
        <p:blipFill>
          <a:blip r:embed="rId3"/>
          <a:stretch/>
        </p:blipFill>
        <p:spPr>
          <a:xfrm>
            <a:off x="7315200" y="5394240"/>
            <a:ext cx="1828800" cy="1463760"/>
          </a:xfrm>
          <a:prstGeom prst="rect">
            <a:avLst/>
          </a:prstGeom>
          <a:ln w="0">
            <a:noFill/>
          </a:ln>
        </p:spPr>
      </p:pic>
      <p:grpSp>
        <p:nvGrpSpPr>
          <p:cNvPr id="351" name="Group 11"/>
          <p:cNvGrpSpPr/>
          <p:nvPr/>
        </p:nvGrpSpPr>
        <p:grpSpPr>
          <a:xfrm>
            <a:off x="34920" y="44280"/>
            <a:ext cx="1978200" cy="1484280"/>
            <a:chOff x="34920" y="44280"/>
            <a:chExt cx="1978200" cy="1484280"/>
          </a:xfrm>
        </p:grpSpPr>
        <p:pic>
          <p:nvPicPr>
            <p:cNvPr id="352" name="Picture 12" descr="云朵"/>
            <p:cNvPicPr/>
            <p:nvPr/>
          </p:nvPicPr>
          <p:blipFill>
            <a:blip r:embed="rId4"/>
            <a:stretch/>
          </p:blipFill>
          <p:spPr>
            <a:xfrm>
              <a:off x="34920" y="44280"/>
              <a:ext cx="197820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13"/>
            <p:cNvSpPr/>
            <p:nvPr/>
          </p:nvSpPr>
          <p:spPr>
            <a:xfrm>
              <a:off x="429840" y="347400"/>
              <a:ext cx="122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66"/>
                  </a:solidFill>
                  <a:latin typeface="Arial"/>
                </a:rPr>
                <a:t>练习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3719880" y="692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华文彩云"/>
              </a:rPr>
              <a:t>课堂总结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2340000" y="2060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、正比例函数的概念。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2340000" y="3429000"/>
            <a:ext cx="53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、用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待定系数法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求正比例函数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解析式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。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2340000" y="2349360"/>
            <a:ext cx="4319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这节课你学到 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了什么？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8" name="文本框 8199"/>
          <p:cNvSpPr/>
          <p:nvPr/>
        </p:nvSpPr>
        <p:spPr>
          <a:xfrm>
            <a:off x="2735280" y="431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00"/>
                            </p:stCondLst>
                            <p:childTnLst>
                              <p:par>
                                <p:cTn id="531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853560"/>
            <a:ext cx="903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写出下列个题中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关系式，并判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否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正比例函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8000" y="2006640"/>
            <a:ext cx="90345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电报收费标准是每个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，电报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元）与字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个）之间的函数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地面气温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8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如果每升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k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气温下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摄氏度，则气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℃）与高度民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的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圆面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）与半径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的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4920" y="5319720"/>
            <a:ext cx="91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 已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成正比例，当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=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时，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=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写出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之间函数关系式，并分别求出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=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=-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值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3041640" y="41958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㎡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3" name="WordArt 6"/>
          <p:cNvSpPr txBox="1"/>
          <p:nvPr/>
        </p:nvSpPr>
        <p:spPr>
          <a:xfrm>
            <a:off x="34920" y="44280"/>
            <a:ext cx="2881440" cy="735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作业布置</a:t>
            </a:r>
            <a:r>
              <a:rPr b="1" lang="en-US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: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28"/>
          <p:cNvPicPr/>
          <p:nvPr/>
        </p:nvPicPr>
        <p:blipFill>
          <a:blip r:embed="rId1"/>
          <a:stretch/>
        </p:blipFill>
        <p:spPr>
          <a:xfrm>
            <a:off x="1440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WordArt 3"/>
          <p:cNvSpPr txBox="1"/>
          <p:nvPr/>
        </p:nvSpPr>
        <p:spPr>
          <a:xfrm>
            <a:off x="0" y="1052640"/>
            <a:ext cx="1692360" cy="24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RingInside">
              <a:avLst>
                <a:gd name="adj" fmla="val 62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7000"/>
                    </a:srgbClr>
                  </a:outerShdw>
                </a:effectLst>
                <a:latin typeface="黑体"/>
              </a:rPr>
              <a:t>作业</a:t>
            </a:r>
            <a:endParaRPr b="1" lang="en-US" sz="40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2195640" y="692280"/>
            <a:ext cx="6335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2124000" y="1628640"/>
            <a:ext cx="6553440" cy="4537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正比例函数图象的画法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正比例函数的性质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正比例函数的实际应用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3059280" y="620640"/>
            <a:ext cx="4608360" cy="1368360"/>
          </a:xfrm>
          <a:custGeom>
            <a:avLst/>
            <a:gdLst>
              <a:gd name="textAreaLeft" fmla="*/ 1152000 w 4608360"/>
              <a:gd name="textAreaRight" fmla="*/ 3456360 w 4608360"/>
              <a:gd name="textAreaTop" fmla="*/ 0 h 1368360"/>
              <a:gd name="textAreaBottom" fmla="*/ 1197360 h 1368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4881600" y="692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预习</a:t>
            </a:r>
            <a:endParaRPr b="1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732720" y="3573360"/>
            <a:ext cx="360" cy="360"/>
            <a:chOff x="6732720" y="3573360"/>
            <a:chExt cx="360" cy="360"/>
          </a:xfrm>
        </p:grpSpPr>
        <p:sp>
          <p:nvSpPr>
            <p:cNvPr id="371" name="Line 8"/>
            <p:cNvSpPr/>
            <p:nvPr/>
          </p:nvSpPr>
          <p:spPr>
            <a:xfrm>
              <a:off x="6732720" y="3573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6732720" y="3573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7020000" y="3573360"/>
            <a:ext cx="360" cy="360"/>
            <a:chOff x="7020000" y="3573360"/>
            <a:chExt cx="360" cy="360"/>
          </a:xfrm>
        </p:grpSpPr>
        <p:sp>
          <p:nvSpPr>
            <p:cNvPr id="374" name="Line 9"/>
            <p:cNvSpPr/>
            <p:nvPr/>
          </p:nvSpPr>
          <p:spPr>
            <a:xfrm>
              <a:off x="7020000" y="3573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7020000" y="3573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804000" y="4078440"/>
            <a:ext cx="1800360" cy="360"/>
            <a:chOff x="6804000" y="4078440"/>
            <a:chExt cx="1800360" cy="360"/>
          </a:xfrm>
        </p:grpSpPr>
        <p:sp>
          <p:nvSpPr>
            <p:cNvPr id="377" name="Line 10"/>
            <p:cNvSpPr/>
            <p:nvPr/>
          </p:nvSpPr>
          <p:spPr>
            <a:xfrm>
              <a:off x="6804000" y="40784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6804000" y="407844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7594200" y="2782440"/>
            <a:ext cx="360" cy="2374920"/>
            <a:chOff x="7594200" y="2782440"/>
            <a:chExt cx="360" cy="2374920"/>
          </a:xfrm>
        </p:grpSpPr>
        <p:sp>
          <p:nvSpPr>
            <p:cNvPr id="380" name="Line 11"/>
            <p:cNvSpPr/>
            <p:nvPr/>
          </p:nvSpPr>
          <p:spPr>
            <a:xfrm flipV="1">
              <a:off x="7594560" y="2782440"/>
              <a:ext cx="0" cy="2374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 rot="10800000">
              <a:off x="7594200" y="2782440"/>
              <a:ext cx="360" cy="237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308720" y="3214800"/>
            <a:ext cx="1079640" cy="1224000"/>
            <a:chOff x="7308720" y="3214800"/>
            <a:chExt cx="1079640" cy="1224000"/>
          </a:xfrm>
        </p:grpSpPr>
        <p:sp>
          <p:nvSpPr>
            <p:cNvPr id="383" name="Line 12"/>
            <p:cNvSpPr/>
            <p:nvPr/>
          </p:nvSpPr>
          <p:spPr>
            <a:xfrm>
              <a:off x="7308720" y="3214800"/>
              <a:ext cx="1079640" cy="1224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7308720" y="3214800"/>
              <a:ext cx="107964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85" name="Text Box 13"/>
          <p:cNvSpPr/>
          <p:nvPr/>
        </p:nvSpPr>
        <p:spPr>
          <a:xfrm>
            <a:off x="8440560" y="4098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7288200" y="2657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chimes.wav"/>
      </p:stSnd>
    </p:sndAc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88" name="Picture 2" descr="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WordArt 3"/>
          <p:cNvSpPr txBox="1"/>
          <p:nvPr/>
        </p:nvSpPr>
        <p:spPr>
          <a:xfrm>
            <a:off x="2270160" y="1241280"/>
            <a:ext cx="2517840" cy="89064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谢谢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90" name="WordArt 4"/>
          <p:cNvSpPr txBox="1"/>
          <p:nvPr/>
        </p:nvSpPr>
        <p:spPr>
          <a:xfrm>
            <a:off x="1403280" y="3213000"/>
            <a:ext cx="4824360" cy="209736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3000"/>
                    </a:srgbClr>
                  </a:outerShdw>
                </a:effectLst>
                <a:latin typeface="宋体"/>
              </a:rPr>
              <a:t>再见</a:t>
            </a:r>
            <a:endParaRPr b="1" lang="en-US" sz="2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3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91" name="AutoShape 5"/>
          <p:cNvSpPr/>
          <p:nvPr/>
        </p:nvSpPr>
        <p:spPr>
          <a:xfrm>
            <a:off x="971640" y="981000"/>
            <a:ext cx="914400" cy="914400"/>
          </a:xfrm>
          <a:custGeom>
            <a:avLst/>
            <a:gdLst>
              <a:gd name="textAreaLeft" fmla="*/ 295200 w 914400"/>
              <a:gd name="textAreaRight" fmla="*/ 619200 w 914400"/>
              <a:gd name="textAreaTop" fmla="*/ 295200 h 914400"/>
              <a:gd name="textAreaBottom" fmla="*/ 6192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74" y="6974"/>
                </a:lnTo>
                <a:lnTo>
                  <a:pt x="10800" y="0"/>
                </a:lnTo>
                <a:lnTo>
                  <a:pt x="14626" y="6974"/>
                </a:lnTo>
                <a:lnTo>
                  <a:pt x="21600" y="10800"/>
                </a:lnTo>
                <a:lnTo>
                  <a:pt x="14626" y="14626"/>
                </a:lnTo>
                <a:lnTo>
                  <a:pt x="10800" y="21600"/>
                </a:lnTo>
                <a:lnTo>
                  <a:pt x="6974" y="14626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5292720" y="981000"/>
            <a:ext cx="914400" cy="914400"/>
          </a:xfrm>
          <a:custGeom>
            <a:avLst/>
            <a:gdLst>
              <a:gd name="textAreaLeft" fmla="*/ 295200 w 914400"/>
              <a:gd name="textAreaRight" fmla="*/ 619200 w 914400"/>
              <a:gd name="textAreaTop" fmla="*/ 295200 h 914400"/>
              <a:gd name="textAreaBottom" fmla="*/ 6192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74" y="6974"/>
                </a:lnTo>
                <a:lnTo>
                  <a:pt x="10800" y="0"/>
                </a:lnTo>
                <a:lnTo>
                  <a:pt x="14626" y="6974"/>
                </a:lnTo>
                <a:lnTo>
                  <a:pt x="21600" y="10800"/>
                </a:lnTo>
                <a:lnTo>
                  <a:pt x="14626" y="14626"/>
                </a:lnTo>
                <a:lnTo>
                  <a:pt x="10800" y="21600"/>
                </a:lnTo>
                <a:lnTo>
                  <a:pt x="6974" y="14626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042920" y="2060640"/>
            <a:ext cx="770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34920" y="189000"/>
            <a:ext cx="4249800" cy="208764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思考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11280" y="1917720"/>
            <a:ext cx="77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</a:rPr>
              <a:t>下列问题中的变量对应规律可用怎样的函数表示？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757080" y="342900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）圆的周长 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  <a:ea typeface="宋体"/>
              </a:rPr>
              <a:t>l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随半径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</a:rPr>
              <a:t>r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的大小变化而变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556000" y="486900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解： </a:t>
            </a:r>
            <a:r>
              <a:rPr b="1" i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l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=2π</a:t>
            </a:r>
            <a:r>
              <a:rPr b="1" i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r 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C256-8837-49FE-9993-9CE4A529E2E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82560" y="54936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）铁的密度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.8g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，铁块的质量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单位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）随它的体积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</a:rPr>
              <a:t>V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单位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）的大小变化而变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629080" y="4365720"/>
            <a:ext cx="41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解：</a:t>
            </a:r>
            <a:r>
              <a:rPr b="1" i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m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=7.8 </a:t>
            </a:r>
            <a:r>
              <a:rPr b="1" i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V 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539640" y="549360"/>
            <a:ext cx="8136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）每个练习本的厚度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.5 cm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，一些练习本摞在一起的总厚度 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  <a:ea typeface="宋体"/>
              </a:rPr>
              <a:t>h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单位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）随这些练习本的本数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  <a:ea typeface="宋体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的变化而变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2700360" y="436572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解：</a:t>
            </a:r>
            <a:r>
              <a:rPr b="1" i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h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= 0.5</a:t>
            </a:r>
            <a:r>
              <a:rPr b="1" i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n 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368960" y="18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08000" y="333360"/>
            <a:ext cx="90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）冷冻一个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物体，使它每分下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℃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，物体的温度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</a:rPr>
              <a:t>T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单位：℃）随冷冻时间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</a:rPr>
              <a:t>t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单位：分）的变化而变化．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556000" y="400536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解：</a:t>
            </a:r>
            <a:r>
              <a:rPr b="1" i="1" lang="en-US" sz="4800" spc="-1" strike="noStrike">
                <a:solidFill>
                  <a:srgbClr val="ff0066"/>
                </a:solidFill>
                <a:latin typeface="Times New Roman"/>
              </a:rPr>
              <a:t>T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=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－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2t 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81080" y="260280"/>
            <a:ext cx="896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认真观察以上出现的四个函数解析式，分别说出哪些是函数、常数和自变量．</a:t>
            </a:r>
            <a:endParaRPr b="1" lang="en-US" sz="3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24000" y="1700280"/>
          <a:ext cx="5256000" cy="3781440"/>
        </p:xfrm>
        <a:graphic>
          <a:graphicData uri="http://schemas.openxmlformats.org/drawingml/2006/table">
            <a:tbl>
              <a:tblPr/>
              <a:tblGrid>
                <a:gridCol w="2015640"/>
                <a:gridCol w="1008360"/>
                <a:gridCol w="936360"/>
                <a:gridCol w="1295640"/>
              </a:tblGrid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函数解析式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函数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常数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变量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宋体"/>
                        </a:rPr>
                        <a:t>l  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=2</a:t>
                      </a: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π</a:t>
                      </a:r>
                      <a:r>
                        <a:rPr b="0" i="1" lang="en-US" sz="36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r</a:t>
                      </a:r>
                      <a:endParaRPr b="1" lang="en-US" sz="3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m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=7.8</a:t>
                      </a: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h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= 0.5</a:t>
                      </a: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n</a:t>
                      </a:r>
                      <a:endParaRPr b="1" lang="en-US" sz="3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T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= -2</a:t>
                      </a: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t</a:t>
                      </a:r>
                      <a:endParaRPr b="1" lang="en-US" sz="3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AutoShape 35"/>
          <p:cNvSpPr/>
          <p:nvPr/>
        </p:nvSpPr>
        <p:spPr>
          <a:xfrm>
            <a:off x="6227640" y="1628640"/>
            <a:ext cx="2521080" cy="1729080"/>
          </a:xfrm>
          <a:prstGeom prst="wedgeRoundRectCallout">
            <a:avLst>
              <a:gd name="adj1" fmla="val -68388"/>
              <a:gd name="adj2" fmla="val 88842"/>
              <a:gd name="adj3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这些函数解析式有什么共同点？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Text Box 36"/>
          <p:cNvSpPr/>
          <p:nvPr/>
        </p:nvSpPr>
        <p:spPr>
          <a:xfrm>
            <a:off x="5651640" y="155736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这些函数解析式都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数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变量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的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乘积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的形式！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3419640" y="256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π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643280" y="2565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Rectangle 39"/>
          <p:cNvSpPr/>
          <p:nvPr/>
        </p:nvSpPr>
        <p:spPr>
          <a:xfrm>
            <a:off x="2700360" y="2492280"/>
            <a:ext cx="6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3421080" y="33577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Rectangle 41"/>
          <p:cNvSpPr/>
          <p:nvPr/>
        </p:nvSpPr>
        <p:spPr>
          <a:xfrm>
            <a:off x="4645080" y="33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V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Rectangle 42"/>
          <p:cNvSpPr/>
          <p:nvPr/>
        </p:nvSpPr>
        <p:spPr>
          <a:xfrm>
            <a:off x="2558160" y="33577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Rectangle 43"/>
          <p:cNvSpPr/>
          <p:nvPr/>
        </p:nvSpPr>
        <p:spPr>
          <a:xfrm>
            <a:off x="2628720" y="4149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Rectangle 44"/>
          <p:cNvSpPr/>
          <p:nvPr/>
        </p:nvSpPr>
        <p:spPr>
          <a:xfrm>
            <a:off x="2557080" y="4869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Rectangle 45"/>
          <p:cNvSpPr/>
          <p:nvPr/>
        </p:nvSpPr>
        <p:spPr>
          <a:xfrm>
            <a:off x="4645080" y="4869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Rectangle 46"/>
          <p:cNvSpPr/>
          <p:nvPr/>
        </p:nvSpPr>
        <p:spPr>
          <a:xfrm>
            <a:off x="3421080" y="4076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Rectangle 47"/>
          <p:cNvSpPr/>
          <p:nvPr/>
        </p:nvSpPr>
        <p:spPr>
          <a:xfrm>
            <a:off x="3565080" y="48690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Rectangle 48"/>
          <p:cNvSpPr/>
          <p:nvPr/>
        </p:nvSpPr>
        <p:spPr>
          <a:xfrm>
            <a:off x="464472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Text Box 49"/>
          <p:cNvSpPr/>
          <p:nvPr/>
        </p:nvSpPr>
        <p:spPr>
          <a:xfrm>
            <a:off x="5724360" y="378936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函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常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自变量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98" name="Group 50"/>
          <p:cNvGrpSpPr/>
          <p:nvPr/>
        </p:nvGrpSpPr>
        <p:grpSpPr>
          <a:xfrm>
            <a:off x="5797440" y="4365720"/>
            <a:ext cx="2806920" cy="1206000"/>
            <a:chOff x="5797440" y="4365720"/>
            <a:chExt cx="2806920" cy="1206000"/>
          </a:xfrm>
        </p:grpSpPr>
        <p:sp>
          <p:nvSpPr>
            <p:cNvPr id="199" name="Text Box 51"/>
            <p:cNvSpPr/>
            <p:nvPr/>
          </p:nvSpPr>
          <p:spPr>
            <a:xfrm>
              <a:off x="5797440" y="479664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0" name="Text Box 52"/>
            <p:cNvSpPr/>
            <p:nvPr/>
          </p:nvSpPr>
          <p:spPr>
            <a:xfrm>
              <a:off x="7021800" y="4868280"/>
              <a:ext cx="50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k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1" name="Text Box 53"/>
            <p:cNvSpPr/>
            <p:nvPr/>
          </p:nvSpPr>
          <p:spPr>
            <a:xfrm>
              <a:off x="8101440" y="4868280"/>
              <a:ext cx="50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6085080" y="4365720"/>
              <a:ext cx="360" cy="575640"/>
              <a:chOff x="6085080" y="4365720"/>
              <a:chExt cx="360" cy="575640"/>
            </a:xfrm>
          </p:grpSpPr>
          <p:sp>
            <p:nvSpPr>
              <p:cNvPr id="203" name="Line 54"/>
              <p:cNvSpPr/>
              <p:nvPr/>
            </p:nvSpPr>
            <p:spPr>
              <a:xfrm>
                <a:off x="6085080" y="4365720"/>
                <a:ext cx="0" cy="575640"/>
              </a:xfrm>
              <a:prstGeom prst="line">
                <a:avLst/>
              </a:prstGeom>
              <a:ln w="28440">
                <a:solidFill>
                  <a:srgbClr val="993366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6085080" y="4365720"/>
                <a:ext cx="360" cy="57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7237800" y="4365720"/>
              <a:ext cx="360" cy="575640"/>
              <a:chOff x="7237800" y="4365720"/>
              <a:chExt cx="360" cy="575640"/>
            </a:xfrm>
          </p:grpSpPr>
          <p:sp>
            <p:nvSpPr>
              <p:cNvPr id="206" name="Line 55"/>
              <p:cNvSpPr/>
              <p:nvPr/>
            </p:nvSpPr>
            <p:spPr>
              <a:xfrm>
                <a:off x="7237800" y="4365720"/>
                <a:ext cx="0" cy="575640"/>
              </a:xfrm>
              <a:prstGeom prst="line">
                <a:avLst/>
              </a:prstGeom>
              <a:ln w="28440">
                <a:solidFill>
                  <a:srgbClr val="993366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>
                <a:off x="7237800" y="4365720"/>
                <a:ext cx="360" cy="57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8390520" y="4365720"/>
              <a:ext cx="360" cy="646560"/>
              <a:chOff x="8390520" y="4365720"/>
              <a:chExt cx="360" cy="646560"/>
            </a:xfrm>
          </p:grpSpPr>
          <p:sp>
            <p:nvSpPr>
              <p:cNvPr id="209" name="Line 56"/>
              <p:cNvSpPr/>
              <p:nvPr/>
            </p:nvSpPr>
            <p:spPr>
              <a:xfrm>
                <a:off x="8390520" y="4365720"/>
                <a:ext cx="0" cy="646560"/>
              </a:xfrm>
              <a:prstGeom prst="line">
                <a:avLst/>
              </a:prstGeom>
              <a:ln w="28440">
                <a:solidFill>
                  <a:srgbClr val="993366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8390520" y="4365720"/>
                <a:ext cx="360" cy="64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11" name="Text Box 57"/>
            <p:cNvSpPr/>
            <p:nvPr/>
          </p:nvSpPr>
          <p:spPr>
            <a:xfrm>
              <a:off x="6229080" y="486828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12" name="Oval 58"/>
            <p:cNvSpPr/>
            <p:nvPr/>
          </p:nvSpPr>
          <p:spPr>
            <a:xfrm>
              <a:off x="7669440" y="5227560"/>
              <a:ext cx="14400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539640" y="404640"/>
            <a:ext cx="288144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归纳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900000" y="1413000"/>
            <a:ext cx="77043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般地，形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33cc"/>
                </a:solidFill>
                <a:latin typeface="Times New Roman"/>
              </a:rPr>
              <a:t>y=k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常数，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≠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的函数，叫做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</a:rPr>
              <a:t>正比例函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其中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叫做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</a:rPr>
              <a:t>比例系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．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447920" y="4192560"/>
            <a:ext cx="686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黑体"/>
              </a:rPr>
              <a:t>想一想，为什么 </a:t>
            </a:r>
            <a:r>
              <a:rPr b="1" i="1" lang="zh-CN" sz="4800" spc="-1" strike="noStrike">
                <a:solidFill>
                  <a:srgbClr val="ff0066"/>
                </a:solidFill>
                <a:latin typeface="黑体"/>
              </a:rPr>
              <a:t>k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</a:rPr>
              <a:t>≠0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</a:rPr>
              <a:t>？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763640" y="5054760"/>
            <a:ext cx="610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0=0 · 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with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1116000" y="3092040"/>
            <a:ext cx="70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zh-CN" sz="4800" spc="-1" strike="noStrike">
                <a:solidFill>
                  <a:srgbClr val="cc66ff"/>
                </a:solidFill>
                <a:latin typeface="Times New Roman"/>
                <a:ea typeface="楷体_GB2312"/>
              </a:rPr>
              <a:t>注</a:t>
            </a:r>
            <a:r>
              <a:rPr b="1" lang="en-US" sz="3600" spc="-1" strike="noStrike">
                <a:solidFill>
                  <a:srgbClr val="cc66ff"/>
                </a:solidFill>
                <a:latin typeface="Times New Roman"/>
                <a:ea typeface="宋体"/>
              </a:rPr>
              <a:t>: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宋体"/>
              </a:rPr>
              <a:t>正比例函数解析式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y=k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</a:rPr>
              <a:t>k≠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宋体"/>
              </a:rPr>
              <a:t>）的结构特征：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Wingdings"/>
                <a:ea typeface="Wingdings"/>
              </a:rPr>
              <a:t></a:t>
            </a:r>
            <a:r>
              <a:rPr b="1" i="1" lang="en-US" sz="4800" spc="-1" strike="noStrike">
                <a:solidFill>
                  <a:srgbClr val="ff5050"/>
                </a:solidFill>
                <a:latin typeface="Times New Roman"/>
                <a:ea typeface="宋体"/>
              </a:rPr>
              <a:t>k</a:t>
            </a:r>
            <a:r>
              <a:rPr b="1" lang="en-US" sz="4800" spc="-1" strike="noStrike">
                <a:solidFill>
                  <a:srgbClr val="ff5050"/>
                </a:solidFill>
                <a:latin typeface="Times New Roman"/>
                <a:ea typeface="宋体"/>
              </a:rPr>
              <a:t>≠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Wingdings"/>
                <a:ea typeface="Wingdings"/>
              </a:rPr>
              <a:t></a:t>
            </a:r>
            <a:r>
              <a:rPr b="1" i="1" lang="en-US" sz="4800" spc="-1" strike="noStrike">
                <a:solidFill>
                  <a:srgbClr val="ff5050"/>
                </a:solidFill>
                <a:latin typeface="黑体"/>
              </a:rPr>
              <a:t>x</a:t>
            </a:r>
            <a:r>
              <a:rPr b="1" lang="zh-CN" sz="4800" spc="-1" strike="noStrike">
                <a:solidFill>
                  <a:srgbClr val="ff5050"/>
                </a:solidFill>
                <a:latin typeface="黑体"/>
                <a:ea typeface="宋体"/>
              </a:rPr>
              <a:t>的指数是</a:t>
            </a:r>
            <a:r>
              <a:rPr b="1" lang="en-US" sz="4800" spc="-1" strike="noStrike">
                <a:solidFill>
                  <a:srgbClr val="ff5050"/>
                </a:solidFill>
                <a:latin typeface="黑体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Wingdings"/>
                <a:ea typeface="Wingdings"/>
              </a:rPr>
              <a:t></a:t>
            </a:r>
            <a:r>
              <a:rPr b="1" i="1" lang="zh-CN" sz="4800" spc="-1" strike="noStrike">
                <a:solidFill>
                  <a:srgbClr val="ff0066"/>
                </a:solidFill>
                <a:latin typeface="黑体"/>
                <a:ea typeface="宋体"/>
              </a:rPr>
              <a:t>k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宋体"/>
              </a:rPr>
              <a:t>与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宋体"/>
              </a:rPr>
              <a:t>x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宋体"/>
              </a:rPr>
              <a:t>是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宋体"/>
              </a:rPr>
              <a:t>乘积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宋体"/>
              </a:rPr>
              <a:t>关系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527640" y="260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正比例函数解析式的一般式：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127160" y="1724040"/>
            <a:ext cx="251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 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·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11280" y="1773360"/>
            <a:ext cx="360" cy="360"/>
            <a:chOff x="2411280" y="1773360"/>
            <a:chExt cx="360" cy="360"/>
          </a:xfrm>
        </p:grpSpPr>
        <p:sp>
          <p:nvSpPr>
            <p:cNvPr id="222" name="Line 5"/>
            <p:cNvSpPr/>
            <p:nvPr/>
          </p:nvSpPr>
          <p:spPr>
            <a:xfrm>
              <a:off x="2411280" y="1773360"/>
              <a:ext cx="0" cy="0"/>
            </a:xfrm>
            <a:prstGeom prst="line">
              <a:avLst/>
            </a:prstGeom>
            <a:ln w="93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2411280" y="1773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24" name="Text Box 6"/>
          <p:cNvSpPr/>
          <p:nvPr/>
        </p:nvSpPr>
        <p:spPr>
          <a:xfrm>
            <a:off x="4140360" y="1268280"/>
            <a:ext cx="3600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常数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≠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339640" y="1454040"/>
            <a:ext cx="1755720" cy="488880"/>
            <a:chOff x="2339640" y="1454040"/>
            <a:chExt cx="1755720" cy="488880"/>
          </a:xfrm>
        </p:grpSpPr>
        <p:grpSp>
          <p:nvGrpSpPr>
            <p:cNvPr id="226" name=""/>
            <p:cNvGrpSpPr/>
            <p:nvPr/>
          </p:nvGrpSpPr>
          <p:grpSpPr>
            <a:xfrm>
              <a:off x="2339640" y="1454040"/>
              <a:ext cx="360" cy="488880"/>
              <a:chOff x="2339640" y="1454040"/>
              <a:chExt cx="360" cy="488880"/>
            </a:xfrm>
          </p:grpSpPr>
          <p:sp>
            <p:nvSpPr>
              <p:cNvPr id="227" name="Line 8"/>
              <p:cNvSpPr/>
              <p:nvPr/>
            </p:nvSpPr>
            <p:spPr>
              <a:xfrm flipV="1">
                <a:off x="2340000" y="1454040"/>
                <a:ext cx="0" cy="488880"/>
              </a:xfrm>
              <a:prstGeom prst="line">
                <a:avLst/>
              </a:prstGeom>
              <a:ln w="38160">
                <a:solidFill>
                  <a:srgbClr val="ff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 rot="10800000">
                <a:off x="2339640" y="1454040"/>
                <a:ext cx="360" cy="48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340000" y="1575360"/>
              <a:ext cx="1755360" cy="360"/>
              <a:chOff x="2340000" y="1575360"/>
              <a:chExt cx="1755360" cy="360"/>
            </a:xfrm>
          </p:grpSpPr>
          <p:sp>
            <p:nvSpPr>
              <p:cNvPr id="230" name="Line 9"/>
              <p:cNvSpPr/>
              <p:nvPr/>
            </p:nvSpPr>
            <p:spPr>
              <a:xfrm>
                <a:off x="2340000" y="1575360"/>
                <a:ext cx="175536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2340000" y="1575360"/>
                <a:ext cx="1755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10"/>
          <p:cNvGrpSpPr/>
          <p:nvPr/>
        </p:nvGrpSpPr>
        <p:grpSpPr>
          <a:xfrm>
            <a:off x="3132000" y="2419200"/>
            <a:ext cx="1295280" cy="433440"/>
            <a:chOff x="3132000" y="2419200"/>
            <a:chExt cx="1295280" cy="433440"/>
          </a:xfrm>
        </p:grpSpPr>
        <p:grpSp>
          <p:nvGrpSpPr>
            <p:cNvPr id="233" name=""/>
            <p:cNvGrpSpPr/>
            <p:nvPr/>
          </p:nvGrpSpPr>
          <p:grpSpPr>
            <a:xfrm>
              <a:off x="3132000" y="2419200"/>
              <a:ext cx="360" cy="433440"/>
              <a:chOff x="3132000" y="2419200"/>
              <a:chExt cx="360" cy="433440"/>
            </a:xfrm>
          </p:grpSpPr>
          <p:sp>
            <p:nvSpPr>
              <p:cNvPr id="234" name="Line 11"/>
              <p:cNvSpPr/>
              <p:nvPr/>
            </p:nvSpPr>
            <p:spPr>
              <a:xfrm>
                <a:off x="3132000" y="2419200"/>
                <a:ext cx="0" cy="43344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 txBox="1"/>
              <p:nvPr/>
            </p:nvSpPr>
            <p:spPr>
              <a:xfrm>
                <a:off x="3132000" y="2419200"/>
                <a:ext cx="360" cy="43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132000" y="2779560"/>
              <a:ext cx="1295280" cy="360"/>
              <a:chOff x="3132000" y="2779560"/>
              <a:chExt cx="1295280" cy="360"/>
            </a:xfrm>
          </p:grpSpPr>
          <p:sp>
            <p:nvSpPr>
              <p:cNvPr id="237" name="Line 12"/>
              <p:cNvSpPr/>
              <p:nvPr/>
            </p:nvSpPr>
            <p:spPr>
              <a:xfrm>
                <a:off x="3132000" y="2779560"/>
                <a:ext cx="12952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3132000" y="2779560"/>
                <a:ext cx="12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Text Box 13"/>
          <p:cNvSpPr/>
          <p:nvPr/>
        </p:nvSpPr>
        <p:spPr>
          <a:xfrm>
            <a:off x="4500720" y="2467080"/>
            <a:ext cx="29509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指数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2063880" y="177336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k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2765520" y="177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7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7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7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836720" y="332280"/>
            <a:ext cx="7201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判断下列函数解析式是否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正比例函数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？如果是，指出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比例系数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是多少？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43" name="Object 3" descr=""/>
          <p:cNvPicPr/>
          <p:nvPr/>
        </p:nvPicPr>
        <p:blipFill>
          <a:blip r:embed="rId1"/>
          <a:stretch/>
        </p:blipFill>
        <p:spPr>
          <a:xfrm>
            <a:off x="4791240" y="1560600"/>
            <a:ext cx="2877840" cy="1736640"/>
          </a:xfrm>
          <a:prstGeom prst="rect">
            <a:avLst/>
          </a:prstGeom>
          <a:ln w="0">
            <a:noFill/>
          </a:ln>
        </p:spPr>
      </p:pic>
      <p:pic>
        <p:nvPicPr>
          <p:cNvPr id="244" name="Object 4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2735280" cy="113364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5" descr=""/>
          <p:cNvPicPr/>
          <p:nvPr/>
        </p:nvPicPr>
        <p:blipFill>
          <a:blip r:embed="rId3"/>
          <a:stretch/>
        </p:blipFill>
        <p:spPr>
          <a:xfrm>
            <a:off x="4861080" y="4726080"/>
            <a:ext cx="3671640" cy="801720"/>
          </a:xfrm>
          <a:prstGeom prst="rect">
            <a:avLst/>
          </a:prstGeom>
          <a:ln w="0">
            <a:noFill/>
          </a:ln>
        </p:spPr>
      </p:pic>
      <p:pic>
        <p:nvPicPr>
          <p:cNvPr id="246" name="Object 6" descr=""/>
          <p:cNvPicPr/>
          <p:nvPr/>
        </p:nvPicPr>
        <p:blipFill>
          <a:blip r:embed="rId4"/>
          <a:stretch/>
        </p:blipFill>
        <p:spPr>
          <a:xfrm>
            <a:off x="888840" y="1631880"/>
            <a:ext cx="2159280" cy="150804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7"/>
          <p:cNvGrpSpPr/>
          <p:nvPr/>
        </p:nvGrpSpPr>
        <p:grpSpPr>
          <a:xfrm>
            <a:off x="0" y="0"/>
            <a:ext cx="1979640" cy="1483920"/>
            <a:chOff x="0" y="0"/>
            <a:chExt cx="1979640" cy="1483920"/>
          </a:xfrm>
        </p:grpSpPr>
        <p:pic>
          <p:nvPicPr>
            <p:cNvPr id="248" name="Picture 8" descr="云朵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979640" cy="14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9"/>
            <p:cNvSpPr/>
            <p:nvPr/>
          </p:nvSpPr>
          <p:spPr>
            <a:xfrm>
              <a:off x="395280" y="3027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66"/>
                  </a:solidFill>
                  <a:latin typeface="Arial"/>
                </a:rPr>
                <a:t>练习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pic>
        <p:nvPicPr>
          <p:cNvPr id="250" name="Object 10" descr=""/>
          <p:cNvPicPr/>
          <p:nvPr/>
        </p:nvPicPr>
        <p:blipFill>
          <a:blip r:embed="rId6"/>
          <a:stretch/>
        </p:blipFill>
        <p:spPr>
          <a:xfrm>
            <a:off x="4789440" y="3432240"/>
            <a:ext cx="3586320" cy="925560"/>
          </a:xfrm>
          <a:prstGeom prst="rect">
            <a:avLst/>
          </a:prstGeom>
          <a:ln w="0">
            <a:noFill/>
          </a:ln>
        </p:spPr>
      </p:pic>
      <p:pic>
        <p:nvPicPr>
          <p:cNvPr id="251" name="Object 11" descr=""/>
          <p:cNvPicPr/>
          <p:nvPr/>
        </p:nvPicPr>
        <p:blipFill>
          <a:blip r:embed="rId7"/>
          <a:stretch/>
        </p:blipFill>
        <p:spPr>
          <a:xfrm>
            <a:off x="828720" y="4654440"/>
            <a:ext cx="2736720" cy="8668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2"/>
          <p:cNvSpPr/>
          <p:nvPr/>
        </p:nvSpPr>
        <p:spPr>
          <a:xfrm>
            <a:off x="3348000" y="4797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k≠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1:41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cp:lastPrinted>2411-12-30T00:00:00Z</cp:lastPrinted>
  <dcterms:modified xsi:type="dcterms:W3CDTF">2017-04-16T16:00:00Z</dcterms:modified>
  <cp:revision>1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