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laser.wav" ContentType="audio/x-wav"/>
  <Override PartName="/ppt/media/image11.jpeg" ContentType="image/jpeg"/>
  <Override PartName="/ppt/media/image9.jpeg" ContentType="image/jpeg"/>
  <Override PartName="/ppt/media/image2.png" ContentType="image/png"/>
  <Override PartName="/ppt/media/image4.wmf" ContentType="image/x-wmf"/>
  <Override PartName="/ppt/media/image3.png" ContentType="image/png"/>
  <Override PartName="/ppt/media/clap.wav" ContentType="audio/x-wav"/>
  <Override PartName="/ppt/media/projctor.wav" ContentType="audio/x-wav"/>
  <Override PartName="/ppt/media/image5.jpeg" ContentType="image/jpeg"/>
  <Override PartName="/ppt/media/type.wav" ContentType="audio/x-wav"/>
  <Override PartName="/ppt/media/carbrake.wav" ContentType="audio/x-wav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65E-5588-4D67-89D0-BE924CAE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E8C-C647-4641-81D9-6228B334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936-ED57-46CA-9B11-0A712AEA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757-0B36-4CA2-851C-B62ACA15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29F-8415-4671-BFDA-0B05454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1A8-5CE7-409D-8B85-592788D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012-5217-47DC-A5B9-1923424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59F-0075-402B-AE9E-236167D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4B9-53FE-46BB-B081-B2CC731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E53-F3FD-49CE-B3DD-70BD6A9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855-9BD4-4994-941E-F7A752C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D37-33D2-4406-A52F-A33364D5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995-1D26-4DD5-9253-6743BEDC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ap.wav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audio" Target="../media/type.wav"/><Relationship Id="rId9" Type="http://schemas.openxmlformats.org/officeDocument/2006/relationships/audio" Target="../media/applaus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8895900&amp;tn=baiduimagedetail&amp;word=&#27801;&#28448;&amp;in=8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5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6212160" cy="264816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2390040" y="5229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0"/>
          <p:cNvSpPr/>
          <p:nvPr/>
        </p:nvSpPr>
        <p:spPr>
          <a:xfrm>
            <a:off x="5554800" y="476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大戈壁的白杨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282120" y="476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白杨树的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爸爸表白的心愿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PE02716_"/>
          <p:cNvPicPr/>
          <p:nvPr/>
        </p:nvPicPr>
        <p:blipFill>
          <a:blip r:embed="rId2"/>
          <a:stretch/>
        </p:blipFill>
        <p:spPr>
          <a:xfrm>
            <a:off x="4643280" y="3429000"/>
            <a:ext cx="1820880" cy="1717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680400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教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滑雪道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03280" y="1258920"/>
            <a:ext cx="6769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0000"/>
                </a:solidFill>
                <a:latin typeface="Times New Roman"/>
              </a:rPr>
              <a:t>读读认认</a:t>
            </a:r>
            <a:r>
              <a:rPr b="0" i="1" lang="en-US" sz="7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大戈壁          清晰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介绍              新疆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131840" y="58928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4"/>
          <p:cNvSpPr/>
          <p:nvPr/>
        </p:nvSpPr>
        <p:spPr>
          <a:xfrm>
            <a:off x="304920" y="228600"/>
            <a:ext cx="84135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白杨树从来就这么直。哪儿需要它，它就在哪儿很快地生根发芽，长出粗壮的枝干。不管遇到风沙还是雨雪，不管遇到干旱还是洪水，它总是那么直，那么坚强，不软弱，也不动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8153280" y="12952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533520" y="1905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572000" y="1905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4952880" y="19051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1763640" y="242100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2195640" y="2421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5257800" y="838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533520" y="13716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65280" y="2819520"/>
            <a:ext cx="59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换词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893880" y="324180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大戈壁                                            大戈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1565280" y="37544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45840" y="36990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山  岗                                               山   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565280" y="428796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566640" y="423216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沙   漠                                               沙   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50920" y="33336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cc00"/>
                </a:solidFill>
                <a:latin typeface="Times New Roman"/>
              </a:rPr>
              <a:t>看图想象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i="1" lang="zh-CN" sz="4000" spc="-1" strike="noStrike">
                <a:solidFill>
                  <a:srgbClr val="00cc00"/>
                </a:solidFill>
                <a:latin typeface="Times New Roman"/>
              </a:rPr>
              <a:t>说说茫茫的大戈壁是怎样的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u=2071715649,449068456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8380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爸爸只是向孩子们介绍白杨吗？不是的，他也在表白着自己的心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4572000" y="1600200"/>
            <a:ext cx="9144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620120" y="1600200"/>
            <a:ext cx="4572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6320" y="356544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2940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换词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6320" y="43783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76320" y="51912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76320" y="60040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76320" y="21178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这儿需要它们，它们就在这儿生根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52280" y="373392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ffff"/>
                </a:solidFill>
                <a:latin typeface="Times New Roman"/>
              </a:rPr>
              <a:t>大戈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6248520" y="3733920"/>
            <a:ext cx="121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大戈壁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590920" y="373392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白杨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4267080" y="373392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白杨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380880" y="452592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新疆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6477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新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2514600" y="452592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爸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4267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4572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64771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4191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建设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243828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建设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572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647712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66688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343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d02-006a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39625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那是因为他看见火车前进的方向的右面，在一棵高大的白杨树身边，几棵小树正迎着风沙成长起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809880" y="5334120"/>
            <a:ext cx="43434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1523880" y="6095880"/>
            <a:ext cx="236232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4" descr="smallpic"/>
          <p:cNvPicPr/>
          <p:nvPr/>
        </p:nvPicPr>
        <p:blipFill>
          <a:blip r:embed="rId2"/>
          <a:stretch/>
        </p:blipFill>
        <p:spPr>
          <a:xfrm>
            <a:off x="-5292720" y="0"/>
            <a:ext cx="14436720" cy="7162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09" name="Rectangle 15"/>
          <p:cNvSpPr/>
          <p:nvPr/>
        </p:nvSpPr>
        <p:spPr>
          <a:xfrm>
            <a:off x="-2225520" y="2990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我想说说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漠变成绿洲的大戈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冰雪湖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1476360" y="692280"/>
            <a:ext cx="66247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我想说说</a:t>
            </a:r>
            <a:r>
              <a:rPr b="0" i="1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为了使沙漠变成绿洲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我们应该怎样做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D0CD-8AD3-40A5-B70C-64227752A6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0:42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04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