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334-72BE-47B3-BEE3-3DB128FB8D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BD98-603A-4E86-9CD3-B0A2F24007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753C-EDAE-4DCA-9E36-DB98153527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534-C9D2-4F77-8F47-4D48327D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B62-2F05-4FF6-804A-BA0EBF1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675-DB1D-46A3-AE11-C9E5806C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82A-1663-4C1C-9FA7-1011A6C1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DCF-B4E2-402C-A735-AA2BA217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E04-F7F1-4BF5-B1FB-7DFBFBA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013-46CE-445A-A2E0-C22B9ED6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F4E-92DF-41F0-8DD8-941C2DA8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8B3-9940-4EBB-AD77-A63FA56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628-E599-4F69-8E11-608EED4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0D1-40E9-4567-994E-7962A7B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347-0EA3-4B56-9543-1312896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E7BF-8A85-490B-BB4E-4EE17CCD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85880" y="766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四年级科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692360" y="2060640"/>
            <a:ext cx="561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风向和风速</a:t>
            </a:r>
            <a:endParaRPr b="1" lang="en-US" sz="5400" spc="-1" strike="noStrike">
              <a:ln w="0">
                <a:noFill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13696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3124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使用自制的风向标测量风向时应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南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确定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，风向的观测活动一定要在室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地方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2842920" y="981000"/>
            <a:ext cx="3529080" cy="2088720"/>
            <a:chOff x="2842920" y="981000"/>
            <a:chExt cx="3529080" cy="2088720"/>
          </a:xfrm>
        </p:grpSpPr>
        <p:sp>
          <p:nvSpPr>
            <p:cNvPr id="97" name="Line 5"/>
            <p:cNvSpPr/>
            <p:nvPr/>
          </p:nvSpPr>
          <p:spPr>
            <a:xfrm flipH="1">
              <a:off x="2842920" y="1253160"/>
              <a:ext cx="27068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 flipH="1">
              <a:off x="5314320" y="981000"/>
              <a:ext cx="1057680" cy="636480"/>
            </a:xfrm>
            <a:custGeom>
              <a:avLst/>
              <a:gdLst>
                <a:gd name="textAreaLeft" fmla="*/ 360 w 1057680"/>
                <a:gd name="textAreaRight" fmla="*/ 1058400 w 105768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4372920" y="1162800"/>
              <a:ext cx="0" cy="1361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4256640" y="1617480"/>
              <a:ext cx="233280" cy="145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风速等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92360" y="1557360"/>
          <a:ext cx="4967280" cy="4680000"/>
        </p:xfrm>
        <a:graphic>
          <a:graphicData uri="http://schemas.openxmlformats.org/drawingml/2006/table">
            <a:tbl>
              <a:tblPr/>
              <a:tblGrid>
                <a:gridCol w="933480"/>
                <a:gridCol w="4033800"/>
              </a:tblGrid>
              <a:tr h="160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无风（纸片不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微风（纸片微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风（纸片抖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drawingml/2006/table">
            <a:tbl>
              <a:tblPr/>
              <a:tblGrid>
                <a:gridCol w="1479600"/>
                <a:gridCol w="1836720"/>
                <a:gridCol w="5827680"/>
              </a:tblGrid>
              <a:tr h="83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速等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风级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秒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征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" action="ppaction://hlinksldjump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0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静：烟垂直上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2" action="ppaction://hlinksldjump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3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轻风：不能吹动风向标、但使烟飘移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3" action="ppaction://hlinksldjump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6-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微风：脸可感受到风吹，树叶沙沙响，风向标动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4" action="ppaction://hlinksldjump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4-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柔风：树叶、小树枝和旗被吹动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5" action="ppaction://hlinksldjump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5-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风：扬起尘土和纸片，树枝摇动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6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.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—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风：小树轻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7" action="ppaction://hlinksldjump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.8-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大风：大树摇摆，难以打伞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8" action="ppaction://hlinksldjump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.9-1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接近强风：整棵树摇，迎风走路不适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9" action="ppaction://hlinksldjump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2-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风：树枝从树上折断，难以迎风走路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0" action="ppaction://hlinksldjump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.8-2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强风：对建筑物有损伤，瓦片吹落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1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.5-2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暴：树连根拔起，损坏性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2" action="ppaction://hlinksldjump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.5-3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巨型风暴：大面积的损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黑体"/>
                          <a:ea typeface="黑体"/>
                          <a:hlinkClick r:id="rId13" action="ppaction://hlinksldjump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.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及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飓风：内陆少见，暴力性的损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6">
            <a:hlinkClick r:id="rId1" action="ppaction://hlinksldjump"/>
          </p:cNvPr>
          <p:cNvSpPr/>
          <p:nvPr/>
        </p:nvSpPr>
        <p:spPr>
          <a:xfrm>
            <a:off x="7308720" y="6237360"/>
            <a:ext cx="1584360" cy="360360"/>
          </a:xfrm>
          <a:custGeom>
            <a:avLst/>
            <a:gdLst>
              <a:gd name="textAreaLeft" fmla="*/ 23040 w 1584360"/>
              <a:gd name="textAreaRight" fmla="*/ 1561320 w 1584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4893" h="21600">
                <a:moveTo>
                  <a:pt x="0" y="0"/>
                </a:moveTo>
                <a:lnTo>
                  <a:pt x="94893" y="0"/>
                </a:lnTo>
                <a:lnTo>
                  <a:pt x="94893" y="21600"/>
                </a:lnTo>
                <a:lnTo>
                  <a:pt x="0" y="21600"/>
                </a:lnTo>
                <a:close/>
              </a:path>
              <a:path fill="lightenLess" w="94893" h="21600">
                <a:moveTo>
                  <a:pt x="0" y="0"/>
                </a:moveTo>
                <a:lnTo>
                  <a:pt x="94893" y="0"/>
                </a:lnTo>
                <a:lnTo>
                  <a:pt x="93493" y="1400"/>
                </a:lnTo>
                <a:lnTo>
                  <a:pt x="1400" y="1400"/>
                </a:lnTo>
                <a:close/>
              </a:path>
              <a:path fill="darken" w="94893" h="21600">
                <a:moveTo>
                  <a:pt x="94893" y="0"/>
                </a:moveTo>
                <a:lnTo>
                  <a:pt x="94893" y="21600"/>
                </a:lnTo>
                <a:lnTo>
                  <a:pt x="93493" y="20200"/>
                </a:lnTo>
                <a:lnTo>
                  <a:pt x="93493" y="1400"/>
                </a:lnTo>
                <a:close/>
              </a:path>
              <a:path fill="darkenLess" w="94893" h="21600">
                <a:moveTo>
                  <a:pt x="9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93" y="20200"/>
                </a:lnTo>
                <a:close/>
              </a:path>
              <a:path fill="lighten" w="9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893" h="21600">
                <a:moveTo>
                  <a:pt x="50946" y="10800"/>
                </a:moveTo>
                <a:lnTo>
                  <a:pt x="40440" y="17806"/>
                </a:lnTo>
                <a:lnTo>
                  <a:pt x="40440" y="3794"/>
                </a:lnTo>
                <a:close/>
              </a:path>
              <a:path fill="darken" w="94893" h="21600">
                <a:moveTo>
                  <a:pt x="52791" y="3794"/>
                </a:moveTo>
                <a:lnTo>
                  <a:pt x="52791" y="17806"/>
                </a:lnTo>
                <a:lnTo>
                  <a:pt x="54453" y="17806"/>
                </a:lnTo>
                <a:lnTo>
                  <a:pt x="5445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0"/>
          <p:cNvPicPr/>
          <p:nvPr/>
        </p:nvPicPr>
        <p:blipFill>
          <a:blip r:embed="rId2"/>
          <a:stretch/>
        </p:blipFill>
        <p:spPr>
          <a:xfrm>
            <a:off x="1476360" y="1052640"/>
            <a:ext cx="5759640" cy="33843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0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轻风（1）"/>
          <p:cNvPicPr/>
          <p:nvPr/>
        </p:nvPicPr>
        <p:blipFill>
          <a:blip r:embed="rId1"/>
          <a:stretch/>
        </p:blipFill>
        <p:spPr>
          <a:xfrm>
            <a:off x="324000" y="26028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rId2" action="ppaction://hlinksldjump"/>
          </p:cNvPr>
          <p:cNvSpPr/>
          <p:nvPr/>
        </p:nvSpPr>
        <p:spPr>
          <a:xfrm>
            <a:off x="7308720" y="595008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34108" y="10800"/>
                </a:moveTo>
                <a:lnTo>
                  <a:pt x="23603" y="17806"/>
                </a:lnTo>
                <a:lnTo>
                  <a:pt x="23603" y="3794"/>
                </a:lnTo>
                <a:close/>
              </a:path>
              <a:path fill="darken" w="61218" h="21600">
                <a:moveTo>
                  <a:pt x="35953" y="3794"/>
                </a:moveTo>
                <a:lnTo>
                  <a:pt x="35953" y="17806"/>
                </a:lnTo>
                <a:lnTo>
                  <a:pt x="37615" y="17806"/>
                </a:lnTo>
                <a:lnTo>
                  <a:pt x="3761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6012000" y="476280"/>
            <a:ext cx="201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723600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28708" y="10800"/>
                </a:moveTo>
                <a:lnTo>
                  <a:pt x="18203" y="17806"/>
                </a:lnTo>
                <a:lnTo>
                  <a:pt x="18203" y="3794"/>
                </a:lnTo>
                <a:close/>
              </a:path>
              <a:path fill="darken" w="50418" h="21600">
                <a:moveTo>
                  <a:pt x="30553" y="3794"/>
                </a:moveTo>
                <a:lnTo>
                  <a:pt x="30553" y="17806"/>
                </a:lnTo>
                <a:lnTo>
                  <a:pt x="32215" y="17806"/>
                </a:lnTo>
                <a:lnTo>
                  <a:pt x="3221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2"/>
          <p:cNvPicPr/>
          <p:nvPr/>
        </p:nvPicPr>
        <p:blipFill>
          <a:blip r:embed="rId2"/>
          <a:stretch/>
        </p:blipFill>
        <p:spPr>
          <a:xfrm>
            <a:off x="2627280" y="1484280"/>
            <a:ext cx="3600360" cy="2604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rId1" action="ppaction://hlinksldjump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44479" y="10800"/>
                </a:moveTo>
                <a:lnTo>
                  <a:pt x="33973" y="17806"/>
                </a:lnTo>
                <a:lnTo>
                  <a:pt x="33973" y="3794"/>
                </a:lnTo>
                <a:close/>
              </a:path>
              <a:path fill="darken" w="81959" h="21600">
                <a:moveTo>
                  <a:pt x="46324" y="3794"/>
                </a:moveTo>
                <a:lnTo>
                  <a:pt x="46324" y="17806"/>
                </a:lnTo>
                <a:lnTo>
                  <a:pt x="47986" y="17806"/>
                </a:lnTo>
                <a:lnTo>
                  <a:pt x="4798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"/>
          <p:cNvPicPr/>
          <p:nvPr/>
        </p:nvPicPr>
        <p:blipFill>
          <a:blip r:embed="rId2"/>
          <a:stretch/>
        </p:blipFill>
        <p:spPr>
          <a:xfrm>
            <a:off x="1403280" y="1341360"/>
            <a:ext cx="5761080" cy="25765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0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风的力量（7）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592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7380360" y="5877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27762" y="10800"/>
                </a:moveTo>
                <a:lnTo>
                  <a:pt x="17256" y="17806"/>
                </a:lnTo>
                <a:lnTo>
                  <a:pt x="17256" y="3794"/>
                </a:lnTo>
                <a:close/>
              </a:path>
              <a:path fill="darken" w="48526" h="21600">
                <a:moveTo>
                  <a:pt x="29607" y="3794"/>
                </a:moveTo>
                <a:lnTo>
                  <a:pt x="29607" y="17806"/>
                </a:lnTo>
                <a:lnTo>
                  <a:pt x="31269" y="17806"/>
                </a:lnTo>
                <a:lnTo>
                  <a:pt x="312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风的力量（8）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7093080" y="5734080"/>
            <a:ext cx="1366560" cy="431640"/>
          </a:xfrm>
          <a:custGeom>
            <a:avLst/>
            <a:gdLst>
              <a:gd name="textAreaLeft" fmla="*/ 27720 w 1366560"/>
              <a:gd name="textAreaRight" fmla="*/ 1338840 w 1366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346" h="21600">
                <a:moveTo>
                  <a:pt x="0" y="0"/>
                </a:moveTo>
                <a:lnTo>
                  <a:pt x="68346" y="0"/>
                </a:lnTo>
                <a:lnTo>
                  <a:pt x="68346" y="21600"/>
                </a:lnTo>
                <a:lnTo>
                  <a:pt x="0" y="21600"/>
                </a:lnTo>
                <a:close/>
              </a:path>
              <a:path fill="lightenLess" w="68346" h="21600">
                <a:moveTo>
                  <a:pt x="0" y="0"/>
                </a:moveTo>
                <a:lnTo>
                  <a:pt x="68346" y="0"/>
                </a:lnTo>
                <a:lnTo>
                  <a:pt x="66946" y="1400"/>
                </a:lnTo>
                <a:lnTo>
                  <a:pt x="1400" y="1400"/>
                </a:lnTo>
                <a:close/>
              </a:path>
              <a:path fill="darken" w="68346" h="21600">
                <a:moveTo>
                  <a:pt x="68346" y="0"/>
                </a:moveTo>
                <a:lnTo>
                  <a:pt x="68346" y="21600"/>
                </a:lnTo>
                <a:lnTo>
                  <a:pt x="66946" y="20200"/>
                </a:lnTo>
                <a:lnTo>
                  <a:pt x="66946" y="1400"/>
                </a:lnTo>
                <a:close/>
              </a:path>
              <a:path fill="darkenLess" w="68346" h="21600">
                <a:moveTo>
                  <a:pt x="68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46" y="20200"/>
                </a:lnTo>
                <a:close/>
              </a:path>
              <a:path fill="lighten" w="68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46" h="21600">
                <a:moveTo>
                  <a:pt x="37672" y="10800"/>
                </a:moveTo>
                <a:lnTo>
                  <a:pt x="27167" y="17806"/>
                </a:lnTo>
                <a:lnTo>
                  <a:pt x="27167" y="3794"/>
                </a:lnTo>
                <a:close/>
              </a:path>
              <a:path fill="darken" w="68346" h="21600">
                <a:moveTo>
                  <a:pt x="39517" y="3794"/>
                </a:moveTo>
                <a:lnTo>
                  <a:pt x="39517" y="17806"/>
                </a:lnTo>
                <a:lnTo>
                  <a:pt x="41179" y="17806"/>
                </a:lnTo>
                <a:lnTo>
                  <a:pt x="4117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2124000" y="2276280"/>
            <a:ext cx="47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见它皱眉，花见它弯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树见它摇头，云见它就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风的力量（3）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rId2" action="ppaction://hlinksldjump"/>
          </p:cNvPr>
          <p:cNvSpPr/>
          <p:nvPr/>
        </p:nvSpPr>
        <p:spPr>
          <a:xfrm>
            <a:off x="766764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6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风的力量（4）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7093080" y="566100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56" h="21600">
                <a:moveTo>
                  <a:pt x="26427" y="10800"/>
                </a:moveTo>
                <a:lnTo>
                  <a:pt x="15922" y="17806"/>
                </a:lnTo>
                <a:lnTo>
                  <a:pt x="15922" y="3794"/>
                </a:lnTo>
                <a:close/>
              </a:path>
              <a:path fill="darken" w="45856" h="21600">
                <a:moveTo>
                  <a:pt x="28272" y="3794"/>
                </a:moveTo>
                <a:lnTo>
                  <a:pt x="28272" y="17806"/>
                </a:lnTo>
                <a:lnTo>
                  <a:pt x="29935" y="17806"/>
                </a:lnTo>
                <a:lnTo>
                  <a:pt x="2993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3564000" y="4149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7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风的力量（2）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60264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6804000" y="566100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56" h="21600">
                <a:moveTo>
                  <a:pt x="15922" y="3794"/>
                </a:moveTo>
                <a:lnTo>
                  <a:pt x="29935" y="10800"/>
                </a:lnTo>
                <a:lnTo>
                  <a:pt x="1592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风的力量（1）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3374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>
            <a:hlinkClick r:id="rId2" action="ppaction://hlinksldjump"/>
          </p:cNvPr>
          <p:cNvSpPr/>
          <p:nvPr/>
        </p:nvSpPr>
        <p:spPr>
          <a:xfrm>
            <a:off x="7236000" y="5877000"/>
            <a:ext cx="1584000" cy="718920"/>
          </a:xfrm>
          <a:custGeom>
            <a:avLst/>
            <a:gdLst>
              <a:gd name="textAreaLeft" fmla="*/ 46440 w 1584000"/>
              <a:gd name="textAreaRight" fmla="*/ 1537560 w 1584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7578" h="21600">
                <a:moveTo>
                  <a:pt x="0" y="0"/>
                </a:moveTo>
                <a:lnTo>
                  <a:pt x="47578" y="0"/>
                </a:lnTo>
                <a:lnTo>
                  <a:pt x="47578" y="21600"/>
                </a:lnTo>
                <a:lnTo>
                  <a:pt x="0" y="21600"/>
                </a:lnTo>
                <a:close/>
              </a:path>
              <a:path fill="lightenLess" w="47578" h="21600">
                <a:moveTo>
                  <a:pt x="0" y="0"/>
                </a:moveTo>
                <a:lnTo>
                  <a:pt x="47578" y="0"/>
                </a:lnTo>
                <a:lnTo>
                  <a:pt x="46178" y="1400"/>
                </a:lnTo>
                <a:lnTo>
                  <a:pt x="1400" y="1400"/>
                </a:lnTo>
                <a:close/>
              </a:path>
              <a:path fill="darken" w="47578" h="21600">
                <a:moveTo>
                  <a:pt x="47578" y="0"/>
                </a:moveTo>
                <a:lnTo>
                  <a:pt x="47578" y="21600"/>
                </a:lnTo>
                <a:lnTo>
                  <a:pt x="46178" y="20200"/>
                </a:lnTo>
                <a:lnTo>
                  <a:pt x="46178" y="1400"/>
                </a:lnTo>
                <a:close/>
              </a:path>
              <a:path fill="darkenLess" w="47578" h="21600">
                <a:moveTo>
                  <a:pt x="47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78" y="20200"/>
                </a:lnTo>
                <a:close/>
              </a:path>
              <a:path fill="lighten" w="47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78" h="21600">
                <a:moveTo>
                  <a:pt x="20290" y="10800"/>
                </a:moveTo>
                <a:lnTo>
                  <a:pt x="30796" y="3794"/>
                </a:lnTo>
                <a:lnTo>
                  <a:pt x="30796" y="17806"/>
                </a:lnTo>
                <a:close/>
              </a:path>
              <a:path fill="darken" w="47578" h="21600">
                <a:moveTo>
                  <a:pt x="16783" y="3794"/>
                </a:moveTo>
                <a:lnTo>
                  <a:pt x="18445" y="3794"/>
                </a:lnTo>
                <a:lnTo>
                  <a:pt x="18445" y="17806"/>
                </a:lnTo>
                <a:lnTo>
                  <a:pt x="167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9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风的力量（5）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61038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>
            <a:hlinkClick r:id="rId2" action="ppaction://hlinksldjump"/>
          </p:cNvPr>
          <p:cNvSpPr/>
          <p:nvPr/>
        </p:nvSpPr>
        <p:spPr>
          <a:xfrm>
            <a:off x="7380360" y="602136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58" h="21600">
                <a:moveTo>
                  <a:pt x="34378" y="10800"/>
                </a:moveTo>
                <a:lnTo>
                  <a:pt x="23873" y="17806"/>
                </a:lnTo>
                <a:lnTo>
                  <a:pt x="23873" y="3794"/>
                </a:lnTo>
                <a:close/>
              </a:path>
              <a:path fill="darken" w="61758" h="21600">
                <a:moveTo>
                  <a:pt x="36223" y="3794"/>
                </a:moveTo>
                <a:lnTo>
                  <a:pt x="36223" y="17806"/>
                </a:lnTo>
                <a:lnTo>
                  <a:pt x="37886" y="17806"/>
                </a:lnTo>
                <a:lnTo>
                  <a:pt x="3788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风的力量（6）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rId2" action="ppaction://hlinksldjump"/>
          </p:cNvPr>
          <p:cNvSpPr/>
          <p:nvPr/>
        </p:nvSpPr>
        <p:spPr>
          <a:xfrm>
            <a:off x="7596360" y="602136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31544" y="10800"/>
                </a:moveTo>
                <a:lnTo>
                  <a:pt x="21039" y="17806"/>
                </a:lnTo>
                <a:lnTo>
                  <a:pt x="21039" y="3794"/>
                </a:lnTo>
                <a:close/>
              </a:path>
              <a:path fill="darken" w="56091" h="21600">
                <a:moveTo>
                  <a:pt x="33390" y="3794"/>
                </a:moveTo>
                <a:lnTo>
                  <a:pt x="33390" y="17806"/>
                </a:lnTo>
                <a:lnTo>
                  <a:pt x="35052" y="17806"/>
                </a:lnTo>
                <a:lnTo>
                  <a:pt x="3505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3564000" y="494172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1035000" y="663480"/>
            <a:ext cx="62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434701_190417049000_2"/>
          <p:cNvPicPr/>
          <p:nvPr/>
        </p:nvPicPr>
        <p:blipFill>
          <a:blip r:embed="rId1"/>
          <a:stretch/>
        </p:blipFill>
        <p:spPr>
          <a:xfrm>
            <a:off x="539640" y="231840"/>
            <a:ext cx="8207640" cy="66261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rId2" action="ppaction://hlinksldjump"/>
          </p:cNvPr>
          <p:cNvSpPr/>
          <p:nvPr/>
        </p:nvSpPr>
        <p:spPr>
          <a:xfrm>
            <a:off x="7308720" y="623736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54" h="21600">
                <a:moveTo>
                  <a:pt x="46726" y="10800"/>
                </a:moveTo>
                <a:lnTo>
                  <a:pt x="36221" y="17806"/>
                </a:lnTo>
                <a:lnTo>
                  <a:pt x="36221" y="3794"/>
                </a:lnTo>
                <a:close/>
              </a:path>
              <a:path fill="darken" w="86454" h="21600">
                <a:moveTo>
                  <a:pt x="48571" y="3794"/>
                </a:moveTo>
                <a:lnTo>
                  <a:pt x="48571" y="17806"/>
                </a:lnTo>
                <a:lnTo>
                  <a:pt x="50234" y="17806"/>
                </a:lnTo>
                <a:lnTo>
                  <a:pt x="5023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3995640" y="544500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级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未标题-1_06"/>
          <p:cNvPicPr/>
          <p:nvPr/>
        </p:nvPicPr>
        <p:blipFill>
          <a:blip r:embed="rId1"/>
          <a:stretch/>
        </p:blipFill>
        <p:spPr>
          <a:xfrm>
            <a:off x="3132000" y="26028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50880" y="1693800"/>
            <a:ext cx="345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零级无风炊烟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50880" y="2303640"/>
            <a:ext cx="338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一级软风烟稍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47640" y="291312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二级轻风吹脸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50880" y="3522600"/>
            <a:ext cx="31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三级微风红旗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550880" y="4132440"/>
            <a:ext cx="32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四级和风纸片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550880" y="474192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五级清风水起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550880" y="5351400"/>
            <a:ext cx="326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六级强风举伞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986360" y="1782720"/>
            <a:ext cx="331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七级疾风步难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86360" y="2468520"/>
            <a:ext cx="302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八级大风树枝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986360" y="3154320"/>
            <a:ext cx="30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九级烈风瓦片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986360" y="3840120"/>
            <a:ext cx="30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级狂风树根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003640" y="4602240"/>
            <a:ext cx="337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一级暴风陆罕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003640" y="5288040"/>
            <a:ext cx="337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姚体"/>
                <a:ea typeface="楷体_GB2312"/>
              </a:rPr>
              <a:t>十二级台风浪滔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3924360" y="1197000"/>
            <a:ext cx="16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级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20AF-7C7E-4A29-B4E4-9E7CA9363B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643280" cy="345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616fc818e6707a2435fa41a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9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xinsrc_330302311020250096836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图片1"/>
          <p:cNvPicPr/>
          <p:nvPr/>
        </p:nvPicPr>
        <p:blipFill>
          <a:blip r:embed="rId4"/>
          <a:stretch/>
        </p:blipFill>
        <p:spPr>
          <a:xfrm>
            <a:off x="4643280" y="3494160"/>
            <a:ext cx="45007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方位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4140360" y="1052640"/>
            <a:ext cx="576000" cy="720720"/>
          </a:xfrm>
          <a:prstGeom prst="downArrow">
            <a:avLst>
              <a:gd name="adj1" fmla="val 50000"/>
              <a:gd name="adj2" fmla="val 3127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195640" y="2997360"/>
            <a:ext cx="934920" cy="574560"/>
          </a:xfrm>
          <a:prstGeom prst="rightArrow">
            <a:avLst>
              <a:gd name="adj1" fmla="val 50000"/>
              <a:gd name="adj2" fmla="val 4067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 rot="18899400">
            <a:off x="5686920" y="4326120"/>
            <a:ext cx="576360" cy="936720"/>
          </a:xfrm>
          <a:prstGeom prst="upArrow">
            <a:avLst>
              <a:gd name="adj1" fmla="val 50000"/>
              <a:gd name="adj2" fmla="val 40623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南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343640" y="5877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风向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835280" y="6021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风向：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64724E-006 L -1.38889E-006 0.57714 E">
                                      <p:cBhvr>
                                        <p:cTn id="14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82211E-006 L 0.41354 -2.82211E-006 E">
                                      <p:cBhvr>
                                        <p:cTn id="2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3706E-007 L -0.33473 -0.43003 E">
                                      <p:cBhvr>
                                        <p:cTn id="3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720" y="-360"/>
            <a:ext cx="9141120" cy="6857640"/>
            <a:chOff x="-36720" y="-360"/>
            <a:chExt cx="9141120" cy="685764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72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-3636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5"/>
          <p:cNvGrpSpPr/>
          <p:nvPr/>
        </p:nvGrpSpPr>
        <p:grpSpPr>
          <a:xfrm>
            <a:off x="684360" y="3933720"/>
            <a:ext cx="1799640" cy="2069280"/>
            <a:chOff x="684360" y="3933720"/>
            <a:chExt cx="1799640" cy="2069280"/>
          </a:xfrm>
        </p:grpSpPr>
        <p:sp>
          <p:nvSpPr>
            <p:cNvPr id="68" name="Line 6"/>
            <p:cNvSpPr/>
            <p:nvPr/>
          </p:nvSpPr>
          <p:spPr>
            <a:xfrm>
              <a:off x="828720" y="4967280"/>
              <a:ext cx="1439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547640" y="4174920"/>
              <a:ext cx="0" cy="165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1332000" y="39337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684360" y="4751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332000" y="55432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1979640" y="47512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3565440" y="260280"/>
            <a:ext cx="4535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据旗面飘动的情况辨别风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2"/>
          <p:cNvPicPr/>
          <p:nvPr/>
        </p:nvPicPr>
        <p:blipFill>
          <a:blip r:embed="rId3"/>
          <a:stretch/>
        </p:blipFill>
        <p:spPr>
          <a:xfrm>
            <a:off x="250920" y="765000"/>
            <a:ext cx="266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4559400" y="404640"/>
            <a:ext cx="44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向测量工具：风向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向标的箭头指向的是风吹来的方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8-4b"/>
          <p:cNvPicPr/>
          <p:nvPr/>
        </p:nvPicPr>
        <p:blipFill>
          <a:blip r:embed="rId1"/>
          <a:stretch/>
        </p:blipFill>
        <p:spPr>
          <a:xfrm>
            <a:off x="2340000" y="1916280"/>
            <a:ext cx="4105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2484360" y="476280"/>
            <a:ext cx="457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动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风向标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" name="Picture 3" descr="u=3319110742,2006651671&amp;fm=0&amp;gp=-30"/>
          <p:cNvPicPr/>
          <p:nvPr/>
        </p:nvPicPr>
        <p:blipFill>
          <a:blip r:embed="rId1"/>
          <a:stretch/>
        </p:blipFill>
        <p:spPr>
          <a:xfrm>
            <a:off x="250920" y="242100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2301"/>
          <p:cNvPicPr/>
          <p:nvPr/>
        </p:nvPicPr>
        <p:blipFill>
          <a:blip r:embed="rId2"/>
          <a:stretch/>
        </p:blipFill>
        <p:spPr>
          <a:xfrm>
            <a:off x="5940360" y="1197000"/>
            <a:ext cx="2870280" cy="196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7447147"/>
          <p:cNvPicPr/>
          <p:nvPr/>
        </p:nvPicPr>
        <p:blipFill>
          <a:blip r:embed="rId3"/>
          <a:stretch/>
        </p:blipFill>
        <p:spPr>
          <a:xfrm>
            <a:off x="6084720" y="4437000"/>
            <a:ext cx="2630520" cy="212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D094"/>
          <p:cNvPicPr/>
          <p:nvPr/>
        </p:nvPicPr>
        <p:blipFill>
          <a:blip r:embed="rId4"/>
          <a:stretch/>
        </p:blipFill>
        <p:spPr>
          <a:xfrm>
            <a:off x="3348000" y="134136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olden-big"/>
          <p:cNvPicPr/>
          <p:nvPr/>
        </p:nvPicPr>
        <p:blipFill>
          <a:blip r:embed="rId5"/>
          <a:stretch/>
        </p:blipFill>
        <p:spPr>
          <a:xfrm>
            <a:off x="2411280" y="3716280"/>
            <a:ext cx="3429000" cy="29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%E9%92%88"/>
          <p:cNvPicPr/>
          <p:nvPr/>
        </p:nvPicPr>
        <p:blipFill>
          <a:blip r:embed="rId6"/>
          <a:stretch/>
        </p:blipFill>
        <p:spPr>
          <a:xfrm>
            <a:off x="324000" y="1052640"/>
            <a:ext cx="2089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5"/>
          <p:cNvGrpSpPr/>
          <p:nvPr/>
        </p:nvGrpSpPr>
        <p:grpSpPr>
          <a:xfrm>
            <a:off x="178920" y="1413000"/>
            <a:ext cx="3529080" cy="2302560"/>
            <a:chOff x="178920" y="1413000"/>
            <a:chExt cx="3529080" cy="2302560"/>
          </a:xfrm>
        </p:grpSpPr>
        <p:sp>
          <p:nvSpPr>
            <p:cNvPr id="86" name="Line 6"/>
            <p:cNvSpPr/>
            <p:nvPr/>
          </p:nvSpPr>
          <p:spPr>
            <a:xfrm flipH="1">
              <a:off x="178920" y="1713240"/>
              <a:ext cx="27068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 flipH="1">
              <a:off x="2650320" y="1413000"/>
              <a:ext cx="1057680" cy="701640"/>
            </a:xfrm>
            <a:custGeom>
              <a:avLst/>
              <a:gdLst>
                <a:gd name="textAreaLeft" fmla="*/ 360 w 1057680"/>
                <a:gd name="textAreaRight" fmla="*/ 1058400 w 10576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1708920" y="1613520"/>
              <a:ext cx="0" cy="150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1592640" y="2114640"/>
              <a:ext cx="233280" cy="160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3924360" y="1268280"/>
            <a:ext cx="496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制作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选一根硬一点的吸管，在吸管的两端纵向切开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厘米的缝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硬纸板剪一个大小适中的箭头和一个稍大的箭翼。分别插入吸管两端的空隙，并固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一根大头针穿过吸管平衡点并插入铅笔一段的象皮肿，使其能自由转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：箭头和箭翼以及插入的大头针要尽可能在同一平面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68360" y="5373720"/>
            <a:ext cx="75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风向标的箭头指向的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风吹来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6"/>
          <p:cNvSpPr txBox="1"/>
          <p:nvPr/>
        </p:nvSpPr>
        <p:spPr>
          <a:xfrm>
            <a:off x="2268360" y="476280"/>
            <a:ext cx="457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动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风向标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0" y="1557360"/>
            <a:ext cx="1018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在请同学们拿出老师给你们发的方位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铅笔芯插入方位图的中心点。自己从不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角度向风向标吹气，自己测量一下你吹得是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么方向的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0:40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29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