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6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0.jpeg" ContentType="image/jpeg"/>
  <Override PartName="/ppt/media/image15.gif" ContentType="image/gif"/>
  <Override PartName="/ppt/media/image1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638-2CAB-489C-8B06-9D79CD92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BB3-3289-439D-ABF6-61A00E17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20E-2F8F-4AB0-83E4-4AF59AAE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DA8-C76B-43DE-A262-E292AE26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1CE-196E-4178-ACC6-04CDD92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106-E233-46A2-BC39-FD3A8A13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C3D-DB47-4446-A7AB-67CBE16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FB0-E4F0-4B10-AA54-6B9BCE42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EF5-D04F-4834-B14F-E4DA893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6DD-324C-47D2-8080-B737EC9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CFB-A0B5-4426-8F57-791D540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55C-1B05-4085-8284-953E1A9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85A8-853A-44DE-8D6C-4EE9F446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1.xml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16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9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8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752480" y="692280"/>
            <a:ext cx="53341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盲孩子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581280" y="2590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50920" y="4292640"/>
            <a:ext cx="40388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他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5037120" y="3141720"/>
            <a:ext cx="358128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31680">
                  <a:solidFill>
                    <a:srgbClr val="faf514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影子</a:t>
            </a:r>
            <a:endParaRPr b="1" i="1" lang="en-US" sz="1800" spc="1" strike="noStrike">
              <a:ln w="31680">
                <a:solidFill>
                  <a:srgbClr val="faf514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2550240" y="6192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295280" y="1279440"/>
            <a:ext cx="6400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        </a:t>
            </a:r>
            <a:r>
              <a:rPr b="1" lang="zh-CN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画出表现盲孩子心情变化的关键语句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1.wav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405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1143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有一天，影子来了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从此，影子天天陪着他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于影子的来历，盲孩子觉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又新奇又兴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当他得知是光明带来了影子，盲孩子很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感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感受到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友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温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每当人们夸赞他的影子时，盲孩子都会感到无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9640" y="83664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夏夜，他们去散步，盲孩子对萤火虫十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第一次模糊地感受到萤火虫的光亮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几乎大声喊叫起来。这个晚上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心情好极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风雨来了，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零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站在旷野上，他很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过了很久，萤火虫来了，影子也回来了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拥抱在了一起。雨停了，天晴了，盲孩子重见光明了！他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看着眼前的世界。盲孩子望着影子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295280" y="1676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归纳一下本文的主要情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herap.mp3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471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828800" y="167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盲孩子很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82880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影子的陪伴给孩子带来快乐和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82880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萤火虫、影子、太阳和月亮的爱使盲孩子得到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43000" y="1219320"/>
            <a:ext cx="6629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你最喜欢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觉得写得最美的或最受感动的是文章中的哪一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6212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心灵的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对生活充满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友情的感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006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334120"/>
            <a:ext cx="96192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GH_071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27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给别人幸福，自己也能获得幸福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28" descr="003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64560" y="6172200"/>
            <a:ext cx="127944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008"/>
          <p:cNvPicPr/>
          <p:nvPr/>
        </p:nvPicPr>
        <p:blipFill>
          <a:blip r:embed="rId1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7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28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9" descr="star"/>
          <p:cNvPicPr/>
          <p:nvPr/>
        </p:nvPicPr>
        <p:blipFill>
          <a:blip r:embed="rId4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30"/>
          <p:cNvSpPr/>
          <p:nvPr/>
        </p:nvSpPr>
        <p:spPr>
          <a:xfrm>
            <a:off x="685800" y="2895480"/>
            <a:ext cx="7391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ad624"/>
                </a:solidFill>
                <a:latin typeface="Times New Roman"/>
                <a:ea typeface="隶书"/>
              </a:rPr>
              <a:t>         </a:t>
            </a:r>
            <a:r>
              <a:rPr b="0" i="1" lang="zh-CN" sz="6000" spc="-1" strike="noStrike">
                <a:solidFill>
                  <a:srgbClr val="faf514"/>
                </a:solidFill>
                <a:latin typeface="Times New Roman"/>
                <a:ea typeface="隶书"/>
              </a:rPr>
              <a:t>做一个有能力获得幸福也让别人获得幸福的人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31" descr="star"/>
          <p:cNvPicPr/>
          <p:nvPr/>
        </p:nvPicPr>
        <p:blipFill>
          <a:blip r:embed="rId5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33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宽阔.MP3" descr=""/>
          <p:cNvPicPr/>
          <p:nvPr/>
        </p:nvPicPr>
        <p:blipFill>
          <a:blip r:embed="rId8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3520" y="1600200"/>
            <a:ext cx="80769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乐观、积极 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坚强、快乐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914400"/>
            <a:ext cx="883908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夜给了我黑色的眼睛，我用它来寻找光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顾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眼睛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69840" y="627372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爱的奉献.mp3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112840" y="155520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白朗宁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我是幸福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被爱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920" y="716040"/>
            <a:ext cx="95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纪伯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笑过的人，你可能把他忘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哭过的人，你却永远不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2924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佚   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真友谊像磷火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在你周围最黑暗的时刻显得最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03280" y="2205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有这种永远不忘的朋友吗？你有磷火一般在别人最黑暗时给他光明的经历吗？请你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为中心，结合自身生活经历，写篇短文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971640" y="907920"/>
            <a:ext cx="277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动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爱的奉献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11280" y="549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童话有结束的时候，爱却永无止境。只要人人都献出一点爱，世界将变成美好的人间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676520" y="1295280"/>
            <a:ext cx="60958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        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营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造了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一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种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纯真、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友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好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氛围，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具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有诗情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画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意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境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界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ramp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5079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324000" y="1844640"/>
            <a:ext cx="7451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盲孩子热爱生活，渴望光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把盲孩子周围的世界织成了一种绚丽的境界。吸引、感染着读者，使读者获得美的熏陶。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2286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意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97488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按句排行，短小、活泼、跳跃，像小溪流水，自然流畅，叮咚有声，适合表现童话内容，适合孩子们的阅读心理。大量运用叠词，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静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轻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潺潺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沉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阵阵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幽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飘忽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模糊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踉踉跄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跌跌爬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等。   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些词语不仅描写情态逼真，而且舒缓语气，琅琅上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1522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2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80060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star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star"/>
          <p:cNvPicPr/>
          <p:nvPr/>
        </p:nvPicPr>
        <p:blipFill>
          <a:blip r:embed="rId2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8"/>
          <p:cNvPicPr/>
          <p:nvPr/>
        </p:nvPicPr>
        <p:blipFill>
          <a:blip r:embed="rId3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tar"/>
          <p:cNvPicPr/>
          <p:nvPr/>
        </p:nvPicPr>
        <p:blipFill>
          <a:blip r:embed="rId4"/>
          <a:stretch/>
        </p:blipFill>
        <p:spPr>
          <a:xfrm>
            <a:off x="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star"/>
          <p:cNvPicPr/>
          <p:nvPr/>
        </p:nvPicPr>
        <p:blipFill>
          <a:blip r:embed="rId5"/>
          <a:stretch/>
        </p:blipFill>
        <p:spPr>
          <a:xfrm>
            <a:off x="701028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star"/>
          <p:cNvPicPr/>
          <p:nvPr/>
        </p:nvPicPr>
        <p:blipFill>
          <a:blip r:embed="rId6"/>
          <a:stretch/>
        </p:blipFill>
        <p:spPr>
          <a:xfrm>
            <a:off x="739152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228600" y="35053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af514"/>
                </a:solidFill>
                <a:latin typeface="方正舒体"/>
                <a:ea typeface="方正舒体"/>
              </a:rPr>
              <a:t>主题探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008"/>
          <p:cNvPicPr/>
          <p:nvPr/>
        </p:nvPicPr>
        <p:blipFill>
          <a:blip r:embed="rId1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tar"/>
          <p:cNvPicPr/>
          <p:nvPr/>
        </p:nvPicPr>
        <p:blipFill>
          <a:blip r:embed="rId4"/>
          <a:stretch/>
        </p:blipFill>
        <p:spPr>
          <a:xfrm>
            <a:off x="80773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tar"/>
          <p:cNvPicPr/>
          <p:nvPr/>
        </p:nvPicPr>
        <p:blipFill>
          <a:blip r:embed="rId5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24000" y="365040"/>
            <a:ext cx="830556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从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萤火虫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对盲孩子的关爱、帮助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最后也获得生命  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7f2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516720" y="2924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a2"/>
          <p:cNvPicPr/>
          <p:nvPr/>
        </p:nvPicPr>
        <p:blipFill>
          <a:blip r:embed="rId1"/>
          <a:stretch/>
        </p:blipFill>
        <p:spPr>
          <a:xfrm>
            <a:off x="5654520" y="1905120"/>
            <a:ext cx="348948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85800" y="10666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童话是儿童文学的一种，它通过丰富的想象、幻想和夸张来塑造形象，反映生活，对儿童进行思想教育。语言通俗易懂，情节曲折离奇，往往采用拟人的手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380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体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TM_008.MID" descr=""/>
          <p:cNvPicPr/>
          <p:nvPr/>
        </p:nvPicPr>
        <p:blipFill>
          <a:blip r:embed="rId2"/>
          <a:stretch/>
        </p:blipFill>
        <p:spPr>
          <a:xfrm>
            <a:off x="7162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0"/>
            <a:ext cx="9539280" cy="9774720"/>
            <a:chOff x="0" y="0"/>
            <a:chExt cx="9539280" cy="9774720"/>
          </a:xfrm>
        </p:grpSpPr>
        <p:pic>
          <p:nvPicPr>
            <p:cNvPr id="152" name="Picture 3" descr="tp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4"/>
            <p:cNvSpPr/>
            <p:nvPr/>
          </p:nvSpPr>
          <p:spPr>
            <a:xfrm>
              <a:off x="4859280" y="1008000"/>
              <a:ext cx="4680000" cy="87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我有说不完的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直到太阳落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消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只剩下孤零零的自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我知道，明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还会来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还会有新的故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2771640" y="458640"/>
              <a:ext cx="482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333399"/>
                  </a:solidFill>
                  <a:latin typeface="Times New Roman"/>
                  <a:ea typeface="华文新魏"/>
                </a:rPr>
                <a:t>读自己的影子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6"/>
          <p:cNvSpPr/>
          <p:nvPr/>
        </p:nvSpPr>
        <p:spPr>
          <a:xfrm>
            <a:off x="4648320" y="1066680"/>
            <a:ext cx="382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85800" y="24685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33520" y="1523880"/>
            <a:ext cx="71625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" action="ppaction://hlinkshowjump?jump=previousslide"/>
          </p:cNvPr>
          <p:cNvSpPr/>
          <p:nvPr/>
        </p:nvSpPr>
        <p:spPr>
          <a:xfrm>
            <a:off x="651672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24000" y="692280"/>
            <a:ext cx="47512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候，不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喜欢坐在那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自己的影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读一本童话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是读一头黑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是一只很黑的小兔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卧在我的脚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0124"/>
          <p:cNvPicPr/>
          <p:nvPr/>
        </p:nvPicPr>
        <p:blipFill>
          <a:blip r:embed="rId2"/>
          <a:stretch/>
        </p:blipFill>
        <p:spPr>
          <a:xfrm>
            <a:off x="539640" y="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163" name="TRACK11.MP3" descr=""/>
          <p:cNvPicPr/>
          <p:nvPr/>
        </p:nvPicPr>
        <p:blipFill>
          <a:blip r:embed="rId3"/>
          <a:stretch/>
        </p:blipFill>
        <p:spPr>
          <a:xfrm>
            <a:off x="457200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38080" y="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58920" y="981000"/>
            <a:ext cx="61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生活不够慷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也不必回报吝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要细细的盘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付出和得到的必须一般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大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显得猥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潇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选择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获得是一种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给予是一种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04320" y="26820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生活不够慷慨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汪国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CA61-6405-4C6D-A6DC-A40BC58786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6094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有时我想，要是人们把活着的每一天都看作是生命的最后一天该有多好啊！这就能更显出生命的价值。如果以为岁月还相当漫长，我们的每一天就不会过得那样有意义，有朝气，我们对生活就不会总是充满热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我有过这样的想法，如果让每一个人在他成年后的某个阶段瞎上几天，聋上几天有多好。黑暗将使他们更加珍惜光明；寂静将教会他们真正领略喧哗的欢乐。 事情往往就是这样，一旦失去了的东西，人们才会留恋它，人得了病才想到健康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Arial"/>
                <a:ea typeface="汉仪粗宋简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假如给我三天光明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-533520"/>
            <a:ext cx="7467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我多么渴望看看这世上的一切，如果说我凭我的触觉能得到如此大的乐趣，那么能让我亲眼目睹一下该有多好。奇怪的是明眼人对这一切却如此淡漠！那点缀世界的五彩缤纷和千姿百态在他们看来是那么的平庸。也许人就是这样，有了的东西不知道欣赏，没有的东西又一味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请你思考一下这个问题：假如你只有三天的光明，你将如何使用你的眼睛？想到三天以后，太阳再也不会在你的眼前升起，你又将如何度过那宝贵的三日？你又会让你的眼睛停留在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80880" y="380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失明的我可以给那些看得见的人们一个提示</a:t>
            </a:r>
            <a:r>
              <a:rPr b="1" lang="en-US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对那些能够充分利用天赋视觉的人们一个忠告：善用你的眼睛吧，犹如明天你将遭到失明的灾难。同样的方法也可以应用于其它感官。聆听乐曲的妙音，鸟儿的歌唱，管弦乐队的雄浑而铿锵有力的曲调吧，犹如明天你将遭到耳聋的厄运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r"/>
          <p:cNvPicPr/>
          <p:nvPr/>
        </p:nvPicPr>
        <p:blipFill>
          <a:blip r:embed="rId1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star"/>
          <p:cNvPicPr/>
          <p:nvPr/>
        </p:nvPicPr>
        <p:blipFill>
          <a:blip r:embed="rId2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star"/>
          <p:cNvPicPr/>
          <p:nvPr/>
        </p:nvPicPr>
        <p:blipFill>
          <a:blip r:embed="rId3"/>
          <a:stretch/>
        </p:blipFill>
        <p:spPr>
          <a:xfrm>
            <a:off x="54864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star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tar"/>
          <p:cNvPicPr/>
          <p:nvPr/>
        </p:nvPicPr>
        <p:blipFill>
          <a:blip r:embed="rId5"/>
          <a:stretch/>
        </p:blipFill>
        <p:spPr>
          <a:xfrm>
            <a:off x="2286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star"/>
          <p:cNvPicPr/>
          <p:nvPr/>
        </p:nvPicPr>
        <p:blipFill>
          <a:blip r:embed="rId6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52280" y="304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抚摸每一件你想要抚摸的物品吧，犹如明天你的触觉将会衰退。嗅闻所有鲜花的芳香，品尝每一口佳肴吧，犹如明天你再不能嗅闻品尝。充分利用你的每一个感官，为世界向你显示的所有愉快而美好的细节而自豪吧！</a:t>
            </a:r>
            <a:r>
              <a:rPr b="1" lang="en-US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……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876920" y="6095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海伦</a:t>
            </a: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tar"/>
          <p:cNvPicPr/>
          <p:nvPr/>
        </p:nvPicPr>
        <p:blipFill>
          <a:blip r:embed="rId1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tar"/>
          <p:cNvPicPr/>
          <p:nvPr/>
        </p:nvPicPr>
        <p:blipFill>
          <a:blip r:embed="rId2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tar"/>
          <p:cNvPicPr/>
          <p:nvPr/>
        </p:nvPicPr>
        <p:blipFill>
          <a:blip r:embed="rId3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tar"/>
          <p:cNvPicPr/>
          <p:nvPr/>
        </p:nvPicPr>
        <p:blipFill>
          <a:blip r:embed="rId4"/>
          <a:stretch/>
        </p:blipFill>
        <p:spPr>
          <a:xfrm>
            <a:off x="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ar"/>
          <p:cNvPicPr/>
          <p:nvPr/>
        </p:nvPicPr>
        <p:blipFill>
          <a:blip r:embed="rId5"/>
          <a:stretch/>
        </p:blipFill>
        <p:spPr>
          <a:xfrm>
            <a:off x="76201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tar"/>
          <p:cNvPicPr/>
          <p:nvPr/>
        </p:nvPicPr>
        <p:blipFill>
          <a:blip r:embed="rId6"/>
          <a:stretch/>
        </p:blipFill>
        <p:spPr>
          <a:xfrm>
            <a:off x="4572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700360" y="476280"/>
            <a:ext cx="4724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f514"/>
                </a:solidFill>
                <a:latin typeface="Times New Roman"/>
                <a:ea typeface="华文彩云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371600" y="2057400"/>
            <a:ext cx="678168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6c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嬉戏  潺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情不自禁  孤零零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踉跄  泥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733920" y="1676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780000" y="29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8672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143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096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44956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60020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LOWER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>
            <a:hlinkClick r:id="rId2" action="ppaction://hlinksldjump"/>
          </p:cNvPr>
          <p:cNvSpPr/>
          <p:nvPr/>
        </p:nvSpPr>
        <p:spPr>
          <a:xfrm>
            <a:off x="900000" y="620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寂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3" action="ppaction://hlinksldjump"/>
          </p:cNvPr>
          <p:cNvSpPr/>
          <p:nvPr/>
        </p:nvSpPr>
        <p:spPr>
          <a:xfrm>
            <a:off x="971640" y="1484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快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95480" y="2060640"/>
            <a:ext cx="46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>
            <a:hlinkClick r:id="rId4" action="ppaction://hlinksldjump"/>
          </p:cNvPr>
          <p:cNvSpPr/>
          <p:nvPr/>
        </p:nvSpPr>
        <p:spPr>
          <a:xfrm>
            <a:off x="900000" y="23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三）见到了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一线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>
            <a:hlinkClick r:id="rId5" action="ppaction://hlinksldjump"/>
          </p:cNvPr>
          <p:cNvSpPr/>
          <p:nvPr/>
        </p:nvSpPr>
        <p:spPr>
          <a:xfrm>
            <a:off x="900000" y="321300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四）在风雨中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并得到了       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关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>
            <a:hlinkClick r:id="rId6" action="ppaction://hlinksldjump"/>
          </p:cNvPr>
          <p:cNvSpPr/>
          <p:nvPr/>
        </p:nvSpPr>
        <p:spPr>
          <a:xfrm>
            <a:off x="971640" y="4869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五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重见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6:41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15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