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75A-2AAD-4703-BB89-C3383083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FC0-45F2-4C34-9C80-E5683BDD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A99-BF8E-4BC7-8119-6139BC72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5E4-42DC-4895-A489-B77C0605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E01-4DB0-454B-AC88-B9DA46E6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6CF-7BC1-48D2-A41F-2D5E31DA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2D4A-A279-41AD-86CD-7B79DA7D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4F2-91AB-4914-8F51-A2981A41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DEE-6943-4B00-A014-E9ADB327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605-48AE-4673-A0EB-12E37F77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89C-AB3F-4C7E-8FB4-54DCB6A5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5DF-41DE-4FB7-A2D7-2B776164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CC6A-621F-498B-9206-43D529DE7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1557360"/>
            <a:ext cx="82119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农业的变化真大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195084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4F56-36F4-47D4-ACAC-6A12445421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5"/>
          <p:cNvSpPr/>
          <p:nvPr/>
        </p:nvSpPr>
        <p:spPr>
          <a:xfrm>
            <a:off x="3203640" y="2492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28" descr="34-8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4-5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68836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34-7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"/>
          <p:cNvSpPr/>
          <p:nvPr/>
        </p:nvSpPr>
        <p:spPr>
          <a:xfrm>
            <a:off x="195120" y="6275520"/>
            <a:ext cx="89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34-6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7236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4-4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34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34-3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2560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34-2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6:04:53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41:06Z</dcterms:modified>
  <cp:revision>10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