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087-8770-402C-BE67-EA73E368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E26-83B3-438C-AE4B-E402B53E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973-369F-4F08-955F-3CA087A1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4CC-B0A1-48B7-AB95-856757F3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C23-BF92-433E-A45E-297B6453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7BB-6703-4950-BA8F-532570E1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9B9-1A5D-4C4E-A558-94B12BF9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902-C4FB-47F7-AA5F-3167ED58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2EA-2B92-40DB-83C2-F51A4A84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483-8FDE-42EB-9142-6122BD99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B21-73D8-4AA1-BDEA-501029A7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F1F-D3E0-4128-8500-D7D46465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2323-26FE-4CE9-AB71-5C1E723D9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014560" y="2205000"/>
            <a:ext cx="511344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平行四边形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835280" y="112536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教新课标版三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39148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71800" y="4419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2819520" y="501336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320040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2819520" y="51055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H="1">
            <a:off x="3580920" y="2133720"/>
            <a:ext cx="83844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2819520" y="51055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H="1">
            <a:off x="411480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2819520" y="51055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4495320" y="2133720"/>
            <a:ext cx="83844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2819520" y="51055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4952520" y="2133720"/>
            <a:ext cx="83844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2819520" y="51055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 flipH="1">
            <a:off x="548640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365760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388620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大家仔细研究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8920" y="278136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它有几条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边的长度有什么特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有几个角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是什么样的角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有四条边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对边相等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有四个角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都不是直角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它是由四条边围成的图形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也叫四边形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419640" y="1197000"/>
            <a:ext cx="3119400" cy="1371600"/>
          </a:xfrm>
          <a:prstGeom prst="parallelogram">
            <a:avLst>
              <a:gd name="adj" fmla="val 5685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419112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449568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487692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525780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556272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594360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28195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 flipH="1">
            <a:off x="5334120" y="2133720"/>
            <a:ext cx="838080" cy="2819160"/>
          </a:xfrm>
          <a:prstGeom prst="line">
            <a:avLst/>
          </a:prstGeom>
          <a:ln cap="sq"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6248520" y="2133720"/>
            <a:ext cx="0" cy="281916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"/>
          <p:cNvSpPr/>
          <p:nvPr/>
        </p:nvSpPr>
        <p:spPr>
          <a:xfrm>
            <a:off x="336600" y="5950080"/>
            <a:ext cx="53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9640" y="-964080"/>
            <a:ext cx="8064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由于它相对边之间的宽度总是保持一定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们就说它的对边是平行的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所以我们把这种图形叫做平形四边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1116000" y="5013360"/>
            <a:ext cx="2438280" cy="977760"/>
          </a:xfrm>
          <a:prstGeom prst="parallelogram">
            <a:avLst>
              <a:gd name="adj" fmla="val 6234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 flipH="1">
            <a:off x="6084720" y="4940280"/>
            <a:ext cx="2362320" cy="982800"/>
          </a:xfrm>
          <a:prstGeom prst="parallelogram">
            <a:avLst>
              <a:gd name="adj" fmla="val 6009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4284720" y="4940280"/>
            <a:ext cx="1214280" cy="1081080"/>
          </a:xfrm>
          <a:prstGeom prst="parallelogram">
            <a:avLst>
              <a:gd name="adj" fmla="val 2808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620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图形中哪些是平行四边形？把它涂上颜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755640" y="2133720"/>
            <a:ext cx="1368360" cy="865080"/>
          </a:xfrm>
          <a:prstGeom prst="parallelogram">
            <a:avLst>
              <a:gd name="adj" fmla="val 3954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2771640" y="2133720"/>
            <a:ext cx="144000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7020000" y="1989000"/>
            <a:ext cx="1368360" cy="1079640"/>
            <a:chOff x="7020000" y="1989000"/>
            <a:chExt cx="1368360" cy="1079640"/>
          </a:xfrm>
        </p:grpSpPr>
        <p:sp>
          <p:nvSpPr>
            <p:cNvPr id="194" name="Line 12"/>
            <p:cNvSpPr/>
            <p:nvPr/>
          </p:nvSpPr>
          <p:spPr>
            <a:xfrm>
              <a:off x="7020000" y="198900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>
              <a:off x="7020000" y="1989000"/>
              <a:ext cx="136836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 flipH="1">
              <a:off x="7956360" y="2492280"/>
              <a:ext cx="43164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7020000" y="3068640"/>
              <a:ext cx="93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2"/>
          <p:cNvGrpSpPr/>
          <p:nvPr/>
        </p:nvGrpSpPr>
        <p:grpSpPr>
          <a:xfrm>
            <a:off x="684360" y="3860640"/>
            <a:ext cx="1584000" cy="1224000"/>
            <a:chOff x="684360" y="3860640"/>
            <a:chExt cx="1584000" cy="1224000"/>
          </a:xfrm>
        </p:grpSpPr>
        <p:sp>
          <p:nvSpPr>
            <p:cNvPr id="199" name="Line 17"/>
            <p:cNvSpPr/>
            <p:nvPr/>
          </p:nvSpPr>
          <p:spPr>
            <a:xfrm>
              <a:off x="684360" y="429264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 flipV="1">
              <a:off x="684360" y="3860640"/>
              <a:ext cx="79200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1476360" y="3860640"/>
              <a:ext cx="79200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0"/>
            <p:cNvSpPr/>
            <p:nvPr/>
          </p:nvSpPr>
          <p:spPr>
            <a:xfrm flipV="1">
              <a:off x="684360" y="4868640"/>
              <a:ext cx="64764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1332000" y="4869000"/>
              <a:ext cx="9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9"/>
          <p:cNvGrpSpPr/>
          <p:nvPr/>
        </p:nvGrpSpPr>
        <p:grpSpPr>
          <a:xfrm>
            <a:off x="3059280" y="3789360"/>
            <a:ext cx="1225440" cy="1152360"/>
            <a:chOff x="3059280" y="3789360"/>
            <a:chExt cx="1225440" cy="1152360"/>
          </a:xfrm>
        </p:grpSpPr>
        <p:sp>
          <p:nvSpPr>
            <p:cNvPr id="205" name="Line 23"/>
            <p:cNvSpPr/>
            <p:nvPr/>
          </p:nvSpPr>
          <p:spPr>
            <a:xfrm flipH="1">
              <a:off x="3059280" y="3789360"/>
              <a:ext cx="5760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5"/>
            <p:cNvSpPr/>
            <p:nvPr/>
          </p:nvSpPr>
          <p:spPr>
            <a:xfrm>
              <a:off x="3635280" y="3789360"/>
              <a:ext cx="64764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6"/>
            <p:cNvSpPr/>
            <p:nvPr/>
          </p:nvSpPr>
          <p:spPr>
            <a:xfrm flipH="1">
              <a:off x="4067280" y="4221000"/>
              <a:ext cx="2174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7"/>
            <p:cNvSpPr/>
            <p:nvPr/>
          </p:nvSpPr>
          <p:spPr>
            <a:xfrm flipH="1">
              <a:off x="3274560" y="4941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8"/>
            <p:cNvSpPr/>
            <p:nvPr/>
          </p:nvSpPr>
          <p:spPr>
            <a:xfrm>
              <a:off x="3059280" y="4221000"/>
              <a:ext cx="2174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AutoShape 36"/>
          <p:cNvSpPr/>
          <p:nvPr/>
        </p:nvSpPr>
        <p:spPr>
          <a:xfrm>
            <a:off x="755640" y="2133720"/>
            <a:ext cx="1368360" cy="865080"/>
          </a:xfrm>
          <a:prstGeom prst="parallelogram">
            <a:avLst>
              <a:gd name="adj" fmla="val 39544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7"/>
          <p:cNvSpPr/>
          <p:nvPr/>
        </p:nvSpPr>
        <p:spPr>
          <a:xfrm>
            <a:off x="5076720" y="4005360"/>
            <a:ext cx="2087640" cy="936360"/>
          </a:xfrm>
          <a:prstGeom prst="parallelogram">
            <a:avLst>
              <a:gd name="adj" fmla="val 5573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8"/>
          <p:cNvSpPr/>
          <p:nvPr/>
        </p:nvSpPr>
        <p:spPr>
          <a:xfrm>
            <a:off x="5076720" y="4005360"/>
            <a:ext cx="2087640" cy="936360"/>
          </a:xfrm>
          <a:prstGeom prst="parallelogram">
            <a:avLst>
              <a:gd name="adj" fmla="val 55738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0"/>
          <p:cNvSpPr/>
          <p:nvPr/>
        </p:nvSpPr>
        <p:spPr>
          <a:xfrm rot="20585400">
            <a:off x="4714920" y="2205000"/>
            <a:ext cx="1728720" cy="720720"/>
          </a:xfrm>
          <a:prstGeom prst="parallelogram">
            <a:avLst>
              <a:gd name="adj" fmla="val 5990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1"/>
          <p:cNvSpPr/>
          <p:nvPr/>
        </p:nvSpPr>
        <p:spPr>
          <a:xfrm rot="20585400">
            <a:off x="4716360" y="2205000"/>
            <a:ext cx="1728720" cy="720720"/>
          </a:xfrm>
          <a:prstGeom prst="parallelogram">
            <a:avLst>
              <a:gd name="adj" fmla="val 59909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25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-360" y="115560"/>
            <a:ext cx="982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判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１．四边形是由四条线段围成的图形．（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２．正方形和平行四边形的四条边都相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３．平行四边形容易变形．（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４．三角形容易变形 ．（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５．平行四边形的四个角不一定是直角．（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92960" y="130176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029600" y="27018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6746040" y="333684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5932080" y="4135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2021400" y="542448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9"/>
          <p:cNvSpPr/>
          <p:nvPr/>
        </p:nvSpPr>
        <p:spPr>
          <a:xfrm>
            <a:off x="4253040" y="2492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3657600" y="21337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79280" y="260280"/>
          <a:ext cx="8748720" cy="6354720"/>
        </p:xfrm>
        <a:graphic>
          <a:graphicData uri="http://schemas.openxmlformats.org/drawingml/2006/table">
            <a:tbl>
              <a:tblPr/>
              <a:tblGrid>
                <a:gridCol w="485640"/>
                <a:gridCol w="487440"/>
                <a:gridCol w="486000"/>
                <a:gridCol w="484200"/>
                <a:gridCol w="487080"/>
                <a:gridCol w="486000"/>
                <a:gridCol w="485640"/>
                <a:gridCol w="487440"/>
                <a:gridCol w="485640"/>
                <a:gridCol w="484200"/>
                <a:gridCol w="469800"/>
                <a:gridCol w="503280"/>
                <a:gridCol w="486000"/>
                <a:gridCol w="487080"/>
                <a:gridCol w="486000"/>
                <a:gridCol w="484200"/>
                <a:gridCol w="487440"/>
                <a:gridCol w="48564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AutoShape 3728"/>
          <p:cNvSpPr/>
          <p:nvPr/>
        </p:nvSpPr>
        <p:spPr>
          <a:xfrm>
            <a:off x="1116000" y="2421000"/>
            <a:ext cx="2016000" cy="1079280"/>
          </a:xfrm>
          <a:prstGeom prst="parallelogram">
            <a:avLst>
              <a:gd name="adj" fmla="val 49275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735"/>
          <p:cNvSpPr/>
          <p:nvPr/>
        </p:nvSpPr>
        <p:spPr>
          <a:xfrm>
            <a:off x="5076720" y="242100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737"/>
          <p:cNvSpPr/>
          <p:nvPr/>
        </p:nvSpPr>
        <p:spPr>
          <a:xfrm flipH="1">
            <a:off x="4572000" y="2421000"/>
            <a:ext cx="504720" cy="107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738"/>
          <p:cNvSpPr/>
          <p:nvPr/>
        </p:nvSpPr>
        <p:spPr>
          <a:xfrm flipH="1">
            <a:off x="6012000" y="2421000"/>
            <a:ext cx="504720" cy="107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739"/>
          <p:cNvSpPr/>
          <p:nvPr/>
        </p:nvSpPr>
        <p:spPr>
          <a:xfrm>
            <a:off x="4572000" y="3500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324000" y="1422360"/>
          <a:ext cx="8496000" cy="5181480"/>
        </p:xfrm>
        <a:graphic>
          <a:graphicData uri="http://schemas.openxmlformats.org/drawingml/2006/table">
            <a:tbl>
              <a:tblPr/>
              <a:tblGrid>
                <a:gridCol w="471240"/>
                <a:gridCol w="473040"/>
                <a:gridCol w="471240"/>
                <a:gridCol w="471600"/>
                <a:gridCol w="473040"/>
                <a:gridCol w="471600"/>
                <a:gridCol w="471600"/>
                <a:gridCol w="473040"/>
                <a:gridCol w="471240"/>
                <a:gridCol w="471600"/>
                <a:gridCol w="473040"/>
                <a:gridCol w="471600"/>
                <a:gridCol w="471600"/>
                <a:gridCol w="473040"/>
                <a:gridCol w="471240"/>
                <a:gridCol w="471600"/>
                <a:gridCol w="473040"/>
                <a:gridCol w="4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Line 213"/>
          <p:cNvSpPr/>
          <p:nvPr/>
        </p:nvSpPr>
        <p:spPr>
          <a:xfrm>
            <a:off x="826920" y="191628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14"/>
          <p:cNvSpPr/>
          <p:nvPr/>
        </p:nvSpPr>
        <p:spPr>
          <a:xfrm>
            <a:off x="826920" y="1916280"/>
            <a:ext cx="433440" cy="158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15"/>
          <p:cNvSpPr/>
          <p:nvPr/>
        </p:nvSpPr>
        <p:spPr>
          <a:xfrm>
            <a:off x="1260360" y="3500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16"/>
          <p:cNvSpPr/>
          <p:nvPr/>
        </p:nvSpPr>
        <p:spPr>
          <a:xfrm flipH="1">
            <a:off x="2700000" y="1916280"/>
            <a:ext cx="934920" cy="158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7"/>
          <p:cNvSpPr/>
          <p:nvPr/>
        </p:nvSpPr>
        <p:spPr>
          <a:xfrm flipV="1">
            <a:off x="5003640" y="1413000"/>
            <a:ext cx="288144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8"/>
          <p:cNvSpPr/>
          <p:nvPr/>
        </p:nvSpPr>
        <p:spPr>
          <a:xfrm>
            <a:off x="5003640" y="2421000"/>
            <a:ext cx="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19"/>
          <p:cNvSpPr/>
          <p:nvPr/>
        </p:nvSpPr>
        <p:spPr>
          <a:xfrm flipV="1">
            <a:off x="5003640" y="3502080"/>
            <a:ext cx="24480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20"/>
          <p:cNvSpPr/>
          <p:nvPr/>
        </p:nvSpPr>
        <p:spPr>
          <a:xfrm flipH="1">
            <a:off x="7451640" y="1413000"/>
            <a:ext cx="433440" cy="20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1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的图形是平行四边形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改才能成为平行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22"/>
          <p:cNvSpPr/>
          <p:nvPr/>
        </p:nvSpPr>
        <p:spPr>
          <a:xfrm>
            <a:off x="826920" y="4508640"/>
            <a:ext cx="28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3"/>
          <p:cNvSpPr/>
          <p:nvPr/>
        </p:nvSpPr>
        <p:spPr>
          <a:xfrm>
            <a:off x="826920" y="4508640"/>
            <a:ext cx="43344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24"/>
          <p:cNvSpPr/>
          <p:nvPr/>
        </p:nvSpPr>
        <p:spPr>
          <a:xfrm>
            <a:off x="1260360" y="609300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25"/>
          <p:cNvSpPr/>
          <p:nvPr/>
        </p:nvSpPr>
        <p:spPr>
          <a:xfrm flipH="1">
            <a:off x="2700000" y="4508640"/>
            <a:ext cx="93492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6"/>
          <p:cNvSpPr/>
          <p:nvPr/>
        </p:nvSpPr>
        <p:spPr>
          <a:xfrm flipV="1">
            <a:off x="1258920" y="4508280"/>
            <a:ext cx="936720" cy="158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7"/>
          <p:cNvSpPr/>
          <p:nvPr/>
        </p:nvSpPr>
        <p:spPr>
          <a:xfrm>
            <a:off x="2195640" y="4508640"/>
            <a:ext cx="1439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28"/>
          <p:cNvSpPr/>
          <p:nvPr/>
        </p:nvSpPr>
        <p:spPr>
          <a:xfrm flipV="1">
            <a:off x="5003640" y="4005360"/>
            <a:ext cx="288144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9"/>
          <p:cNvSpPr/>
          <p:nvPr/>
        </p:nvSpPr>
        <p:spPr>
          <a:xfrm>
            <a:off x="5003640" y="5013360"/>
            <a:ext cx="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0"/>
          <p:cNvSpPr/>
          <p:nvPr/>
        </p:nvSpPr>
        <p:spPr>
          <a:xfrm flipV="1">
            <a:off x="5003640" y="6094440"/>
            <a:ext cx="244800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1"/>
          <p:cNvSpPr/>
          <p:nvPr/>
        </p:nvSpPr>
        <p:spPr>
          <a:xfrm flipH="1">
            <a:off x="7451640" y="4005360"/>
            <a:ext cx="433440" cy="20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2"/>
          <p:cNvSpPr/>
          <p:nvPr/>
        </p:nvSpPr>
        <p:spPr>
          <a:xfrm flipV="1">
            <a:off x="5003640" y="5589720"/>
            <a:ext cx="2881440" cy="100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33"/>
          <p:cNvSpPr/>
          <p:nvPr/>
        </p:nvSpPr>
        <p:spPr>
          <a:xfrm>
            <a:off x="7885080" y="4005360"/>
            <a:ext cx="0" cy="1584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B244-FACC-48FA-A111-DFBA436125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581280" y="236232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570120" y="251460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505320" y="274320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3348000" y="3123720"/>
            <a:ext cx="2519280" cy="1764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276720" y="342900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2819520" y="2133720"/>
            <a:ext cx="3352680" cy="2819160"/>
          </a:xfrm>
          <a:prstGeom prst="parallelogram">
            <a:avLst>
              <a:gd name="adj" fmla="val 2973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3124080" y="388620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819520" y="4952880"/>
            <a:ext cx="25146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2:25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8:07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