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3.jpeg" ContentType="image/jpeg"/>
  <Override PartName="/ppt/media/image2.jpeg" ContentType="image/jpeg"/>
  <Override PartName="/ppt/media/image4.png" ContentType="image/png"/>
  <Override PartName="/ppt/media/image1.gif" ContentType="image/gif"/>
  <Override PartName="/ppt/media/chimes.wav" ContentType="audio/x-wav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75E-12FE-41D8-A0B8-30EC87D4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106-EA59-4D1A-8F4E-6B0CB270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8BD-7961-4248-952C-B792B8D6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046-4342-4BCB-9824-2DF0B7B0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96F-F812-4A3B-88E8-C39CF60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C70-A58A-450B-AA48-1ACA5B5B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80A-9578-4DCE-860B-733DE4C6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7D8-9430-46F3-92C6-4D4FD248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D7E-09BA-4BDC-A463-D34E0100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565-2E96-45EA-8314-B073A223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07E-7AA8-4454-B8A2-A4367FDA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411-E3E4-42FC-8CFA-6F0AC6B9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665B-442C-454A-A17F-F3C07CBBF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46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477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"/>
          <p:cNvSpPr/>
          <p:nvPr/>
        </p:nvSpPr>
        <p:spPr>
          <a:xfrm>
            <a:off x="1066680" y="1143000"/>
            <a:ext cx="75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太空生活趣事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105520" y="5334120"/>
            <a:ext cx="358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225504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905120" y="4572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小参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99072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宇宙飞船里走路，杨利伟必须带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90720" y="44197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宇宙飞船里洗澡，杨利伟必须带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676520" y="26668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鞋底带钩的鞋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828800" y="5105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特殊的淋浴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C:\Documents and Settings\Administrator\My Documents\My Pictures\1.gif"/>
          <p:cNvPicPr/>
          <p:nvPr/>
        </p:nvPicPr>
        <p:blipFill>
          <a:blip r:embed="rId1"/>
          <a:stretch/>
        </p:blipFill>
        <p:spPr>
          <a:xfrm>
            <a:off x="38088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Administrator\My Documents\My Pictures\2005101781541635.jpg"/>
          <p:cNvPicPr/>
          <p:nvPr/>
        </p:nvPicPr>
        <p:blipFill>
          <a:blip r:embed="rId1"/>
          <a:stretch/>
        </p:blipFill>
        <p:spPr>
          <a:xfrm>
            <a:off x="14479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Documents and Settings\Administrator\My Documents\My Pictures\enrai.jpg"/>
          <p:cNvPicPr/>
          <p:nvPr/>
        </p:nvPicPr>
        <p:blipFill>
          <a:blip r:embed="rId1"/>
          <a:stretch/>
        </p:blipFill>
        <p:spPr>
          <a:xfrm>
            <a:off x="-63360" y="0"/>
            <a:ext cx="92073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1523880" y="19810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再 见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D5F1-26A3-44A8-91A4-C767C8943A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Administrator\My Documents\My Pictures\sLo=_9svy3jSvENV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istrator\My Documents\My Pictures\cl1_1066223309.jpg"/>
          <p:cNvPicPr/>
          <p:nvPr/>
        </p:nvPicPr>
        <p:blipFill>
          <a:blip r:embed="rId1"/>
          <a:stretch/>
        </p:blipFill>
        <p:spPr>
          <a:xfrm>
            <a:off x="0" y="0"/>
            <a:ext cx="9906120" cy="690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27" descr="D0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028"/>
          <p:cNvSpPr txBox="1"/>
          <p:nvPr/>
        </p:nvSpPr>
        <p:spPr>
          <a:xfrm>
            <a:off x="1978200" y="76212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3300"/>
                </a:solidFill>
                <a:latin typeface="隶书"/>
              </a:rPr>
              <a:t>我是认字小能手</a:t>
            </a:r>
            <a:endParaRPr b="1" lang="en-US" sz="2400" spc="1" strike="noStrike">
              <a:ln w="9360">
                <a:solidFill>
                  <a:srgbClr val="ffff00"/>
                </a:solidFill>
                <a:round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50" name="Text Box 1029"/>
          <p:cNvSpPr/>
          <p:nvPr/>
        </p:nvSpPr>
        <p:spPr>
          <a:xfrm>
            <a:off x="2510640" y="2514600"/>
            <a:ext cx="413064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挺有趣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30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舒服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1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必须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2"/>
          <p:cNvSpPr/>
          <p:nvPr/>
        </p:nvSpPr>
        <p:spPr>
          <a:xfrm>
            <a:off x="1779120" y="2514600"/>
            <a:ext cx="559368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绑在睡袋里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4"/>
          <p:cNvSpPr/>
          <p:nvPr/>
        </p:nvSpPr>
        <p:spPr>
          <a:xfrm>
            <a:off x="2510640" y="2514600"/>
            <a:ext cx="413064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塑料杯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5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普通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36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咳嗽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7"/>
          <p:cNvSpPr/>
          <p:nvPr/>
        </p:nvSpPr>
        <p:spPr>
          <a:xfrm>
            <a:off x="2998800" y="2514600"/>
            <a:ext cx="315540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一件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8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喷出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9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设计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40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特殊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41"/>
          <p:cNvSpPr/>
          <p:nvPr/>
        </p:nvSpPr>
        <p:spPr>
          <a:xfrm>
            <a:off x="2510640" y="2514600"/>
            <a:ext cx="413064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淋浴器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42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钩住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057">
            <a:hlinkClick r:id="rId2" action="ppaction://hlinksldjump"/>
          </p:cNvPr>
          <p:cNvSpPr/>
          <p:nvPr/>
        </p:nvSpPr>
        <p:spPr>
          <a:xfrm>
            <a:off x="7543800" y="57913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837"/>
                </a:moveTo>
                <a:lnTo>
                  <a:pt x="18776" y="6448"/>
                </a:ln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lnTo>
                  <a:pt x="23163" y="10800"/>
                </a:lnTo>
                <a:lnTo>
                  <a:pt x="21509" y="10800"/>
                </a:lnTo>
                <a:lnTo>
                  <a:pt x="21509" y="17989"/>
                </a:lnTo>
                <a:lnTo>
                  <a:pt x="10891" y="17989"/>
                </a:lnTo>
                <a:lnTo>
                  <a:pt x="10891" y="10800"/>
                </a:lnTo>
                <a:lnTo>
                  <a:pt x="9237" y="10800"/>
                </a:lnTo>
                <a:close/>
              </a:path>
              <a:path fill="darkenLess" w="32400" h="21600">
                <a:moveTo>
                  <a:pt x="18776" y="6448"/>
                </a:move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close/>
              </a:path>
              <a:path fill="darkenLess" w="32400" h="21600">
                <a:moveTo>
                  <a:pt x="15277" y="14299"/>
                </a:moveTo>
                <a:lnTo>
                  <a:pt x="17123" y="14299"/>
                </a:lnTo>
                <a:lnTo>
                  <a:pt x="17123" y="17989"/>
                </a:lnTo>
                <a:lnTo>
                  <a:pt x="21509" y="17989"/>
                </a:lnTo>
                <a:lnTo>
                  <a:pt x="21509" y="10800"/>
                </a:lnTo>
                <a:lnTo>
                  <a:pt x="10891" y="10800"/>
                </a:lnTo>
                <a:lnTo>
                  <a:pt x="10891" y="17989"/>
                </a:lnTo>
                <a:lnTo>
                  <a:pt x="15277" y="17989"/>
                </a:lnTo>
                <a:close/>
              </a:path>
            </a:pathLst>
          </a:custGeom>
          <a:solidFill>
            <a:srgbClr val="32a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58"/>
          <p:cNvSpPr/>
          <p:nvPr/>
        </p:nvSpPr>
        <p:spPr>
          <a:xfrm>
            <a:off x="0" y="2514600"/>
            <a:ext cx="914400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我们都是认字小能手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181080" y="6294600"/>
            <a:ext cx="89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0" dur="1" fill="hold"/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dministrator\My Documents\My Pictures\Img227158123.jpg"/>
          <p:cNvPicPr/>
          <p:nvPr/>
        </p:nvPicPr>
        <p:blipFill>
          <a:blip r:embed="rId1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819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比赛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33720" y="25146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、要让人听了觉得新鲜有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8" descr="C:\Program Files\Common Files\Microsoft Shared\Clipart\cagcat50\NA00864_.wmf"/>
          <p:cNvPicPr/>
          <p:nvPr/>
        </p:nvPicPr>
        <p:blipFill>
          <a:blip r:embed="rId1"/>
          <a:stretch/>
        </p:blipFill>
        <p:spPr>
          <a:xfrm>
            <a:off x="1295280" y="4419720"/>
            <a:ext cx="6705720" cy="2097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2209680" y="33526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、要让人觉得惊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2133720"/>
            <a:ext cx="769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Times New Roman"/>
              </a:rPr>
              <a:t>因为在宇宙飞船里，水失去了重量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C:\Documents and Settings\Administrator\My Documents\My Pictures\无标题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Administrator\My Documents\My Pictures\238609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Administrator\My Documents\My Pictures\23849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Documents and Settings\Administrator\My Documents\My Pictures\238475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5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5000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905120" y="9144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小参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33520" y="22096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宇宙飞船里睡觉，杨利伟必须带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33520" y="4191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宇宙飞船里喝水，杨利伟必须带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1600200" y="28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睡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295280" y="48006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带吸管的塑料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6" descr="C:\Documents and Settings\Administrator\My Documents\My Pictures\1.gif"/>
          <p:cNvPicPr/>
          <p:nvPr/>
        </p:nvPicPr>
        <p:blipFill>
          <a:blip r:embed="rId1"/>
          <a:stretch/>
        </p:blipFill>
        <p:spPr>
          <a:xfrm>
            <a:off x="304920" y="3808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3:20:02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47:05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