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3DF-6808-4ECE-AD20-87145F17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060-A62E-4450-BE30-D77293E9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4E6-6C62-47C8-AF07-9CC9716F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2F7-BD78-45E7-A687-47871899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1170-7B0F-4F91-826B-6EBB4341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82DA-F867-4430-95C9-EC998A1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1CFD-7D6F-4268-A6FA-867A9ACE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6147-8365-456A-8D73-99153170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CC5F-8781-41C5-ACAB-57240CDA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655F-4AD7-4564-9B09-59E0B8C6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596C-CDC1-4D51-961B-60EFF343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EB9-7E9B-4FB0-8B1B-F69BE87D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63FC-8B44-4E59-92F7-8BE5865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F5C8-4E63-4F23-87B1-9A89746B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8062-EEC0-497A-B88D-17DF8F2A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4741-DF23-4D57-BA41-6E825470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E0BB-C3DF-4F20-8985-247657C2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FA43-F384-489E-A797-1ABCBC8A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563C-9EED-4D79-81A6-28311822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23ED-418F-45F3-A07D-07937E97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F8252-24D5-4AE6-92BA-6B4C0390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73BE-B911-47A7-8D47-C2B69381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1EF-9CE2-4E07-8F40-7268B157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1CD2-60E4-49F3-83A8-D1C364B0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10D78-A30D-4C7F-BCE1-9B14277C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DA3C-FBEE-4596-971B-F6A5FA8A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D11D-7290-4858-B5CC-9741FC00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D8A60-F84F-4EEF-BB01-10CFBB31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6F30-EE66-425C-A7C9-E6CC2D16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3E4A-5B2D-41C0-841C-3ED9DC3B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0690-1804-47FB-98E7-932075B8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C401B-4C9E-4A8A-A175-D4CFE89A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09AB-59D8-48CF-BB6B-944A86F7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BEF-BDC9-4947-9E4E-23C63EB0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FE477-0FAD-4D02-8CC0-D88C0A6A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1DB4-DB9C-4C9D-BC20-EF09821F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3DEDF-8574-416E-82D2-66BBF964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6800E-69C7-464D-9FCF-F8A3668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47C2D-9795-4AE5-8F73-F66FF42E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B9E7C-2CC7-4D7C-91D1-DD9502B2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8CD3-0A34-442B-B050-12DE2029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DDE81-F873-4B96-AC88-E0D77FA1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3EA5-C8A1-482F-AFFC-52D249CD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8C7-1BA2-4706-A19D-009C3D99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DA2-8860-4527-A724-94ACEF1E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DD9-169F-46CE-AF36-78BB898D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09F-4919-4196-8975-1C2827F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1C2-B2D7-47CA-9216-0919792A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6A85-71BB-461E-BCBA-60B7F7F10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7431-CF68-4462-BBC6-228F2AEDA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B804-26E4-4B3E-A400-373F5CD72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9A69-4283-45B8-9CDE-186D65B3BCC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www.kayoh-tech.co.jp/image/shikishi_m5660.jpg"/>
          <p:cNvPicPr/>
          <p:nvPr/>
        </p:nvPicPr>
        <p:blipFill>
          <a:blip r:embed="rId1"/>
          <a:srcRect l="1389" t="1323" r="888" b="13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页脚占位符 2"/>
          <p:cNvSpPr/>
          <p:nvPr/>
        </p:nvSpPr>
        <p:spPr>
          <a:xfrm>
            <a:off x="2843280" y="624528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27332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1413000"/>
            <a:ext cx="71424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66ff"/>
                </a:solidFill>
                <a:latin typeface="黑体"/>
                <a:ea typeface="黑体"/>
              </a:rPr>
              <a:t>唐雎不    使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5"/>
          <p:cNvSpPr txBox="1"/>
          <p:nvPr/>
        </p:nvSpPr>
        <p:spPr>
          <a:xfrm rot="5400000">
            <a:off x="4175280" y="1161000"/>
            <a:ext cx="122400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00"/>
                </a:solidFill>
                <a:latin typeface="隶书"/>
              </a:rPr>
              <a:t>辱</a:t>
            </a:r>
            <a:endParaRPr b="0" lang="en-US" sz="1800" spc="-1" strike="noStrike">
              <a:ln w="0">
                <a:noFill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867280" y="55141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战国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"/>
          <p:cNvSpPr/>
          <p:nvPr/>
        </p:nvSpPr>
        <p:spPr>
          <a:xfrm>
            <a:off x="109440" y="6431040"/>
            <a:ext cx="52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68360" y="0"/>
            <a:ext cx="8077320" cy="60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635280" y="907920"/>
            <a:ext cx="287280" cy="1130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3635280" y="2492280"/>
            <a:ext cx="360360" cy="1130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3708360" y="4149720"/>
            <a:ext cx="360360" cy="10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211640" y="765000"/>
            <a:ext cx="374508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骄横狂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卑不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140360" y="2492280"/>
            <a:ext cx="29718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盛气凌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义正辞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211640" y="4005360"/>
            <a:ext cx="380988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子之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布衣之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4643280" y="5734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前倨后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250920" y="112536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835280" y="2637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二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908000" y="44370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三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324000" y="57340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四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1476360" y="2997360"/>
            <a:ext cx="289080" cy="1800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340000" y="105264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原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84360" y="314172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经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2556000" y="57340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6588000" y="4292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针锋相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68360" y="1989000"/>
            <a:ext cx="8136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对于文中的主要人物，你如何评价或持何种态度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24000" y="178308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运用了哪些刻画人物的方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461400" y="2637000"/>
            <a:ext cx="33490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052520" y="3573360"/>
            <a:ext cx="6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动作描写、语言描写、神态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25092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找出文中典型的描写，示范朗读，从中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以看出秦王和唐雎各是什么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3357720"/>
            <a:ext cx="223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692360" y="25653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神态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692360" y="400536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言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19280" y="5229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作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1187280" y="2781360"/>
            <a:ext cx="360360" cy="3097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4211640" y="2133720"/>
            <a:ext cx="446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秦王不悦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秦王色挠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4284720" y="5300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跪而谢之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250920" y="69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从这个故事可以看出秦王是什么样的人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68360" y="386064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秦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050920" y="3213000"/>
            <a:ext cx="6629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贪得无厌、奸诈狡猾，外强中干、骄横狂暴、色厉内荏的封建统治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352680" y="15238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节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348000" y="1844640"/>
            <a:ext cx="304920" cy="2895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-835200" y="1676520"/>
            <a:ext cx="34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059280" y="2852640"/>
            <a:ext cx="54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据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492360" y="407664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力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5280" y="2492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唐雎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话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250920" y="476280"/>
            <a:ext cx="8424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言辞委婉，言之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要求以五百里之地易安陵，实是强占。当遭到安陵君拒绝后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不悦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于是面对唐雎露出威胁之意，并盛气凌人地责备安陵君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寡人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对此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雎先用屈从的口吻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否，非若是也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回答，既缓和了秦王以强凌弱的气势，使会谈能够继续下去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强调了不肯易地的原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从容地说明安陵君不肯易地是因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受地于先王而守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并非故意违背秦王的意愿。回答得委婉，言之有理，言之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65160" y="6811920"/>
            <a:ext cx="793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50920" y="404640"/>
            <a:ext cx="849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，含义丰富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既说明愿忠于先王的遗业，维护国家主权和领土的完整，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；又表明安陵国并无扩张之意，倒有御敌之心，这不仅婉言拒绝了秦王的易地要求，还暗暗告诫秦王不要轻举妄动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虽千里不敢易也，岂直五百里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问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十分有力，表明安陵国非但不想易地，而且根本不愿意易地。因为安陵君明白秦王真正目的。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一种坚持正义，不畏强暴的具体表现，显示出安陵国土的神圣不可侵犯。由于唐雎言之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道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方面暗示了秦王的不义，触犯了他的尊严，难怪他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怫然怒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250920" y="549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   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针锋相对、言之有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见诈骗不行，便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伏尸百万，流血千里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所谓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行威胁。唐雎正气凛然，针锋相对，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伏尸二人，流血五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行回击。在这场围绕天子与布衣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交锋中，唐服很快就由被动而变为主动。当秦王鄙视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布衣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，唐雎立即驳斥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此庸夫之怒也，非士之怒也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提醒秦王正视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79280" y="476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着用语势强烈的排比句，列举专诸刺王僚、聂政刺韩傀、要离刺庆忌的史实，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士之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以渲染说明。这三个史实，直刺贪生怕死的秦王心窝；警告秦王吸取历史教训，不要自蹈死地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但是，这些有根有据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毕竟是历史上的事，已经过去了，它对秦王虽有所触动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威胁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但还不足以使利令智昏的秦王幡然悔悟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是，唐雎又逼近一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此三子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臣而将四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这是暗示他将效法三人，刺杀秦王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样就把血淋淋的史实，变成对秦王的直接威胁，迫使秦王不得不考虑自己的危急处境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-188280" y="1341360"/>
            <a:ext cx="1734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唐雎不</a:t>
            </a: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华文行楷"/>
              </a:rPr>
              <a:t>辱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使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1979640" y="3284640"/>
            <a:ext cx="1657440" cy="215640"/>
          </a:xfrm>
          <a:custGeom>
            <a:avLst/>
            <a:gdLst>
              <a:gd name="textAreaLeft" fmla="*/ 207000 w 1657440"/>
              <a:gd name="textAreaRight" fmla="*/ 1450440 w 16574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170160" y="4653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唐雎完成了出使的任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700360" y="189000"/>
            <a:ext cx="37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      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053960" y="2060640"/>
            <a:ext cx="165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5095800" y="2924280"/>
            <a:ext cx="116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辱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辜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"/>
          <p:cNvSpPr/>
          <p:nvPr/>
        </p:nvSpPr>
        <p:spPr>
          <a:xfrm>
            <a:off x="873000" y="5880240"/>
            <a:ext cx="51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228600" y="685800"/>
            <a:ext cx="8447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以行征言，言之有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力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倘若唐雎只用舌战，不辅以武力，秦王势必会存侥幸，绝不会轻易折服。为能使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更富于慑敌的威力。唐雎辅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挺剑而起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义无反顾的行动，来证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欲刺秦王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这就从根本上彻底打破了秦王的一切幻想，迫使秦王不得不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跪而谢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250920" y="907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从这个故事可以看出唐雎是什么样的人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24000" y="3645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763640" y="3284640"/>
            <a:ext cx="70581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从容镇定，不畏强暴，有胆有识、爱国忠君、机智勇敢、能言善辩具有凛然正气的外交家的形象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324000" y="2602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阅读课文，分组讨论下列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24000" y="1052640"/>
            <a:ext cx="856908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以五百里地易安陵的真正目的是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出使秦国的原因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是怎样劝说秦王的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说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具体内容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举专诸、聂政、要离等三个人物的目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最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跪而谢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说明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990720" y="3808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归纳各段的段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04920" y="434880"/>
            <a:ext cx="2133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538956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代唐雎出使秦国的原因（背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828800" y="2514600"/>
            <a:ext cx="701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坚决抵制秦王的骗局，表现出维护国土的严正立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905120" y="391464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反击秦王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5006880" y="5257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在这场斗争中取得了胜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心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1775880" y="4176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你懂得了什么道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95280" y="1916280"/>
            <a:ext cx="8280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与人交往中，说话技巧起着很重要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平时要多锻炼自己的说话能力，培养自己的说话技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68360" y="2205000"/>
            <a:ext cx="820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我们以后的写作过程中，可充分运用个性化的人物语言来凸现人物的性格特点，提高我们的写作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539640" y="549360"/>
            <a:ext cx="67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写作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95280" y="26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知道哪些关于说话能力和技巧的名言警句？试列举一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468360" y="184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楷体_GB2312"/>
              </a:rPr>
              <a:t>荀子：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口能言之，身能行之，国宝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202400" y="2708280"/>
            <a:ext cx="52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刘勰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人之辩胜于九鼎之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寸之舌强于百万之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468360" y="4149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西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79280" y="54450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圣经</a:t>
            </a: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268360" y="537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句话说得合宜，就如金苹果在银网子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1979640" y="4076640"/>
            <a:ext cx="69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世界的三大战略武器：口才、美元、电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826920" y="2637000"/>
            <a:ext cx="77043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晏子：出使楚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蔺相如：完璧归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诸葛亮：舌战群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68360" y="549360"/>
            <a:ext cx="8064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还了解外交史上哪些出使他国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辱使命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人或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24000" y="476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战国策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战国时代国别体史书。原有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国事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国策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长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不同名号，共有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篇，分东周、西周、楚、赵、魏、韩、燕、宋、卫、中山十二策。是记载战国时期各国的策士（说客，又叫纵横家）的言论、活动的史书，以记言为主西汉成帝时，刘向将其整理编辑而成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积累字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95280" y="404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通假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755640" y="2205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故不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错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意也。“错”通“措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755640" y="37162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仓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鹰击于殿上。“仓”通“苍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395280" y="33336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68360" y="1628640"/>
            <a:ext cx="820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跪而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谢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　古义：道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　　　　　今义：感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24000" y="4005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唐雎不辱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使命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古义：使：出使；命：任务　　　今义：重大的任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4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395280" y="26028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词类活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95280" y="155736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请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广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于君（形容词用作动词，使动用法，“使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扩充”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395280" y="3213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轻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寡人与（形容词用作动词，意动用法，“认为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轻，小看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395280" y="494172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下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缟素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名词用作动词，穿丧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68360" y="1341360"/>
            <a:ext cx="5472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唐雎不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秦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谓安陵君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安陵君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唐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于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仓鹰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殿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受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先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因使唐雎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651640" y="580536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到、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11924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95280" y="2602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一词多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50920" y="1700280"/>
            <a:ext cx="217440" cy="1944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250920" y="4437000"/>
            <a:ext cx="217440" cy="1943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5857920" y="119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出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5900040" y="21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5971320" y="38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5971320" y="479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5867280" y="3068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派、出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4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4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4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4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468360" y="620640"/>
            <a:ext cx="79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，受地于先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里不敢易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250920" y="907920"/>
            <a:ext cx="217440" cy="1152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932360" y="549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然，表转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003640" y="1484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即使，表假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468360" y="2637000"/>
            <a:ext cx="698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免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跣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有先王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250920" y="2924280"/>
            <a:ext cx="217440" cy="115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4500720" y="263700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光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4500720" y="350028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只、仅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95280" y="4653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人欲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百里之地易安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250920" y="4941720"/>
            <a:ext cx="217440" cy="1152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6948360" y="4724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、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3708360" y="5661000"/>
            <a:ext cx="46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把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4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4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4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4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81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468360" y="1700280"/>
            <a:ext cx="799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50920" y="31417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50920" y="3933720"/>
            <a:ext cx="889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是安陵君却违背我的意愿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轻视我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50920" y="4797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4000" y="544500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68360" y="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重点语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76a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测一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"/>
          <p:cNvGrpSpPr/>
          <p:nvPr/>
        </p:nvGrpSpPr>
        <p:grpSpPr>
          <a:xfrm>
            <a:off x="324000" y="189000"/>
            <a:ext cx="7776720" cy="6113160"/>
            <a:chOff x="324000" y="189000"/>
            <a:chExt cx="7776720" cy="6113160"/>
          </a:xfrm>
        </p:grpSpPr>
        <p:sp>
          <p:nvSpPr>
            <p:cNvPr id="361" name="Rectangle 3"/>
            <p:cNvSpPr/>
            <p:nvPr/>
          </p:nvSpPr>
          <p:spPr>
            <a:xfrm>
              <a:off x="324000" y="189000"/>
              <a:ext cx="7776720" cy="611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读准下列加点字的音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逆（  ）      韩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傀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徒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跣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）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抢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地（      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缟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素（ ） 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庸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夫（  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色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挠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怫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然（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休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祲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4"/>
            <p:cNvSpPr/>
            <p:nvPr/>
          </p:nvSpPr>
          <p:spPr>
            <a:xfrm>
              <a:off x="1212480" y="163656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5"/>
            <p:cNvSpPr/>
            <p:nvPr/>
          </p:nvSpPr>
          <p:spPr>
            <a:xfrm>
              <a:off x="1212480" y="232236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"/>
            <p:cNvSpPr/>
            <p:nvPr/>
          </p:nvSpPr>
          <p:spPr>
            <a:xfrm>
              <a:off x="1879200" y="308448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7"/>
            <p:cNvSpPr/>
            <p:nvPr/>
          </p:nvSpPr>
          <p:spPr>
            <a:xfrm>
              <a:off x="1212480" y="3846600"/>
              <a:ext cx="1112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8"/>
            <p:cNvSpPr/>
            <p:nvPr/>
          </p:nvSpPr>
          <p:spPr>
            <a:xfrm>
              <a:off x="1212480" y="445608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9"/>
            <p:cNvSpPr/>
            <p:nvPr/>
          </p:nvSpPr>
          <p:spPr>
            <a:xfrm>
              <a:off x="1212480" y="5218200"/>
              <a:ext cx="1112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0"/>
            <p:cNvSpPr/>
            <p:nvPr/>
          </p:nvSpPr>
          <p:spPr>
            <a:xfrm>
              <a:off x="1879200" y="5904000"/>
              <a:ext cx="1112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重点掌握以下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易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加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弗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错意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250920" y="134136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战国末期，秦国先后灭掉了韩、魏等国，气势日炽。安陵国是魏国的附庸小国，秦国企图用诈骗手段不战而吞并安陵，安陵君于是派唐雎到秦国去谈判，唐雎在秦王面前，不畏强暴，以死相拼，终于没有辜负出使之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556000" y="289080"/>
            <a:ext cx="3537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内容介绍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免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庸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休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祲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缟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2209680" y="586728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广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逆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轻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与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岂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怫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2514600" y="530208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色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谕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2895480" y="411480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解释下列加点的词，注意比较它们的词义。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使人谓安陵君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因使唐雎使于秦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说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说之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可二黍许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其许寡人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3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4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5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4572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翻译下面的文言句子。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228600" y="548640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"/>
          <p:cNvGrpSpPr/>
          <p:nvPr/>
        </p:nvGrpSpPr>
        <p:grpSpPr>
          <a:xfrm>
            <a:off x="611280" y="549360"/>
            <a:ext cx="7776720" cy="5790960"/>
            <a:chOff x="611280" y="549360"/>
            <a:chExt cx="7776720" cy="5790960"/>
          </a:xfrm>
        </p:grpSpPr>
        <p:sp>
          <p:nvSpPr>
            <p:cNvPr id="399" name="Rectangle 3"/>
            <p:cNvSpPr/>
            <p:nvPr/>
          </p:nvSpPr>
          <p:spPr>
            <a:xfrm>
              <a:off x="611280" y="549360"/>
              <a:ext cx="7776720" cy="508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读准下列加点字的音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逆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ì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   韩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傀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guī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徒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跣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xiǎn 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抢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地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qiāng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缟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素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gǎo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庸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夫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yōng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色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挠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á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怫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然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f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ú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休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祲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j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ì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4"/>
            <p:cNvSpPr/>
            <p:nvPr/>
          </p:nvSpPr>
          <p:spPr>
            <a:xfrm>
              <a:off x="1499760" y="1996920"/>
              <a:ext cx="11124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5"/>
            <p:cNvSpPr/>
            <p:nvPr/>
          </p:nvSpPr>
          <p:spPr>
            <a:xfrm>
              <a:off x="1499760" y="2682720"/>
              <a:ext cx="11124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6"/>
            <p:cNvSpPr/>
            <p:nvPr/>
          </p:nvSpPr>
          <p:spPr>
            <a:xfrm>
              <a:off x="2166480" y="3444840"/>
              <a:ext cx="11124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7"/>
            <p:cNvSpPr/>
            <p:nvPr/>
          </p:nvSpPr>
          <p:spPr>
            <a:xfrm>
              <a:off x="1499760" y="420696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8"/>
            <p:cNvSpPr/>
            <p:nvPr/>
          </p:nvSpPr>
          <p:spPr>
            <a:xfrm>
              <a:off x="1499760" y="4816440"/>
              <a:ext cx="11124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9"/>
            <p:cNvSpPr/>
            <p:nvPr/>
          </p:nvSpPr>
          <p:spPr>
            <a:xfrm>
              <a:off x="1499760" y="557856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0"/>
            <p:cNvSpPr/>
            <p:nvPr/>
          </p:nvSpPr>
          <p:spPr>
            <a:xfrm>
              <a:off x="2166480" y="626436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重点掌握以下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易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加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弗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错意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55960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4165560" y="1873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句中表希望的语气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399480" y="259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给予恩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2469600" y="331956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2418840" y="4037040"/>
            <a:ext cx="388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yuè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悦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2612520" y="4724280"/>
            <a:ext cx="182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而，于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4788000" y="5454720"/>
            <a:ext cx="144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注意，放在心上。错，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措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免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庸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休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祲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缟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327480" y="685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摘掉帽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3097080" y="1447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光着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2560680" y="22096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3091320" y="297180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庸无能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4862520" y="36576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里指有才能有胆识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2438280" y="4419720"/>
            <a:ext cx="541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吉凶的征兆。休，吉祥。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不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5322600" y="5867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白色的丝织品，这里指穿丧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广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逆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轻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与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岂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怫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638440" y="5335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扩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259704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违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2562120" y="1828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轻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2893320" y="2590920"/>
            <a:ext cx="342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语气助词，相当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479760" y="3276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难道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3619080" y="396072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盛怒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4438800" y="4648320"/>
            <a:ext cx="232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相当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先生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古代对人的尊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3095640" y="5302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色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谕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824360" y="16002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变了脸色。挠，屈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095640" y="23623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681720" y="3244680"/>
            <a:ext cx="6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白、懂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4746240" y="41148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只因为。徒，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6"/>
          <p:cNvSpPr/>
          <p:nvPr/>
        </p:nvSpPr>
        <p:spPr>
          <a:xfrm>
            <a:off x="468360" y="1611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唐雎不辱使命"/>
          <p:cNvPicPr/>
          <p:nvPr/>
        </p:nvPicPr>
        <p:blipFill>
          <a:blip r:embed="rId2"/>
          <a:stretch/>
        </p:blipFill>
        <p:spPr>
          <a:xfrm>
            <a:off x="-1752480" y="0"/>
            <a:ext cx="113536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AutoShape 3"/>
          <p:cNvSpPr/>
          <p:nvPr/>
        </p:nvSpPr>
        <p:spPr>
          <a:xfrm>
            <a:off x="3581280" y="0"/>
            <a:ext cx="5562720" cy="3200400"/>
          </a:xfrm>
          <a:prstGeom prst="cloudCallout">
            <a:avLst>
              <a:gd name="adj1" fmla="val 58134"/>
              <a:gd name="adj2" fmla="val -1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191120" y="4572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秦王谓唐雎曰：“寡人以五百里之地易安陵，安陵君不听寡人，何也？且秦灭韩亡魏，而君以五十里之地存者，以君为长者，故不错意也。今吾以十倍之地，请广于君，而君逆寡人者，轻寡人与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解释下列加点的词，注意比较它们的词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使人谓安陵君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因使唐雎使于秦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说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说之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可二黍许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其许寡人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5961960" y="12193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6510600" y="2057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出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3615120" y="28195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3234240" y="3701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4349880" y="4572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5216760" y="54100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听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4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5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572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翻译下面的文言句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是他却违背我的意愿，是瞧不起我的实力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228600" y="548640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B2E1-4B0B-4540-B070-BE9AE5A9AA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唐雎不辱使命2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609480" y="304920"/>
            <a:ext cx="8153640" cy="2895480"/>
          </a:xfrm>
          <a:prstGeom prst="cloudCallout">
            <a:avLst>
              <a:gd name="adj1" fmla="val 17425"/>
              <a:gd name="adj2" fmla="val 83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09680" y="6858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秦王怫然怒，谓唐雎曰：“公亦尝闻天子之怒乎？”唐雎对曰：“臣未尝闻也。”秦王曰：“天子之怒，伏尸百万，流血千里。”唐雎曰：“大王尝闻布衣之怒乎？”秦王曰：“布衣之怒，亦免冠徒跣，以头抢地尔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唐雎不辱使命2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3"/>
          <p:cNvSpPr/>
          <p:nvPr/>
        </p:nvSpPr>
        <p:spPr>
          <a:xfrm>
            <a:off x="762120" y="0"/>
            <a:ext cx="8381880" cy="3124080"/>
          </a:xfrm>
          <a:prstGeom prst="cloudCallout">
            <a:avLst>
              <a:gd name="adj1" fmla="val -16157"/>
              <a:gd name="adj2" fmla="val 67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209680" y="304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唐雎曰：“此庸夫之怒也，非士之怒也。夫专诸之刺王僚也，彗星袭月；聂政之刺韩傀也，白虹贯日；要离之刺庆忌也，仓鹰击于殿上。此三子者，皆布衣之士也，怀怒未发，休祲降于天，与臣而将四矣。若士必怒，伏尸二人，流血五步，天下缟素，今日是也。”挺剑而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987640" y="14842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唐雎出使秦国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276720" y="328464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唐雎与秦王斗争的经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276720" y="5229360"/>
            <a:ext cx="55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斗争的结果，唐雎取得胜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95280" y="1700280"/>
            <a:ext cx="289080" cy="4319640"/>
          </a:xfrm>
          <a:custGeom>
            <a:avLst/>
            <a:gdLst>
              <a:gd name="textAreaLeft" fmla="*/ 84960 w 289080"/>
              <a:gd name="textAreaRight" fmla="*/ 289080 w 289080"/>
              <a:gd name="textAreaTop" fmla="*/ 179640 h 4319640"/>
              <a:gd name="textAreaBottom" fmla="*/ 414000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799"/>
                </a:cubicBezTo>
                <a:lnTo>
                  <a:pt x="0" y="19801"/>
                </a:lnTo>
                <a:cubicBezTo>
                  <a:pt x="0" y="20701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50920" y="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理清文章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684360" y="1413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68360" y="342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、三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826920" y="5445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1332000" y="907920"/>
            <a:ext cx="287280" cy="13716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1403280" y="31417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451"/>
                </a:lnTo>
                <a:cubicBezTo>
                  <a:pt x="10800" y="10351"/>
                  <a:pt x="5400" y="11250"/>
                  <a:pt x="0" y="11250"/>
                </a:cubicBezTo>
                <a:cubicBezTo>
                  <a:pt x="5400" y="11250"/>
                  <a:pt x="10800" y="12150"/>
                  <a:pt x="10800" y="1304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11280" y="907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600200" y="76500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五百里之地易安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王不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39640" y="3141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763640" y="3141720"/>
            <a:ext cx="762012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故不错意也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非若是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轻寡人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虽千里不敢易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布衣之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84360" y="5229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979640" y="5589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跪而谢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012000" y="333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受地于先王，愿终守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6084720" y="1484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使唐雎使于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395280" y="1197000"/>
            <a:ext cx="289080" cy="5111640"/>
          </a:xfrm>
          <a:custGeom>
            <a:avLst/>
            <a:gdLst>
              <a:gd name="textAreaLeft" fmla="*/ 84960 w 289080"/>
              <a:gd name="textAreaRight" fmla="*/ 289080 w 289080"/>
              <a:gd name="textAreaTop" fmla="*/ 212760 h 5111640"/>
              <a:gd name="textAreaBottom" fmla="*/ 489888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067280" y="1557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安陵危在旦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44:27Z</dcterms:modified>
  <cp:revision>1</cp:revision>
  <dc:subject/>
  <dc:title>幻灯片 1</dc:title>
</cp:coreProperties>
</file>