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7.png" ContentType="image/png"/>
  <Override PartName="/ppt/media/image16.png" ContentType="image/png"/>
  <Override PartName="/ppt/media/image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29.gif" ContentType="image/gif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wmf" ContentType="image/x-wmf"/>
  <Override PartName="/ppt/media/image20.jpeg" ContentType="image/jpeg"/>
  <Override PartName="/ppt/media/image19.png" ContentType="image/png"/>
  <Override PartName="/ppt/media/chimes.wav" ContentType="audio/x-wav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E680-037F-4E14-8D4B-7B30DA6A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CBEC-AB8A-437C-AC7F-126ADBD1F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17FD-7AC5-4DDC-A1AF-1D80B9CD6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9D54-FD13-41B6-A7FC-1047655CB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1A83-06CF-4B75-9D1E-EAB918A0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89E-5345-41BC-B5D6-186D8AD5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818-1E8F-4788-983F-D1C7F3C4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40E-C18F-4432-BE0B-4EE3EA05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C4E-E774-4D57-9299-A178CD37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A76-4DC6-4DFB-8E60-900F3436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EBB-96EE-458F-A7F6-E495FA36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AE1-B7B1-484E-B459-12A78658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E77-088F-4F86-BBFB-1CE1FD7D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879-C0D7-438E-AA7D-087BCC1E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57D-7624-461C-9F0E-90291CF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2E1-07D0-4610-8FCC-B436DA07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AE2-8818-4531-8BA9-82526F86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27E8-92D0-41D2-9594-91A0A9F71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=维的画g"/>
          <p:cNvPicPr/>
          <p:nvPr/>
        </p:nvPicPr>
        <p:blipFill>
          <a:blip r:embed="rId1"/>
          <a:stretch/>
        </p:blipFill>
        <p:spPr>
          <a:xfrm>
            <a:off x="1600200" y="762120"/>
            <a:ext cx="7543800" cy="4954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817560" y="10666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华文新魏"/>
                <a:ea typeface="华文新魏"/>
              </a:rPr>
              <a:t>维维的画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982520" y="6012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55a4be4e87315a98d0c86a54"/>
          <p:cNvPicPr/>
          <p:nvPr/>
        </p:nvPicPr>
        <p:blipFill>
          <a:blip r:embed="rId1">
            <a:lum contrast="12000"/>
          </a:blip>
          <a:srcRect l="0" t="0" r="0" b="-2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52280" y="25909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  <a:ea typeface="楷体"/>
              </a:rPr>
              <a:t>维维给爷爷画了哪些东西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54" name="Oval 3"/>
          <p:cNvSpPr/>
          <p:nvPr/>
        </p:nvSpPr>
        <p:spPr>
          <a:xfrm>
            <a:off x="3059280" y="1268280"/>
            <a:ext cx="2304720" cy="23767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圆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4140360" y="3645000"/>
            <a:ext cx="0" cy="2305080"/>
          </a:xfrm>
          <a:prstGeom prst="line">
            <a:avLst/>
          </a:prstGeom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6443640" y="213372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气球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292720" y="3789360"/>
            <a:ext cx="309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维用红笔画了一个圆圈，再用黄笔在圆圈下加了一条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爷爷问：“这是什么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维说：“气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59" name="Oval 2"/>
          <p:cNvSpPr/>
          <p:nvPr/>
        </p:nvSpPr>
        <p:spPr>
          <a:xfrm>
            <a:off x="3276720" y="3068640"/>
            <a:ext cx="2376360" cy="230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"/>
          <p:cNvSpPr/>
          <p:nvPr/>
        </p:nvSpPr>
        <p:spPr>
          <a:xfrm flipV="1">
            <a:off x="4427640" y="2349000"/>
            <a:ext cx="73080" cy="1079640"/>
          </a:xfrm>
          <a:prstGeom prst="line">
            <a:avLst/>
          </a:prstGeom>
          <a:ln w="127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3995640" y="1341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苹果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651640" y="3789360"/>
            <a:ext cx="309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维又画了个圆圈，这次，她用绿笔在上面加了条短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：“这是苹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64" name="Oval 3"/>
          <p:cNvSpPr/>
          <p:nvPr/>
        </p:nvSpPr>
        <p:spPr>
          <a:xfrm>
            <a:off x="5219640" y="2565360"/>
            <a:ext cx="3456000" cy="194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2ab5"/>
                </a:solidFill>
                <a:latin typeface="Arial"/>
              </a:rPr>
              <a:t>椭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"/>
          <p:cNvSpPr/>
          <p:nvPr/>
        </p:nvSpPr>
        <p:spPr>
          <a:xfrm>
            <a:off x="3203640" y="3309840"/>
            <a:ext cx="2016000" cy="466920"/>
          </a:xfrm>
          <a:custGeom>
            <a:avLst/>
            <a:gdLst/>
            <a:ahLst/>
            <a:rect l="l" t="t" r="r" b="b"/>
            <a:pathLst>
              <a:path w="1270" h="294">
                <a:moveTo>
                  <a:pt x="1270" y="120"/>
                </a:moveTo>
                <a:cubicBezTo>
                  <a:pt x="1187" y="86"/>
                  <a:pt x="1104" y="52"/>
                  <a:pt x="1043" y="75"/>
                </a:cubicBezTo>
                <a:cubicBezTo>
                  <a:pt x="982" y="98"/>
                  <a:pt x="990" y="226"/>
                  <a:pt x="907" y="256"/>
                </a:cubicBezTo>
                <a:cubicBezTo>
                  <a:pt x="824" y="286"/>
                  <a:pt x="627" y="294"/>
                  <a:pt x="544" y="256"/>
                </a:cubicBezTo>
                <a:cubicBezTo>
                  <a:pt x="461" y="218"/>
                  <a:pt x="476" y="60"/>
                  <a:pt x="408" y="30"/>
                </a:cubicBezTo>
                <a:cubicBezTo>
                  <a:pt x="340" y="0"/>
                  <a:pt x="189" y="45"/>
                  <a:pt x="136" y="75"/>
                </a:cubicBezTo>
                <a:cubicBezTo>
                  <a:pt x="83" y="105"/>
                  <a:pt x="114" y="181"/>
                  <a:pt x="91" y="211"/>
                </a:cubicBezTo>
                <a:cubicBezTo>
                  <a:pt x="68" y="241"/>
                  <a:pt x="34" y="248"/>
                  <a:pt x="0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1476360" y="1844640"/>
            <a:ext cx="165564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蝌蚪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755640" y="4221000"/>
            <a:ext cx="309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着，维维画了个椭圆，在它的右边加了条曲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：“这是小蝌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755640" y="22860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70" name="Oval 3"/>
          <p:cNvSpPr/>
          <p:nvPr/>
        </p:nvSpPr>
        <p:spPr>
          <a:xfrm>
            <a:off x="1763640" y="3213000"/>
            <a:ext cx="2808360" cy="1295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椭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4500720" y="3716280"/>
            <a:ext cx="1638000" cy="295200"/>
          </a:xfrm>
          <a:custGeom>
            <a:avLst/>
            <a:gdLst/>
            <a:ahLst/>
            <a:rect l="l" t="t" r="r" b="b"/>
            <a:pathLst>
              <a:path w="1032" h="186">
                <a:moveTo>
                  <a:pt x="0" y="117"/>
                </a:moveTo>
                <a:cubicBezTo>
                  <a:pt x="210" y="98"/>
                  <a:pt x="135" y="132"/>
                  <a:pt x="240" y="53"/>
                </a:cubicBezTo>
                <a:cubicBezTo>
                  <a:pt x="257" y="40"/>
                  <a:pt x="276" y="30"/>
                  <a:pt x="296" y="21"/>
                </a:cubicBezTo>
                <a:cubicBezTo>
                  <a:pt x="311" y="14"/>
                  <a:pt x="344" y="5"/>
                  <a:pt x="344" y="5"/>
                </a:cubicBezTo>
                <a:cubicBezTo>
                  <a:pt x="360" y="21"/>
                  <a:pt x="385" y="32"/>
                  <a:pt x="392" y="53"/>
                </a:cubicBezTo>
                <a:cubicBezTo>
                  <a:pt x="405" y="92"/>
                  <a:pt x="422" y="116"/>
                  <a:pt x="448" y="149"/>
                </a:cubicBezTo>
                <a:cubicBezTo>
                  <a:pt x="543" y="121"/>
                  <a:pt x="515" y="136"/>
                  <a:pt x="576" y="93"/>
                </a:cubicBezTo>
                <a:cubicBezTo>
                  <a:pt x="586" y="86"/>
                  <a:pt x="598" y="83"/>
                  <a:pt x="608" y="77"/>
                </a:cubicBezTo>
                <a:cubicBezTo>
                  <a:pt x="624" y="67"/>
                  <a:pt x="656" y="45"/>
                  <a:pt x="656" y="45"/>
                </a:cubicBezTo>
                <a:cubicBezTo>
                  <a:pt x="653" y="34"/>
                  <a:pt x="639" y="19"/>
                  <a:pt x="648" y="13"/>
                </a:cubicBezTo>
                <a:cubicBezTo>
                  <a:pt x="670" y="0"/>
                  <a:pt x="737" y="37"/>
                  <a:pt x="760" y="45"/>
                </a:cubicBezTo>
                <a:cubicBezTo>
                  <a:pt x="768" y="53"/>
                  <a:pt x="775" y="63"/>
                  <a:pt x="784" y="69"/>
                </a:cubicBezTo>
                <a:cubicBezTo>
                  <a:pt x="791" y="74"/>
                  <a:pt x="802" y="71"/>
                  <a:pt x="808" y="77"/>
                </a:cubicBezTo>
                <a:cubicBezTo>
                  <a:pt x="847" y="116"/>
                  <a:pt x="824" y="122"/>
                  <a:pt x="880" y="141"/>
                </a:cubicBezTo>
                <a:cubicBezTo>
                  <a:pt x="885" y="133"/>
                  <a:pt x="893" y="126"/>
                  <a:pt x="896" y="117"/>
                </a:cubicBezTo>
                <a:cubicBezTo>
                  <a:pt x="901" y="102"/>
                  <a:pt x="896" y="83"/>
                  <a:pt x="904" y="69"/>
                </a:cubicBezTo>
                <a:cubicBezTo>
                  <a:pt x="915" y="49"/>
                  <a:pt x="952" y="21"/>
                  <a:pt x="952" y="21"/>
                </a:cubicBezTo>
                <a:cubicBezTo>
                  <a:pt x="960" y="24"/>
                  <a:pt x="970" y="23"/>
                  <a:pt x="976" y="29"/>
                </a:cubicBezTo>
                <a:cubicBezTo>
                  <a:pt x="990" y="43"/>
                  <a:pt x="1008" y="77"/>
                  <a:pt x="1008" y="77"/>
                </a:cubicBezTo>
                <a:cubicBezTo>
                  <a:pt x="1016" y="186"/>
                  <a:pt x="981" y="181"/>
                  <a:pt x="1032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3276720" y="162864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蝌蚪的弟弟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364000" y="4076640"/>
            <a:ext cx="33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维又画了个小椭圆，在左边加了条曲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：“这是小蝌蚪的弟弟，小小蝌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3"/>
          <p:cNvGrpSpPr/>
          <p:nvPr/>
        </p:nvGrpSpPr>
        <p:grpSpPr>
          <a:xfrm>
            <a:off x="466560" y="2565360"/>
            <a:ext cx="8282160" cy="3888000"/>
            <a:chOff x="466560" y="2565360"/>
            <a:chExt cx="8282160" cy="3888000"/>
          </a:xfrm>
        </p:grpSpPr>
        <p:grpSp>
          <p:nvGrpSpPr>
            <p:cNvPr id="176" name="Group 4"/>
            <p:cNvGrpSpPr/>
            <p:nvPr/>
          </p:nvGrpSpPr>
          <p:grpSpPr>
            <a:xfrm>
              <a:off x="466560" y="2565360"/>
              <a:ext cx="8280360" cy="3888000"/>
              <a:chOff x="466560" y="2565360"/>
              <a:chExt cx="8280360" cy="3888000"/>
            </a:xfrm>
          </p:grpSpPr>
          <p:sp>
            <p:nvSpPr>
              <p:cNvPr id="177" name="AutoShape 5"/>
              <p:cNvSpPr/>
              <p:nvPr/>
            </p:nvSpPr>
            <p:spPr>
              <a:xfrm>
                <a:off x="466560" y="2565360"/>
                <a:ext cx="8280360" cy="3888000"/>
              </a:xfrm>
              <a:prstGeom prst="horizontalScroll">
                <a:avLst>
                  <a:gd name="adj" fmla="val 7291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c08d5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"/>
              <p:cNvSpPr/>
              <p:nvPr/>
            </p:nvSpPr>
            <p:spPr>
              <a:xfrm>
                <a:off x="2050920" y="3500640"/>
                <a:ext cx="64087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7"/>
            <p:cNvSpPr/>
            <p:nvPr/>
          </p:nvSpPr>
          <p:spPr>
            <a:xfrm>
              <a:off x="755640" y="3319200"/>
              <a:ext cx="7993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讨论：你喜欢维维的画儿吗？在你看来，维维的画是四个圆圈还是四种不同的东西？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250920" y="549360"/>
            <a:ext cx="5257800" cy="2232000"/>
            <a:chOff x="250920" y="549360"/>
            <a:chExt cx="5257800" cy="2232000"/>
          </a:xfrm>
        </p:grpSpPr>
        <p:pic>
          <p:nvPicPr>
            <p:cNvPr id="181" name="Picture 9" descr="图片9"/>
            <p:cNvPicPr/>
            <p:nvPr/>
          </p:nvPicPr>
          <p:blipFill>
            <a:blip r:embed="rId3"/>
            <a:stretch/>
          </p:blipFill>
          <p:spPr>
            <a:xfrm>
              <a:off x="250920" y="907920"/>
              <a:ext cx="316872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0" descr="图片6"/>
            <p:cNvPicPr/>
            <p:nvPr/>
          </p:nvPicPr>
          <p:blipFill>
            <a:blip r:embed="rId4"/>
            <a:stretch/>
          </p:blipFill>
          <p:spPr>
            <a:xfrm>
              <a:off x="3132000" y="549360"/>
              <a:ext cx="237672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FC2D-BE5B-41E6-8A41-8BBDB8715D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0=维的画g"/>
          <p:cNvPicPr/>
          <p:nvPr/>
        </p:nvPicPr>
        <p:blipFill>
          <a:blip r:embed="rId1"/>
          <a:stretch/>
        </p:blipFill>
        <p:spPr>
          <a:xfrm>
            <a:off x="1600200" y="1903320"/>
            <a:ext cx="7543800" cy="4954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380880"/>
            <a:ext cx="6476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备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读课文，做到正确、流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标出自然段，圈画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=维的画g"/>
          <p:cNvPicPr/>
          <p:nvPr/>
        </p:nvPicPr>
        <p:blipFill>
          <a:blip r:embed="rId1"/>
          <a:stretch/>
        </p:blipFill>
        <p:spPr>
          <a:xfrm>
            <a:off x="1600200" y="1903320"/>
            <a:ext cx="7543800" cy="4954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80880" y="380880"/>
            <a:ext cx="6477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互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互查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边框1"/>
          <p:cNvPicPr/>
          <p:nvPr/>
        </p:nvPicPr>
        <p:blipFill>
          <a:blip r:embed="rId1"/>
          <a:stretch/>
        </p:blipFill>
        <p:spPr>
          <a:xfrm>
            <a:off x="0" y="-420840"/>
            <a:ext cx="9144000" cy="727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457200" y="1523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"/>
              </a:rPr>
              <a:t>	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老师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红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在我们的作业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圆圈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33520" y="3333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一条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蝌蚪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到池塘里去找妈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19200" y="44956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我的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弟弟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特别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聪明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990720" y="27936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ff"/>
                </a:solidFill>
                <a:latin typeface="Arial"/>
                <a:ea typeface="楷体"/>
              </a:rPr>
              <a:t>我会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okhuoche"/>
          <p:cNvPicPr/>
          <p:nvPr/>
        </p:nvPicPr>
        <p:blipFill>
          <a:blip r:embed="rId1"/>
          <a:stretch/>
        </p:blipFill>
        <p:spPr>
          <a:xfrm>
            <a:off x="228600" y="4648320"/>
            <a:ext cx="7391520" cy="2209680"/>
          </a:xfrm>
          <a:prstGeom prst="rect">
            <a:avLst/>
          </a:prstGeom>
          <a:ln w="0">
            <a:noFill/>
          </a:ln>
        </p:spPr>
      </p:pic>
      <p:sp>
        <p:nvSpPr>
          <p:cNvPr id="61" name="WordArt 9"/>
          <p:cNvSpPr txBox="1"/>
          <p:nvPr/>
        </p:nvSpPr>
        <p:spPr>
          <a:xfrm>
            <a:off x="609480" y="457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火车，开起来！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304920" y="198108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红色  聪明  右手  弟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蝌蚪  圆圈  红笔  左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明白  半圆  毛笔  一条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7课心里的世界a"/>
          <p:cNvPicPr/>
          <p:nvPr/>
        </p:nvPicPr>
        <p:blipFill>
          <a:blip r:embed="rId1"/>
          <a:srcRect l="0" t="6047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幼圆"/>
              </a:rPr>
              <a:t>     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看谁采 的“蘑 菇”最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0080811021102790"/>
          <p:cNvPicPr/>
          <p:nvPr/>
        </p:nvPicPr>
        <p:blipFill>
          <a:blip r:embed="rId2"/>
          <a:stretch/>
        </p:blipFill>
        <p:spPr>
          <a:xfrm>
            <a:off x="762120" y="2133720"/>
            <a:ext cx="71424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u=3996235034,3245655935&amp;fm=0&amp;gp=-46"/>
          <p:cNvPicPr/>
          <p:nvPr/>
        </p:nvPicPr>
        <p:blipFill>
          <a:blip r:embed="rId3"/>
          <a:stretch/>
        </p:blipFill>
        <p:spPr>
          <a:xfrm>
            <a:off x="457200" y="4724280"/>
            <a:ext cx="1066680" cy="1051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23页蘑菇"/>
          <p:cNvPicPr/>
          <p:nvPr/>
        </p:nvPicPr>
        <p:blipFill>
          <a:blip r:embed="rId4"/>
          <a:stretch/>
        </p:blipFill>
        <p:spPr>
          <a:xfrm>
            <a:off x="7315200" y="1676520"/>
            <a:ext cx="1371600" cy="125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2007107122225284_1"/>
          <p:cNvPicPr/>
          <p:nvPr/>
        </p:nvPicPr>
        <p:blipFill>
          <a:blip r:embed="rId5"/>
          <a:stretch/>
        </p:blipFill>
        <p:spPr>
          <a:xfrm>
            <a:off x="2209680" y="1676520"/>
            <a:ext cx="1276560" cy="95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200803120932231598_0"/>
          <p:cNvPicPr/>
          <p:nvPr/>
        </p:nvPicPr>
        <p:blipFill>
          <a:blip r:embed="rId6"/>
          <a:stretch/>
        </p:blipFill>
        <p:spPr>
          <a:xfrm>
            <a:off x="3962520" y="190512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xianhuaer2_0254"/>
          <p:cNvPicPr/>
          <p:nvPr/>
        </p:nvPicPr>
        <p:blipFill>
          <a:blip r:embed="rId7"/>
          <a:stretch/>
        </p:blipFill>
        <p:spPr>
          <a:xfrm>
            <a:off x="7370640" y="3505320"/>
            <a:ext cx="115884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xianhuayi1_0323"/>
          <p:cNvPicPr/>
          <p:nvPr/>
        </p:nvPicPr>
        <p:blipFill>
          <a:blip r:embed="rId8"/>
          <a:stretch/>
        </p:blipFill>
        <p:spPr>
          <a:xfrm>
            <a:off x="2057400" y="5105520"/>
            <a:ext cx="809640" cy="104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xianhuayi1_0297"/>
          <p:cNvPicPr/>
          <p:nvPr/>
        </p:nvPicPr>
        <p:blipFill>
          <a:blip r:embed="rId9"/>
          <a:stretch/>
        </p:blipFill>
        <p:spPr>
          <a:xfrm>
            <a:off x="3733920" y="3429000"/>
            <a:ext cx="996840" cy="111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1" descr="五角星3"/>
          <p:cNvPicPr/>
          <p:nvPr/>
        </p:nvPicPr>
        <p:blipFill>
          <a:blip r:embed="rId10"/>
          <a:stretch/>
        </p:blipFill>
        <p:spPr>
          <a:xfrm>
            <a:off x="762120" y="457200"/>
            <a:ext cx="807840" cy="78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未命名"/>
          <p:cNvPicPr/>
          <p:nvPr/>
        </p:nvPicPr>
        <p:blipFill>
          <a:blip r:embed="rId11"/>
          <a:stretch/>
        </p:blipFill>
        <p:spPr>
          <a:xfrm>
            <a:off x="4114800" y="45720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u=3996235034,3245655935&amp;fm=0&amp;gp=-46"/>
          <p:cNvPicPr/>
          <p:nvPr/>
        </p:nvPicPr>
        <p:blipFill>
          <a:blip r:embed="rId12"/>
          <a:stretch/>
        </p:blipFill>
        <p:spPr>
          <a:xfrm>
            <a:off x="5791320" y="2666880"/>
            <a:ext cx="1244520" cy="122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xianhuaer2_0254"/>
          <p:cNvPicPr/>
          <p:nvPr/>
        </p:nvPicPr>
        <p:blipFill>
          <a:blip r:embed="rId13"/>
          <a:stretch/>
        </p:blipFill>
        <p:spPr>
          <a:xfrm>
            <a:off x="1828800" y="2819520"/>
            <a:ext cx="1047600" cy="1447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xianhuayi1_0324"/>
          <p:cNvPicPr/>
          <p:nvPr/>
        </p:nvPicPr>
        <p:blipFill>
          <a:blip r:embed="rId14"/>
          <a:stretch/>
        </p:blipFill>
        <p:spPr>
          <a:xfrm>
            <a:off x="5943600" y="4952880"/>
            <a:ext cx="1612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图片1"/>
          <p:cNvPicPr/>
          <p:nvPr/>
        </p:nvPicPr>
        <p:blipFill>
          <a:blip r:embed="rId1"/>
          <a:stretch/>
        </p:blipFill>
        <p:spPr>
          <a:xfrm>
            <a:off x="179280" y="765000"/>
            <a:ext cx="8856720" cy="57596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"/>
          <p:cNvGrpSpPr/>
          <p:nvPr/>
        </p:nvGrpSpPr>
        <p:grpSpPr>
          <a:xfrm>
            <a:off x="179280" y="836640"/>
            <a:ext cx="2519280" cy="1582560"/>
            <a:chOff x="179280" y="836640"/>
            <a:chExt cx="2519280" cy="1582560"/>
          </a:xfrm>
        </p:grpSpPr>
        <p:grpSp>
          <p:nvGrpSpPr>
            <p:cNvPr id="80" name="Group 4"/>
            <p:cNvGrpSpPr/>
            <p:nvPr/>
          </p:nvGrpSpPr>
          <p:grpSpPr>
            <a:xfrm>
              <a:off x="179280" y="836640"/>
              <a:ext cx="2519280" cy="1582560"/>
              <a:chOff x="179280" y="836640"/>
              <a:chExt cx="2519280" cy="1582560"/>
            </a:xfrm>
          </p:grpSpPr>
          <p:pic>
            <p:nvPicPr>
              <p:cNvPr id="81" name="Picture 5" descr="12"/>
              <p:cNvPicPr/>
              <p:nvPr/>
            </p:nvPicPr>
            <p:blipFill>
              <a:blip r:embed="rId2"/>
              <a:stretch/>
            </p:blipFill>
            <p:spPr>
              <a:xfrm>
                <a:off x="179280" y="836640"/>
                <a:ext cx="251928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Rectangle 6"/>
              <p:cNvSpPr/>
              <p:nvPr/>
            </p:nvSpPr>
            <p:spPr>
              <a:xfrm>
                <a:off x="571680" y="1280160"/>
                <a:ext cx="1812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WordArt 7"/>
            <p:cNvSpPr txBox="1"/>
            <p:nvPr/>
          </p:nvSpPr>
          <p:spPr>
            <a:xfrm>
              <a:off x="539640" y="1125360"/>
              <a:ext cx="165600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读一读</a:t>
              </a:r>
              <a:endPara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84" name="Picture 8" descr="图片11"/>
          <p:cNvPicPr/>
          <p:nvPr/>
        </p:nvPicPr>
        <p:blipFill>
          <a:blip r:embed="rId3"/>
          <a:stretch/>
        </p:blipFill>
        <p:spPr>
          <a:xfrm>
            <a:off x="2541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图片11"/>
          <p:cNvPicPr/>
          <p:nvPr/>
        </p:nvPicPr>
        <p:blipFill>
          <a:blip r:embed="rId4"/>
          <a:stretch/>
        </p:blipFill>
        <p:spPr>
          <a:xfrm>
            <a:off x="37083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图片11"/>
          <p:cNvPicPr/>
          <p:nvPr/>
        </p:nvPicPr>
        <p:blipFill>
          <a:blip r:embed="rId5"/>
          <a:stretch/>
        </p:blipFill>
        <p:spPr>
          <a:xfrm>
            <a:off x="197964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图片11"/>
          <p:cNvPicPr/>
          <p:nvPr/>
        </p:nvPicPr>
        <p:blipFill>
          <a:blip r:embed="rId6"/>
          <a:stretch/>
        </p:blipFill>
        <p:spPr>
          <a:xfrm>
            <a:off x="543888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图片11"/>
          <p:cNvPicPr/>
          <p:nvPr/>
        </p:nvPicPr>
        <p:blipFill>
          <a:blip r:embed="rId7"/>
          <a:stretch/>
        </p:blipFill>
        <p:spPr>
          <a:xfrm>
            <a:off x="7167600" y="3213000"/>
            <a:ext cx="1725480" cy="1511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3"/>
          <p:cNvSpPr/>
          <p:nvPr/>
        </p:nvSpPr>
        <p:spPr>
          <a:xfrm>
            <a:off x="1979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5435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708360" y="2492280"/>
            <a:ext cx="172872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16436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á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539640" y="321300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2195640" y="3213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924360" y="321300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5580000" y="3213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7380360" y="3147840"/>
            <a:ext cx="125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1280" y="2708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250920" y="247824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ó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179280" y="4869000"/>
            <a:ext cx="16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红色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1762200" y="48988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铅笔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3781440" y="4898880"/>
            <a:ext cx="179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圆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5508720" y="4869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圈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7164360" y="48988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几条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图片1"/>
          <p:cNvPicPr/>
          <p:nvPr/>
        </p:nvPicPr>
        <p:blipFill>
          <a:blip r:embed="rId1"/>
          <a:stretch/>
        </p:blipFill>
        <p:spPr>
          <a:xfrm>
            <a:off x="179280" y="765000"/>
            <a:ext cx="8856720" cy="57596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3"/>
          <p:cNvGrpSpPr/>
          <p:nvPr/>
        </p:nvGrpSpPr>
        <p:grpSpPr>
          <a:xfrm>
            <a:off x="179280" y="836640"/>
            <a:ext cx="2519280" cy="1582560"/>
            <a:chOff x="179280" y="836640"/>
            <a:chExt cx="2519280" cy="1582560"/>
          </a:xfrm>
        </p:grpSpPr>
        <p:grpSp>
          <p:nvGrpSpPr>
            <p:cNvPr id="107" name="Group 4"/>
            <p:cNvGrpSpPr/>
            <p:nvPr/>
          </p:nvGrpSpPr>
          <p:grpSpPr>
            <a:xfrm>
              <a:off x="179280" y="836640"/>
              <a:ext cx="2519280" cy="1582560"/>
              <a:chOff x="179280" y="836640"/>
              <a:chExt cx="2519280" cy="1582560"/>
            </a:xfrm>
          </p:grpSpPr>
          <p:pic>
            <p:nvPicPr>
              <p:cNvPr id="108" name="Picture 5" descr="12"/>
              <p:cNvPicPr/>
              <p:nvPr/>
            </p:nvPicPr>
            <p:blipFill>
              <a:blip r:embed="rId2"/>
              <a:stretch/>
            </p:blipFill>
            <p:spPr>
              <a:xfrm>
                <a:off x="179280" y="836640"/>
                <a:ext cx="251928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6"/>
              <p:cNvSpPr/>
              <p:nvPr/>
            </p:nvSpPr>
            <p:spPr>
              <a:xfrm>
                <a:off x="571680" y="1280160"/>
                <a:ext cx="1812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WordArt 7"/>
            <p:cNvSpPr txBox="1"/>
            <p:nvPr/>
          </p:nvSpPr>
          <p:spPr>
            <a:xfrm>
              <a:off x="539640" y="1125360"/>
              <a:ext cx="165600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读一读</a:t>
              </a:r>
              <a:endPara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111" name="Picture 8" descr="图片11"/>
          <p:cNvPicPr/>
          <p:nvPr/>
        </p:nvPicPr>
        <p:blipFill>
          <a:blip r:embed="rId3"/>
          <a:stretch/>
        </p:blipFill>
        <p:spPr>
          <a:xfrm>
            <a:off x="2541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图片11"/>
          <p:cNvPicPr/>
          <p:nvPr/>
        </p:nvPicPr>
        <p:blipFill>
          <a:blip r:embed="rId4"/>
          <a:stretch/>
        </p:blipFill>
        <p:spPr>
          <a:xfrm>
            <a:off x="37083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图片11"/>
          <p:cNvPicPr/>
          <p:nvPr/>
        </p:nvPicPr>
        <p:blipFill>
          <a:blip r:embed="rId5"/>
          <a:stretch/>
        </p:blipFill>
        <p:spPr>
          <a:xfrm>
            <a:off x="197964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图片11"/>
          <p:cNvPicPr/>
          <p:nvPr/>
        </p:nvPicPr>
        <p:blipFill>
          <a:blip r:embed="rId6"/>
          <a:stretch/>
        </p:blipFill>
        <p:spPr>
          <a:xfrm>
            <a:off x="543888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图片11"/>
          <p:cNvPicPr/>
          <p:nvPr/>
        </p:nvPicPr>
        <p:blipFill>
          <a:blip r:embed="rId7"/>
          <a:stretch/>
        </p:blipFill>
        <p:spPr>
          <a:xfrm>
            <a:off x="7167600" y="3213000"/>
            <a:ext cx="1725480" cy="1511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1979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5435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708360" y="2492280"/>
            <a:ext cx="172872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ǒ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716436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539640" y="321300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2195640" y="3213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3924360" y="321300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5580000" y="3213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7380360" y="3147840"/>
            <a:ext cx="125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611280" y="2708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50920" y="247824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179280" y="4869000"/>
            <a:ext cx="16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右边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1762200" y="48988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蝌蚪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3781440" y="4898880"/>
            <a:ext cx="179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蝌蚪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5508720" y="4869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左面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7164360" y="48988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弟弟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"/>
          <p:cNvPicPr/>
          <p:nvPr/>
        </p:nvPicPr>
        <p:blipFill>
          <a:blip r:embed="rId1"/>
          <a:stretch/>
        </p:blipFill>
        <p:spPr>
          <a:xfrm>
            <a:off x="179280" y="847800"/>
            <a:ext cx="8856720" cy="57499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179280" y="838080"/>
            <a:ext cx="2519280" cy="1582560"/>
            <a:chOff x="179280" y="838080"/>
            <a:chExt cx="2519280" cy="1582560"/>
          </a:xfrm>
        </p:grpSpPr>
        <p:grpSp>
          <p:nvGrpSpPr>
            <p:cNvPr id="134" name="Group 4"/>
            <p:cNvGrpSpPr/>
            <p:nvPr/>
          </p:nvGrpSpPr>
          <p:grpSpPr>
            <a:xfrm>
              <a:off x="179280" y="838080"/>
              <a:ext cx="2519280" cy="1582560"/>
              <a:chOff x="179280" y="838080"/>
              <a:chExt cx="2519280" cy="1582560"/>
            </a:xfrm>
          </p:grpSpPr>
          <p:pic>
            <p:nvPicPr>
              <p:cNvPr id="135" name="Picture 5" descr="12"/>
              <p:cNvPicPr/>
              <p:nvPr/>
            </p:nvPicPr>
            <p:blipFill>
              <a:blip r:embed="rId2"/>
              <a:stretch/>
            </p:blipFill>
            <p:spPr>
              <a:xfrm>
                <a:off x="179280" y="838080"/>
                <a:ext cx="251928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Rectangle 6"/>
              <p:cNvSpPr/>
              <p:nvPr/>
            </p:nvSpPr>
            <p:spPr>
              <a:xfrm>
                <a:off x="571680" y="1281600"/>
                <a:ext cx="1812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WordArt 7"/>
            <p:cNvSpPr txBox="1"/>
            <p:nvPr/>
          </p:nvSpPr>
          <p:spPr>
            <a:xfrm>
              <a:off x="539640" y="1126800"/>
              <a:ext cx="165600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读一读</a:t>
              </a:r>
              <a:endPara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138" name="Picture 8" descr="图片11"/>
          <p:cNvPicPr/>
          <p:nvPr/>
        </p:nvPicPr>
        <p:blipFill>
          <a:blip r:embed="rId3"/>
          <a:stretch/>
        </p:blipFill>
        <p:spPr>
          <a:xfrm>
            <a:off x="1935000" y="3273480"/>
            <a:ext cx="1725840" cy="151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图片11"/>
          <p:cNvPicPr/>
          <p:nvPr/>
        </p:nvPicPr>
        <p:blipFill>
          <a:blip r:embed="rId4"/>
          <a:stretch/>
        </p:blipFill>
        <p:spPr>
          <a:xfrm>
            <a:off x="3665520" y="3273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图片11"/>
          <p:cNvPicPr/>
          <p:nvPr/>
        </p:nvPicPr>
        <p:blipFill>
          <a:blip r:embed="rId5"/>
          <a:stretch/>
        </p:blipFill>
        <p:spPr>
          <a:xfrm>
            <a:off x="5391000" y="327348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5364000" y="2565360"/>
            <a:ext cx="172908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i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195640" y="321300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924360" y="321948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651640" y="3219480"/>
            <a:ext cx="132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1908000" y="2565360"/>
            <a:ext cx="172908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ō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195640" y="2492280"/>
            <a:ext cx="172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3635280" y="2565360"/>
            <a:ext cx="172872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1547640" y="48276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聪明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708360" y="486900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明白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435640" y="4827600"/>
            <a:ext cx="17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曲线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55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2:19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