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9A0-3220-47EA-A388-5EFD72C6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F65-472F-4214-9150-B1729690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CEF-E9AA-45CE-A063-0EB6BF01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318-DE71-4E24-95F5-DB02BAF4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FB4-7E09-45A1-A649-15273979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4A6-05C9-4F47-9901-BA8074DF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7D7-468D-4F35-9DB4-B2F72682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876-C8CB-4E90-BE96-0206B93F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E60-6E4F-40B8-925E-5041BCE8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93E-79AD-45EF-8C24-3BA659C6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D8A-C9F2-40F7-BEF5-7D778BB4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FF7-BF0B-4203-9E9C-F31922A3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D13F-60A3-418B-88E5-A964B7BE67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image" Target="../media/image9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8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002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http://www.hgxx.net/Soft/UploadSoftPic/20031114151099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85800" y="57636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5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小柳树和小枣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239148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454400" y="1523880"/>
            <a:ext cx="588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喂，小枣树，你的树枝多难看哪！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我，多漂亮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喂，小枣树，你怎么不长叶子呀？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我，多漂亮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351160" y="1066680"/>
            <a:ext cx="4295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小枣树说：“你虽然不会结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子，可是一到春天，你就发芽长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比我绿得早；到了秋天，你比我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叶晚。再说，你长得也比我快，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你长大了，人们在树阴下乘凉，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有多好啊！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3557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73560" y="990720"/>
            <a:ext cx="5642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小枣树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温和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说：“你虽然不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结枣子，可是一到春天，你就发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长叶，比我绿得早；到了秋天，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比我落叶晚。再说，你长得也比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快，等你长大了，人们在树阴下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凉，那有多好啊！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8D4A-9713-46A8-8A8B-20F56B009D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2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172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66688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Object 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2666880" y="5818320"/>
            <a:ext cx="64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http://10.55.0.178:8080//resource/chinese/人教语文/第2册/02柳树醒了/images/liutiaotupian.jpg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62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380880" y="476280"/>
            <a:ext cx="8001000" cy="561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8001000" cy="563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8001000" cy="563868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8"/>
          <p:cNvGrpSpPr/>
          <p:nvPr/>
        </p:nvGrpSpPr>
        <p:grpSpPr>
          <a:xfrm>
            <a:off x="380880" y="-76320"/>
            <a:ext cx="8153640" cy="6165720"/>
            <a:chOff x="380880" y="-76320"/>
            <a:chExt cx="8153640" cy="6165720"/>
          </a:xfrm>
        </p:grpSpPr>
        <p:pic>
          <p:nvPicPr>
            <p:cNvPr id="56" name="Picture 13" descr="http://www.gansudaily.com.cn/20020926/151/hz.jpg"/>
            <p:cNvPicPr/>
            <p:nvPr/>
          </p:nvPicPr>
          <p:blipFill>
            <a:blip r:embed="rId5"/>
            <a:stretch/>
          </p:blipFill>
          <p:spPr>
            <a:xfrm>
              <a:off x="380880" y="385560"/>
              <a:ext cx="8153640" cy="57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4"/>
            <p:cNvSpPr txBox="1"/>
            <p:nvPr/>
          </p:nvSpPr>
          <p:spPr>
            <a:xfrm>
              <a:off x="2149560" y="-76320"/>
              <a:ext cx="5538600" cy="100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4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大红枣，甜又甜</a:t>
              </a:r>
              <a:endParaRPr b="0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58" name="AutoShape 16">
            <a:hlinkClick r:id="rId6" action="ppaction://hlinksldjump"/>
          </p:cNvPr>
          <p:cNvSpPr/>
          <p:nvPr/>
        </p:nvSpPr>
        <p:spPr>
          <a:xfrm>
            <a:off x="4227480" y="6165720"/>
            <a:ext cx="1000080" cy="540000"/>
          </a:xfrm>
          <a:custGeom>
            <a:avLst/>
            <a:gdLst>
              <a:gd name="textAreaLeft" fmla="*/ 34920 w 1000080"/>
              <a:gd name="textAreaRight" fmla="*/ 965160 w 10000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9991" h="21600">
                <a:moveTo>
                  <a:pt x="0" y="0"/>
                </a:moveTo>
                <a:lnTo>
                  <a:pt x="39991" y="0"/>
                </a:lnTo>
                <a:lnTo>
                  <a:pt x="39991" y="21600"/>
                </a:lnTo>
                <a:lnTo>
                  <a:pt x="0" y="21600"/>
                </a:lnTo>
                <a:close/>
              </a:path>
              <a:path fill="lightenLess" w="39991" h="21600">
                <a:moveTo>
                  <a:pt x="0" y="0"/>
                </a:moveTo>
                <a:lnTo>
                  <a:pt x="39991" y="0"/>
                </a:lnTo>
                <a:lnTo>
                  <a:pt x="38591" y="1400"/>
                </a:lnTo>
                <a:lnTo>
                  <a:pt x="1400" y="1400"/>
                </a:lnTo>
                <a:close/>
              </a:path>
              <a:path fill="darken" w="39991" h="21600">
                <a:moveTo>
                  <a:pt x="39991" y="0"/>
                </a:moveTo>
                <a:lnTo>
                  <a:pt x="39991" y="21600"/>
                </a:lnTo>
                <a:lnTo>
                  <a:pt x="38591" y="20200"/>
                </a:lnTo>
                <a:lnTo>
                  <a:pt x="38591" y="1400"/>
                </a:lnTo>
                <a:close/>
              </a:path>
              <a:path fill="darkenLess" w="39991" h="21600">
                <a:moveTo>
                  <a:pt x="3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91" y="20200"/>
                </a:lnTo>
                <a:close/>
              </a:path>
              <a:path fill="lighten" w="3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91" h="21600">
                <a:moveTo>
                  <a:pt x="12989" y="3794"/>
                </a:moveTo>
                <a:lnTo>
                  <a:pt x="27002" y="10800"/>
                </a:lnTo>
                <a:lnTo>
                  <a:pt x="129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7">
            <a:hlinkClick r:id="rId7" action="ppaction://hlinksldjump"/>
          </p:cNvPr>
          <p:cNvSpPr/>
          <p:nvPr/>
        </p:nvSpPr>
        <p:spPr>
          <a:xfrm>
            <a:off x="6996240" y="6243480"/>
            <a:ext cx="922320" cy="384480"/>
          </a:xfrm>
          <a:custGeom>
            <a:avLst/>
            <a:gdLst>
              <a:gd name="textAreaLeft" fmla="*/ 24840 w 922320"/>
              <a:gd name="textAreaRight" fmla="*/ 897480 w 922320"/>
              <a:gd name="textAreaTop" fmla="*/ 24840 h 384480"/>
              <a:gd name="textAreaBottom" fmla="*/ 359640 h 384480"/>
            </a:gdLst>
            <a:ahLst/>
            <a:rect l="textAreaLeft" t="textAreaTop" r="textAreaRight" b="textAreaBottom"/>
            <a:pathLst>
              <a:path w="51787" h="21600">
                <a:moveTo>
                  <a:pt x="0" y="0"/>
                </a:moveTo>
                <a:lnTo>
                  <a:pt x="51787" y="0"/>
                </a:lnTo>
                <a:lnTo>
                  <a:pt x="51787" y="21600"/>
                </a:lnTo>
                <a:lnTo>
                  <a:pt x="0" y="21600"/>
                </a:lnTo>
                <a:close/>
              </a:path>
              <a:path fill="lightenLess" w="51787" h="21600">
                <a:moveTo>
                  <a:pt x="0" y="0"/>
                </a:moveTo>
                <a:lnTo>
                  <a:pt x="51787" y="0"/>
                </a:lnTo>
                <a:lnTo>
                  <a:pt x="50387" y="1400"/>
                </a:lnTo>
                <a:lnTo>
                  <a:pt x="1400" y="1400"/>
                </a:lnTo>
                <a:close/>
              </a:path>
              <a:path fill="darken" w="51787" h="21600">
                <a:moveTo>
                  <a:pt x="51787" y="0"/>
                </a:moveTo>
                <a:lnTo>
                  <a:pt x="51787" y="21600"/>
                </a:lnTo>
                <a:lnTo>
                  <a:pt x="50387" y="20200"/>
                </a:lnTo>
                <a:lnTo>
                  <a:pt x="50387" y="1400"/>
                </a:lnTo>
                <a:close/>
              </a:path>
              <a:path fill="darkenLess" w="51787" h="21600">
                <a:moveTo>
                  <a:pt x="51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87" y="20200"/>
                </a:lnTo>
                <a:close/>
              </a:path>
              <a:path fill="lighten" w="51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87" h="21600">
                <a:moveTo>
                  <a:pt x="18887" y="3794"/>
                </a:moveTo>
                <a:lnTo>
                  <a:pt x="32900" y="10800"/>
                </a:lnTo>
                <a:lnTo>
                  <a:pt x="1888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9">
            <a:hlinkClick r:id="rId8" action="ppaction://hlinksldjump"/>
          </p:cNvPr>
          <p:cNvSpPr/>
          <p:nvPr/>
        </p:nvSpPr>
        <p:spPr>
          <a:xfrm>
            <a:off x="1295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4191120" y="6324480"/>
            <a:ext cx="990360" cy="53352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683" y="1400"/>
                </a:lnTo>
                <a:lnTo>
                  <a:pt x="1400" y="140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683" y="20200"/>
                </a:lnTo>
                <a:lnTo>
                  <a:pt x="38683" y="140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3" y="2020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83" h="21600">
                <a:moveTo>
                  <a:pt x="13035" y="3794"/>
                </a:moveTo>
                <a:lnTo>
                  <a:pt x="27048" y="10800"/>
                </a:lnTo>
                <a:lnTo>
                  <a:pt x="1303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1">
            <a:hlinkClick r:id="rId9" action="ppaction://hlinksldjump"/>
          </p:cNvPr>
          <p:cNvSpPr/>
          <p:nvPr/>
        </p:nvSpPr>
        <p:spPr>
          <a:xfrm>
            <a:off x="6934320" y="64008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90512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419720" y="6394320"/>
            <a:ext cx="3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7224840" y="628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轻音乐.wav" descr=""/>
          <p:cNvPicPr/>
          <p:nvPr/>
        </p:nvPicPr>
        <p:blipFill>
          <a:blip r:embed="rId10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7">
            <a:hlinkClick r:id="rId11" action="ppaction://hlinksldjump"/>
          </p:cNvPr>
          <p:cNvSpPr/>
          <p:nvPr/>
        </p:nvSpPr>
        <p:spPr>
          <a:xfrm>
            <a:off x="18288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8">
            <a:hlinkClick r:id="rId12" action="ppaction://hlinksldjump"/>
          </p:cNvPr>
          <p:cNvSpPr/>
          <p:nvPr/>
        </p:nvSpPr>
        <p:spPr>
          <a:xfrm>
            <a:off x="411480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9">
            <a:hlinkClick r:id="rId13" action="ppaction://hlinksldjump"/>
          </p:cNvPr>
          <p:cNvSpPr/>
          <p:nvPr/>
        </p:nvSpPr>
        <p:spPr>
          <a:xfrm>
            <a:off x="7010280" y="60958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dur="indefinite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6" dur="indefinite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785960" y="990720"/>
            <a:ext cx="53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小柳树的腰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细细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树枝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绿绿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真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6002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71600" y="3062160"/>
            <a:ext cx="773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小柳树看看小枣树，树枝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弯弯曲曲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一点儿也不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433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9">
            <a:hlinkClick r:id="rId2" action="ppaction://hlinksldjump"/>
          </p:cNvPr>
          <p:cNvSpPr/>
          <p:nvPr/>
        </p:nvSpPr>
        <p:spPr>
          <a:xfrm>
            <a:off x="1066680" y="6019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2341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1">
            <a:hlinkClick r:id="rId3" action="ppaction://hlinksldjump"/>
          </p:cNvPr>
          <p:cNvSpPr/>
          <p:nvPr/>
        </p:nvSpPr>
        <p:spPr>
          <a:xfrm>
            <a:off x="59436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8687880" y="640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3">
            <a:hlinkClick r:id="rId4" action="ppaction://hlinksldjump"/>
          </p:cNvPr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838080" y="3352680"/>
            <a:ext cx="78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过了几天，小柳树的芽儿变成小叶子，她穿上一身浅绿色的衣服，真美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2286000" y="3581280"/>
            <a:ext cx="4267080" cy="1043280"/>
          </a:xfrm>
          <a:custGeom>
            <a:avLst/>
            <a:gdLst>
              <a:gd name="textAreaLeft" fmla="*/ 67320 w 4267080"/>
              <a:gd name="textAreaRight" fmla="*/ 4199760 w 42670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88322" h="21600">
                <a:moveTo>
                  <a:pt x="0" y="0"/>
                </a:moveTo>
                <a:lnTo>
                  <a:pt x="88322" y="0"/>
                </a:lnTo>
                <a:lnTo>
                  <a:pt x="88322" y="21600"/>
                </a:lnTo>
                <a:lnTo>
                  <a:pt x="0" y="21600"/>
                </a:lnTo>
                <a:close/>
              </a:path>
              <a:path fill="lightenLess" w="88322" h="21600">
                <a:moveTo>
                  <a:pt x="0" y="0"/>
                </a:moveTo>
                <a:lnTo>
                  <a:pt x="88322" y="0"/>
                </a:lnTo>
                <a:lnTo>
                  <a:pt x="86922" y="1400"/>
                </a:lnTo>
                <a:lnTo>
                  <a:pt x="1400" y="1400"/>
                </a:lnTo>
                <a:close/>
              </a:path>
              <a:path fill="darken" w="88322" h="21600">
                <a:moveTo>
                  <a:pt x="88322" y="0"/>
                </a:moveTo>
                <a:lnTo>
                  <a:pt x="88322" y="21600"/>
                </a:lnTo>
                <a:lnTo>
                  <a:pt x="86922" y="20200"/>
                </a:lnTo>
                <a:lnTo>
                  <a:pt x="86922" y="1400"/>
                </a:lnTo>
                <a:close/>
              </a:path>
              <a:path fill="darkenLess" w="88322" h="21600">
                <a:moveTo>
                  <a:pt x="88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22" y="20200"/>
                </a:lnTo>
                <a:close/>
              </a:path>
              <a:path fill="lighten" w="88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322" h="21600">
                <a:moveTo>
                  <a:pt x="37155" y="3794"/>
                </a:moveTo>
                <a:lnTo>
                  <a:pt x="51168" y="10800"/>
                </a:lnTo>
                <a:lnTo>
                  <a:pt x="3715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533520" y="1371600"/>
            <a:ext cx="769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过了几天，小柳树的芽儿变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小叶子，她穿上一身浅绿色的衣 服，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像一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真美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1981080" y="3809880"/>
            <a:ext cx="5715000" cy="0"/>
          </a:xfrm>
          <a:prstGeom prst="line">
            <a:avLst/>
          </a:prstGeom>
          <a:ln w="442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7931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>
            <a:hlinkClick r:id="rId1" action="ppaction://hlinksldjump"/>
          </p:cNvPr>
          <p:cNvSpPr/>
          <p:nvPr/>
        </p:nvSpPr>
        <p:spPr>
          <a:xfrm>
            <a:off x="5410080" y="58672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2426" y="3794"/>
                </a:moveTo>
                <a:lnTo>
                  <a:pt x="26439" y="10800"/>
                </a:lnTo>
                <a:lnTo>
                  <a:pt x="1242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1355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9">
            <a:hlinkClick r:id="rId2" action="ppaction://hlinksldjump"/>
          </p:cNvPr>
          <p:cNvSpPr/>
          <p:nvPr/>
        </p:nvSpPr>
        <p:spPr>
          <a:xfrm>
            <a:off x="18288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8672040" y="636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1">
            <a:hlinkClick r:id="rId3" action="ppaction://hlinksldjump"/>
          </p:cNvPr>
          <p:cNvSpPr/>
          <p:nvPr/>
        </p:nvSpPr>
        <p:spPr>
          <a:xfrm>
            <a:off x="8253360" y="6324480"/>
            <a:ext cx="890640" cy="53352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6049" h="21600">
                <a:moveTo>
                  <a:pt x="0" y="0"/>
                </a:moveTo>
                <a:lnTo>
                  <a:pt x="36049" y="0"/>
                </a:lnTo>
                <a:lnTo>
                  <a:pt x="36049" y="21600"/>
                </a:lnTo>
                <a:lnTo>
                  <a:pt x="0" y="21600"/>
                </a:lnTo>
                <a:close/>
              </a:path>
              <a:path fill="lightenLess" w="36049" h="21600">
                <a:moveTo>
                  <a:pt x="0" y="0"/>
                </a:moveTo>
                <a:lnTo>
                  <a:pt x="36049" y="0"/>
                </a:lnTo>
                <a:lnTo>
                  <a:pt x="34649" y="1400"/>
                </a:lnTo>
                <a:lnTo>
                  <a:pt x="1400" y="1400"/>
                </a:lnTo>
                <a:close/>
              </a:path>
              <a:path fill="darken" w="36049" h="21600">
                <a:moveTo>
                  <a:pt x="36049" y="0"/>
                </a:moveTo>
                <a:lnTo>
                  <a:pt x="36049" y="21600"/>
                </a:lnTo>
                <a:lnTo>
                  <a:pt x="34649" y="20200"/>
                </a:lnTo>
                <a:lnTo>
                  <a:pt x="34649" y="1400"/>
                </a:lnTo>
                <a:close/>
              </a:path>
              <a:path fill="darkenLess" w="36049" h="21600">
                <a:moveTo>
                  <a:pt x="36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49" y="20200"/>
                </a:lnTo>
                <a:close/>
              </a:path>
              <a:path fill="lighten" w="36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49" h="21600">
                <a:moveTo>
                  <a:pt x="11018" y="3794"/>
                </a:moveTo>
                <a:lnTo>
                  <a:pt x="25031" y="10800"/>
                </a:lnTo>
                <a:lnTo>
                  <a:pt x="1101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939320" y="3276720"/>
            <a:ext cx="48682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又过了好些日子，小枣树才长出了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小的叶子。小柳树的叶子已经长得又细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长了。她在微风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得意地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跳起舞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424240" y="62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rId2" action="ppaction://hlinksldjump"/>
          </p:cNvPr>
          <p:cNvSpPr/>
          <p:nvPr/>
        </p:nvSpPr>
        <p:spPr>
          <a:xfrm>
            <a:off x="22096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96040" y="636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>
            <a:hlinkClick r:id="rId3" action="ppaction://hlinksldjump"/>
          </p:cNvPr>
          <p:cNvSpPr/>
          <p:nvPr/>
        </p:nvSpPr>
        <p:spPr>
          <a:xfrm>
            <a:off x="502920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10800"/>
                </a:moveTo>
                <a:lnTo>
                  <a:pt x="27055" y="3794"/>
                </a:lnTo>
                <a:lnTo>
                  <a:pt x="2705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61048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>
            <a:hlinkClick r:id="rId4" action="ppaction://hlinksldjump"/>
          </p:cNvPr>
          <p:cNvSpPr/>
          <p:nvPr/>
        </p:nvSpPr>
        <p:spPr>
          <a:xfrm>
            <a:off x="8305920" y="64771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533520"/>
            <a:ext cx="69343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993366"/>
                </a:solidFill>
                <a:latin typeface="隶书"/>
                <a:ea typeface="隶书"/>
              </a:rPr>
              <a:t>咏 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碧玉妆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万条垂下绿丝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二月春风似剪刀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4600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2" action="ppaction://hlinksldjump"/>
          </p:cNvPr>
          <p:cNvSpPr/>
          <p:nvPr/>
        </p:nvSpPr>
        <p:spPr>
          <a:xfrm>
            <a:off x="8153280" y="6095880"/>
            <a:ext cx="990720" cy="586080"/>
          </a:xfrm>
          <a:custGeom>
            <a:avLst/>
            <a:gdLst>
              <a:gd name="textAreaLeft" fmla="*/ 37800 w 990720"/>
              <a:gd name="textAreaRight" fmla="*/ 952920 w 99072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36504" h="21600">
                <a:moveTo>
                  <a:pt x="0" y="0"/>
                </a:moveTo>
                <a:lnTo>
                  <a:pt x="36504" y="0"/>
                </a:lnTo>
                <a:lnTo>
                  <a:pt x="36504" y="21600"/>
                </a:lnTo>
                <a:lnTo>
                  <a:pt x="0" y="21600"/>
                </a:lnTo>
                <a:close/>
              </a:path>
              <a:path fill="lightenLess" w="36504" h="21600">
                <a:moveTo>
                  <a:pt x="0" y="0"/>
                </a:moveTo>
                <a:lnTo>
                  <a:pt x="36504" y="0"/>
                </a:lnTo>
                <a:lnTo>
                  <a:pt x="35104" y="1400"/>
                </a:lnTo>
                <a:lnTo>
                  <a:pt x="1400" y="1400"/>
                </a:lnTo>
                <a:close/>
              </a:path>
              <a:path fill="darken" w="36504" h="21600">
                <a:moveTo>
                  <a:pt x="36504" y="0"/>
                </a:moveTo>
                <a:lnTo>
                  <a:pt x="36504" y="21600"/>
                </a:lnTo>
                <a:lnTo>
                  <a:pt x="35104" y="20200"/>
                </a:lnTo>
                <a:lnTo>
                  <a:pt x="35104" y="1400"/>
                </a:lnTo>
                <a:close/>
              </a:path>
              <a:path fill="darkenLess" w="36504" h="21600">
                <a:moveTo>
                  <a:pt x="36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04" y="20200"/>
                </a:lnTo>
                <a:close/>
              </a:path>
              <a:path fill="lighten" w="36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04" h="21600">
                <a:moveTo>
                  <a:pt x="11245" y="3794"/>
                </a:moveTo>
                <a:lnTo>
                  <a:pt x="25258" y="10800"/>
                </a:lnTo>
                <a:lnTo>
                  <a:pt x="1124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1:38:00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8:37Z</dcterms:modified>
  <cp:revision>2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