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2C08-CF78-4655-A1DB-0D6B2900FE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239A-8E3B-4F91-A020-5CEC7BC521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049-E138-48C0-92B2-5A428BFE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6DC-8E9F-45EC-B672-0757AE8C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A3D-A445-440D-95D0-D02E1760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3B1-7746-44BC-B789-AA23DB2E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B60-09FD-47A0-A46C-BB57F527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075-E7DE-4AF8-AAF9-4445F395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F49-C2C4-44FD-BF31-EA42935F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1E5-CA2D-41C2-B07B-8032C206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D65-C7C5-4605-9545-FE866407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E0F-AD36-46FE-8201-305B03D9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E1D-D115-41D6-B356-6EC05822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DBF-77CB-4869-9FEE-4FD87D32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C5A7-D5DD-469C-94D2-EEA41AA79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i.baidu.com/&#24736;&#28982;&#19968;&#26354;gabrie/album/item/6afc975066d883948c54304d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2556000" y="2052720"/>
            <a:ext cx="46227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苗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1912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19120" y="8524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0a34"/>
                </a:solidFill>
                <a:latin typeface="Arial"/>
              </a:rPr>
              <a:t>湘教版一年级语文上册第九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90620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985080" cy="5025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3871800" y="692280"/>
            <a:ext cx="14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边框1"/>
          <p:cNvPicPr/>
          <p:nvPr/>
        </p:nvPicPr>
        <p:blipFill>
          <a:blip r:embed="rId1"/>
          <a:stretch/>
        </p:blipFill>
        <p:spPr>
          <a:xfrm>
            <a:off x="539640" y="457200"/>
            <a:ext cx="3513240" cy="129708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3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125" name="Picture 4" descr="index_r5_c1"/>
            <p:cNvPicPr/>
            <p:nvPr/>
          </p:nvPicPr>
          <p:blipFill>
            <a:blip r:embed="rId2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6" descr=""/>
            <p:cNvPicPr/>
            <p:nvPr/>
          </p:nvPicPr>
          <p:blipFill>
            <a:blip r:embed="rId4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7" descr="index_r3_c2"/>
            <p:cNvPicPr/>
            <p:nvPr/>
          </p:nvPicPr>
          <p:blipFill>
            <a:blip r:embed="rId5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Text Box 8"/>
          <p:cNvSpPr/>
          <p:nvPr/>
        </p:nvSpPr>
        <p:spPr>
          <a:xfrm>
            <a:off x="1371600" y="228600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要快快长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639440" y="744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说话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1371600" y="3733920"/>
            <a:ext cx="601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!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拓展延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想像：如果小苗没有阳光和雨露，它们将会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后自己去了解种子或植物的生长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"/>
          <p:cNvSpPr/>
          <p:nvPr/>
        </p:nvSpPr>
        <p:spPr>
          <a:xfrm>
            <a:off x="1866960" y="5059440"/>
            <a:ext cx="57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2340000" y="2492280"/>
            <a:ext cx="460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隶书"/>
              </a:rPr>
              <a:t>谢谢指导！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3247-4D35-44C1-8D1D-D17E95551D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63280" y="233208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读课文，学习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获得爱护小苗（植物）的体验；激发热爱生命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200508011612472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05092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916360" y="1287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  <a:ea typeface="楷体_GB2312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  <a:ea typeface="楷体_GB2312"/>
              </a:rPr>
              <a:t>miáo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916360" y="2060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zhǎo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916360" y="2852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bà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2916360" y="3591000"/>
            <a:ext cx="20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mā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2916360" y="4292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yǔ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2985840" y="5084640"/>
            <a:ext cx="24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ed3bc7"/>
                </a:solidFill>
                <a:latin typeface="Arial"/>
              </a:rPr>
              <a:t>zhǎng</a:t>
            </a:r>
            <a:r>
              <a:rPr b="0" lang="zh-CN" sz="4000" spc="-1" strike="noStrike">
                <a:solidFill>
                  <a:srgbClr val="ed3bc7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2050920" y="2006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050920" y="2798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5092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05092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2050920" y="5084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5076720" y="200664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寻找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5076720" y="1268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小苗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5076720" y="279864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爸爸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507672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妈妈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5005440" y="4365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小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5076720" y="508464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（长大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468360" y="404640"/>
            <a:ext cx="2448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00a34"/>
                </a:solidFill>
                <a:latin typeface="Arial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42"/>
          <p:cNvGrpSpPr/>
          <p:nvPr/>
        </p:nvGrpSpPr>
        <p:grpSpPr>
          <a:xfrm>
            <a:off x="0" y="44280"/>
            <a:ext cx="9144000" cy="6813720"/>
            <a:chOff x="0" y="44280"/>
            <a:chExt cx="9144000" cy="6813720"/>
          </a:xfrm>
        </p:grpSpPr>
        <p:pic>
          <p:nvPicPr>
            <p:cNvPr id="75" name="Picture 2" descr="20050801161214387"/>
            <p:cNvPicPr/>
            <p:nvPr/>
          </p:nvPicPr>
          <p:blipFill>
            <a:blip r:embed="rId1"/>
            <a:stretch/>
          </p:blipFill>
          <p:spPr>
            <a:xfrm>
              <a:off x="0" y="44280"/>
              <a:ext cx="9144000" cy="681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4"/>
            <p:cNvGrpSpPr/>
            <p:nvPr/>
          </p:nvGrpSpPr>
          <p:grpSpPr>
            <a:xfrm>
              <a:off x="971640" y="2997360"/>
              <a:ext cx="7345440" cy="1225440"/>
              <a:chOff x="971640" y="2997360"/>
              <a:chExt cx="7345440" cy="1225440"/>
            </a:xfrm>
          </p:grpSpPr>
          <p:grpSp>
            <p:nvGrpSpPr>
              <p:cNvPr id="77" name="Group 3"/>
              <p:cNvGrpSpPr/>
              <p:nvPr/>
            </p:nvGrpSpPr>
            <p:grpSpPr>
              <a:xfrm>
                <a:off x="3419640" y="2997360"/>
                <a:ext cx="1224000" cy="1224000"/>
                <a:chOff x="3419640" y="2997360"/>
                <a:chExt cx="1224000" cy="1224000"/>
              </a:xfrm>
            </p:grpSpPr>
            <p:sp>
              <p:nvSpPr>
                <p:cNvPr id="78" name="Rectangle 4"/>
                <p:cNvSpPr/>
                <p:nvPr/>
              </p:nvSpPr>
              <p:spPr>
                <a:xfrm>
                  <a:off x="3419640" y="2997360"/>
                  <a:ext cx="1224000" cy="1224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5"/>
                <p:cNvSpPr/>
                <p:nvPr/>
              </p:nvSpPr>
              <p:spPr>
                <a:xfrm flipH="1">
                  <a:off x="3419640" y="360936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6"/>
                <p:cNvSpPr/>
                <p:nvPr/>
              </p:nvSpPr>
              <p:spPr>
                <a:xfrm>
                  <a:off x="4032000" y="30276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7"/>
              <p:cNvGrpSpPr/>
              <p:nvPr/>
            </p:nvGrpSpPr>
            <p:grpSpPr>
              <a:xfrm>
                <a:off x="4645080" y="2997360"/>
                <a:ext cx="1224000" cy="1224000"/>
                <a:chOff x="4645080" y="2997360"/>
                <a:chExt cx="1224000" cy="1224000"/>
              </a:xfrm>
            </p:grpSpPr>
            <p:sp>
              <p:nvSpPr>
                <p:cNvPr id="82" name="Rectangle 8"/>
                <p:cNvSpPr/>
                <p:nvPr/>
              </p:nvSpPr>
              <p:spPr>
                <a:xfrm>
                  <a:off x="4645440" y="2997360"/>
                  <a:ext cx="1223640" cy="1224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9"/>
                <p:cNvSpPr/>
                <p:nvPr/>
              </p:nvSpPr>
              <p:spPr>
                <a:xfrm flipH="1">
                  <a:off x="4645080" y="3609360"/>
                  <a:ext cx="122364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10"/>
                <p:cNvSpPr/>
                <p:nvPr/>
              </p:nvSpPr>
              <p:spPr>
                <a:xfrm>
                  <a:off x="5257440" y="30276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Group 11"/>
              <p:cNvGrpSpPr/>
              <p:nvPr/>
            </p:nvGrpSpPr>
            <p:grpSpPr>
              <a:xfrm>
                <a:off x="2195640" y="2997360"/>
                <a:ext cx="1224000" cy="1224000"/>
                <a:chOff x="2195640" y="2997360"/>
                <a:chExt cx="1224000" cy="1224000"/>
              </a:xfrm>
            </p:grpSpPr>
            <p:sp>
              <p:nvSpPr>
                <p:cNvPr id="86" name="Rectangle 12"/>
                <p:cNvSpPr/>
                <p:nvPr/>
              </p:nvSpPr>
              <p:spPr>
                <a:xfrm>
                  <a:off x="2195640" y="2997360"/>
                  <a:ext cx="1224000" cy="12240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3"/>
                <p:cNvSpPr/>
                <p:nvPr/>
              </p:nvSpPr>
              <p:spPr>
                <a:xfrm flipH="1">
                  <a:off x="2195640" y="360936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4"/>
                <p:cNvSpPr/>
                <p:nvPr/>
              </p:nvSpPr>
              <p:spPr>
                <a:xfrm>
                  <a:off x="2808000" y="30276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22"/>
              <p:cNvGrpSpPr/>
              <p:nvPr/>
            </p:nvGrpSpPr>
            <p:grpSpPr>
              <a:xfrm>
                <a:off x="7093080" y="2999160"/>
                <a:ext cx="1224000" cy="1223640"/>
                <a:chOff x="7093080" y="2999160"/>
                <a:chExt cx="1224000" cy="1223640"/>
              </a:xfrm>
            </p:grpSpPr>
            <p:sp>
              <p:nvSpPr>
                <p:cNvPr id="90" name="Rectangle 23"/>
                <p:cNvSpPr/>
                <p:nvPr/>
              </p:nvSpPr>
              <p:spPr>
                <a:xfrm>
                  <a:off x="7093080" y="2999160"/>
                  <a:ext cx="1224000" cy="12236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24"/>
                <p:cNvSpPr/>
                <p:nvPr/>
              </p:nvSpPr>
              <p:spPr>
                <a:xfrm flipH="1">
                  <a:off x="7093080" y="361080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5"/>
                <p:cNvSpPr/>
                <p:nvPr/>
              </p:nvSpPr>
              <p:spPr>
                <a:xfrm>
                  <a:off x="7705440" y="30294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26"/>
              <p:cNvGrpSpPr/>
              <p:nvPr/>
            </p:nvGrpSpPr>
            <p:grpSpPr>
              <a:xfrm>
                <a:off x="971640" y="2999160"/>
                <a:ext cx="1224000" cy="1223640"/>
                <a:chOff x="971640" y="2999160"/>
                <a:chExt cx="1224000" cy="1223640"/>
              </a:xfrm>
            </p:grpSpPr>
            <p:sp>
              <p:nvSpPr>
                <p:cNvPr id="94" name="Rectangle 27"/>
                <p:cNvSpPr/>
                <p:nvPr/>
              </p:nvSpPr>
              <p:spPr>
                <a:xfrm>
                  <a:off x="971640" y="2999160"/>
                  <a:ext cx="1224000" cy="12236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8"/>
                <p:cNvSpPr/>
                <p:nvPr/>
              </p:nvSpPr>
              <p:spPr>
                <a:xfrm flipH="1">
                  <a:off x="971640" y="361080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9"/>
                <p:cNvSpPr/>
                <p:nvPr/>
              </p:nvSpPr>
              <p:spPr>
                <a:xfrm>
                  <a:off x="1584000" y="30294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0"/>
              <p:cNvGrpSpPr/>
              <p:nvPr/>
            </p:nvGrpSpPr>
            <p:grpSpPr>
              <a:xfrm>
                <a:off x="5869080" y="2999160"/>
                <a:ext cx="1224000" cy="1223640"/>
                <a:chOff x="5869080" y="2999160"/>
                <a:chExt cx="1224000" cy="1223640"/>
              </a:xfrm>
            </p:grpSpPr>
            <p:sp>
              <p:nvSpPr>
                <p:cNvPr id="98" name="Rectangle 31"/>
                <p:cNvSpPr/>
                <p:nvPr/>
              </p:nvSpPr>
              <p:spPr>
                <a:xfrm>
                  <a:off x="5869080" y="2999160"/>
                  <a:ext cx="1224000" cy="12236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32"/>
                <p:cNvSpPr/>
                <p:nvPr/>
              </p:nvSpPr>
              <p:spPr>
                <a:xfrm flipH="1">
                  <a:off x="5869080" y="3610800"/>
                  <a:ext cx="1224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33"/>
                <p:cNvSpPr/>
                <p:nvPr/>
              </p:nvSpPr>
              <p:spPr>
                <a:xfrm>
                  <a:off x="6481440" y="3029400"/>
                  <a:ext cx="0" cy="119340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Text Box 35"/>
            <p:cNvSpPr/>
            <p:nvPr/>
          </p:nvSpPr>
          <p:spPr>
            <a:xfrm>
              <a:off x="1114560" y="3068640"/>
              <a:ext cx="93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苗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36"/>
            <p:cNvSpPr/>
            <p:nvPr/>
          </p:nvSpPr>
          <p:spPr>
            <a:xfrm>
              <a:off x="2340000" y="3068640"/>
              <a:ext cx="107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3564000" y="3068640"/>
              <a:ext cx="1079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39"/>
            <p:cNvSpPr/>
            <p:nvPr/>
          </p:nvSpPr>
          <p:spPr>
            <a:xfrm>
              <a:off x="4788000" y="3068640"/>
              <a:ext cx="1079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40"/>
            <p:cNvSpPr/>
            <p:nvPr/>
          </p:nvSpPr>
          <p:spPr>
            <a:xfrm>
              <a:off x="6012000" y="3068640"/>
              <a:ext cx="1079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41"/>
            <p:cNvSpPr/>
            <p:nvPr/>
          </p:nvSpPr>
          <p:spPr>
            <a:xfrm>
              <a:off x="7237440" y="3068640"/>
              <a:ext cx="107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长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0" y="765000"/>
            <a:ext cx="4514760" cy="609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99"/>
          <p:cNvPicPr/>
          <p:nvPr/>
        </p:nvPicPr>
        <p:blipFill>
          <a:blip r:embed="rId2"/>
          <a:stretch/>
        </p:blipFill>
        <p:spPr>
          <a:xfrm>
            <a:off x="4356000" y="765000"/>
            <a:ext cx="4788000" cy="6093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7"/>
          <p:cNvSpPr txBox="1"/>
          <p:nvPr/>
        </p:nvSpPr>
        <p:spPr>
          <a:xfrm>
            <a:off x="3564000" y="235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课文欣赏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3060720" y="51577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睁开的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1116000" y="3068640"/>
            <a:ext cx="741672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6afc975066d883948c54304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3132000" y="5516640"/>
            <a:ext cx="30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843280" y="5589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竖起的耳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4500720" y="3340080"/>
            <a:ext cx="3960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向蓝天呼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我要阳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我要雨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3bc7"/>
                </a:solidFill>
                <a:latin typeface="Arial"/>
              </a:rPr>
              <a:t>我要快快长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356000" y="250344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像张开的双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/>
          <a:stretch/>
        </p:blipFill>
        <p:spPr>
          <a:xfrm>
            <a:off x="0" y="2133720"/>
            <a:ext cx="4000680" cy="458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00a34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苗从什么地方长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像什么？它在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苗它最需要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00a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00a34"/>
                </a:solidFill>
                <a:latin typeface="Arial"/>
              </a:rPr>
              <a:t>（土壤、阳光、雨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07:05:31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3:49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